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89A-9F6F-4C52-82DB-28BC580F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D0C-301F-4CCB-A7CB-59ECF97B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9DB-95AF-451A-B2AB-B3035439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8DB-5705-4A24-B2EC-27FA14E8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CAD8D-C02C-40F8-8ACD-767A39AF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54756-1021-4AFC-A7E4-77AB6707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6710D-D742-4C04-82F2-B15680AA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61563-78D5-4B96-835A-909EBAC3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A4070-8E57-4793-88C8-78DC2A81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16C36-AEA3-48FD-85BE-50F26709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E4421-7CD1-456D-B4E2-556AD66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2DA-3652-4745-B230-B01F4B1D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3105B-64B4-4C10-9C94-68B346B0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86B85-C7CF-49DB-9F03-996964D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B5A53-1ADD-4328-8329-A4BCA31F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40FE9-2A5E-4216-87AD-64AAEBA6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34442-F973-4F6A-9C65-76BE9766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BB523-FD8D-4F7F-A3EC-62367768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9A15-D61E-4B8A-AB8D-BF3FD964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E45E1-5051-40FD-9C39-4CA58019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B1D1-5C2A-4A1A-BFAB-E481BE1F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B1E7-219C-4725-B50F-75362081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F34-A469-4F31-B319-1ACEF5A8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9538-968D-422B-83F7-63A630A8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BDF5-54AB-4F16-93F1-DBF95FDF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C0233-E2B4-4090-A27F-F73F0ABD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1552-A51F-4FAB-A8FF-958DE4D3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110F-0428-4003-BE9E-2BBF3AFA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B491-9C7F-42ED-BB68-109D4F51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D88C8-9919-4ACA-9B9C-1BDC22F8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03F65-3BCF-4A83-A6E6-5D45C33B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1F439C-6BD3-422F-B416-67568758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0FE30-EC76-42E2-A3A9-F23E2418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B73-B4B4-42A4-B13F-E25B9832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19E22D-DCDF-4E1D-A261-D342BD80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A4868-45E2-4BB9-8FB3-E913E15E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2A451-04B6-4475-8F9A-5151097C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0A681-084E-4E41-ABE7-13936834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F1E66-2E61-4F8F-AA34-66E0611D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83164-BE23-4C95-9D1B-060F3BC9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6CF3B2-8C36-427D-BDF3-ADA84031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2CA01A-7B52-487F-8B82-63100646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6CC31-AD43-4339-B832-045012C2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F4571-FF0C-4A9C-B5B7-3CCD0549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78C-54EF-4B1B-9EE4-5EA77DFC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1E36A-DE36-4F4B-980E-24CD8275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21113-D3BC-42BA-A6E0-36334B98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5D3DE-B481-4B62-99D7-44B9E8F3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77D91-4836-4CD7-B1A9-C3168565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0FFC6-FC48-437B-9C6C-C95CBFE5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E6F36-D5B9-45F0-AFB5-E71F27B4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693B1-7B73-4CFB-AE50-4C2D35DD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2642D-60C1-4B09-90E5-BDE0CCC1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CAD03-6838-4D5D-9035-ED14FE5E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F2D18-D2F0-4665-BD42-2F97EB42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64E-0703-4BD7-A05B-9C3B1E28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F6360-0B53-45B5-814D-941FDD99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8486D-B74B-4E11-A5C9-D5DF1C2F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85840-45B5-4E47-81EC-2D553CA1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B1B7D-57B5-492F-B4F2-0C1961B7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7D0EE-93D9-4F53-908A-A3D864FB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F5D79-01B3-4B0B-90AD-D24AB60A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8B374-A4F8-49F8-A6AA-61643FAA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CBBDC-3555-4637-A2A1-2CADE17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C9B26-C61F-4913-82AA-3380BCDA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935E2-7910-416D-BC47-D6B60DC1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F60-A852-406B-A356-9E60521F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7789F-C12D-4A44-964E-C863E322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8212C-257F-43FA-9BB4-2C4F8287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D3453-12A7-4BDF-A0D6-4DC1E348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4DD-404C-485A-8240-7AD12121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0AC-87C2-402F-8E86-3E3710BB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0137-7AF7-4050-BF73-04C13E9349C0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8865-5DB2-4AED-BF2E-BDFC2F581F64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2C95-225B-4A92-99F2-E107B19E38F1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2690-8AA1-4F54-85C5-B40A19E20E71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26DA-7980-4E4F-9923-0F5333FD36D9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09D5-F590-4EB1-8985-7E23CCBEBC9C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Горизонтальный свиток 4"/>
          <p:cNvSpPr/>
          <p:nvPr/>
        </p:nvSpPr>
        <p:spPr>
          <a:xfrm>
            <a:off x="214200" y="0"/>
            <a:ext cx="8643960" cy="642924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2832120" cy="27864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5"/>
          <p:cNvSpPr/>
          <p:nvPr/>
        </p:nvSpPr>
        <p:spPr>
          <a:xfrm>
            <a:off x="4217040" y="1357200"/>
            <a:ext cx="5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1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36"/>
          <p:cNvSpPr/>
          <p:nvPr/>
        </p:nvSpPr>
        <p:spPr>
          <a:xfrm>
            <a:off x="4217040" y="2143080"/>
            <a:ext cx="5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2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TextBox 37"/>
          <p:cNvSpPr/>
          <p:nvPr/>
        </p:nvSpPr>
        <p:spPr>
          <a:xfrm>
            <a:off x="4217040" y="2928960"/>
            <a:ext cx="5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3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57" name="Группа 60"/>
          <p:cNvGrpSpPr/>
          <p:nvPr/>
        </p:nvGrpSpPr>
        <p:grpSpPr>
          <a:xfrm>
            <a:off x="4500720" y="1571400"/>
            <a:ext cx="428760" cy="221040"/>
            <a:chOff x="4500720" y="1571400"/>
            <a:chExt cx="428760" cy="221040"/>
          </a:xfrm>
        </p:grpSpPr>
        <p:cxnSp>
          <p:nvCxnSpPr>
            <p:cNvPr id="258" name="AutoShape 28"/>
            <p:cNvCxnSpPr/>
            <p:nvPr/>
          </p:nvCxnSpPr>
          <p:spPr>
            <a:xfrm>
              <a:off x="4500720" y="1571760"/>
              <a:ext cx="42912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59" name="AutoShape 29"/>
            <p:cNvCxnSpPr/>
            <p:nvPr/>
          </p:nvCxnSpPr>
          <p:spPr>
            <a:xfrm>
              <a:off x="4928760" y="1571400"/>
              <a:ext cx="1080" cy="22140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cxnSp>
        <p:nvCxnSpPr>
          <p:cNvPr id="260" name="AutoShape 29"/>
          <p:cNvCxnSpPr/>
          <p:nvPr/>
        </p:nvCxnSpPr>
        <p:spPr>
          <a:xfrm>
            <a:off x="5357520" y="1571400"/>
            <a:ext cx="1080" cy="22140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cxnSp>
        <p:nvCxnSpPr>
          <p:cNvPr id="261" name="AutoShape 28"/>
          <p:cNvCxnSpPr/>
          <p:nvPr/>
        </p:nvCxnSpPr>
        <p:spPr>
          <a:xfrm>
            <a:off x="5000760" y="1571760"/>
            <a:ext cx="357840" cy="216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sp>
        <p:nvSpPr>
          <p:cNvPr id="262" name="Arc 12"/>
          <p:cNvSpPr/>
          <p:nvPr/>
        </p:nvSpPr>
        <p:spPr>
          <a:xfrm flipV="1">
            <a:off x="5429160" y="1357200"/>
            <a:ext cx="928800" cy="214560"/>
          </a:xfrm>
          <a:prstGeom prst="pie">
            <a:avLst/>
          </a:prstGeom>
          <a:noFill/>
          <a:ln w="44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63" name="AutoShape 14"/>
          <p:cNvCxnSpPr/>
          <p:nvPr/>
        </p:nvCxnSpPr>
        <p:spPr>
          <a:xfrm flipV="1">
            <a:off x="7499880" y="1285560"/>
            <a:ext cx="214920" cy="26568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grpSp>
        <p:nvGrpSpPr>
          <p:cNvPr id="264" name="Группа 65"/>
          <p:cNvGrpSpPr/>
          <p:nvPr/>
        </p:nvGrpSpPr>
        <p:grpSpPr>
          <a:xfrm>
            <a:off x="6428160" y="1356480"/>
            <a:ext cx="429480" cy="286560"/>
            <a:chOff x="6428160" y="1356480"/>
            <a:chExt cx="429480" cy="286560"/>
          </a:xfrm>
        </p:grpSpPr>
        <p:cxnSp>
          <p:nvCxnSpPr>
            <p:cNvPr id="265" name="AutoShape 14"/>
            <p:cNvCxnSpPr/>
            <p:nvPr/>
          </p:nvCxnSpPr>
          <p:spPr>
            <a:xfrm flipV="1">
              <a:off x="6428160" y="1356480"/>
              <a:ext cx="214920" cy="2660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66" name="AutoShape 15"/>
            <p:cNvCxnSpPr/>
            <p:nvPr/>
          </p:nvCxnSpPr>
          <p:spPr>
            <a:xfrm flipH="1" flipV="1">
              <a:off x="6643080" y="1356840"/>
              <a:ext cx="21492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cxnSp>
        <p:nvCxnSpPr>
          <p:cNvPr id="267" name="AutoShape 15"/>
          <p:cNvCxnSpPr/>
          <p:nvPr/>
        </p:nvCxnSpPr>
        <p:spPr>
          <a:xfrm flipH="1" flipV="1">
            <a:off x="7714800" y="1285560"/>
            <a:ext cx="215280" cy="28656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grpSp>
        <p:nvGrpSpPr>
          <p:cNvPr id="268" name="Группа 73"/>
          <p:cNvGrpSpPr/>
          <p:nvPr/>
        </p:nvGrpSpPr>
        <p:grpSpPr>
          <a:xfrm>
            <a:off x="7000560" y="1428840"/>
            <a:ext cx="358920" cy="287640"/>
            <a:chOff x="7000560" y="1428840"/>
            <a:chExt cx="358920" cy="287640"/>
          </a:xfrm>
        </p:grpSpPr>
        <p:cxnSp>
          <p:nvCxnSpPr>
            <p:cNvPr id="269" name="AutoShape 28"/>
            <p:cNvCxnSpPr/>
            <p:nvPr/>
          </p:nvCxnSpPr>
          <p:spPr>
            <a:xfrm>
              <a:off x="7001640" y="1714680"/>
              <a:ext cx="35784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70" name="AutoShape 28"/>
            <p:cNvCxnSpPr/>
            <p:nvPr/>
          </p:nvCxnSpPr>
          <p:spPr>
            <a:xfrm>
              <a:off x="7001640" y="1428840"/>
              <a:ext cx="35784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71" name="AutoShape 29"/>
            <p:cNvCxnSpPr/>
            <p:nvPr/>
          </p:nvCxnSpPr>
          <p:spPr>
            <a:xfrm flipH="1">
              <a:off x="7000560" y="142956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72" name="AutoShape 29"/>
            <p:cNvCxnSpPr/>
            <p:nvPr/>
          </p:nvCxnSpPr>
          <p:spPr>
            <a:xfrm flipH="1">
              <a:off x="7357680" y="142956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grpSp>
        <p:nvGrpSpPr>
          <p:cNvPr id="273" name="Группа 61"/>
          <p:cNvGrpSpPr/>
          <p:nvPr/>
        </p:nvGrpSpPr>
        <p:grpSpPr>
          <a:xfrm>
            <a:off x="4571640" y="2356920"/>
            <a:ext cx="429480" cy="221040"/>
            <a:chOff x="4571640" y="2356920"/>
            <a:chExt cx="429480" cy="221040"/>
          </a:xfrm>
        </p:grpSpPr>
        <p:cxnSp>
          <p:nvCxnSpPr>
            <p:cNvPr id="274" name="AutoShape 28"/>
            <p:cNvCxnSpPr/>
            <p:nvPr/>
          </p:nvCxnSpPr>
          <p:spPr>
            <a:xfrm>
              <a:off x="4571640" y="2357280"/>
              <a:ext cx="42948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75" name="AutoShape 29"/>
            <p:cNvCxnSpPr/>
            <p:nvPr/>
          </p:nvCxnSpPr>
          <p:spPr>
            <a:xfrm>
              <a:off x="5000400" y="2356920"/>
              <a:ext cx="1080" cy="22140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sp>
        <p:nvSpPr>
          <p:cNvPr id="276" name="Arc 12"/>
          <p:cNvSpPr/>
          <p:nvPr/>
        </p:nvSpPr>
        <p:spPr>
          <a:xfrm flipV="1">
            <a:off x="5072040" y="2142360"/>
            <a:ext cx="928800" cy="214200"/>
          </a:xfrm>
          <a:prstGeom prst="pie">
            <a:avLst/>
          </a:prstGeom>
          <a:noFill/>
          <a:ln w="44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77" name="Группа 66"/>
          <p:cNvGrpSpPr/>
          <p:nvPr/>
        </p:nvGrpSpPr>
        <p:grpSpPr>
          <a:xfrm>
            <a:off x="6071040" y="2071080"/>
            <a:ext cx="429480" cy="285840"/>
            <a:chOff x="6071040" y="2071080"/>
            <a:chExt cx="429480" cy="285840"/>
          </a:xfrm>
        </p:grpSpPr>
        <p:cxnSp>
          <p:nvCxnSpPr>
            <p:cNvPr id="278" name="AutoShape 14"/>
            <p:cNvCxnSpPr/>
            <p:nvPr/>
          </p:nvCxnSpPr>
          <p:spPr>
            <a:xfrm flipV="1">
              <a:off x="6071040" y="2071440"/>
              <a:ext cx="214920" cy="26568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79" name="AutoShape 15"/>
            <p:cNvCxnSpPr/>
            <p:nvPr/>
          </p:nvCxnSpPr>
          <p:spPr>
            <a:xfrm flipH="1" flipV="1">
              <a:off x="6285960" y="2071080"/>
              <a:ext cx="214920" cy="28620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cxnSp>
        <p:nvCxnSpPr>
          <p:cNvPr id="280" name="AutoShape 14"/>
          <p:cNvCxnSpPr/>
          <p:nvPr/>
        </p:nvCxnSpPr>
        <p:spPr>
          <a:xfrm flipV="1">
            <a:off x="6499800" y="2071440"/>
            <a:ext cx="214920" cy="26568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cxnSp>
        <p:nvCxnSpPr>
          <p:cNvPr id="281" name="AutoShape 15"/>
          <p:cNvCxnSpPr/>
          <p:nvPr/>
        </p:nvCxnSpPr>
        <p:spPr>
          <a:xfrm flipH="1" flipV="1">
            <a:off x="6714360" y="2071080"/>
            <a:ext cx="214920" cy="28620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grpSp>
        <p:nvGrpSpPr>
          <p:cNvPr id="282" name="Группа 74"/>
          <p:cNvGrpSpPr/>
          <p:nvPr/>
        </p:nvGrpSpPr>
        <p:grpSpPr>
          <a:xfrm>
            <a:off x="7000560" y="2286000"/>
            <a:ext cx="358920" cy="287640"/>
            <a:chOff x="7000560" y="2286000"/>
            <a:chExt cx="358920" cy="287640"/>
          </a:xfrm>
        </p:grpSpPr>
        <p:cxnSp>
          <p:nvCxnSpPr>
            <p:cNvPr id="283" name="AutoShape 28"/>
            <p:cNvCxnSpPr/>
            <p:nvPr/>
          </p:nvCxnSpPr>
          <p:spPr>
            <a:xfrm>
              <a:off x="7001640" y="2571840"/>
              <a:ext cx="35784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84" name="AutoShape 28"/>
            <p:cNvCxnSpPr/>
            <p:nvPr/>
          </p:nvCxnSpPr>
          <p:spPr>
            <a:xfrm>
              <a:off x="7001640" y="2286000"/>
              <a:ext cx="35784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85" name="AutoShape 29"/>
            <p:cNvCxnSpPr/>
            <p:nvPr/>
          </p:nvCxnSpPr>
          <p:spPr>
            <a:xfrm flipH="1">
              <a:off x="7000560" y="228672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86" name="AutoShape 29"/>
            <p:cNvCxnSpPr/>
            <p:nvPr/>
          </p:nvCxnSpPr>
          <p:spPr>
            <a:xfrm flipH="1">
              <a:off x="7357680" y="228672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sp>
        <p:nvSpPr>
          <p:cNvPr id="287" name="Arc 12"/>
          <p:cNvSpPr/>
          <p:nvPr/>
        </p:nvSpPr>
        <p:spPr>
          <a:xfrm flipV="1">
            <a:off x="4714920" y="2928240"/>
            <a:ext cx="928800" cy="214200"/>
          </a:xfrm>
          <a:prstGeom prst="pie">
            <a:avLst/>
          </a:prstGeom>
          <a:noFill/>
          <a:ln w="44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8" name="Группа 80"/>
          <p:cNvGrpSpPr/>
          <p:nvPr/>
        </p:nvGrpSpPr>
        <p:grpSpPr>
          <a:xfrm>
            <a:off x="5785920" y="3071880"/>
            <a:ext cx="359280" cy="287640"/>
            <a:chOff x="5785920" y="3071880"/>
            <a:chExt cx="359280" cy="287640"/>
          </a:xfrm>
        </p:grpSpPr>
        <p:cxnSp>
          <p:nvCxnSpPr>
            <p:cNvPr id="289" name="AutoShape 28"/>
            <p:cNvCxnSpPr/>
            <p:nvPr/>
          </p:nvCxnSpPr>
          <p:spPr>
            <a:xfrm>
              <a:off x="5786640" y="3357720"/>
              <a:ext cx="35820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90" name="AutoShape 28"/>
            <p:cNvCxnSpPr/>
            <p:nvPr/>
          </p:nvCxnSpPr>
          <p:spPr>
            <a:xfrm>
              <a:off x="5786640" y="3071880"/>
              <a:ext cx="35820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91" name="AutoShape 29"/>
            <p:cNvCxnSpPr/>
            <p:nvPr/>
          </p:nvCxnSpPr>
          <p:spPr>
            <a:xfrm flipH="1">
              <a:off x="5785920" y="307260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92" name="AutoShape 29"/>
            <p:cNvCxnSpPr/>
            <p:nvPr/>
          </p:nvCxnSpPr>
          <p:spPr>
            <a:xfrm flipH="1">
              <a:off x="6143400" y="307260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sp>
        <p:nvSpPr>
          <p:cNvPr id="293" name="TextBox 86"/>
          <p:cNvSpPr/>
          <p:nvPr/>
        </p:nvSpPr>
        <p:spPr>
          <a:xfrm>
            <a:off x="4214880" y="3571920"/>
            <a:ext cx="378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4. 12 б., 10 зв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5. 6 б., 5 зв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3"/>
          <p:cNvSpPr/>
          <p:nvPr/>
        </p:nvSpPr>
        <p:spPr>
          <a:xfrm>
            <a:off x="2214720" y="3571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ажнение 143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95" name="Группа 66"/>
          <p:cNvGrpSpPr/>
          <p:nvPr/>
        </p:nvGrpSpPr>
        <p:grpSpPr>
          <a:xfrm>
            <a:off x="23400" y="1071360"/>
            <a:ext cx="9176400" cy="460080"/>
            <a:chOff x="23400" y="1071360"/>
            <a:chExt cx="9176400" cy="460080"/>
          </a:xfrm>
        </p:grpSpPr>
        <p:sp>
          <p:nvSpPr>
            <p:cNvPr id="296" name="TextBox 5"/>
            <p:cNvSpPr/>
            <p:nvPr/>
          </p:nvSpPr>
          <p:spPr>
            <a:xfrm>
              <a:off x="23400" y="1071720"/>
              <a:ext cx="917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) Сл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аемое, пол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ать, предпол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ть, предл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ать, прил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ние;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7" name="Arc 12"/>
            <p:cNvSpPr/>
            <p:nvPr/>
          </p:nvSpPr>
          <p:spPr>
            <a:xfrm flipV="1">
              <a:off x="2357280" y="107100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8" name="Arc 12"/>
            <p:cNvSpPr/>
            <p:nvPr/>
          </p:nvSpPr>
          <p:spPr>
            <a:xfrm flipV="1">
              <a:off x="4429080" y="107100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9" name="Arc 12"/>
            <p:cNvSpPr/>
            <p:nvPr/>
          </p:nvSpPr>
          <p:spPr>
            <a:xfrm flipV="1">
              <a:off x="6215400" y="107100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0" name="Arc 12"/>
            <p:cNvSpPr/>
            <p:nvPr/>
          </p:nvSpPr>
          <p:spPr>
            <a:xfrm flipV="1">
              <a:off x="7787160" y="107100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1" name="Arc 12"/>
            <p:cNvSpPr/>
            <p:nvPr/>
          </p:nvSpPr>
          <p:spPr>
            <a:xfrm flipV="1">
              <a:off x="714240" y="107100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302" name="Группа 67"/>
          <p:cNvGrpSpPr/>
          <p:nvPr/>
        </p:nvGrpSpPr>
        <p:grpSpPr>
          <a:xfrm>
            <a:off x="58680" y="1609200"/>
            <a:ext cx="7391520" cy="460080"/>
            <a:chOff x="58680" y="1609200"/>
            <a:chExt cx="7391520" cy="460080"/>
          </a:xfrm>
        </p:grpSpPr>
        <p:sp>
          <p:nvSpPr>
            <p:cNvPr id="303" name="TextBox 6"/>
            <p:cNvSpPr/>
            <p:nvPr/>
          </p:nvSpPr>
          <p:spPr>
            <a:xfrm>
              <a:off x="58680" y="160956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подр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и, сраст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ься, возр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, прир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и, р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ок;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4" name="Arc 12"/>
            <p:cNvSpPr/>
            <p:nvPr/>
          </p:nvSpPr>
          <p:spPr>
            <a:xfrm flipV="1">
              <a:off x="2071800" y="1608840"/>
              <a:ext cx="50004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5" name="Arc 12"/>
            <p:cNvSpPr/>
            <p:nvPr/>
          </p:nvSpPr>
          <p:spPr>
            <a:xfrm flipV="1">
              <a:off x="3929400" y="1608840"/>
              <a:ext cx="57132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6" name="Arc 12"/>
            <p:cNvSpPr/>
            <p:nvPr/>
          </p:nvSpPr>
          <p:spPr>
            <a:xfrm flipV="1">
              <a:off x="5215680" y="160884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7" name="Arc 12"/>
            <p:cNvSpPr/>
            <p:nvPr/>
          </p:nvSpPr>
          <p:spPr>
            <a:xfrm flipV="1">
              <a:off x="6144480" y="1680120"/>
              <a:ext cx="57132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8" name="Arc 12"/>
            <p:cNvSpPr/>
            <p:nvPr/>
          </p:nvSpPr>
          <p:spPr>
            <a:xfrm flipV="1">
              <a:off x="928440" y="1609560"/>
              <a:ext cx="428400" cy="15264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309" name="Группа 68"/>
          <p:cNvGrpSpPr/>
          <p:nvPr/>
        </p:nvGrpSpPr>
        <p:grpSpPr>
          <a:xfrm>
            <a:off x="11520" y="2090160"/>
            <a:ext cx="7142760" cy="531720"/>
            <a:chOff x="11520" y="2090160"/>
            <a:chExt cx="7142760" cy="531720"/>
          </a:xfrm>
        </p:grpSpPr>
        <p:sp>
          <p:nvSpPr>
            <p:cNvPr id="310" name="TextBox 7"/>
            <p:cNvSpPr/>
            <p:nvPr/>
          </p:nvSpPr>
          <p:spPr>
            <a:xfrm>
              <a:off x="11520" y="2162160"/>
              <a:ext cx="714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соб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ние, сд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ть, подп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ть, ст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е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ть, соб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е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у;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1" name="Arc 12"/>
            <p:cNvSpPr/>
            <p:nvPr/>
          </p:nvSpPr>
          <p:spPr>
            <a:xfrm flipV="1">
              <a:off x="6276600" y="223308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2" name="Arc 12"/>
            <p:cNvSpPr/>
            <p:nvPr/>
          </p:nvSpPr>
          <p:spPr>
            <a:xfrm flipV="1">
              <a:off x="704880" y="21614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3" name="Arc 12"/>
            <p:cNvSpPr/>
            <p:nvPr/>
          </p:nvSpPr>
          <p:spPr>
            <a:xfrm flipV="1">
              <a:off x="2133360" y="21614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4" name="Arc 12"/>
            <p:cNvSpPr/>
            <p:nvPr/>
          </p:nvSpPr>
          <p:spPr>
            <a:xfrm flipV="1">
              <a:off x="3704760" y="223308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5" name="Arc 12"/>
            <p:cNvSpPr/>
            <p:nvPr/>
          </p:nvSpPr>
          <p:spPr>
            <a:xfrm flipV="1">
              <a:off x="4990680" y="223308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16" name="Группа 29"/>
            <p:cNvGrpSpPr/>
            <p:nvPr/>
          </p:nvGrpSpPr>
          <p:grpSpPr>
            <a:xfrm>
              <a:off x="1132200" y="2090160"/>
              <a:ext cx="214920" cy="286560"/>
              <a:chOff x="1132200" y="2090160"/>
              <a:chExt cx="214920" cy="286560"/>
            </a:xfrm>
          </p:grpSpPr>
          <p:cxnSp>
            <p:nvCxnSpPr>
              <p:cNvPr id="317" name="AutoShape 14"/>
              <p:cNvCxnSpPr/>
              <p:nvPr/>
            </p:nvCxnSpPr>
            <p:spPr>
              <a:xfrm flipV="1">
                <a:off x="1132200" y="2090160"/>
                <a:ext cx="107640" cy="2660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18" name="AutoShape 15"/>
              <p:cNvCxnSpPr/>
              <p:nvPr/>
            </p:nvCxnSpPr>
            <p:spPr>
              <a:xfrm flipH="1" flipV="1">
                <a:off x="1239840" y="2090520"/>
                <a:ext cx="107640" cy="2865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319" name="Группа 32"/>
            <p:cNvGrpSpPr/>
            <p:nvPr/>
          </p:nvGrpSpPr>
          <p:grpSpPr>
            <a:xfrm>
              <a:off x="2561040" y="2090160"/>
              <a:ext cx="214920" cy="286560"/>
              <a:chOff x="2561040" y="2090160"/>
              <a:chExt cx="214920" cy="286560"/>
            </a:xfrm>
          </p:grpSpPr>
          <p:cxnSp>
            <p:nvCxnSpPr>
              <p:cNvPr id="320" name="AutoShape 14"/>
              <p:cNvCxnSpPr/>
              <p:nvPr/>
            </p:nvCxnSpPr>
            <p:spPr>
              <a:xfrm flipV="1">
                <a:off x="2561040" y="2090160"/>
                <a:ext cx="107640" cy="2660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21" name="AutoShape 15"/>
              <p:cNvCxnSpPr/>
              <p:nvPr/>
            </p:nvCxnSpPr>
            <p:spPr>
              <a:xfrm flipH="1" flipV="1">
                <a:off x="2668680" y="2090520"/>
                <a:ext cx="107640" cy="2865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322" name="Группа 35"/>
            <p:cNvGrpSpPr/>
            <p:nvPr/>
          </p:nvGrpSpPr>
          <p:grpSpPr>
            <a:xfrm>
              <a:off x="4132440" y="2090160"/>
              <a:ext cx="214920" cy="286560"/>
              <a:chOff x="4132440" y="2090160"/>
              <a:chExt cx="214920" cy="286560"/>
            </a:xfrm>
          </p:grpSpPr>
          <p:cxnSp>
            <p:nvCxnSpPr>
              <p:cNvPr id="323" name="AutoShape 14"/>
              <p:cNvCxnSpPr/>
              <p:nvPr/>
            </p:nvCxnSpPr>
            <p:spPr>
              <a:xfrm flipV="1">
                <a:off x="4132440" y="2090160"/>
                <a:ext cx="107640" cy="2660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24" name="AutoShape 15"/>
              <p:cNvCxnSpPr/>
              <p:nvPr/>
            </p:nvCxnSpPr>
            <p:spPr>
              <a:xfrm flipH="1" flipV="1">
                <a:off x="4240080" y="2090520"/>
                <a:ext cx="107640" cy="2865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25" name="Группа 69"/>
          <p:cNvGrpSpPr/>
          <p:nvPr/>
        </p:nvGrpSpPr>
        <p:grpSpPr>
          <a:xfrm>
            <a:off x="13680" y="2571120"/>
            <a:ext cx="9084600" cy="603360"/>
            <a:chOff x="13680" y="2571120"/>
            <a:chExt cx="9084600" cy="603360"/>
          </a:xfrm>
        </p:grpSpPr>
        <p:sp>
          <p:nvSpPr>
            <p:cNvPr id="326" name="TextBox 8"/>
            <p:cNvSpPr/>
            <p:nvPr/>
          </p:nvSpPr>
          <p:spPr>
            <a:xfrm>
              <a:off x="13680" y="2714760"/>
              <a:ext cx="908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) к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нуться, соприк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ться, прик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новение, к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ться, к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ние;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27" name="Группа 38"/>
            <p:cNvGrpSpPr/>
            <p:nvPr/>
          </p:nvGrpSpPr>
          <p:grpSpPr>
            <a:xfrm>
              <a:off x="3166920" y="2571120"/>
              <a:ext cx="214920" cy="357840"/>
              <a:chOff x="3166920" y="2571120"/>
              <a:chExt cx="214920" cy="357840"/>
            </a:xfrm>
          </p:grpSpPr>
          <p:cxnSp>
            <p:nvCxnSpPr>
              <p:cNvPr id="328" name="AutoShape 14"/>
              <p:cNvCxnSpPr/>
              <p:nvPr/>
            </p:nvCxnSpPr>
            <p:spPr>
              <a:xfrm flipV="1">
                <a:off x="3166920" y="2571480"/>
                <a:ext cx="107640" cy="3326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29" name="AutoShape 15"/>
              <p:cNvCxnSpPr/>
              <p:nvPr/>
            </p:nvCxnSpPr>
            <p:spPr>
              <a:xfrm flipH="1" flipV="1">
                <a:off x="3274560" y="2571120"/>
                <a:ext cx="107640" cy="35820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330" name="Группа 41"/>
            <p:cNvGrpSpPr/>
            <p:nvPr/>
          </p:nvGrpSpPr>
          <p:grpSpPr>
            <a:xfrm>
              <a:off x="6765840" y="2642400"/>
              <a:ext cx="214920" cy="286560"/>
              <a:chOff x="6765840" y="2642400"/>
              <a:chExt cx="214920" cy="286560"/>
            </a:xfrm>
          </p:grpSpPr>
          <p:cxnSp>
            <p:nvCxnSpPr>
              <p:cNvPr id="331" name="AutoShape 14"/>
              <p:cNvCxnSpPr/>
              <p:nvPr/>
            </p:nvCxnSpPr>
            <p:spPr>
              <a:xfrm flipV="1">
                <a:off x="6765840" y="2642400"/>
                <a:ext cx="107640" cy="2660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32" name="AutoShape 15"/>
              <p:cNvCxnSpPr/>
              <p:nvPr/>
            </p:nvCxnSpPr>
            <p:spPr>
              <a:xfrm flipH="1" flipV="1">
                <a:off x="6873480" y="2642760"/>
                <a:ext cx="107640" cy="2865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333" name="Группа 44"/>
            <p:cNvGrpSpPr/>
            <p:nvPr/>
          </p:nvGrpSpPr>
          <p:grpSpPr>
            <a:xfrm>
              <a:off x="8123400" y="2642400"/>
              <a:ext cx="214920" cy="286560"/>
              <a:chOff x="8123400" y="2642400"/>
              <a:chExt cx="214920" cy="286560"/>
            </a:xfrm>
          </p:grpSpPr>
          <p:cxnSp>
            <p:nvCxnSpPr>
              <p:cNvPr id="334" name="AutoShape 14"/>
              <p:cNvCxnSpPr/>
              <p:nvPr/>
            </p:nvCxnSpPr>
            <p:spPr>
              <a:xfrm flipV="1">
                <a:off x="8123400" y="2642400"/>
                <a:ext cx="107640" cy="2660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35" name="AutoShape 15"/>
              <p:cNvCxnSpPr/>
              <p:nvPr/>
            </p:nvCxnSpPr>
            <p:spPr>
              <a:xfrm flipH="1" flipV="1">
                <a:off x="8231040" y="2642760"/>
                <a:ext cx="107640" cy="2865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  <p:sp>
          <p:nvSpPr>
            <p:cNvPr id="336" name="Arc 12"/>
            <p:cNvSpPr/>
            <p:nvPr/>
          </p:nvSpPr>
          <p:spPr>
            <a:xfrm flipV="1">
              <a:off x="409320" y="27140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37" name="Arc 12"/>
            <p:cNvSpPr/>
            <p:nvPr/>
          </p:nvSpPr>
          <p:spPr>
            <a:xfrm flipV="1">
              <a:off x="2766600" y="2785320"/>
              <a:ext cx="35712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38" name="Arc 12"/>
            <p:cNvSpPr/>
            <p:nvPr/>
          </p:nvSpPr>
          <p:spPr>
            <a:xfrm flipV="1">
              <a:off x="4695480" y="2785320"/>
              <a:ext cx="35712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39" name="Arc 12"/>
            <p:cNvSpPr/>
            <p:nvPr/>
          </p:nvSpPr>
          <p:spPr>
            <a:xfrm flipV="1">
              <a:off x="6338520" y="278532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0" name="Arc 12"/>
            <p:cNvSpPr/>
            <p:nvPr/>
          </p:nvSpPr>
          <p:spPr>
            <a:xfrm flipV="1">
              <a:off x="7695720" y="278532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341" name="Группа 70"/>
          <p:cNvGrpSpPr/>
          <p:nvPr/>
        </p:nvGrpSpPr>
        <p:grpSpPr>
          <a:xfrm>
            <a:off x="-4320" y="3252240"/>
            <a:ext cx="8070120" cy="460440"/>
            <a:chOff x="-4320" y="3252240"/>
            <a:chExt cx="8070120" cy="460440"/>
          </a:xfrm>
        </p:grpSpPr>
        <p:sp>
          <p:nvSpPr>
            <p:cNvPr id="342" name="TextBox 9"/>
            <p:cNvSpPr/>
            <p:nvPr/>
          </p:nvSpPr>
          <p:spPr>
            <a:xfrm>
              <a:off x="-4320" y="3252960"/>
              <a:ext cx="80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) прог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ть, дог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ет, выг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ет, приг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ть, перег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ть.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3" name="Arc 12"/>
            <p:cNvSpPr/>
            <p:nvPr/>
          </p:nvSpPr>
          <p:spPr>
            <a:xfrm flipV="1">
              <a:off x="928440" y="32522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4" name="Arc 12"/>
            <p:cNvSpPr/>
            <p:nvPr/>
          </p:nvSpPr>
          <p:spPr>
            <a:xfrm flipV="1">
              <a:off x="2285640" y="32522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5" name="Arc 12"/>
            <p:cNvSpPr/>
            <p:nvPr/>
          </p:nvSpPr>
          <p:spPr>
            <a:xfrm flipV="1">
              <a:off x="3714480" y="32522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6" name="Arc 12"/>
            <p:cNvSpPr/>
            <p:nvPr/>
          </p:nvSpPr>
          <p:spPr>
            <a:xfrm flipV="1">
              <a:off x="5286240" y="3252240"/>
              <a:ext cx="35712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7" name="Arc 12"/>
            <p:cNvSpPr/>
            <p:nvPr/>
          </p:nvSpPr>
          <p:spPr>
            <a:xfrm flipV="1">
              <a:off x="6929280" y="32522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cxnSp>
          <p:nvCxnSpPr>
            <p:cNvPr id="348" name="AutoShape 14"/>
            <p:cNvCxnSpPr/>
            <p:nvPr/>
          </p:nvCxnSpPr>
          <p:spPr>
            <a:xfrm flipV="1">
              <a:off x="1428480" y="3252240"/>
              <a:ext cx="72000" cy="1436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349" name="AutoShape 14"/>
            <p:cNvCxnSpPr/>
            <p:nvPr/>
          </p:nvCxnSpPr>
          <p:spPr>
            <a:xfrm flipV="1">
              <a:off x="2857320" y="3252240"/>
              <a:ext cx="72000" cy="1436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350" name="AutoShape 14"/>
            <p:cNvCxnSpPr/>
            <p:nvPr/>
          </p:nvCxnSpPr>
          <p:spPr>
            <a:xfrm flipV="1">
              <a:off x="4285800" y="3252240"/>
              <a:ext cx="72000" cy="1436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351" name="AutoShape 14"/>
            <p:cNvCxnSpPr/>
            <p:nvPr/>
          </p:nvCxnSpPr>
          <p:spPr>
            <a:xfrm flipV="1">
              <a:off x="5786280" y="3252240"/>
              <a:ext cx="72000" cy="1436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352" name="AutoShape 14"/>
            <p:cNvCxnSpPr/>
            <p:nvPr/>
          </p:nvCxnSpPr>
          <p:spPr>
            <a:xfrm flipV="1">
              <a:off x="7429320" y="3252240"/>
              <a:ext cx="72000" cy="1436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6215040" y="4143240"/>
            <a:ext cx="15001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3"/>
          <p:cNvSpPr/>
          <p:nvPr/>
        </p:nvSpPr>
        <p:spPr>
          <a:xfrm>
            <a:off x="2214720" y="3571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ажнение 153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234360" y="1143000"/>
            <a:ext cx="926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ивать, 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ный, с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ть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верх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ициативный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одный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щий, по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жить,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верх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тересный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ный, 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усный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усственный, не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естный, по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ть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6215040" y="4143240"/>
            <a:ext cx="15001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3"/>
          <p:cNvSpPr/>
          <p:nvPr/>
        </p:nvSpPr>
        <p:spPr>
          <a:xfrm>
            <a:off x="259200" y="285840"/>
            <a:ext cx="873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описание приставок пре- и при-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00040" y="1055520"/>
          <a:ext cx="8358120" cy="4770720"/>
        </p:xfrm>
        <a:graphic>
          <a:graphicData uri="http://schemas.openxmlformats.org/drawingml/2006/table">
            <a:tbl>
              <a:tblPr/>
              <a:tblGrid>
                <a:gridCol w="1460520"/>
                <a:gridCol w="3821040"/>
                <a:gridCol w="307656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истав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начение приста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и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е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9" name="Группа 38"/>
          <p:cNvGrpSpPr/>
          <p:nvPr/>
        </p:nvGrpSpPr>
        <p:grpSpPr>
          <a:xfrm>
            <a:off x="2080080" y="1571760"/>
            <a:ext cx="5450400" cy="459720"/>
            <a:chOff x="2080080" y="1571760"/>
            <a:chExt cx="5450400" cy="459720"/>
          </a:xfrm>
        </p:grpSpPr>
        <p:sp>
          <p:nvSpPr>
            <p:cNvPr id="360" name="Прямоугольник 5"/>
            <p:cNvSpPr/>
            <p:nvPr/>
          </p:nvSpPr>
          <p:spPr>
            <a:xfrm>
              <a:off x="2080080" y="1571760"/>
              <a:ext cx="24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 Приближение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61" name="Прямоугольник 6"/>
            <p:cNvSpPr/>
            <p:nvPr/>
          </p:nvSpPr>
          <p:spPr>
            <a:xfrm>
              <a:off x="5787720" y="1571760"/>
              <a:ext cx="174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ехать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62" name="Группа 13"/>
            <p:cNvGrpSpPr/>
            <p:nvPr/>
          </p:nvGrpSpPr>
          <p:grpSpPr>
            <a:xfrm>
              <a:off x="6072480" y="1571760"/>
              <a:ext cx="572040" cy="214920"/>
              <a:chOff x="6072480" y="1571760"/>
              <a:chExt cx="572040" cy="214920"/>
            </a:xfrm>
          </p:grpSpPr>
          <p:cxnSp>
            <p:nvCxnSpPr>
              <p:cNvPr id="363" name="AutoShape 28"/>
              <p:cNvCxnSpPr/>
              <p:nvPr/>
            </p:nvCxnSpPr>
            <p:spPr>
              <a:xfrm>
                <a:off x="6072480" y="1571760"/>
                <a:ext cx="572040" cy="21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64" name="AutoShape 29"/>
              <p:cNvCxnSpPr/>
              <p:nvPr/>
            </p:nvCxnSpPr>
            <p:spPr>
              <a:xfrm>
                <a:off x="6643800" y="1571760"/>
                <a:ext cx="1080" cy="21528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65" name="Группа 39"/>
          <p:cNvGrpSpPr/>
          <p:nvPr/>
        </p:nvGrpSpPr>
        <p:grpSpPr>
          <a:xfrm>
            <a:off x="2084400" y="2071800"/>
            <a:ext cx="5483880" cy="459720"/>
            <a:chOff x="2084400" y="2071800"/>
            <a:chExt cx="5483880" cy="459720"/>
          </a:xfrm>
        </p:grpSpPr>
        <p:sp>
          <p:nvSpPr>
            <p:cNvPr id="366" name="Прямоугольник 7"/>
            <p:cNvSpPr/>
            <p:nvPr/>
          </p:nvSpPr>
          <p:spPr>
            <a:xfrm>
              <a:off x="2084400" y="2071800"/>
              <a:ext cx="26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 Присоединение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67" name="Прямоугольник 8"/>
            <p:cNvSpPr/>
            <p:nvPr/>
          </p:nvSpPr>
          <p:spPr>
            <a:xfrm>
              <a:off x="5796720" y="2071800"/>
              <a:ext cx="17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брел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68" name="Группа 16"/>
            <p:cNvGrpSpPr/>
            <p:nvPr/>
          </p:nvGrpSpPr>
          <p:grpSpPr>
            <a:xfrm>
              <a:off x="6071760" y="2071800"/>
              <a:ext cx="572040" cy="214920"/>
              <a:chOff x="6071760" y="2071800"/>
              <a:chExt cx="572040" cy="214920"/>
            </a:xfrm>
          </p:grpSpPr>
          <p:cxnSp>
            <p:nvCxnSpPr>
              <p:cNvPr id="369" name="AutoShape 28"/>
              <p:cNvCxnSpPr/>
              <p:nvPr/>
            </p:nvCxnSpPr>
            <p:spPr>
              <a:xfrm>
                <a:off x="6071760" y="2071800"/>
                <a:ext cx="572040" cy="21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70" name="AutoShape 29"/>
              <p:cNvCxnSpPr/>
              <p:nvPr/>
            </p:nvCxnSpPr>
            <p:spPr>
              <a:xfrm>
                <a:off x="6643080" y="2071800"/>
                <a:ext cx="1080" cy="21528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71" name="Группа 40"/>
          <p:cNvGrpSpPr/>
          <p:nvPr/>
        </p:nvGrpSpPr>
        <p:grpSpPr>
          <a:xfrm>
            <a:off x="2086560" y="2571480"/>
            <a:ext cx="5970960" cy="460080"/>
            <a:chOff x="2086560" y="2571480"/>
            <a:chExt cx="5970960" cy="460080"/>
          </a:xfrm>
        </p:grpSpPr>
        <p:sp>
          <p:nvSpPr>
            <p:cNvPr id="372" name="Прямоугольник 9"/>
            <p:cNvSpPr/>
            <p:nvPr/>
          </p:nvSpPr>
          <p:spPr>
            <a:xfrm>
              <a:off x="2086560" y="2571840"/>
              <a:ext cx="350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. Близость к чему-либо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73" name="Прямоугольник 10"/>
            <p:cNvSpPr/>
            <p:nvPr/>
          </p:nvSpPr>
          <p:spPr>
            <a:xfrm>
              <a:off x="5799600" y="257184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.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режный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74" name="Группа 19"/>
            <p:cNvGrpSpPr/>
            <p:nvPr/>
          </p:nvGrpSpPr>
          <p:grpSpPr>
            <a:xfrm>
              <a:off x="6071760" y="2571480"/>
              <a:ext cx="572040" cy="143280"/>
              <a:chOff x="6071760" y="2571480"/>
              <a:chExt cx="572040" cy="143280"/>
            </a:xfrm>
          </p:grpSpPr>
          <p:cxnSp>
            <p:nvCxnSpPr>
              <p:cNvPr id="375" name="AutoShape 28"/>
              <p:cNvCxnSpPr/>
              <p:nvPr/>
            </p:nvCxnSpPr>
            <p:spPr>
              <a:xfrm>
                <a:off x="6071760" y="2571840"/>
                <a:ext cx="572040" cy="14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76" name="AutoShape 29"/>
              <p:cNvCxnSpPr/>
              <p:nvPr/>
            </p:nvCxnSpPr>
            <p:spPr>
              <a:xfrm>
                <a:off x="6643080" y="2571480"/>
                <a:ext cx="1080" cy="1436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77" name="Группа 41"/>
          <p:cNvGrpSpPr/>
          <p:nvPr/>
        </p:nvGrpSpPr>
        <p:grpSpPr>
          <a:xfrm>
            <a:off x="2086200" y="3071880"/>
            <a:ext cx="5673240" cy="459720"/>
            <a:chOff x="2086200" y="3071880"/>
            <a:chExt cx="5673240" cy="459720"/>
          </a:xfrm>
        </p:grpSpPr>
        <p:sp>
          <p:nvSpPr>
            <p:cNvPr id="378" name="Прямоугольник 11"/>
            <p:cNvSpPr/>
            <p:nvPr/>
          </p:nvSpPr>
          <p:spPr>
            <a:xfrm>
              <a:off x="2086200" y="3071880"/>
              <a:ext cx="312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. Неполное действие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79" name="Прямоугольник 12"/>
            <p:cNvSpPr/>
            <p:nvPr/>
          </p:nvSpPr>
          <p:spPr>
            <a:xfrm>
              <a:off x="5792760" y="3071880"/>
              <a:ext cx="19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.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опнул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80" name="Группа 22"/>
            <p:cNvGrpSpPr/>
            <p:nvPr/>
          </p:nvGrpSpPr>
          <p:grpSpPr>
            <a:xfrm>
              <a:off x="6071760" y="3071880"/>
              <a:ext cx="572040" cy="214920"/>
              <a:chOff x="6071760" y="3071880"/>
              <a:chExt cx="572040" cy="214920"/>
            </a:xfrm>
          </p:grpSpPr>
          <p:cxnSp>
            <p:nvCxnSpPr>
              <p:cNvPr id="381" name="AutoShape 28"/>
              <p:cNvCxnSpPr/>
              <p:nvPr/>
            </p:nvCxnSpPr>
            <p:spPr>
              <a:xfrm>
                <a:off x="6071760" y="3071880"/>
                <a:ext cx="572040" cy="21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82" name="AutoShape 29"/>
              <p:cNvCxnSpPr/>
              <p:nvPr/>
            </p:nvCxnSpPr>
            <p:spPr>
              <a:xfrm>
                <a:off x="6643080" y="3071880"/>
                <a:ext cx="1080" cy="21528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83" name="Группа 42"/>
          <p:cNvGrpSpPr/>
          <p:nvPr/>
        </p:nvGrpSpPr>
        <p:grpSpPr>
          <a:xfrm>
            <a:off x="2000160" y="4071960"/>
            <a:ext cx="6335280" cy="827640"/>
            <a:chOff x="2000160" y="4071960"/>
            <a:chExt cx="6335280" cy="827640"/>
          </a:xfrm>
        </p:grpSpPr>
        <p:sp>
          <p:nvSpPr>
            <p:cNvPr id="384" name="Rectangle 4"/>
            <p:cNvSpPr/>
            <p:nvPr/>
          </p:nvSpPr>
          <p:spPr>
            <a:xfrm>
              <a:off x="2000160" y="4074120"/>
              <a:ext cx="421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 Сходно со значением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ва 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чень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85" name="Прямоугольник 29"/>
            <p:cNvSpPr/>
            <p:nvPr/>
          </p:nvSpPr>
          <p:spPr>
            <a:xfrm>
              <a:off x="6013440" y="4071960"/>
              <a:ext cx="232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 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е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покойно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86" name="Группа 32"/>
            <p:cNvGrpSpPr/>
            <p:nvPr/>
          </p:nvGrpSpPr>
          <p:grpSpPr>
            <a:xfrm>
              <a:off x="6357240" y="4071960"/>
              <a:ext cx="572040" cy="142920"/>
              <a:chOff x="6357240" y="4071960"/>
              <a:chExt cx="572040" cy="142920"/>
            </a:xfrm>
          </p:grpSpPr>
          <p:cxnSp>
            <p:nvCxnSpPr>
              <p:cNvPr id="387" name="AutoShape 28"/>
              <p:cNvCxnSpPr/>
              <p:nvPr/>
            </p:nvCxnSpPr>
            <p:spPr>
              <a:xfrm>
                <a:off x="6357240" y="4071960"/>
                <a:ext cx="572040" cy="14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88" name="AutoShape 29"/>
              <p:cNvCxnSpPr/>
              <p:nvPr/>
            </p:nvCxnSpPr>
            <p:spPr>
              <a:xfrm>
                <a:off x="6928560" y="4071960"/>
                <a:ext cx="1080" cy="14328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89" name="Группа 43"/>
          <p:cNvGrpSpPr/>
          <p:nvPr/>
        </p:nvGrpSpPr>
        <p:grpSpPr>
          <a:xfrm>
            <a:off x="2146320" y="4929120"/>
            <a:ext cx="6071040" cy="825480"/>
            <a:chOff x="2146320" y="4929120"/>
            <a:chExt cx="6071040" cy="825480"/>
          </a:xfrm>
        </p:grpSpPr>
        <p:sp>
          <p:nvSpPr>
            <p:cNvPr id="390" name="Прямоугольник 30"/>
            <p:cNvSpPr/>
            <p:nvPr/>
          </p:nvSpPr>
          <p:spPr>
            <a:xfrm>
              <a:off x="2146320" y="4929120"/>
              <a:ext cx="345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 Сходно со значением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ставки 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е-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91" name="Прямоугольник 31"/>
            <p:cNvSpPr/>
            <p:nvPr/>
          </p:nvSpPr>
          <p:spPr>
            <a:xfrm>
              <a:off x="6012720" y="5000400"/>
              <a:ext cx="22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 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е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радить.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92" name="Группа 35"/>
            <p:cNvGrpSpPr/>
            <p:nvPr/>
          </p:nvGrpSpPr>
          <p:grpSpPr>
            <a:xfrm>
              <a:off x="6286320" y="5000400"/>
              <a:ext cx="572040" cy="142920"/>
              <a:chOff x="6286320" y="5000400"/>
              <a:chExt cx="572040" cy="142920"/>
            </a:xfrm>
          </p:grpSpPr>
          <p:cxnSp>
            <p:nvCxnSpPr>
              <p:cNvPr id="393" name="AutoShape 28"/>
              <p:cNvCxnSpPr/>
              <p:nvPr/>
            </p:nvCxnSpPr>
            <p:spPr>
              <a:xfrm>
                <a:off x="6286320" y="5000400"/>
                <a:ext cx="572040" cy="14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94" name="AutoShape 29"/>
              <p:cNvCxnSpPr/>
              <p:nvPr/>
            </p:nvCxnSpPr>
            <p:spPr>
              <a:xfrm>
                <a:off x="6857640" y="5000400"/>
                <a:ext cx="1080" cy="14328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500040" y="5143680"/>
            <a:ext cx="1292400" cy="15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3"/>
          <p:cNvSpPr/>
          <p:nvPr/>
        </p:nvSpPr>
        <p:spPr>
          <a:xfrm>
            <a:off x="2075760" y="0"/>
            <a:ext cx="40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Прямоугольник 4"/>
          <p:cNvSpPr/>
          <p:nvPr/>
        </p:nvSpPr>
        <p:spPr>
          <a:xfrm>
            <a:off x="571680" y="714240"/>
            <a:ext cx="7786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ажите неправильное объяснение значения пристав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ПРИшить – «присоединение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ПРИоткрыть – «неполнота действия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ПРИморский – «близость к чему-либо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) ПРЕуспевать – «неполнота действия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500040" y="24289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й строке все слова пишутся с 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…образовать, пр…волжский, пр..близ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р… смотреться, пр…ключение, пр…готов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р…городный, пр…ставить, пр…крат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пр…обрести, пр…ятный, пр…подава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571680" y="435780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 В какой строке все слова пишутся с Е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) пр…ладить, пр…влечь, пр…забав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) пр…увеличить, пр…мудрый, пр…неприят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) пр…сесть, пр…винтить, пр…спокой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) пр…брежный, пр…ползти, пр…град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3"/>
          <p:cNvSpPr/>
          <p:nvPr/>
        </p:nvSpPr>
        <p:spPr>
          <a:xfrm>
            <a:off x="2075760" y="0"/>
            <a:ext cx="40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Прямоугольник 4"/>
          <p:cNvSpPr/>
          <p:nvPr/>
        </p:nvSpPr>
        <p:spPr>
          <a:xfrm>
            <a:off x="571680" y="714240"/>
            <a:ext cx="7786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ажите неправильное объяснение значения пристав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ПРИшить – «присоединение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ПРИоткрыть – «неполнота действия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ПРИморский – «близость к чему-либо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ПРЕуспевать – «неполнота действия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2" name="Прямоугольник 5"/>
          <p:cNvSpPr/>
          <p:nvPr/>
        </p:nvSpPr>
        <p:spPr>
          <a:xfrm>
            <a:off x="500040" y="24289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й строке все слова пишутся с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жский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з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пр</a:t>
            </a:r>
            <a:r>
              <a:rPr b="1" i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отреться, пр</a:t>
            </a:r>
            <a:r>
              <a:rPr b="1" i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ение, пр</a:t>
            </a:r>
            <a:r>
              <a:rPr b="1" i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ный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и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ести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тный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ва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Прямоугольник 6"/>
          <p:cNvSpPr/>
          <p:nvPr/>
        </p:nvSpPr>
        <p:spPr>
          <a:xfrm>
            <a:off x="571680" y="435780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 В какой строке все слова пишутся с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ади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леч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бав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еличи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дрый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рият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ес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инти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окой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режный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лзти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рад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882360" y="500040"/>
            <a:ext cx="72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onstantia"/>
              </a:rPr>
              <a:t>Домашнее задание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31760" y="1428840"/>
            <a:ext cx="725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§32, записи в словаре,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упражнение 154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857680" y="3214800"/>
            <a:ext cx="242856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7:03:36Z</dcterms:created>
  <dc:creator>рпь</dc:creator>
  <dc:description/>
  <dc:language>en-US</dc:language>
  <cp:lastModifiedBy>рпь</cp:lastModifiedBy>
  <dcterms:modified xsi:type="dcterms:W3CDTF">2011-10-27T18:44:42Z</dcterms:modified>
  <cp:revision>13</cp:revision>
  <dc:subject/>
  <dc:title>Слайд 1</dc:title>
</cp:coreProperties>
</file>