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E96-01B5-4582-96D7-31F51719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399-1D41-4399-B1D5-FE4B64BC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205-A7F4-401C-AD77-B709187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592-12B3-4EB7-839D-4C38C62B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D1E-E0B2-438B-A81B-B7B2077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C086-FDD1-4830-A737-6E11347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D6CB-69A9-4954-A119-FE9D567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3879-6E4F-429D-B077-A19B0ADF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CD4A-CDC0-4DB4-BA98-72D1E54F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373-2E6D-4B27-8244-03570FB5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361-5C41-409E-B782-66B0B20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15F-A752-4023-AE73-C3E7ACC8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C1D-3D1D-45B7-829C-0ECC044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56B9-CEC3-453C-A3AC-671D543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5B8-84ED-498B-9359-4B68662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218-516D-436E-83CE-6D0C967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E183-3D5B-4E6D-A7A0-6F767162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B52-B72A-437E-9004-D003EF1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151-2A8C-4256-BFD8-3FAB82FC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68C-37C3-4BF8-B789-A0BECE5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057-5327-4A18-8661-C12238FF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1FF-F228-443C-A83F-0ED5C21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53B-7684-4F57-91F7-5782347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36F-F288-4BD8-8363-7455192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6424-CDD5-4880-8E5E-3206276096A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B9A-B13A-43D6-968B-2A32373B8E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72;&#1090;&#1088;&#1077;&#1084;&#1087;&#1088;&#1086;&#1077;&#1082;&#1090;.sb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91400" y="463680"/>
            <a:ext cx="614232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Проектно-исследовательская работа</a:t>
            </a:r>
            <a:br>
              <a:rPr sz="3600"/>
            </a:b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«Создание анимаций в среде Скрэтч»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5" descr="ScratchasLego.png"/>
          <p:cNvPicPr/>
          <p:nvPr/>
        </p:nvPicPr>
        <p:blipFill>
          <a:blip r:embed="rId1"/>
          <a:stretch/>
        </p:blipFill>
        <p:spPr>
          <a:xfrm>
            <a:off x="0" y="1268280"/>
            <a:ext cx="281952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2847600" y="580536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Установить ф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537080" cy="324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849400" y="5805360"/>
            <a:ext cx="59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 Выбрать героя из библиоте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537080" cy="324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619280" y="1617840"/>
            <a:ext cx="72565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980640" y="5950080"/>
            <a:ext cx="73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 Разместить героя и подобрать разм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5064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80640" y="5950080"/>
            <a:ext cx="75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4. Импорт костюмов героя из библиоте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353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81720" y="5950080"/>
            <a:ext cx="80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. Собираем программу для движений геро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355840" y="2362320"/>
            <a:ext cx="4656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75600" y="5950080"/>
            <a:ext cx="41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6. Устанавливаем зву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тапы создан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355840" y="2362320"/>
            <a:ext cx="4656240" cy="3724200"/>
          </a:xfrm>
          <a:prstGeom prst="rect">
            <a:avLst/>
          </a:prstGeom>
          <a:ln w="0">
            <a:noFill/>
          </a:ln>
        </p:spPr>
      </p:pic>
      <p:pic>
        <p:nvPicPr>
          <p:cNvPr id="137" name="HipHop.wav" descr=""/>
          <p:cNvPicPr/>
          <p:nvPr/>
        </p:nvPicPr>
        <p:blipFill>
          <a:blip r:embed="rId2"/>
          <a:stretch/>
        </p:blipFill>
        <p:spPr>
          <a:xfrm>
            <a:off x="3995640" y="4581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5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78840" y="5950080"/>
            <a:ext cx="81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. Показываем друзьям, размещаем на сай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РЕАЛИЗАЦИЯ проект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355840" y="2362320"/>
            <a:ext cx="4656240" cy="3724200"/>
          </a:xfrm>
          <a:prstGeom prst="rect">
            <a:avLst/>
          </a:prstGeom>
          <a:ln w="0">
            <a:noFill/>
          </a:ln>
        </p:spPr>
      </p:pic>
      <p:pic>
        <p:nvPicPr>
          <p:cNvPr id="141" name="HipHop.wav" descr=""/>
          <p:cNvPicPr/>
          <p:nvPr/>
        </p:nvPicPr>
        <p:blipFill>
          <a:blip r:embed="rId3"/>
          <a:stretch/>
        </p:blipFill>
        <p:spPr>
          <a:xfrm>
            <a:off x="3995640" y="4581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5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76000" y="405360"/>
            <a:ext cx="5111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ТЕРНЕТ САЙТ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СООБЩЕСТВА СКРЭТ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079640" y="1484280"/>
            <a:ext cx="8064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40320" y="947880"/>
            <a:ext cx="7844400" cy="5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можность обмена опытом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921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55680" y="1665360"/>
            <a:ext cx="785124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сообществе на сайт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cratch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но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здать свою страничку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убликовать свои проект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яться мыслями по поводу проек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 чужие идеи и использовать их в своих проект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ить знания от сверс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ь 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здание анимационного проекта в среде СКРЭТ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сследовать учебную среду программирования Скрэт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зучить возможности практического использования сре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меняться знаниями и проектами в международном  сообществе создателей проектов Скрэт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ТОГ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ы можем конструировать новые истории, новые произведения и объект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ы можем проводить исследования этих новых объектов и описывать их поведени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ы можем показывать свои проекты детям всего мир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336760" y="1336320"/>
            <a:ext cx="58752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выполнили ученики 4 Б класса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дрявцев Арт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бединский Макси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БОУ СОШ№9 г. Холмска, 201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НИМАЦИЯ 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технология, позволяющая при помощи неодушевленных неподвижных объектов создавать иллюзию движ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rcRect l="-192" t="0" r="0" b="6684"/>
          <a:stretch/>
        </p:blipFill>
        <p:spPr>
          <a:xfrm>
            <a:off x="539640" y="765000"/>
            <a:ext cx="8352000" cy="558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27672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учаем  программу СКРЭТ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 rot="10800000">
            <a:off x="1908000" y="2997000"/>
            <a:ext cx="2880000" cy="1655640"/>
          </a:xfrm>
          <a:prstGeom prst="wedgeRoundRectCallout">
            <a:avLst>
              <a:gd name="adj1" fmla="val 61902"/>
              <a:gd name="adj2" fmla="val 117111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команды сгруппированы по разноцветным раздел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-192" t="0" r="0" b="6684"/>
          <a:stretch/>
        </p:blipFill>
        <p:spPr>
          <a:xfrm>
            <a:off x="539640" y="765000"/>
            <a:ext cx="8352000" cy="5585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27672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учаем  программу СКРЭТ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771640" y="4221000"/>
            <a:ext cx="2880000" cy="1656000"/>
          </a:xfrm>
          <a:prstGeom prst="wedgeRoundRectCallout">
            <a:avLst>
              <a:gd name="adj1" fmla="val 66921"/>
              <a:gd name="adj2" fmla="val 57763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анды на изменение движения геро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-192" t="0" r="0" b="6684"/>
          <a:stretch/>
        </p:blipFill>
        <p:spPr>
          <a:xfrm>
            <a:off x="539640" y="765000"/>
            <a:ext cx="8352000" cy="5585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27672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терфейс  среды СКРЭТ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3347640" y="3500280"/>
            <a:ext cx="2879640" cy="1656000"/>
          </a:xfrm>
          <a:prstGeom prst="wedgeRoundRectCallout">
            <a:avLst>
              <a:gd name="adj1" fmla="val 61902"/>
              <a:gd name="adj2" fmla="val 117111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но для составления програм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-192" t="0" r="0" b="6684"/>
          <a:stretch/>
        </p:blipFill>
        <p:spPr>
          <a:xfrm>
            <a:off x="539640" y="765000"/>
            <a:ext cx="8352000" cy="5585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27672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терфейс  среды СКРЭТ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10800000">
            <a:off x="1763280" y="2997000"/>
            <a:ext cx="3024360" cy="1655640"/>
          </a:xfrm>
          <a:prstGeom prst="wedgeRoundRectCallout">
            <a:avLst>
              <a:gd name="adj1" fmla="val -90634"/>
              <a:gd name="adj2" fmla="val 4261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но предварительного просмотра про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-192" t="0" r="0" b="6684"/>
          <a:stretch/>
        </p:blipFill>
        <p:spPr>
          <a:xfrm>
            <a:off x="539640" y="765000"/>
            <a:ext cx="8352000" cy="5585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327672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учаем  программу СКРЭТ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 rot="10800000">
            <a:off x="1834920" y="4724280"/>
            <a:ext cx="2879640" cy="1656000"/>
          </a:xfrm>
          <a:prstGeom prst="wedgeRoundRectCallout">
            <a:avLst>
              <a:gd name="adj1" fmla="val -90078"/>
              <a:gd name="adj2" fmla="val 5996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мпорт готовых объектов из библиотеки, создание сво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граммы собираются из разноцветных кирпичиков-коман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3" descr="ScratchasLego.png"/>
          <p:cNvPicPr/>
          <p:nvPr/>
        </p:nvPicPr>
        <p:blipFill>
          <a:blip r:embed="rId1"/>
          <a:stretch/>
        </p:blipFill>
        <p:spPr>
          <a:xfrm>
            <a:off x="755640" y="2349360"/>
            <a:ext cx="77040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5:14:22Z</dcterms:created>
  <dc:creator>Olya</dc:creator>
  <dc:description/>
  <dc:language>en-US</dc:language>
  <cp:lastModifiedBy>olya</cp:lastModifiedBy>
  <dcterms:modified xsi:type="dcterms:W3CDTF">2017-09-25T01:43:20Z</dcterms:modified>
  <cp:revision>24</cp:revision>
  <dc:subject/>
  <dc:title>Создание анимации в среде  </dc:title>
</cp:coreProperties>
</file>