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226-E9AB-4E92-BCF5-2F7B8C12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192-3181-4324-AB3A-9F0AA9CF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E08-B2DA-4528-AA77-7C4C66FA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995-8C5D-4ED0-83C2-B0601EC3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3D2C9-873E-44ED-AB11-A8635A9E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707DC-DFE2-4251-83DD-13E8AEAA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B0976-5C30-4FFF-9F17-BA193CCD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2386B-F262-44D8-8CFB-BE9B7CDB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67FED-F849-4619-B360-1FC6FAF5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5B2EE-3C99-4482-B643-0919A433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CA6BC-A825-4DCA-B9CB-E4C9FB6F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A154-C1D5-4BB1-91A4-D5F03078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1A24D-FC5B-404B-8736-5CB0CE57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D4226-8647-46A7-8DA4-DB005D45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B63F3-95E7-4DFC-AAF4-789296BA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803C1-64BB-4324-AB3C-6F4E0361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C8DE3-429E-472C-B573-91330CC7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E6B10-90E7-41B0-9ED9-AD985FCA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4026-9FAC-45B0-ADAB-3C7ED6A8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FC6F3-25BF-4462-8DE6-A14443B1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14F11-42BC-441A-909E-67B6C0A0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68C32-371F-49DE-B220-5CC4E95B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52C-C525-4B93-8300-25F5A635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5F22E-62E3-4E39-A609-23AB4A6C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35E0A-943C-4808-B129-DEF5C54D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9AF3-1C5C-4E37-8FDB-B6991C55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57ABF-66AD-4BF6-B600-DECAC108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0BDA3-6030-49EB-85F6-9615CF03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139D6-E854-43A6-B090-F7C3B9B1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AF6EB-9A9D-44BB-A45F-2CA499CB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4373F-1A4D-4089-B976-189F94CD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979002-07C4-47C1-AB76-4DCD3FA3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E8CDD0-C8A9-482E-87B3-23AD4705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F5F0-6651-41D1-84FF-71E55F29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CA17E4-C606-434B-9722-DDBA1D4E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BCEAEB-980C-40BE-82ED-49573888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C446B2-F91C-4D65-82FD-AED0C789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83A9C7-D77F-4AD2-9A80-E624FB53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27387B-4AF9-48D6-9DE5-737F5A7B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2EEF5C-2FFE-4B2E-8914-A0A0AF8D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99BC44-7B1E-4B4D-A855-2D3F26D6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5F3F6A-D640-4FF1-83DC-FC16693B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D607A7-468C-4992-B40D-C18574DF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A93-D00E-4405-B48E-D25A6869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003-20C9-4C5A-87BA-10700018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E49-4DC9-4E6B-ACEC-55E7F165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6AD-55B1-487C-912E-C341A789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043-B762-407A-987B-C0D337CC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3F32-BE47-4FA2-9415-6EFCD33FFD4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9F5E-3C02-4F3A-B5C8-CC01B5E9111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AC8D-0ACA-408A-8B22-F74FD766501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CAD7-C9D9-4B2D-B26C-C0B0FD45F86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2285640" y="4357800"/>
            <a:ext cx="64580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alibri"/>
              </a:rPr>
              <a:t>г.Нижневартовск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alibri"/>
              </a:rPr>
              <a:t>2015 г. МБОУ СОШ№9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633240" y="1463760"/>
            <a:ext cx="7632720" cy="23828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3" descr="C:\Users\shestakov\Desktop\эскиз - копия.jpg"/>
          <p:cNvPicPr/>
          <p:nvPr/>
        </p:nvPicPr>
        <p:blipFill>
          <a:blip r:embed="rId2"/>
          <a:srcRect l="0" t="0" r="3299" b="6045"/>
          <a:stretch/>
        </p:blipFill>
        <p:spPr>
          <a:xfrm>
            <a:off x="3000240" y="214200"/>
            <a:ext cx="2936880" cy="11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Rectangle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менно Маршак познакомил российского читателя со стихами великого шотландского поэта. Твардовский  в свое время так оценил эти переводы: «Он сделал Бернса русским, оставив его шотландцем». Стихи Бернса в переводе Маршака мы воспринимаем как стихи своего современни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Picture 7" descr="сканирование0008"/>
          <p:cNvPicPr/>
          <p:nvPr/>
        </p:nvPicPr>
        <p:blipFill>
          <a:blip r:embed="rId2"/>
          <a:stretch/>
        </p:blipFill>
        <p:spPr>
          <a:xfrm>
            <a:off x="1071720" y="1643040"/>
            <a:ext cx="303372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437920" y="2133720"/>
            <a:ext cx="3124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Constantia"/>
              </a:rPr>
              <a:t>O my Love is like a red, red rose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Constantia"/>
              </a:rPr>
              <a:t>That` s newly sprung in June: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Constantia"/>
              </a:rPr>
              <a:t>O my Love is like the melody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Constantia"/>
              </a:rPr>
              <a:t>That` s sweetly played in tune.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Constantia"/>
              </a:rPr>
              <a:t>As fair art thou, my bonnie lass,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Constantia"/>
              </a:rPr>
              <a:t>So deep in love am I: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Constantia"/>
              </a:rPr>
              <a:t>And will love thee still, my dear,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Constantia"/>
              </a:rPr>
              <a:t>Till a` the seas gang dry: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Constantia"/>
              </a:rPr>
              <a:t>Till are  the seas gang dry, my dear,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Constantia"/>
              </a:rPr>
              <a:t>And the rocks melt with  the sun;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Constantia"/>
              </a:rPr>
              <a:t>And I will love thee still, my dear,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Constantia"/>
              </a:rPr>
              <a:t>While the sands o` life shall run.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Constantia"/>
              </a:rPr>
              <a:t>And fare thee well, my only Love!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Constantia"/>
              </a:rPr>
              <a:t>And fare thee well a while!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Constantia"/>
              </a:rPr>
              <a:t>And I will come again, my Love,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Constantia"/>
              </a:rPr>
              <a:t>Though it were ten thousands mile.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e58b6"/>
                </a:solidFill>
                <a:latin typeface="Constantia"/>
              </a:rPr>
              <a:t>Любовь, как роза, роза красная,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e58b6"/>
                </a:solidFill>
                <a:latin typeface="Constantia"/>
              </a:rPr>
              <a:t>Цветет в моем саду.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e58b6"/>
                </a:solidFill>
                <a:latin typeface="Constantia"/>
              </a:rPr>
              <a:t>Любовь моя – как песенка,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e58b6"/>
                </a:solidFill>
                <a:latin typeface="Constantia"/>
              </a:rPr>
              <a:t>С которой в путь иду.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e58b6"/>
                </a:solidFill>
                <a:latin typeface="Constantia"/>
              </a:rPr>
              <a:t>Сильнее красоты твоей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e58b6"/>
                </a:solidFill>
                <a:latin typeface="Constantia"/>
              </a:rPr>
              <a:t>Моя любовь одна.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e58b6"/>
                </a:solidFill>
                <a:latin typeface="Constantia"/>
              </a:rPr>
              <a:t>Она с тобой, пока моря 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e58b6"/>
                </a:solidFill>
                <a:latin typeface="Constantia"/>
              </a:rPr>
              <a:t>Не высохнут до дна.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e58b6"/>
                </a:solidFill>
                <a:latin typeface="Constantia"/>
              </a:rPr>
              <a:t>Не высохнут моря, мой друг,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e58b6"/>
                </a:solidFill>
                <a:latin typeface="Constantia"/>
              </a:rPr>
              <a:t>Не рушится гранит,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e58b6"/>
                </a:solidFill>
                <a:latin typeface="Constantia"/>
              </a:rPr>
              <a:t>Не остановится песок,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e58b6"/>
                </a:solidFill>
                <a:latin typeface="Constantia"/>
              </a:rPr>
              <a:t>А он, как жизнь, бежит…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e58b6"/>
                </a:solidFill>
                <a:latin typeface="Constantia"/>
              </a:rPr>
              <a:t>Будь счастлива, моя любовь,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e58b6"/>
                </a:solidFill>
                <a:latin typeface="Constantia"/>
              </a:rPr>
              <a:t>Прощай и не грусти.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e58b6"/>
                </a:solidFill>
                <a:latin typeface="Constantia"/>
              </a:rPr>
              <a:t>Вернусь к тебе, хоть целый свет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e58b6"/>
                </a:solidFill>
                <a:latin typeface="Constantia"/>
              </a:rPr>
              <a:t>Пришлось бы мне пройти!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e58b6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Picture 8" descr="сканирование"/>
          <p:cNvPicPr/>
          <p:nvPr/>
        </p:nvPicPr>
        <p:blipFill>
          <a:blip r:embed="rId1"/>
          <a:stretch/>
        </p:blipFill>
        <p:spPr>
          <a:xfrm>
            <a:off x="2771640" y="260280"/>
            <a:ext cx="58708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438280" y="1844640"/>
            <a:ext cx="6400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 Шекспировском съезде в 1957 году в Стрэтфорде Самуил Яковлевич Маршак так мотивировал свою приверженность делу поэтического перевода: «Искусство обладает волшебной способностью преодолевать преграды расы, национальности и традиции, заставляя людей сознавать свое всемирное братство. Научные и технические достижения какого-нибудь народа завоевывают ему уважение и восхищение, но творения искусства заставляют всех полюбить этот народ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99" name="Picture 9" descr="сканирование0003"/>
          <p:cNvPicPr/>
          <p:nvPr/>
        </p:nvPicPr>
        <p:blipFill>
          <a:blip r:embed="rId1"/>
          <a:stretch/>
        </p:blipFill>
        <p:spPr>
          <a:xfrm>
            <a:off x="4356000" y="0"/>
            <a:ext cx="245916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55640" y="2276640"/>
            <a:ext cx="628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ереводы английской классической поэзии занимают значительное место в творчестве Маршака. В течение 50 лет он работал над переводами своего любимого поэта Уильяма Блейка. Это интересный английский поэт конца XVIII начала XIX веков, прославленный и зачисленный в классики спустя много лет после смерт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02" name="Picture 8" descr="сканирование0003"/>
          <p:cNvPicPr/>
          <p:nvPr/>
        </p:nvPicPr>
        <p:blipFill>
          <a:blip r:embed="rId1"/>
          <a:stretch/>
        </p:blipFill>
        <p:spPr>
          <a:xfrm>
            <a:off x="4356000" y="0"/>
            <a:ext cx="245916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Rectangle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собое место в творчестве С.Я. Маршака занимают переводы Шекспира. Сегодня едва ли можно найти человека, незнакомого с шекспировскими сонетами. Они единодушно признаны одним из величайших созданий гения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Picture 8" descr="сканирование0001"/>
          <p:cNvPicPr/>
          <p:nvPr/>
        </p:nvPicPr>
        <p:blipFill>
          <a:blip r:embed="rId2"/>
          <a:stretch/>
        </p:blipFill>
        <p:spPr>
          <a:xfrm>
            <a:off x="6068880" y="1989000"/>
            <a:ext cx="25466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ctangle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8680" cy="1231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99"/>
                </a:solidFill>
                <a:latin typeface="Constantia"/>
              </a:rPr>
              <a:t>If </a:t>
            </a:r>
            <a:r>
              <a:rPr b="1" i="1" lang="en-US" sz="1200" spc="-1" strike="noStrike">
                <a:solidFill>
                  <a:srgbClr val="000099"/>
                </a:solidFill>
                <a:latin typeface="Constantia"/>
              </a:rPr>
              <a:t>thou survive me well-contented day,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Constantia"/>
              </a:rPr>
              <a:t>When that churl Death my bones with dust shall cover,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Constantia"/>
              </a:rPr>
              <a:t>And shall by fortune once more re-survey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Constantia"/>
              </a:rPr>
              <a:t>These poor rude lines of thy deceased lover,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Constantia"/>
              </a:rPr>
              <a:t>Compare them with the battering of the time,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Constantia"/>
              </a:rPr>
              <a:t>And though they outstripped by every pen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Constantia"/>
              </a:rPr>
              <a:t>Reserve them for my love, not for their rhyme,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Constantia"/>
              </a:rPr>
              <a:t>Exceeded by the height of happier man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Constantia"/>
              </a:rPr>
              <a:t>O then vouchsafe me but this loving thought: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Constantia"/>
              </a:rPr>
              <a:t>“</a:t>
            </a:r>
            <a:r>
              <a:rPr b="1" i="1" lang="en-US" sz="1200" spc="-1" strike="noStrike">
                <a:solidFill>
                  <a:srgbClr val="000099"/>
                </a:solidFill>
                <a:latin typeface="Constantia"/>
              </a:rPr>
              <a:t>Had my friend’s Muse grown with this growing age,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Constantia"/>
              </a:rPr>
              <a:t>A dearer birth than this his love had brought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Constantia"/>
              </a:rPr>
              <a:t>To march in ranks of better equipage;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Constantia"/>
              </a:rPr>
              <a:t>          </a:t>
            </a:r>
            <a:r>
              <a:rPr b="1" i="1" lang="en-US" sz="1200" spc="-1" strike="noStrike">
                <a:solidFill>
                  <a:srgbClr val="000099"/>
                </a:solidFill>
                <a:latin typeface="Constantia"/>
              </a:rPr>
              <a:t>But since he died, and poets better prove,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Constantia"/>
              </a:rPr>
              <a:t>           </a:t>
            </a:r>
            <a:r>
              <a:rPr b="1" i="1" lang="en-US" sz="1200" spc="-1" strike="noStrike">
                <a:solidFill>
                  <a:srgbClr val="000099"/>
                </a:solidFill>
                <a:latin typeface="Constantia"/>
              </a:rPr>
              <a:t>Theirs for their style I’ll read, and his for love”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О, если ты меня переживешь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Когда меня накроет смерть доскою,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И эти строки бегло перечтешь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Написанные дружеской рукою, -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Сравнишь ли ты меня и молодежь?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Ее искусство выше будет вдво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Но пусть я буду по-милу хорош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Тем, что при жизни полон был тобою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едь если бы я не отстал в пути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С растущим веком мог бы я расти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И лучшие принес бы посвящень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Среди певцов иного поколенья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Но так как с мертвым спор ведут они, -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о мне любовь, в них мастерство цени!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438280" y="191592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1948 году Маршак закончил перевод всех сонетов для восьмого тома собрания сочинений Шекспира. Сам поэт писал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efac9"/>
                </a:solidFill>
                <a:latin typeface="Constantia"/>
              </a:rPr>
              <a:t>Я перевел Шекспировы сонеты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efac9"/>
                </a:solidFill>
                <a:latin typeface="Constantia"/>
              </a:rPr>
              <a:t>Пускай поэт, покинув старый дом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efac9"/>
                </a:solidFill>
                <a:latin typeface="Constantia"/>
              </a:rPr>
              <a:t>Заговорит на языке другом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efac9"/>
                </a:solidFill>
                <a:latin typeface="Constantia"/>
              </a:rPr>
              <a:t>В другие дни, в другом краю планет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efac9"/>
                </a:solidFill>
                <a:latin typeface="Constantia"/>
              </a:rPr>
              <a:t>Соратником его мы признаем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efac9"/>
                </a:solidFill>
                <a:latin typeface="Constantia"/>
              </a:rPr>
              <a:t>Защитником свободы, правды, мир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efac9"/>
                </a:solidFill>
                <a:latin typeface="Constantia"/>
              </a:rPr>
              <a:t>Недаром имя славное Шекспир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efac9"/>
                </a:solidFill>
                <a:latin typeface="Constantia"/>
              </a:rPr>
              <a:t>По-русски значит: потрясай копье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12" name="Picture 4" descr="сканирование0003"/>
          <p:cNvPicPr/>
          <p:nvPr/>
        </p:nvPicPr>
        <p:blipFill>
          <a:blip r:embed="rId1"/>
          <a:stretch/>
        </p:blipFill>
        <p:spPr>
          <a:xfrm>
            <a:off x="4211640" y="0"/>
            <a:ext cx="245916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Каждый народ имеет свою культуру, свои духовные ценности, свое мировосприятие, и это отражается в его языке. В англоязычной литературе значительное место занимают 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Nursery Rhymes – 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детские стихи. Эти народные стихи известны в Англии и Шотландии уже более четырех столетий. Народ очень бережно сохраняет традиции и культурное наследие прошлого. Детские стихи и потешки известны под названием 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“Mother Goose Rhymes” – 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Стихи Матушки Гусыни»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Английские народные стихи для детей привлекали внимание многих поэтов своей музыкальностью, необычными сравнениями и метафорами, юмором. Мир английской детской поэзии стал доступен и русскому читателю благодаря переводам выдающихся русских поэтов К.Чуковского, В. Лунина, Г. Кружкова, Ю. Левина и , конечно, С.Я. Маршак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Rectangle 2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49132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2438280" y="1052280"/>
            <a:ext cx="64008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Загадк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nstantia"/>
              </a:rPr>
              <a:t>Little Nancy Etticoat   with a white pettycoa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nstantia"/>
              </a:rPr>
              <a:t>And a red nose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nstantia"/>
              </a:rPr>
              <a:t>She has no feet or hands,the longer she stand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nstantia"/>
              </a:rPr>
              <a:t>The shorter she grow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nstantia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000099"/>
                </a:solidFill>
                <a:latin typeface="Constantia"/>
              </a:rPr>
              <a:t>(Candle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Constantia"/>
              </a:rPr>
              <a:t>Тонкая девчонка, белая юбчонка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Constantia"/>
              </a:rPr>
              <a:t>Красный нос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Constantia"/>
              </a:rPr>
              <a:t>Чем длиннее ночи, тем она короч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Constantia"/>
              </a:rPr>
              <a:t>От горючих слез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Constantia"/>
              </a:rPr>
              <a:t>                                                       </a:t>
            </a:r>
            <a:r>
              <a:rPr b="0" i="1" lang="ru-RU" sz="2000" spc="-1" strike="noStrike">
                <a:solidFill>
                  <a:srgbClr val="000099"/>
                </a:solidFill>
                <a:latin typeface="Constantia"/>
              </a:rPr>
              <a:t>(Свеча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371680" y="396720"/>
            <a:ext cx="6473880" cy="6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4" descr=""/>
          <p:cNvPicPr/>
          <p:nvPr/>
        </p:nvPicPr>
        <p:blipFill>
          <a:blip r:embed="rId1"/>
          <a:stretch/>
        </p:blipFill>
        <p:spPr>
          <a:xfrm>
            <a:off x="2432160" y="225360"/>
            <a:ext cx="6413400" cy="689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nstantia"/>
              </a:rPr>
              <a:t>Humpty-Dumpty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nstantia"/>
              </a:rPr>
              <a:t>sat on a wall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nstantia"/>
              </a:rPr>
              <a:t>Humpty-Dumpt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nstantia"/>
              </a:rPr>
              <a:t>Had a great fall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nstantia"/>
              </a:rPr>
              <a:t>All the king</a:t>
            </a:r>
            <a:r>
              <a:rPr b="0" lang="en-US" sz="2000" spc="-1" strike="noStrike">
                <a:solidFill>
                  <a:srgbClr val="008000"/>
                </a:solidFill>
                <a:latin typeface="Constantia"/>
                <a:ea typeface="Arial"/>
              </a:rPr>
              <a:t>`</a:t>
            </a:r>
            <a:r>
              <a:rPr b="0" lang="en-US" sz="2000" spc="-1" strike="noStrike">
                <a:solidFill>
                  <a:srgbClr val="008000"/>
                </a:solidFill>
                <a:latin typeface="Constantia"/>
              </a:rPr>
              <a:t>s horses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nstantia"/>
              </a:rPr>
              <a:t>And all the king`s man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nstantia"/>
              </a:rPr>
              <a:t>Couldn`t put Humpty together again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292360" y="1600200"/>
            <a:ext cx="3546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nstantia"/>
              </a:rPr>
              <a:t>Шалтай – Болтай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nstantia"/>
              </a:rPr>
              <a:t>Сидел на стен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nstantia"/>
              </a:rPr>
              <a:t>Шалтай –Болтай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nstantia"/>
              </a:rPr>
              <a:t>Свалился во сн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nstantia"/>
              </a:rPr>
              <a:t>Вся королевская конница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nstantia"/>
              </a:rPr>
              <a:t>Вся королевская рать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nstantia"/>
              </a:rPr>
              <a:t>Не может Шалтая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nstantia"/>
              </a:rPr>
              <a:t>Не может Болтая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nstantia"/>
              </a:rPr>
              <a:t>Шалтая-Болтая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nstantia"/>
              </a:rPr>
              <a:t>Шалтая-Болтая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nstantia"/>
              </a:rPr>
              <a:t>Шалтая-Болтая собрать!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438280" y="1628280"/>
            <a:ext cx="6400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знакомиться с основными сведениями из биографии С.Я. Марша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зучить факты биографии, связанные с деятельностью поэта как переводчи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знакомиться со стихами английских поэтов, которых переводил Маршак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2359080" y="225360"/>
            <a:ext cx="648648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340000" y="90792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Two little kittens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one stormy night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Began to quarrel and then to fight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One had a mouse, the other had none,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This was the way the fight was begun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I’ll have that mouse”, said the bigger cat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you’ll have that mouse? We’ll se about that!”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I will have that mouse,” said the older one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You shan’t have that mouse,” said the little one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I told you before, ‘t was a stormy night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When these two little kittens began to fight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The old woman took her sweeping broom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And swept the kittens right out of the room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The ground was all covered with frost and snow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And  the two little kittens had nowhere to go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So they both lay down on the mat at the door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While the old woman finished sweeping the floor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They both crept in as quiet as mice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All wet with snow, and as cold as ice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or they found it was better, that stormy night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To lie down and sleep than to quarrel and fight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2432160" y="225360"/>
            <a:ext cx="6413400" cy="6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438280" y="549000"/>
            <a:ext cx="6400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ва маленьких котенка поссорились в угл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ердитая хозяйка взяла свою метлу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 вымела из кухни дерущихся котят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 справившись при этом, кто прав, кто виноват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 дело было ночью, зимою, в январ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ва маленьких котенка замерзли на двор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Легли они, свернувшись, на камень  у крыльца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осы уткнули в лапки и стали ждать конц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о сжалилась хозяйка и отворила двер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«Ну что, - она спросила, - не ссоритесь теперь?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ошли они тихонько в свой угол на ночлег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о шкурки отряхнули холодный, мокрый снег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 оба перед печкой заснули сладким сно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 вьюга до рассвета шумела за окно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3" name="Rectangle 7" descr=""/>
          <p:cNvPicPr/>
          <p:nvPr/>
        </p:nvPicPr>
        <p:blipFill>
          <a:blip r:embed="rId1"/>
          <a:stretch/>
        </p:blipFill>
        <p:spPr>
          <a:xfrm>
            <a:off x="2408400" y="-6480"/>
            <a:ext cx="6411600" cy="6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195640" y="1699920"/>
            <a:ext cx="6643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В одном из своих писем С.Я. Маршак писал, что ему хотелось бы подарить каждому из ребят говорящую куколку. И чтобы она говорила только такие слова, которые человеку в эту минуту нужнее все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апример: «Не печалься. Будет и на твоей улице праздник»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Или: «Не бойся! Бывают вещи и пострашнее!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Или: «Не обижайся. Будь умнее своего обидчика!»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о таких куколок не существует, и Маршак советовал ребятам говорить себе в трудную минуту те слова, которые могут их утешить, успокоить, развеселить, сделать добрее, умнее и терпеливее.  «А помочь тем, - писал он, - кому не придут умные слова в нужную минуту, могут хорошие книжки. Надо только подобрать такие книжки, которые больше всего могут пригодиться и детям и большим, и молодым и старым»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аршак сделал в своей жизни очень много, чтобы решить эту задачу. Он писал и переводил и для детей и для взрослых. Он создавал поэзию. Он находил наилучшие слова и ставил их в наилучшем порядк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26" name="Picture 11" descr="сканирование0003"/>
          <p:cNvPicPr/>
          <p:nvPr/>
        </p:nvPicPr>
        <p:blipFill>
          <a:blip r:embed="rId1"/>
          <a:stretch/>
        </p:blipFill>
        <p:spPr>
          <a:xfrm>
            <a:off x="4140360" y="0"/>
            <a:ext cx="230328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438280" y="1125000"/>
            <a:ext cx="6400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астерство поэта-переводчика – особое, очень сложное мастерство. Переводчик дает нам возможность понять время, события, чувства и настроение автор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Благодаря творчеству С.Я. Маршака –переводчика русскоязычные читатели имеют возможность познакомиться с талантливыми английскими поэтами, такими как Шекспир, Бернс, Блейк и другими, а также с английской детской поэзи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.Я. Маршак одинаково талантливо переводил как философские, лирические стихи, так и веселые детские  стихотворения, загадки, скороговорки, рифмовки, открывая для нас мир английской поэз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3127320" y="225360"/>
            <a:ext cx="476100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450720" y="-109440"/>
            <a:ext cx="8242560" cy="1487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сканирование0002"/>
          <p:cNvPicPr/>
          <p:nvPr/>
        </p:nvPicPr>
        <p:blipFill>
          <a:blip r:embed="rId2"/>
          <a:stretch/>
        </p:blipFill>
        <p:spPr>
          <a:xfrm>
            <a:off x="3645000" y="2565360"/>
            <a:ext cx="4311720" cy="40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ногие вообще утверждают, что поэзия непереводима. Можно ли в химической лаборатории изготовить фиалку? Цветок должен вырасти из семени, иначе он не зацветет. Удачный перевод лирического стихотворения – всегда исключение из правила, так утверждал Самуил Яковлевич Маршак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0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4572000" y="0"/>
            <a:ext cx="185580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астерством переводчика владели многие корифеи русской поэзии,  первым среди них нужно назвать </a:t>
            </a: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асилия Андреевича Жуковског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ославленные мастера перевода, открывшие нам английскую поэзию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А.С. Пушкин, М.Ю. Лермонтов, Н.М. Карамзин, К.Н. Батюшков, И.И. Козлов, Ф.И. Тютчев, А.А. Фет, И.С. Тургенев, А.К. Толстой, А.Н. Плещеев, И.А. Бунин, В.Я. Брюсов, Б.Л. Пастернак, К.И. Чуковский С.Я. Маршак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3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4356000" y="0"/>
            <a:ext cx="185580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74320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efac9"/>
                </a:solidFill>
                <a:latin typeface="Constantia"/>
              </a:rPr>
              <a:t>Самуил Яковлевич Маршак  - замечательный поэт, великолепный мастер перевода, человек высокой культуры и самых разно-образных интересов и знаний. Это благодаря ему мы знаем сонеты Шекспира, поэзию Роберта Бернса, Байрона и других английских авторов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195640" y="5013000"/>
            <a:ext cx="664344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Constantia"/>
              </a:rPr>
              <a:t>Самуил Яковлевич Марша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Constantia"/>
              </a:rPr>
              <a:t>1887-196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Picture 10" descr="сканирование0004"/>
          <p:cNvPicPr/>
          <p:nvPr/>
        </p:nvPicPr>
        <p:blipFill>
          <a:blip r:embed="rId1"/>
          <a:stretch/>
        </p:blipFill>
        <p:spPr>
          <a:xfrm>
            <a:off x="3193920" y="476280"/>
            <a:ext cx="383544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74320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efac9"/>
                </a:solidFill>
                <a:latin typeface="Constantia"/>
              </a:rPr>
              <a:t>Родился Маршак в 1887 г. в Воронеже. Будущий поэт рано полюбил поэзию, четырех лет от роду он пытался сам сочинять стихотворные строчки, а в 11 лет, когда он стал учиться в гимназии, уже переводил древнеримского поэта Горац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993760" y="692280"/>
            <a:ext cx="6149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efac9"/>
                </a:solidFill>
                <a:latin typeface="Constantia"/>
              </a:rPr>
              <a:t>С 1912 года Маршак ряд лет прожил в Англии, учился  в Лондонском университете на факультете искусств. Там основательно изучали английский язык, а также историю литературы. Особенно много времени уделялось творчеству Шекспира. Переводы английской классической поэзии занимают значительное место в творчестве Маршак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7:10:12Z</dcterms:created>
  <dc:creator>User</dc:creator>
  <dc:description/>
  <dc:language>en-US</dc:language>
  <cp:lastModifiedBy>PetrjukTI</cp:lastModifiedBy>
  <dcterms:modified xsi:type="dcterms:W3CDTF">2017-09-16T15:14:13Z</dcterms:modified>
  <cp:revision>14</cp:revision>
  <dc:subject/>
  <dc:title>Маршак и английская литература.</dc:title>
</cp:coreProperties>
</file>