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2F0-95F8-4DEB-A459-217D93BD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690-2D95-4C5E-9067-B57D72E6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169-5565-4ECE-976E-97F5D40B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B807-2557-483C-8EB4-1F89F684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C97E-89C7-4CAD-8DB1-AFB7B138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1392-C901-42B7-9F84-CF701280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577A-6D3D-42FB-A4D7-75040553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8523-8AE1-4F90-A516-74C4A837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048F-89F2-42F4-8211-CC488744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7774-271C-4D30-81E3-A600DC6A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94AE-1E14-4C3E-BDAB-2A3A7A4D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F34-D19F-4FF9-A1FE-CD00A712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C85B-140A-427C-81A2-28977369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F03B-0860-41C6-8E5A-BC1F0DD7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EDB1-3B56-4742-B5C1-34F9C6E8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9639-481B-4C6A-B739-4D5F83DC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1275-FB95-4146-8C8C-85278089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B17-56EA-4DEB-805C-D2D8C202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638A-4D14-4567-84ED-2281CCD7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999-7AD3-4C5E-9121-7C205201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FDA-0A7A-4332-B7D3-589F02D9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681-9162-4CB5-979E-C19068B6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651A-9641-4C2A-BA29-48E598E2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00F-2108-4770-83E9-B25ECD40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1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32200" y="3230640"/>
                  <a:ext cx="376200" cy="539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30280" y="898920"/>
                  <a:ext cx="293760" cy="423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2160" y="64080"/>
                <a:ext cx="1554480" cy="6001920"/>
                <a:chOff x="7472160" y="64080"/>
                <a:chExt cx="1554480" cy="600192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5240" y="4843440"/>
                  <a:ext cx="955800" cy="116244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89520" y="153000"/>
                  <a:ext cx="668880" cy="81216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1760" y="3769920"/>
                  <a:ext cx="592560" cy="71712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8640" y="1770120"/>
                  <a:ext cx="708840" cy="85608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11160" y="6206760"/>
              <a:ext cx="904320" cy="54180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3A4A-D318-4624-B856-C11D750DB33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87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32200" y="3230640"/>
                  <a:ext cx="376200" cy="539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30280" y="898920"/>
                  <a:ext cx="293760" cy="423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2160" y="64080"/>
                <a:ext cx="1554480" cy="6001920"/>
                <a:chOff x="7472160" y="64080"/>
                <a:chExt cx="1554480" cy="600192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5240" y="4843440"/>
                  <a:ext cx="955800" cy="116244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89520" y="153000"/>
                  <a:ext cx="668880" cy="81216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1760" y="3769920"/>
                  <a:ext cx="592560" cy="71712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8640" y="1770120"/>
                  <a:ext cx="708840" cy="85608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11160" y="6206760"/>
              <a:ext cx="904320" cy="54180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132" name="Oval 31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135" name="Oval 32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138" name="Oval 28" descr=""/>
            <p:cNvPicPr/>
            <p:nvPr/>
          </p:nvPicPr>
          <p:blipFill>
            <a:blip r:embed="rId15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141" name="Oval 30" descr=""/>
            <p:cNvPicPr/>
            <p:nvPr/>
          </p:nvPicPr>
          <p:blipFill>
            <a:blip r:embed="rId16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144" name="Oval 27" descr=""/>
            <p:cNvPicPr/>
            <p:nvPr/>
          </p:nvPicPr>
          <p:blipFill>
            <a:blip r:embed="rId17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147" name="Oval 29" descr=""/>
            <p:cNvPicPr/>
            <p:nvPr/>
          </p:nvPicPr>
          <p:blipFill>
            <a:blip r:embed="rId18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150" name="Oval 33" descr=""/>
            <p:cNvPicPr/>
            <p:nvPr/>
          </p:nvPicPr>
          <p:blipFill>
            <a:blip r:embed="rId19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153" name="Oval 34" descr=""/>
            <p:cNvPicPr/>
            <p:nvPr/>
          </p:nvPicPr>
          <p:blipFill>
            <a:blip r:embed="rId20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7117-0471-431C-9B46-AD41FE53F2D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1447560"/>
            <a:ext cx="853452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6600"/>
            </a:br>
            <a:br>
              <a:rPr sz="6600"/>
            </a:b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формление участка группы «Капелька»  зимой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участо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4" descr="G:\фотки 2015\фото0471.jpg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320" y="-152640"/>
            <a:ext cx="9144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аши построй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4" descr="G:\фотки 2015\DSCN0648.JPG"/>
          <p:cNvPicPr/>
          <p:nvPr/>
        </p:nvPicPr>
        <p:blipFill>
          <a:blip r:embed="rId1"/>
          <a:stretch/>
        </p:blipFill>
        <p:spPr>
          <a:xfrm>
            <a:off x="533520" y="1371600"/>
            <a:ext cx="3867120" cy="5156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G:\фотки 2015\DSCN0644.JPG"/>
          <p:cNvPicPr/>
          <p:nvPr/>
        </p:nvPicPr>
        <p:blipFill>
          <a:blip r:embed="rId2"/>
          <a:stretch/>
        </p:blipFill>
        <p:spPr>
          <a:xfrm>
            <a:off x="5029200" y="1371600"/>
            <a:ext cx="369576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G:\фотки 2015\DSCN0655.JPG"/>
          <p:cNvPicPr/>
          <p:nvPr/>
        </p:nvPicPr>
        <p:blipFill>
          <a:blip r:embed="rId1"/>
          <a:stretch/>
        </p:blipFill>
        <p:spPr>
          <a:xfrm>
            <a:off x="380880" y="1295280"/>
            <a:ext cx="3886200" cy="5181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G:\фотки 2015\DSCN0649.JPG"/>
          <p:cNvPicPr/>
          <p:nvPr/>
        </p:nvPicPr>
        <p:blipFill>
          <a:blip r:embed="rId2"/>
          <a:stretch/>
        </p:blipFill>
        <p:spPr>
          <a:xfrm>
            <a:off x="4876920" y="1295280"/>
            <a:ext cx="3733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G:\фотки 2015\DSCN0642.JPG"/>
          <p:cNvPicPr/>
          <p:nvPr/>
        </p:nvPicPr>
        <p:blipFill>
          <a:blip r:embed="rId1"/>
          <a:stretch/>
        </p:blipFill>
        <p:spPr>
          <a:xfrm>
            <a:off x="380880" y="1219320"/>
            <a:ext cx="4419720" cy="4647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G:\фотки 2015\DSCN0636.JPG"/>
          <p:cNvPicPr/>
          <p:nvPr/>
        </p:nvPicPr>
        <p:blipFill>
          <a:blip r:embed="rId2"/>
          <a:stretch/>
        </p:blipFill>
        <p:spPr>
          <a:xfrm>
            <a:off x="5410080" y="1219320"/>
            <a:ext cx="3486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142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улки будут радостными, интересными, познавательными и достигнут цели при условии, если воспитатель сумеет заинтересовать и обогатить знания детей. Дошкольники с огромным интересом смотрят на окружающий их мир, но видят далеко не все, иногда даже не замечают главного. А если воспитатель, который удивляется   вместе   с   ними,  учит не только смотреть, но и видеть,  дети  захотят узнать больш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7:11:29Z</dcterms:created>
  <dc:creator>ььь</dc:creator>
  <dc:description/>
  <dc:language>en-US</dc:language>
  <cp:lastModifiedBy>1</cp:lastModifiedBy>
  <dcterms:modified xsi:type="dcterms:W3CDTF">2016-02-17T16:50:05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