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F09-F9E4-4C40-9C85-2AF716C4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626-13EE-4E36-A39A-F5DA1E6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925-21A1-47DC-B22F-167023E1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07D-ADD8-4489-B1DC-85CF9851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E86C9-C634-41D2-8E84-649029E1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5C6B-E399-436B-A795-B1326B6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D77C-7646-4A82-ADED-945FE98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DDD09-1391-47CC-BBB1-BE0829A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0D68-A98A-488E-8A20-B6964362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C7A61-E1B8-4AF0-AB18-C7BF3391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BD9F9-B54F-4CC2-ADD4-C80B14FA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79C-49FA-4C11-9B21-BFDE8D5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0AA23-BCFC-45D0-8A9E-B81FE806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D2A27-7A5B-48E2-895D-2ACF1149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3E98C-F308-405D-A565-2DC0B332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611BB-2394-4F13-A7F2-97E2E927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F455B-4CBE-40B7-ACCF-3B6A562A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5BD-0BB4-41C7-9078-BE43BB18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A29-D57A-4C6D-88B7-C591AC92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678-12B2-4745-B5B6-D3CCB1BA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3C5-2482-467F-9312-86F31F51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25B-C17C-48E2-8A8B-527F6A8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B6C-7DB5-4450-B903-E3320B7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FC2-43E8-4217-B506-0B9AA26B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84A2-4CF1-4914-B770-D934EE5E1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2777-14E5-46CE-BF24-871250ABB1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Балет «Ярославна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1436760" y="426708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пектакль задумывался как новаторский, значительно расширяющий границы классического русского балета и представлял собой смешение самого балета, пантомимы и хорового пения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2673360" y="1249200"/>
            <a:ext cx="3797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я Ярославны стало синонимом женской верности и реши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85680" y="2216160"/>
            <a:ext cx="8972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го прославили в веках летописцы Древней Р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266760" y="1816200"/>
            <a:ext cx="8402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этому не удивительно, что к  этому образу  неоднократно обращаются поэты, художники, композиторы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4648320" y="2719440"/>
            <a:ext cx="32004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Интересно, что по замыслу автора в самые важные моменты в действие включается хор. Как в древнегреческой трагедии он комментирует, участвует в действии, подражает звукам природы. Оркестр в балете дополнен хоровой партией, построенной на русских фольклорных интон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52600" y="83808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ступление</a:t>
            </a: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 к балету открывает одинокий голос флейты–пиккол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5105520" y="4224240"/>
            <a:ext cx="3200400" cy="2633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552600" y="-34920"/>
            <a:ext cx="4381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ействие 1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тон русской земл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Усобиц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Убиты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лач по убитом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Ярослав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вятосла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Игорева дружи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боры в похо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лава Игор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Ярославна с Игоре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Начало похо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Затм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ействие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ступлени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одолжение пох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теп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ервая битва с половца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гры с половецкими девушка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очь перед второй битв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очные предчувств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ежи половецки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д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ействие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ступл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лич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трел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торая битва с половц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тепь смер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лач Ярославн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Игорь у половце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обег Игор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альчик – пахар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озвращен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ризы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оли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жизни любого народа женщине принадлежит ключевое значение в сохранении самобытности народа, его национальных традиций и духовных ценностей. Однако в истории русской нации значение и роль женщины неизмеримо выше. Она коренится в специфике исторической судьбы России и, в частности, в военном характере её ист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s://ru.wikipedia.org/wiki/%D0%AF%D1%80%D0%BE%D1%81%D0%BB%D0%B0%D0%B2%D0%BD%D0%B0_(%D0%B1%D0%B0%D0%BB%D0%B5%D1%8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s://ipleer.fm/q/%D1%82%D0%B8%D1%89%D0%B5%D0%BD%D0%BA%D0%BE+%D0%B1%D0%B0%D0%BB%D0%B5%D1%82+%D1%8F%D1%80%D0%BE%D1%81%D0%BB%D0%B0%D0%B2%D0%BD%D0%B0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ic.academic.ru/dic.nsf/litheroes/648/%D0%AF%D0%A0%D0%9E%D0%A1%D0%9B%D0%90%D0%92%D0%9D%D0%9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classjazz.ru/item_6509/tischenko_boris_balet_yaroslavna_simfoniya_3_dmitriev_blazhkov_2_cd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Борис Иванович Тищенко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23.3.1939 – 10.12. 2010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552050fbdbb6a0f82e950662a087c86c"/>
          <p:cNvPicPr/>
          <p:nvPr/>
        </p:nvPicPr>
        <p:blipFill>
          <a:blip r:embed="rId1"/>
          <a:stretch/>
        </p:blipFill>
        <p:spPr>
          <a:xfrm>
            <a:off x="304920" y="1523880"/>
            <a:ext cx="3429000" cy="5029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1vfewofhe_5_1"/>
          <p:cNvPicPr/>
          <p:nvPr/>
        </p:nvPicPr>
        <p:blipFill>
          <a:blip r:embed="rId2"/>
          <a:stretch/>
        </p:blipFill>
        <p:spPr>
          <a:xfrm>
            <a:off x="3973680" y="2465280"/>
            <a:ext cx="5119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228600" y="120600"/>
            <a:ext cx="893304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Особенности классического бал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Музыкально- драматическое произведение, действие в котором передается средствами танца и пантом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а-де-де – танец вдво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а-де-труа – танец втро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Характерные (народные бытовые  танцы) и классические танцы (исполняются на пуанта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Особенности современного бал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Музыкально- драматическое произведение, действие в котором передается средствами танца, пантомимике, пения, ритмопластические танцы, акроба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ригинальные декорации, светозвуковые эффекты, костю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 своем  творчестве  Тищенко по-новому освещал образы древнерусской истории и русского фольклор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 отличие от трактовки сюжета в опере А. Бородина "Князь Игорь", композитором XX в.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черкнут трагизм поражения Игорева войска.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балет «Ярославн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13716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Объект 5" descr=""/>
          <p:cNvPicPr/>
          <p:nvPr/>
        </p:nvPicPr>
        <p:blipFill>
          <a:blip r:embed="rId1"/>
          <a:stretch/>
        </p:blipFill>
        <p:spPr>
          <a:xfrm>
            <a:off x="210960" y="152280"/>
            <a:ext cx="872208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Балет - «Ярославна», как и опера Александра Порфирьевича Бородина, написан по мотивам литературного памятника России XII века «Слово о полку Игореве»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228600" y="2125800"/>
            <a:ext cx="3124080" cy="47145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3736800" y="3200400"/>
            <a:ext cx="5389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9-25T11:04:3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