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2CC-2C72-48EF-AFC5-6DB97ADD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8E8-7813-48C1-AC90-64EB4398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DE7-6A35-43D9-ACF5-B0554015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643-5F24-4F8D-BF5B-86E7CC7D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45173-140F-44D0-B03F-8D041B09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BA044-FBD3-448D-A9D5-17DD9D18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719B7-809E-4386-8175-89F9C804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5DCAD-B884-40DC-8397-B35FF998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DD27E-46A6-4065-A17C-D96CB387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0F5C7-D619-4970-8948-23EBB374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6705D-15AD-48F5-95E0-00D84D31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231-3E24-4F58-8F1A-8E4FB26A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0F153-7B96-4F9A-8AAF-3133C763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EE2A2-E6DB-4E6C-8B73-57330DA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B1E14-EC64-404C-8BB2-A7A23AE2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BEE4A-D75B-4787-B283-D3D2AF42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2B6F6-A16E-4839-AF78-837AB387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E34-4A59-459F-98C8-12E89ADA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AFC-2FCF-4F0E-B1AC-53424034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8C6-DA37-4B23-BF21-EA2EFF42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8B0-9783-44FF-B633-AD490640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954-FCE7-44D2-8D5F-5BF3D739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3BA-971C-4011-8874-B2A9E2F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AF1-3893-4926-8CD0-9814C350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304C-EB0F-4361-AF43-BF767B36B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F7E9-590D-4B2F-BEA4-D0E15B53C9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Балет «Ярославна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1436760" y="4267080"/>
            <a:ext cx="761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пектакль задумывался как новаторский, значительно расширяющий границы классического русского балета и представлял собой смешение самого балета, пантомимы и хорового пения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2673360" y="1249200"/>
            <a:ext cx="3797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мя Ярославны стало синонимом женской верности и решитель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tretch/>
        </p:blipFill>
        <p:spPr>
          <a:xfrm>
            <a:off x="85680" y="2216160"/>
            <a:ext cx="8972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го прославили в веках летописцы Древней Ру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266760" y="1816200"/>
            <a:ext cx="84024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этому не удивительно, что к  этому образу  неоднократно обращаются поэты, художники, композиторы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4648320" y="2719440"/>
            <a:ext cx="32004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Интересно, что по замыслу автора в самые важные моменты в действие включается хор. Как в древнегреческой трагедии он комментирует, участвует в действии, подражает звукам природы. Оркестр в балете дополнен хоровой партией, построенной на русских фольклорных интон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52600" y="83808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ступление</a:t>
            </a: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 к балету открывает одинокий голос флейты–пиккол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5105520" y="4224240"/>
            <a:ext cx="3200400" cy="26337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2"/>
          <a:stretch/>
        </p:blipFill>
        <p:spPr>
          <a:xfrm>
            <a:off x="552600" y="-34920"/>
            <a:ext cx="4381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ействие 1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тон русской земл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Усобиц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Убиты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лач по убитому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Ярослав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вятосла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Игорева дружи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боры в похо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лава Игор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Ярославна с Игоре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Начало поход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Затм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ействие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ступлени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родолжение поход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Степ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ервая битва с половцам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гры с половецкими девушкам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очь перед второй битв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очные предчувств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ежи половецки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до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ействие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ступл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лич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трел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торая битва с половц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тепь смер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лач Ярославн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Игорь у половце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обег Игор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альчик – пахар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озвращени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ризы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оли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жизни любого народа женщине принадлежит ключевое значение в сохранении самобытности народа, его национальных традиций и духовных ценностей. Однако в истории русской нации значение и роль женщины неизмеримо выше. Она коренится в специфике исторической судьбы России и, в частности, в военном характере её ист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s://ru.wikipedia.org/wiki/%D0%AF%D1%80%D0%BE%D1%81%D0%BB%D0%B0%D0%B2%D0%BD%D0%B0_(%D0%B1%D0%B0%D0%BB%D0%B5%D1%8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s://ipleer.fm/q/%D1%82%D0%B8%D1%89%D0%B5%D0%BD%D0%BA%D0%BE+%D0%B1%D0%B0%D0%BB%D0%B5%D1%82+%D1%8F%D1%80%D0%BE%D1%81%D0%BB%D0%B0%D0%B2%D0%BD%D0%B0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dic.academic.ru/dic.nsf/litheroes/648/%D0%AF%D0%A0%D0%9E%D0%A1%D0%9B%D0%90%D0%92%D0%9D%D0%9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classjazz.ru/item_6509/tischenko_boris_balet_yaroslavna_simfoniya_3_dmitriev_blazhkov_2_cd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Борис Иванович Тищенко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23.3.1939 – 10.12. 2010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552050fbdbb6a0f82e950662a087c86c"/>
          <p:cNvPicPr/>
          <p:nvPr/>
        </p:nvPicPr>
        <p:blipFill>
          <a:blip r:embed="rId1"/>
          <a:stretch/>
        </p:blipFill>
        <p:spPr>
          <a:xfrm>
            <a:off x="304920" y="1523880"/>
            <a:ext cx="3429000" cy="5029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1vfewofhe_5_1"/>
          <p:cNvPicPr/>
          <p:nvPr/>
        </p:nvPicPr>
        <p:blipFill>
          <a:blip r:embed="rId2"/>
          <a:stretch/>
        </p:blipFill>
        <p:spPr>
          <a:xfrm>
            <a:off x="3973680" y="2465280"/>
            <a:ext cx="5119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228600" y="120600"/>
            <a:ext cx="893304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Особенности классического бал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Музыкально- драматическое произведение, действие в котором передается средствами танца и пантоми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а-де-де – танец вдво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а-де-труа – танец втро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Характерные (народные бытовые  танцы) и классические танцы (исполняются на пуантах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Особенности современного бал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Музыкально- драматическое произведение, действие в котором передается средствами танца, пантомимике, пения, ритмопластические танцы, акроба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ригинальные декорации, светозвуковые эффекты, костю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В своем  творчестве  Тищенко по-новому освещал образы древнерусской истории и русского фольклор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В отличие от трактовки сюжета в опере А. Бородина "Князь Игорь", композитором XX в.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дчеркнут трагизм поражения Игорева войска.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балет «Ярославн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1371600"/>
            <a:ext cx="8763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Объект 5" descr=""/>
          <p:cNvPicPr/>
          <p:nvPr/>
        </p:nvPicPr>
        <p:blipFill>
          <a:blip r:embed="rId1"/>
          <a:stretch/>
        </p:blipFill>
        <p:spPr>
          <a:xfrm>
            <a:off x="210960" y="152280"/>
            <a:ext cx="872208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Балет - «Ярославна», как и опера Александра Порфирьевича Бородина, написан по мотивам литературного памятника России XII века «Слово о полку Игореве»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228600" y="2125800"/>
            <a:ext cx="3124080" cy="47145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"/>
          <p:cNvPicPr/>
          <p:nvPr/>
        </p:nvPicPr>
        <p:blipFill>
          <a:blip r:embed="rId2"/>
          <a:stretch/>
        </p:blipFill>
        <p:spPr>
          <a:xfrm>
            <a:off x="3736800" y="3200400"/>
            <a:ext cx="5389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9-25T11:04:3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