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A48-1C3F-4177-B8CA-1C1A888D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544-8057-451B-8E26-EFB27968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27032-EBE8-426D-BA64-9F0D828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9EC37-EEDA-47B7-A935-C3A50DA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04516C-733E-4EE7-ABBC-DD6FCED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D14E09-FB76-470C-B717-71CF4AB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338A7-9721-4DAD-90E3-2137C59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16F65-1029-4A9D-A0BC-DACA5D0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2E5F06-6362-4E50-86CC-0B6297C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97960-E601-4C2C-B726-C70C6961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430BD-6781-4059-B35B-73AEA346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E4606-42BB-4B54-87BE-6BB00B2D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0FB-A28A-4B3E-A1A7-C45AE18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C8EB7E-D5B6-46BE-A899-35D7361B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0E923F-44D4-477B-BA97-2E3DE4A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36827C-7CD6-4048-B81E-DEE06BC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F19EF-25AF-4223-9593-A5022FA9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73EDD-7CB2-460D-A321-5E08FD21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744ED-9C0C-49F2-ABDE-F6808B0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2BFE5-1374-47B9-803B-D722903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EA8CF8-D45C-443E-9CEC-4876A2A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EFDA61-7FA5-455D-ACC8-D485AA2C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1A2E0-4029-46D3-B410-D9833661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98C-A75E-443C-AABA-A8856F2F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16BB82-55EA-4E58-841D-E2BBEAF2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228F7-20B1-4AE1-A5DF-7930A9F6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EA57-4A85-4475-AB05-347DF49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9C60B-FC4F-468D-9547-8A4BE4A2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C91EB-93E8-4016-B37F-37BBBCCF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25471-A465-4C88-A4FE-0D6310F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BC14E-2945-490A-804E-4F1DD60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E9BE-8C9E-4280-93BC-7E6EBB0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5541-748B-4FDB-A4B2-F91D079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8ED5-B55D-49D6-9B0E-7C30571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5317-E9C6-4D92-B33B-F4943EC1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AE07-CCCB-48B0-AC0D-CDC6BF4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B36B0-18C1-4395-BA65-42F81932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4E8A3-1FB8-4AF6-9954-113C58E6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A5FE6-380B-41F0-8DD7-999B33FB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5FDB5-7B25-4C0D-8ED4-E639627D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A35C9-4F7C-4435-9ED0-E166E3B1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0D601-236C-4F5D-A95C-8DD8981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7F97-53DC-4CA1-9B2D-96C1727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9C3B-1FC1-4C06-B7DC-26B105B7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A0102-0618-4F7F-AB15-CE1F050C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B4AA-8061-4C7C-BF77-12389C6B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9AB79-38BD-48D9-B568-4316D4F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9849F-7D96-4509-8FD4-08C72B9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4BF2C-673D-4F58-8428-B8AC399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00046-8B1C-4A5A-961B-C079B472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BB36B-1BDD-4C70-BC1A-A6204252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1583A-441F-4CB8-9D21-2E2FDF3B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4F44E-289F-4B73-B240-E16D8F26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1F300-34D7-4D17-ABFD-6645E10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98BB9-E93B-424A-9FAF-7E56F4F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7C78C-5DFA-4771-A950-ABBF0370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9E65-9F4B-4DCF-B0B8-1BB4A166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BC94A-B584-4510-A243-0503299C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5119E-409C-4925-BD16-9A5ACBC1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24A56-2FA0-4ADB-B23B-F956F32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67A59-8BBC-4BD2-9651-964C911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F50C3-DFCB-4E15-8277-00114F5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598DF-1C74-4F1E-8B3D-DA8C8F6A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94B81-7DCF-4165-8DD5-18CBEDDB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10F59-83B6-4872-B205-343C8B36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32343-1CA1-4DF3-AC40-2DB82DA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E8DAF-065B-4C62-8C3A-9C8C1CE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B95D-7852-41AC-81E7-6B266EB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3AD8A-6444-4A5A-8F72-F60C8AF3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7DE63-64A0-4075-B4CC-8133830D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25E75-9173-4EB6-BB79-7030258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8A730-EE7C-40E7-98BE-4C10D67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2F745-FD71-49B1-9A5C-44CEFB9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1DF4E-B77A-4258-B3B5-E8F5AE6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EDA16-2783-49A4-8350-72928B4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6DE9-FB2F-429E-BF34-1BDC9E6B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10D53-1CB6-4C5A-B0D6-29D5EAD1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C9743-1FB6-4249-8CC4-D469020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822-3FF3-4FA1-9727-ADF4E16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FA7B8-79C2-49AB-B8BB-68320CBE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45EDF-7869-444B-9448-5E511F3E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477B1-3355-41D0-A64A-0DA61AD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14BB4-B652-4008-9869-6626906F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01A33-1CC8-440F-AE46-13B8522F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8CDED-E4B1-4385-B321-A29113B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67ABA-6739-42C2-9132-89A2417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DEB1E-DE7F-4BBD-BE6A-186049C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16406-7581-46B4-B85D-762E13A6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009E4-0A1B-4F3F-9A2C-41383BCC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715-0A74-48FD-A5EA-43ECDE1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25237-5C94-4A82-A5C8-57C92A0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06D17-CDA0-4225-9E26-1F599778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38A46-17F9-455C-9200-2BEBDB2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CE852-7041-4985-AAC6-F1B7144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C1539-C9EA-4792-8D76-E49196C9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024AD-7BC1-4DC5-89D1-EEB1212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623BB-9B74-4575-9FB1-F9ECFF59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7CE5-15BB-4883-AD7B-130CFA3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9548F-C06D-423B-A491-763A7FB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838E9-9D42-4E29-A800-F99B598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D06C-327F-487B-A91C-CE023B64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1FF42-A2AA-41E9-87FD-B840F13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50406-5A4B-4123-9EAA-0498E88F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FE811-6355-468C-A103-328BCD3B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FAE-FCAB-45DF-A730-86E8AD0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65A-1840-41F8-8EBF-0EB32D4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C27-947A-4F98-94BF-1E77740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D023-C3F8-4C17-96D3-5D44C272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509-102C-4584-B485-9BAE95B6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2FB-201F-4ACF-844F-3FCC2BC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A7289-B9F4-4C84-81CD-B9F5C0CB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871B1-E4F0-4EAD-ADE5-F9D4FBF4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E98C7-4B17-4868-9F53-BFBB6BB3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01652-3D85-479D-9B50-D4A65F5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F13C2-7640-450F-8282-4745FD2F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7AC-B642-4BA3-A060-453A4314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9B300-E597-4201-BCCA-D75A902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8F6C8-8B49-477A-9A51-E0C371A3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9CBC1-2F95-4D98-9A39-6C6531D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8C189-58A3-4270-AE8B-EE7576D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068A4-C277-4762-BA91-B17063F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D5A05-4033-4891-BCD7-B55EDA7C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7598B-1DAF-48CA-8A71-3C6C5730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213B-1A68-46EA-9B26-AD5148E1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341F-5F4A-4E11-83BB-C5F92D3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84B1-555F-4704-8BAC-A4C2511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075-30D2-4412-9BBE-137F01B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8F13-A8A9-4F48-97B3-C269AB8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190B-F1F4-41B2-A79B-7B22D37C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F232-CFF5-4DB6-878D-D677CD0C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CE88-0190-4200-8D7D-1B8E6EF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7969-7015-4FE0-AAED-38398ACA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1773-9ACA-4916-B185-1A232B7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6F9F-0EC6-4672-B4E6-2525E9B2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F56F-C953-4B59-8A58-F929E1E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6025-AAC7-4538-9FAF-FF92EE11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54484-7E84-43AE-ADBB-34A3659B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C9B-A1DE-46A3-8D8F-5E024751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48141-988E-4247-990F-4925183F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B859B-AD7A-4B01-9DAE-119E88B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D3E9D-CA11-4815-BA5B-9B8B3CF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BEE32-778F-45BF-9719-79DF7D2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B9743-B92E-43B2-BB9C-D799764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3D579-7D38-480C-B131-DE55EF9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4224A-D68C-4E13-83EA-95AA712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9828D-620C-49E5-A09A-EBBB82F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AE81F-82E9-420A-B117-7A00DEF1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C8053-AE25-4995-BEA2-EA3A1984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708-DD94-4E61-80C4-9493C451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0ACA3-3AE9-42A5-B687-A8072D51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3086-F781-4A4A-BD82-DA48066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EE1A-655F-4AEA-8EEA-851E5206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5288-228A-419F-948A-F4CC77BE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1106-25DE-4951-9AF6-462F1050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0370-38B5-4C4E-8CE7-618AFF5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3333-14D8-4B6A-8FA5-7D94C11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7954-29E8-4433-8B14-147DE8E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127E-2F3C-44C1-8854-6DB7E08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A1335-D483-4D03-A9C5-EC50DAF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82B-DE02-49CF-BE5B-C12C19F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84D6-F074-4BE7-BD54-96E63CE9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466A-BA36-439B-AEAF-EF26ABF6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2BAB-AB0C-4E30-97FB-D8B98599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0D9B-C882-4402-8B41-9F93BF4D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25F69-7D0E-43DD-AA31-1F8D7586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A7EB-C60B-457F-A631-2B46895A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7FADD-1ED7-43F8-BA50-CF6147F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60567-D398-4327-9D74-5A16910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7C9A-35A1-4D3C-AE5F-ED42D35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168B-CDD7-4CC1-A612-83AC072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AD9-4DCB-4331-ACF7-C075A21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BAFE-478C-4ED3-A727-89A8F82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F8F9-F57D-4D41-9141-CB01C327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0301-4125-4674-AD7A-AEA9FF1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0D62A-2A9C-4D66-B83C-DFCF7C3F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34C8-9B16-4B04-9B0E-B4788071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27D4-7F45-4D64-A362-9BC1047C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8CE42-0490-4633-AB43-E1C9BE1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D75A-B011-4F53-9C7E-FE5CACC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9674-F3A5-4C8F-BD49-5AEE31A7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1DAD-3E9B-4D8C-85D9-AA78E118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65E-A316-460F-8828-E77B16A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2AE6-B92A-4BFF-B3B6-25A2F0F1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8A1E-5495-4FB8-9C19-8CF5001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C79A-D269-4196-838A-9A34AE4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6935-369A-4300-94F6-47C6D95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5FEB-E05F-45C7-9529-DB958FA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24B3-94A4-46A4-943F-7AC25B19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290FF-9C36-462A-92D4-C4E02CBF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C9EDF-7D69-4ED7-946D-6EC7BE44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9DF128-55F5-488B-A502-61566F8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42627-7026-46ED-8675-6FE6E51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6AE-6AAC-4A53-A0C6-629CE81445F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F54-8229-4594-AABA-8181535277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4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49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0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5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ED3A-E448-4BAA-8728-DC6E0ECF39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96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97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9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EA7-C2A0-4AF0-A756-C989283A12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294-ECAE-4B6F-B56C-64AFE501B6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3F8-1BDC-469C-8897-EE19A4482E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6B8-190B-4B40-95CC-2C005C7F1E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66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ECB-7C5C-440E-A530-76B1BB50AC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E359-E7B2-4032-B12D-D820F5BA59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3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EFAA-22F0-4CAA-AE82-D1928E48EB0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E4F-FB31-4652-83F6-67F2DDF6FA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0D8B-3145-464E-987B-96568DB3F73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6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0642-7352-4D79-B4EB-B39F28206DF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71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6B2-A200-424D-B973-297F0A18AA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1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FD8-4E89-4FFF-949B-BB420728B7A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3195-EE1B-4844-8ED1-823DDD338E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99680" y="1857240"/>
            <a:ext cx="77439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стройство Римской республики.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им - сильнейшая держава Средиземноморь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тройство Римской республик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йны с Карфаген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тановление господства во всем Средиземноморь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бство в Рим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Заголовок 1" descr=""/>
          <p:cNvPicPr/>
          <p:nvPr/>
        </p:nvPicPr>
        <p:blipFill>
          <a:blip r:embed="rId1"/>
          <a:stretch/>
        </p:blipFill>
        <p:spPr>
          <a:xfrm>
            <a:off x="79200" y="171360"/>
            <a:ext cx="8736120" cy="14814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нсулы(2): набор в войско, созыв народного собрания, предлагали новые закон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ародные трибуны: право вето на народном собран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енат(300 бывших консулов): казна, планы ведения войны, переговоры с другими государствам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C:\Users\Оксана\Pictures\2009-04-22\001.jpg"/>
          <p:cNvPicPr/>
          <p:nvPr/>
        </p:nvPicPr>
        <p:blipFill>
          <a:blip r:embed="rId2"/>
          <a:stretch/>
        </p:blipFill>
        <p:spPr>
          <a:xfrm>
            <a:off x="115920" y="1500120"/>
            <a:ext cx="90741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07600" cy="14810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-я война: Рим отвоевал Сицилию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-я война: разгром Карфагена и захват всего Западного Средиземноморь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1"/>
          <a:stretch/>
        </p:blipFill>
        <p:spPr>
          <a:xfrm>
            <a:off x="371520" y="-73080"/>
            <a:ext cx="8705880" cy="14810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чинились Македония и Сир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Заголовок 1" descr=""/>
          <p:cNvPicPr/>
          <p:nvPr/>
        </p:nvPicPr>
        <p:blipFill>
          <a:blip r:embed="rId1"/>
          <a:stretch/>
        </p:blipFill>
        <p:spPr>
          <a:xfrm>
            <a:off x="6278400" y="268200"/>
            <a:ext cx="3170520" cy="46022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C:\Users\Оксана\Pictures\2009-04-22\002.jpg"/>
          <p:cNvPicPr/>
          <p:nvPr/>
        </p:nvPicPr>
        <p:blipFill>
          <a:blip r:embed="rId2"/>
          <a:stretch/>
        </p:blipFill>
        <p:spPr>
          <a:xfrm>
            <a:off x="0" y="0"/>
            <a:ext cx="650088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ли в качестве бесплатной рабочей сил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лись в качестве развлечение – гладиаторы – войны сражавшиеся в амфитеатр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07:50Z</dcterms:created>
  <dc:creator>Оксана</dc:creator>
  <dc:description/>
  <dc:language>en-US</dc:language>
  <cp:lastModifiedBy>Оксана</cp:lastModifiedBy>
  <dcterms:modified xsi:type="dcterms:W3CDTF">2009-04-22T15:25:25Z</dcterms:modified>
  <cp:revision>2</cp:revision>
  <dc:subject/>
  <dc:title>Устройство Римской республики. Сильнейшая держава Средиземноморья.</dc:title>
</cp:coreProperties>
</file>