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F14-8DDB-4473-94C8-73D21628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9AF-FF2B-4E38-A893-E0039D9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D60E35-A346-4EA8-B1A6-5E44261E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6C609-E079-4E1C-8FDC-5905E16B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B9810-F69F-416A-8956-2BB207E9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AD8E7-F9BA-48DD-A3C7-0441CFF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7EFF2-544D-4436-92C0-5C8184E2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1FF6FB-DA3D-4A00-A8FE-999BC5A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70AE3A-3B92-4A6E-9113-C9B75E5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703FA-F978-43CD-B4ED-140A3EBE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03C70-8549-40C0-A75F-D65466E6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D8CB56-1921-4091-BB43-95E34148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040-F5E0-4359-BA66-B58036CC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06DEC8-354F-4390-A841-EAEFE04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CC811-8032-46EA-A2FF-091A014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6B59B-133D-471D-8FF9-5B07EC54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C7A1FC-1F8A-4133-B75C-7B0180A4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57615-D2FD-460E-B4F7-E653DC8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81EC8-6F38-4E85-8CEA-CF4870A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4BBD59-B170-4CB8-AC72-F44E7458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A7279C-B8CC-4923-B0FE-D8E121A5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900021-2C69-4157-BD18-033A746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6A1C37-6C3E-4E2E-94B5-37CA7E45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87E-1D7D-402E-960B-BD2A37CF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974D1-34B8-483D-BEA6-2FB0A892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B1C36-CE4A-4781-9AD3-12B0FE76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22B46-07E9-4D9E-93AB-0B76E8BE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B7320-D7FA-4C90-A46B-FFE33DD4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31E4-2D68-464E-B1E6-7160A413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09D94-3686-429F-AA9B-34F1613E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5834-0390-45B8-BA2E-5C44D2F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A9A69-F372-45A9-BF07-649C12A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62D4D-3D99-421A-80BB-A9B0521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0676E-8B6B-4A16-B47C-4614A15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0701-BB61-4B0F-80C4-E183D47D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BA346-D484-42DB-9CBC-E7D7045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77664-B052-419C-BA69-5337F68C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71C7B-B499-400F-B813-FC963223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9204C-A823-4F9F-B92F-CD5AF81D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E8D80-EE99-421C-8542-4C51A5F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71A63-9A93-4354-B056-6CE7FCB0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269F5-B967-4CF8-A06A-863AFB24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B48B9-B8E9-48E9-8D49-4F48F34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C1FB9-9BA3-48BC-B9AE-C4D2B414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86138-41B2-4AC6-BD1F-FAD139BF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CDD4-F847-4221-89FF-AA708B3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67A33-B43E-4809-B652-86D10443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21154-69C3-4EAA-9E11-DCAD1506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6901D-5DB1-4D9F-AA6E-70E78B8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B0619-BB01-4D71-9853-6E62FDB4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7A11D-697B-4B2D-AE1E-81FF781A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50289-8A0C-40DD-9C20-1A758FB1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CBBFB-D479-4063-BF56-FCDB851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2F838-A01D-45DD-8CD3-9F6A4AB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714F0-068B-49A0-B30B-A55F30C5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4DBC7-F2C9-47A2-9167-4FAB69EF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C67E-0225-4621-9CA3-3813C244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2ECF6-CAF4-4AE6-8015-51463D9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4A5EC-5984-4FE9-B523-7B6CBEC1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485D9-BB43-4C39-98CF-52B145F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A59A0-1389-4197-875C-297C18E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8F8AC-65E7-4763-93D0-F0FDA481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AAC29-663F-4497-8E38-7888B2C4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9EA03-D946-45C3-BC42-D6C43D6C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B7762-31C6-4BC6-9CFA-412157D2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FF7EC-BD32-42AD-A2C9-8EC0E0D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02AD6-2CAF-4714-9289-714A25E5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D57C-9CB0-45F3-AB30-64711B1B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CA91B-2AE7-4651-9792-18C5405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C8B34-A60F-40A6-AB7A-C0218E12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59A26-DE1D-4F98-8F6D-6427C75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9A65D-3609-4BE3-81A8-9ACDD5B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4B4C8-F1B5-46C3-8561-62D4B22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1D78F-F30E-4792-AAEC-A936690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5A906-6DE5-42D0-8E4C-9B9D8358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55217-825B-4869-A13D-CECA7E34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57DA4-FEE6-470E-AA7A-44AABB45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BE3CB-2C71-4868-99BB-2E252A65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A4F-A33F-4CEB-83EC-E280D9D8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965E4-2D8D-4017-831D-49021C33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9F82E-FD9E-4A70-9F21-12CDAB01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82F27-1FDF-4928-8B29-CED4C01A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369DA-A944-45AC-95A8-06CF1A74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A5C1E-5571-4BA7-B1BC-43B4DAB6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A8B21-1413-4600-8763-8B97313A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42C30-8D77-495B-A37E-7D728C0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EBFDD-3687-4854-9B27-6AE0D93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7480E-E6DD-46CE-91AD-17C6DC05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5A41A-B9DC-4CD3-8902-B178D885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273F-157B-4F52-9FC9-B030464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922C7-7417-439B-BC24-C24A70E1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BE719-9BD4-493F-92F3-4C12C387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F9A9F-6446-4720-AFC1-8AF989D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C9C8B-8150-496F-9578-D9B841F8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5314F-2B92-4FCD-B579-FAD2B8D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EBAA3-3B42-4A27-8701-564FDEC4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F370A-0791-4605-9E1E-19F1213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02CD8-1B85-4AC7-9908-40F3254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4224E-01BE-4D3F-A69E-7621ED0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680D6-791C-42A2-BA9B-569041F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A11-084E-46F4-ADBA-8F1E8B8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3967C-FD10-4302-BFDF-BC085625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D032A-1669-4AD5-8916-7660C7DA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51A5B-C806-410B-988E-DAFD6BBC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BD7-C7D1-4726-B3E7-F53CEE7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E9AD-1BEA-4D3B-BA0E-9FE037B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AE9A-B1A6-4B8D-9C86-78AD64F7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C0B3-0474-42E8-B422-231DF765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584-14AC-4393-8C85-AD65AED2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731-F72B-407F-BDEA-A359D5D4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C83AB-0FE7-4CCA-9443-BAC95DF3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CC64E-13B1-4589-BA9D-A647D149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D1982-FAA8-4F0C-845F-C8F1D1B4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457B2-BA51-4F14-931C-5A1B49D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E44E5-ABED-4492-99A6-E3953D41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A98-DDA0-4A12-8E8D-8747453C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2AED0-44A0-4C1C-A905-A6463AC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2736A-E728-4AE2-9695-DD3B75E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8AFAD-1C62-4FF7-BCFD-969E8A5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775E4-B66D-4C11-8BB7-5F67D20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075A6-5892-4BD9-9CA6-5475507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E0291-9F74-4874-887A-6FA7B93F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17B7C-8C15-4E71-8ED2-8E0BE4DA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DA8D-F38F-4B23-9981-B88996E2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5D1A-C5F4-425C-B344-FA9D3D8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1C6C-1112-4198-B801-AC4D1EB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DF3-808A-464B-AE30-C2348B34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5226E-34A4-4A7A-8A96-8868073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EE25-90F8-4C58-A123-59625965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EE0C-C963-415D-A0B3-8EDD62AA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2C48-B3A6-467D-A732-9B9022D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B52B-49AF-4DBB-AAAB-833B8A9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632F-2B7F-4C38-B884-AB06CA7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C2D9-9797-4E6A-99C1-2A351431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9BEF-6DB1-4957-8D1F-430C07BD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396D-3DFB-45C1-8B7D-399DDDC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DA006-7D13-4D2C-AB13-815F089A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35E-94EE-4164-B963-BB1ECCE0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AE8C0-B0EE-450E-9571-7484CB3D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66999-69BF-4D94-BB4F-184F7AB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8642E-C72A-46F5-9189-D30A6CA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7BD80-FBAE-46D4-81B4-772DDEAD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06032-2151-4438-948D-0D35A473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822BF-AC89-4A57-9D65-2165499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F55EB-455D-4F32-975A-0106A9E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F2C36-6859-4194-9489-42BE108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A6C43-069D-4E42-BF09-C10C8C2A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FF337-6B7D-489F-890E-AC0E2162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1B6-9AAF-44FF-B90C-E132A30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77BF8-94EA-4A48-9CF9-8915DDFC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B4A8-ADC2-4BED-A1D9-A822DEC1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1B23-AF79-4245-B0B3-132B4FE2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37264-AF75-432A-A192-061F3BC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2B56-08C9-45CF-BBCE-B46A227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B85B-5BAE-47FB-B380-34036D63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6610-784F-44B6-833A-AB612A5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6E78-4606-4B0D-92FE-87D44CE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00A4-792F-44A4-9F82-0F4E92D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DE32E-6706-4555-868F-B2BFF41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A8F-9A9A-412A-A209-D121AB9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6E21E-26E4-45BB-8EBC-CC8BF131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6AA0-93F3-43CA-96E4-41FE8A3C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6BE9-0C4C-4518-8B9E-501512BB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A4C51-1BB8-42D6-90AE-BF979117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B855-DE8D-4DB7-9CDE-AE5D9287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F9435-18D6-456E-8875-FDA9C76A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D1B4-39BB-426A-B996-CFB38472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6C2B8-9071-4985-B7B1-21E40F9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051FE-B5F7-4B18-89B8-F7F59183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4DB4-BF86-443F-B749-7A2CA76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3FE-47A6-4660-AB40-28D03B61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2DF9-1397-4AF5-AF28-E141E89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2F24-5466-457B-839A-54E1482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2219-EC50-44C3-8D05-CAD1504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ED548-F3EE-49B8-9BA1-4285D85C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DDF3C-A45B-4C85-B0B9-B2904023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EB00E-384E-41CC-BCDC-BCE0FA04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48BA-4F96-4B0F-8FB0-324407C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F39D-99A3-49FD-A217-8C553EF0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C8DA-DE48-43AF-96B4-F589F6B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612E-47D2-45BF-A52B-B851FBE9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18B-8CBF-45E0-A5AD-92742AD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216D-97DD-45E6-9838-1EB38B7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5BD0-C70D-4CC5-A8B0-80BF68E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78EC-5058-4045-9F1D-10F4829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8221-5DCF-4FD2-AA41-A9B8261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41BC9-BFD9-4713-9C1C-12E19972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F9EC-1B08-490C-A763-D5FC16EF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E0EE-B941-448B-A41F-C2E8019B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9C571-7BF4-4A73-8CEB-95CB17C4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8F6FD3-CE1F-4B8B-B786-6522068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77D41D-333B-482F-A16E-C538D78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DA8-1EEA-4A49-BE40-7309D6F8659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672-7675-46F2-AB08-F7CDE35942F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4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4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49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50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5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994-F319-49D2-97A5-FFEE4F4F0D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96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97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9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588-DD24-410F-A367-A434807974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1FFB-BC86-42D0-8752-788030999C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687-3C6D-4F50-8668-EA46EE48F5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668-53EC-46B0-AB30-E2FC86FD75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66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A04E-D444-420A-945E-779A9F83ED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DE7-05A2-4C83-8FB7-FAAAD415AC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3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CF7-946A-4B78-B311-DE27A7B81B4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C129-D47A-43BF-93A0-C6B338E0A7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93A-6469-4348-83E8-E1A2C0D9E49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6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7F36-298B-49DD-B4BA-F042A6F34C6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71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4BC-41E7-41D5-8D39-1AFB01AD7F0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1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E858-43A0-4F18-AA38-F84E1968AF9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604-1152-42D0-9DB0-182E861576B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99680" y="1857240"/>
            <a:ext cx="77439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стройство Римской республики.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им - сильнейшая держава Средиземноморья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тройство Римской республик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йны с Карфаген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тановление господства во всем Средиземноморь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абство в Рим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Заголовок 1" descr=""/>
          <p:cNvPicPr/>
          <p:nvPr/>
        </p:nvPicPr>
        <p:blipFill>
          <a:blip r:embed="rId1"/>
          <a:stretch/>
        </p:blipFill>
        <p:spPr>
          <a:xfrm>
            <a:off x="79200" y="171360"/>
            <a:ext cx="8736120" cy="14814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нсулы(2): набор в войско, созыв народного собрания, предлагали новые закон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ародные трибуны: право вето на народном собран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енат(300 бывших консулов): казна, планы ведения войны, переговоры с другими государствам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" descr="C:\Users\Оксана\Pictures\2009-04-22\001.jpg"/>
          <p:cNvPicPr/>
          <p:nvPr/>
        </p:nvPicPr>
        <p:blipFill>
          <a:blip r:embed="rId2"/>
          <a:stretch/>
        </p:blipFill>
        <p:spPr>
          <a:xfrm>
            <a:off x="115920" y="1500120"/>
            <a:ext cx="90741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07600" cy="14810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-я война: Рим отвоевал Сицилию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-я война: разгром Карфагена и захват всего Западного Средиземноморь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1"/>
          <a:stretch/>
        </p:blipFill>
        <p:spPr>
          <a:xfrm>
            <a:off x="371520" y="-73080"/>
            <a:ext cx="8705880" cy="14810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чинились Македония и Сир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Заголовок 1" descr=""/>
          <p:cNvPicPr/>
          <p:nvPr/>
        </p:nvPicPr>
        <p:blipFill>
          <a:blip r:embed="rId1"/>
          <a:stretch/>
        </p:blipFill>
        <p:spPr>
          <a:xfrm>
            <a:off x="6278400" y="268200"/>
            <a:ext cx="3170520" cy="46022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" descr="C:\Users\Оксана\Pictures\2009-04-22\002.jpg"/>
          <p:cNvPicPr/>
          <p:nvPr/>
        </p:nvPicPr>
        <p:blipFill>
          <a:blip r:embed="rId2"/>
          <a:stretch/>
        </p:blipFill>
        <p:spPr>
          <a:xfrm>
            <a:off x="0" y="0"/>
            <a:ext cx="650088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ли в качестве бесплатной рабочей сил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лись в качестве развлечение – гладиаторы – войны сражавшиеся в амфитеатр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5:07:50Z</dcterms:created>
  <dc:creator>Оксана</dc:creator>
  <dc:description/>
  <dc:language>en-US</dc:language>
  <cp:lastModifiedBy>Оксана</cp:lastModifiedBy>
  <dcterms:modified xsi:type="dcterms:W3CDTF">2009-04-22T15:25:25Z</dcterms:modified>
  <cp:revision>2</cp:revision>
  <dc:subject/>
  <dc:title>Устройство Римской республики. Сильнейшая держава Средиземноморья.</dc:title>
</cp:coreProperties>
</file>