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.gif" ContentType="image/gif"/>
  <Override PartName="/ppt/media/image26.png" ContentType="image/png"/>
  <Override PartName="/ppt/media/image17.jpeg" ContentType="image/jpeg"/>
  <Override PartName="/ppt/media/image23.png" ContentType="image/png"/>
  <Override PartName="/ppt/media/image13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5.jpeg" ContentType="image/jpeg"/>
  <Override PartName="/ppt/media/image32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7A0-B220-402F-84FE-E5E25CED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46D-2AF9-4BDE-9ECC-FD889D9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881-0FB2-4507-A6EA-D757CC5D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9B1-5126-4875-91C7-66EE0F2A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EF7-7E53-42EF-9914-CDC2D42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FCE-62FF-48DB-B99E-43BB353A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E48-AE2A-4199-8016-039E15E6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38E-53A1-4267-BAB3-38E4C2B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9C5-0317-4DA4-862F-22F3589E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315-A4DB-43B4-B7C9-180D5A4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27A-2E97-4835-A3EB-96C5EC7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AD4-B20C-4DA8-A204-B67779C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7B56-1777-4684-B049-86AB1F2D6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731880" y="684360"/>
            <a:ext cx="108154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У ДО КО ОЦДОД им. Ю. А. Гага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инар-практикум «Анимация как способ развития творческого потенциала дете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3508200" y="2157480"/>
            <a:ext cx="526284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ное пространство ани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5451480" y="4218120"/>
            <a:ext cx="60958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копытова Ирина Александр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дополнительного образов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 объединения «Клуб «Пресс-цент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ДО «ДХТД «Гармония» г. Ка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971960" y="5987880"/>
            <a:ext cx="2423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1 сентября 201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223920" y="3527280"/>
            <a:ext cx="37987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818320" y="1752480"/>
            <a:ext cx="6132240" cy="459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92040" y="343080"/>
            <a:ext cx="597708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83680" y="1052640"/>
            <a:ext cx="97362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ы для монтаж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Movie Mak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ностуд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храните видео в следующем форма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E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I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V;  WMX;  M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3188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нта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Рисунок 4" descr="image004[1].jpg"/>
          <p:cNvPicPr/>
          <p:nvPr/>
        </p:nvPicPr>
        <p:blipFill>
          <a:blip r:embed="rId1"/>
          <a:stretch/>
        </p:blipFill>
        <p:spPr>
          <a:xfrm>
            <a:off x="7693200" y="189000"/>
            <a:ext cx="4336920" cy="36748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ramka-53.png"/>
          <p:cNvPicPr/>
          <p:nvPr/>
        </p:nvPicPr>
        <p:blipFill>
          <a:blip r:embed="rId2"/>
          <a:stretch/>
        </p:blipFill>
        <p:spPr>
          <a:xfrm>
            <a:off x="7845480" y="5624640"/>
            <a:ext cx="4030560" cy="987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gifki.info/uploads/posts/2017-02/1487674815_995-babochka.gif"/>
          <p:cNvPicPr/>
          <p:nvPr/>
        </p:nvPicPr>
        <p:blipFill>
          <a:blip r:embed="rId3"/>
          <a:stretch/>
        </p:blipFill>
        <p:spPr>
          <a:xfrm>
            <a:off x="10371240" y="5160960"/>
            <a:ext cx="1154160" cy="927000"/>
          </a:xfrm>
          <a:prstGeom prst="rect">
            <a:avLst/>
          </a:prstGeom>
          <a:ln w="0">
            <a:noFill/>
          </a:ln>
        </p:spPr>
      </p:pic>
      <p:pic>
        <p:nvPicPr>
          <p:cNvPr id="83" name="кофе.mp4" descr=""/>
          <p:cNvPicPr/>
          <p:nvPr/>
        </p:nvPicPr>
        <p:blipFill>
          <a:blip r:embed="rId4"/>
          <a:stretch/>
        </p:blipFill>
        <p:spPr>
          <a:xfrm>
            <a:off x="795240" y="4795920"/>
            <a:ext cx="32702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9" descr="Open the CD"/>
          <p:cNvPicPr/>
          <p:nvPr/>
        </p:nvPicPr>
        <p:blipFill>
          <a:blip r:embed="rId1"/>
          <a:stretch/>
        </p:blipFill>
        <p:spPr>
          <a:xfrm>
            <a:off x="9799560" y="1317600"/>
            <a:ext cx="239256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ramka-53.png"/>
          <p:cNvPicPr/>
          <p:nvPr/>
        </p:nvPicPr>
        <p:blipFill>
          <a:blip r:embed="rId2"/>
          <a:stretch/>
        </p:blipFill>
        <p:spPr>
          <a:xfrm>
            <a:off x="57240" y="5716440"/>
            <a:ext cx="4128840" cy="1011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1840" y="236160"/>
            <a:ext cx="105156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люсы и минусы программы «Анимационная студия»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1000" y="923760"/>
          <a:ext cx="9242280" cy="2926080"/>
        </p:xfrm>
        <a:graphic>
          <a:graphicData uri="http://schemas.openxmlformats.org/drawingml/2006/table">
            <a:tbl>
              <a:tblPr/>
              <a:tblGrid>
                <a:gridCol w="4620960"/>
                <a:gridCol w="46213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рограмме «Анимационная студия» мы нашли следующие плюс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рограмме «Анимационная студия» мы нашли следующие минус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обна в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ак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делать мультик с использованием самых обыч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снимать мультики в одино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дополнительного осв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сть в сохранении мультика в нужном формате для дальнейшей демонст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остаточность эффектов для редакт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2"/>
          <p:cNvSpPr/>
          <p:nvPr/>
        </p:nvSpPr>
        <p:spPr>
          <a:xfrm>
            <a:off x="4667400" y="4194000"/>
            <a:ext cx="6999120" cy="1739880"/>
          </a:xfrm>
          <a:prstGeom prst="rect">
            <a:avLst/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утствие раскадровки помешало сделать картинки нашего мультика более четкими и выразительными, потому что не все смогли представить себе конечный результат превращения кофейных зёр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оздания интересного мультика необходимо обладать фантазией, креативностью, усидчивостью и терп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foiz.ru/style/smiles/babochka.gif"/>
          <p:cNvPicPr/>
          <p:nvPr/>
        </p:nvPicPr>
        <p:blipFill>
          <a:blip r:embed="rId3"/>
          <a:stretch/>
        </p:blipFill>
        <p:spPr>
          <a:xfrm>
            <a:off x="3182760" y="5734080"/>
            <a:ext cx="1124280" cy="112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justclickit.ru/flash/butterfly/butterfly%20(326).gif"/>
          <p:cNvPicPr/>
          <p:nvPr/>
        </p:nvPicPr>
        <p:blipFill>
          <a:blip r:embed="rId4"/>
          <a:stretch/>
        </p:blipFill>
        <p:spPr>
          <a:xfrm rot="18945000">
            <a:off x="1500120" y="5600520"/>
            <a:ext cx="10191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12840" y="236160"/>
            <a:ext cx="91504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ограмма «Рисуем мультфильмы -2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301680" y="1859040"/>
            <a:ext cx="7797600" cy="4387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2"/>
          <a:stretch/>
        </p:blipFill>
        <p:spPr>
          <a:xfrm>
            <a:off x="8937720" y="1859040"/>
            <a:ext cx="2644560" cy="389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pdaapk.com/uploads/posts/2016-03/1458320340_risuem-multfilmy-2.jpg"/>
          <p:cNvPicPr/>
          <p:nvPr/>
        </p:nvPicPr>
        <p:blipFill>
          <a:blip r:embed="rId3"/>
          <a:stretch/>
        </p:blipFill>
        <p:spPr>
          <a:xfrm>
            <a:off x="301680" y="236520"/>
            <a:ext cx="14986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im0-tub-ru.yandex.net/i?id=79c173b1fafb81f95e87d7ee4107b103&amp;n=33&amp;h=215&amp;w=363"/>
          <p:cNvPicPr/>
          <p:nvPr/>
        </p:nvPicPr>
        <p:blipFill>
          <a:blip r:embed="rId1"/>
          <a:stretch/>
        </p:blipFill>
        <p:spPr>
          <a:xfrm>
            <a:off x="139680" y="195120"/>
            <a:ext cx="5749920" cy="3405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im0-tub-ru.yandex.net/i?id=bb54e1e7dda67d3a0e11bc34f5afc169-l&amp;n=13"/>
          <p:cNvPicPr/>
          <p:nvPr/>
        </p:nvPicPr>
        <p:blipFill>
          <a:blip r:embed="rId2"/>
          <a:stretch/>
        </p:blipFill>
        <p:spPr>
          <a:xfrm>
            <a:off x="6048360" y="3247920"/>
            <a:ext cx="5668920" cy="318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i.ytimg.com/vi/U6un9XzNE0I/hqdefault.jpg"/>
          <p:cNvPicPr/>
          <p:nvPr/>
        </p:nvPicPr>
        <p:blipFill>
          <a:blip r:embed="rId3"/>
          <a:stretch/>
        </p:blipFill>
        <p:spPr>
          <a:xfrm>
            <a:off x="7219800" y="195120"/>
            <a:ext cx="3829320" cy="287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s://i.ytimg.com/vi/n6xBahjZEY8/hqdefault.jpg"/>
          <p:cNvPicPr/>
          <p:nvPr/>
        </p:nvPicPr>
        <p:blipFill>
          <a:blip r:embed="rId4"/>
          <a:stretch/>
        </p:blipFill>
        <p:spPr>
          <a:xfrm>
            <a:off x="1039680" y="3728880"/>
            <a:ext cx="3611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03040" y="270000"/>
            <a:ext cx="6069240" cy="3413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5788080" y="3276720"/>
            <a:ext cx="5943600" cy="3343320"/>
          </a:xfrm>
          <a:prstGeom prst="rect">
            <a:avLst/>
          </a:prstGeom>
          <a:ln w="0">
            <a:noFill/>
          </a:ln>
        </p:spPr>
      </p:pic>
      <p:pic>
        <p:nvPicPr>
          <p:cNvPr id="101" name="анимация.mp4" descr=""/>
          <p:cNvPicPr/>
          <p:nvPr/>
        </p:nvPicPr>
        <p:blipFill>
          <a:blip r:embed="rId3"/>
          <a:stretch/>
        </p:blipFill>
        <p:spPr>
          <a:xfrm>
            <a:off x="760320" y="4140360"/>
            <a:ext cx="4130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2081160" y="5037120"/>
            <a:ext cx="7661160" cy="18208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579600" y="696960"/>
            <a:ext cx="10663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анимации может помоч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ить круг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сти исследовательские навыки (анализ, синтез, систематизация и пр.): найти тему, варианты достижения цели, предложить способы решения проблемы; самоутвердиться, научиться доводить начатое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ное пространство анимации  способствует социализации, т. е. формированию и становлению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66640" y="861840"/>
            <a:ext cx="1162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animation) - производное от латинского "anima" - душа, следовательно, анимация означает одушевление или ожив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7132680" y="3170160"/>
            <a:ext cx="36846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387360" y="270000"/>
            <a:ext cx="592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ти и мульт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im0-tub-ru.yandex.net/i?id=ab4c7816fbeccbcb0a04f76d8517ad85-l&amp;n=13"/>
          <p:cNvPicPr/>
          <p:nvPr/>
        </p:nvPicPr>
        <p:blipFill>
          <a:blip r:embed="rId1"/>
          <a:stretch/>
        </p:blipFill>
        <p:spPr>
          <a:xfrm>
            <a:off x="6311880" y="270000"/>
            <a:ext cx="5165640" cy="34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s://im0-tub-ru.yandex.net/i?id=2f022a67e1099e703962b7f6e311ef9d-l&amp;n=13"/>
          <p:cNvPicPr/>
          <p:nvPr/>
        </p:nvPicPr>
        <p:blipFill>
          <a:blip r:embed="rId2"/>
          <a:stretch/>
        </p:blipFill>
        <p:spPr>
          <a:xfrm>
            <a:off x="6826320" y="3716280"/>
            <a:ext cx="4614840" cy="307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s://ds02.infourok.ru/uploads/ex/1341/000654d0-a499427f/640/img4.jpg"/>
          <p:cNvPicPr/>
          <p:nvPr/>
        </p:nvPicPr>
        <p:blipFill>
          <a:blip r:embed="rId3"/>
          <a:stretch/>
        </p:blipFill>
        <p:spPr>
          <a:xfrm>
            <a:off x="216000" y="155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4" descr=""/>
          <p:cNvPicPr/>
          <p:nvPr/>
        </p:nvPicPr>
        <p:blipFill>
          <a:blip r:embed="rId1"/>
          <a:stretch/>
        </p:blipFill>
        <p:spPr>
          <a:xfrm>
            <a:off x="2157480" y="324000"/>
            <a:ext cx="9669240" cy="6437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291960" y="1360440"/>
            <a:ext cx="3970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над мультфильмом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творческий процесс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щий  из кропотливо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ой и разноплановой рабо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ая невозмож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х разных качест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10480" y="141120"/>
            <a:ext cx="97041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рвый опы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имационные фильмы по сказке В. Бианки «Чьи это ноги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к хорошо иметь друзей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69720" y="2513160"/>
            <a:ext cx="368640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мали фотоаппара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ем собрали и озвучили  в програм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Windows Move Mak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s://nsportal.ru/sites/default/files/styles/media_gallery_thumbnail/public/gallery/2012/11/17/vesna13_074.jpg?itok=GElXT7Br"/>
          <p:cNvPicPr/>
          <p:nvPr/>
        </p:nvPicPr>
        <p:blipFill>
          <a:blip r:embed="rId1"/>
          <a:stretch/>
        </p:blipFill>
        <p:spPr>
          <a:xfrm>
            <a:off x="4570560" y="2473200"/>
            <a:ext cx="3485880" cy="34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nsportal.ru/sites/default/files/styles/media_gallery_thumbnail/public/gallery/2012/11/17/ya_085.jpg?itok=0zbktNAq"/>
          <p:cNvPicPr/>
          <p:nvPr/>
        </p:nvPicPr>
        <p:blipFill>
          <a:blip r:embed="rId2"/>
          <a:stretch/>
        </p:blipFill>
        <p:spPr>
          <a:xfrm>
            <a:off x="8354880" y="1461960"/>
            <a:ext cx="3519720" cy="3519720"/>
          </a:xfrm>
          <a:prstGeom prst="rect">
            <a:avLst/>
          </a:prstGeom>
          <a:ln w="0">
            <a:noFill/>
          </a:ln>
        </p:spPr>
      </p:pic>
      <p:pic>
        <p:nvPicPr>
          <p:cNvPr id="58" name="1.mp4" descr=""/>
          <p:cNvPicPr/>
          <p:nvPr/>
        </p:nvPicPr>
        <p:blipFill>
          <a:blip r:embed="rId3"/>
          <a:stretch/>
        </p:blipFill>
        <p:spPr>
          <a:xfrm>
            <a:off x="8928000" y="5214960"/>
            <a:ext cx="26798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406080" y="0"/>
            <a:ext cx="895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нимационные фильмы по сказкам Светланы Савиц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Паук и Муха» и «Поганочк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nsportal.ru/sites/default/files/styles/media_gallery_thumbnail/public/gallery/2012/11/17/ya_022.jpg?itok=X9uvmtpf"/>
          <p:cNvPicPr/>
          <p:nvPr/>
        </p:nvPicPr>
        <p:blipFill>
          <a:blip r:embed="rId1"/>
          <a:stretch/>
        </p:blipFill>
        <p:spPr>
          <a:xfrm>
            <a:off x="363600" y="1962000"/>
            <a:ext cx="3832200" cy="383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nsportal.ru/sites/default/files/styles/media_gallery_large/public/gallery/2015/11/20/diplomy_gramoty/zolotoe_pero.jpg?itok=AP1YS9ce"/>
          <p:cNvPicPr/>
          <p:nvPr/>
        </p:nvPicPr>
        <p:blipFill>
          <a:blip r:embed="rId2"/>
          <a:stretch/>
        </p:blipFill>
        <p:spPr>
          <a:xfrm>
            <a:off x="8864640" y="4240080"/>
            <a:ext cx="3092400" cy="231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s://eksmo.ru/upload/authors/a4f/_MG_9653.jpg"/>
          <p:cNvPicPr/>
          <p:nvPr/>
        </p:nvPicPr>
        <p:blipFill>
          <a:blip r:embed="rId3"/>
          <a:stretch/>
        </p:blipFill>
        <p:spPr>
          <a:xfrm>
            <a:off x="10051920" y="0"/>
            <a:ext cx="190512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4"/>
          <a:stretch/>
        </p:blipFill>
        <p:spPr>
          <a:xfrm>
            <a:off x="4489560" y="1276200"/>
            <a:ext cx="4375080" cy="3281400"/>
          </a:xfrm>
          <a:prstGeom prst="rect">
            <a:avLst/>
          </a:prstGeom>
          <a:ln w="0">
            <a:noFill/>
          </a:ln>
        </p:spPr>
      </p:pic>
      <p:pic>
        <p:nvPicPr>
          <p:cNvPr id="64" name="2.mp4" descr=""/>
          <p:cNvPicPr/>
          <p:nvPr/>
        </p:nvPicPr>
        <p:blipFill>
          <a:blip r:embed="rId5"/>
          <a:stretch/>
        </p:blipFill>
        <p:spPr>
          <a:xfrm>
            <a:off x="5267160" y="4879800"/>
            <a:ext cx="28195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20920" y="198360"/>
            <a:ext cx="75722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Делаем мультфильм в програм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Hue Animation Studi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Рисунок 1" descr="Hue Animation box content"/>
          <p:cNvPicPr/>
          <p:nvPr/>
        </p:nvPicPr>
        <p:blipFill>
          <a:blip r:embed="rId1"/>
          <a:stretch/>
        </p:blipFill>
        <p:spPr>
          <a:xfrm>
            <a:off x="282600" y="1370160"/>
            <a:ext cx="5289480" cy="506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5572080" y="1773360"/>
            <a:ext cx="609588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мплект Hue Animation Studio состоит из следующих элем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333333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HD-ка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333333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основания для ка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333333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USB-каб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333333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Анимационного программного обеспечения на лазерном диске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C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73920" y="291600"/>
            <a:ext cx="26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й эк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9" descr="mainmenu"/>
          <p:cNvPicPr/>
          <p:nvPr/>
        </p:nvPicPr>
        <p:blipFill>
          <a:blip r:embed="rId1"/>
          <a:stretch/>
        </p:blipFill>
        <p:spPr>
          <a:xfrm>
            <a:off x="441360" y="1155600"/>
            <a:ext cx="8751960" cy="4305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57200" y="33814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8480160" y="1872360"/>
            <a:ext cx="142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Calibri"/>
              </a:rPr>
              <a:t>Добавление ауд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548760" y="5884920"/>
            <a:ext cx="3538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авление ауд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5880240" y="878040"/>
            <a:ext cx="54147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512640" y="347760"/>
            <a:ext cx="1102068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этапы создания мультфиль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кадро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фонов и персона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т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нирование, графическая обработка 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м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и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5559480" y="5213520"/>
            <a:ext cx="5454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15:23:20Z</dcterms:created>
  <dc:creator>xxx</dc:creator>
  <dc:description/>
  <dc:language>en-US</dc:language>
  <cp:lastModifiedBy>Davydovich</cp:lastModifiedBy>
  <dcterms:modified xsi:type="dcterms:W3CDTF">2017-09-25T06:43:02Z</dcterms:modified>
  <cp:revision>18</cp:revision>
  <dc:subject/>
  <dc:title>Презентация PowerPoint</dc:title>
</cp:coreProperties>
</file>