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C7CF-9DED-4EB8-B2B5-EDAADD178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A53-BDCF-46C3-A7BD-6028A6578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87A-2F2E-4596-9B14-58D9E9C01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ECF-948C-49EE-9B8B-8B45FEC8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355-49E3-44A9-9CF7-DC72C13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630-4CDC-4B60-B6BA-70D9FA12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B24-3891-4CEA-98CB-3D580693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40C-37D0-409E-9EAE-3D671C2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208-3B23-4504-8473-C97FA2F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7D0-D128-49F6-BD2B-78A34454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83C-E046-46B2-8BAB-6B32E2E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301-7981-4D48-9C45-31F8E472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841-358C-4656-8854-EEB12B1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94D-487B-4F10-9040-D716795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921-AB6E-4476-A3D5-2774ACC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EB7-8DF1-4BB2-879F-1ECE1206D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763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34120" y="76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580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6320" y="522936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41008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52280" y="2590920"/>
            <a:ext cx="38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67080" y="2590920"/>
            <a:ext cx="4876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4390920" y="685800"/>
            <a:ext cx="269568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152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48320" y="15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5800" y="4800600"/>
            <a:ext cx="3733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76320" y="48769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257800" y="480060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52280" y="3232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800600" y="3232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4724280" y="735120"/>
            <a:ext cx="312444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4"/>
          <a:stretch/>
        </p:blipFill>
        <p:spPr>
          <a:xfrm>
            <a:off x="1295280" y="712800"/>
            <a:ext cx="28958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76320" y="7632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5608800"/>
            <a:ext cx="373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удите об успехах ребенка по одним отметкам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6320" y="5684760"/>
            <a:ext cx="530280" cy="4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95680" y="568476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5029200" y="560880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любой успех ребенка, его продвижение к лучшему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0" y="3048120"/>
            <a:ext cx="4800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успехах ребенка судят по отметкам, которые поставил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лятся на  отличников, хорошистов, троечников и двое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343400" y="3051000"/>
            <a:ext cx="4952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может быть и без отметки (без «5»,«4»,«3»,«2»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будут оценивать себя 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может быть лучшим в чем-то свое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3031920" cy="28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48320" y="152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7543800" y="76320"/>
            <a:ext cx="16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4-12-15T19:50:2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