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46DD-1D60-4041-AF04-3AF8AEABA6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E6DE-CC3E-4B7F-AA20-15DE803670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1A53-2761-407B-ABC6-77F2184C01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CC91-EBB2-4055-9B4B-04486FFE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5AD2-00B7-4ED6-BC06-344BB10B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82E7-6D3D-416A-857D-AB73C7A9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63AA-7A07-4483-AA77-A0AF7D68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65BC-2F06-427E-A5C3-1FDCBEB8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3B6D-E5E6-4FD5-B284-59E6366E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411E-D237-40AC-BEA9-EC597D91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127A-10DA-4379-B39D-C3411FA8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C00D-C34D-4066-B0BB-32DE4216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4093-7F8F-4F70-B6A7-5B4E8826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1A20-A104-467B-9E59-6C3704B2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F3E6-8A5A-4DE8-8BC0-8595356D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A621-5396-4631-A00F-500A1EE30F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9246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</a:rPr>
              <a:t>Как будут учиться </a:t>
            </a:r>
            <a:br>
              <a:rPr sz="6600"/>
            </a:br>
            <a:r>
              <a:rPr b="1" lang="ru-RU" sz="6600" spc="-1" strike="noStrike">
                <a:solidFill>
                  <a:srgbClr val="0000ff"/>
                </a:solidFill>
                <a:latin typeface="Arial"/>
              </a:rPr>
              <a:t>наши дети?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Не так, как учились мы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76280" y="0"/>
            <a:ext cx="841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ие качества Вы хотите видеть у своего ребенка по окончании школы, чтобы в современной жизни он был успешен?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1828800"/>
            <a:ext cx="3124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Умение ставить цель и добиваться 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Умение общ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Умение адаптиро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к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4146480" y="1343160"/>
            <a:ext cx="1873440" cy="376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3048120" y="1828800"/>
            <a:ext cx="1355760" cy="3300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5943600" y="2057400"/>
            <a:ext cx="320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Умение ориентиро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в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Самостоятельно добывать и применять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2057400" y="54100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Уметь заботиться о других, быть нравственным челове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Сохранить здоровь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600" y="1295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ать хорошие, прочные знан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52280" y="76320"/>
            <a:ext cx="8991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помним, когда мы учились, главной задачей школы считалось…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0" y="266688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нам после школы приходилось часто слышать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«Забудьте то, чему вас учили в школе!»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           «Школа учит не тому, что нужно в жизни!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твет мы говори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2133720" y="39625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«А этого мы не проходили...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PE01832_"/>
          <p:cNvPicPr/>
          <p:nvPr/>
        </p:nvPicPr>
        <p:blipFill>
          <a:blip r:embed="rId1"/>
          <a:stretch/>
        </p:blipFill>
        <p:spPr>
          <a:xfrm>
            <a:off x="228600" y="76212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1"/>
          <p:cNvSpPr/>
          <p:nvPr/>
        </p:nvSpPr>
        <p:spPr>
          <a:xfrm>
            <a:off x="152280" y="5334120"/>
            <a:ext cx="9220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В информационном обществе главными стали не знания, а умения ими пользовать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"/>
          <p:cNvPicPr/>
          <p:nvPr/>
        </p:nvPicPr>
        <p:blipFill>
          <a:blip r:embed="rId2"/>
          <a:stretch/>
        </p:blipFill>
        <p:spPr>
          <a:xfrm>
            <a:off x="885960" y="3429000"/>
            <a:ext cx="10951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304920" y="22860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учили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105520" y="2286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будут учиться наши д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62120" y="54849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заставляйте ребенка заучивать учебник и искать готовые ответы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152280" y="5610240"/>
            <a:ext cx="530280" cy="48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2"/>
          <a:stretch/>
        </p:blipFill>
        <p:spPr>
          <a:xfrm>
            <a:off x="5181480" y="5600880"/>
            <a:ext cx="530280" cy="495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5791320" y="5484960"/>
            <a:ext cx="3352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екст нужно понять и уметь использовать!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304920" y="1255680"/>
            <a:ext cx="36576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веряет Д/з. </a:t>
            </a: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Учен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выучил – пересказал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ъявляет новую 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сняет новую тему («сиди и слушай!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веряет, как поняли «повтори!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"/>
          <p:cNvPicPr/>
          <p:nvPr/>
        </p:nvPicPr>
        <p:blipFill>
          <a:blip r:embed="rId3"/>
          <a:stretch/>
        </p:blipFill>
        <p:spPr>
          <a:xfrm>
            <a:off x="3657600" y="0"/>
            <a:ext cx="1600200" cy="15238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2"/>
          <p:cNvSpPr/>
          <p:nvPr/>
        </p:nvSpPr>
        <p:spPr>
          <a:xfrm>
            <a:off x="4724280" y="1219320"/>
            <a:ext cx="44197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здает ситуацию. </a:t>
            </a: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Ученик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ют тему, вопро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Учен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ами вспоминают знания, которые пригодя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Учен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ами открывают новые знания (в диалоге с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учебник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Учен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елают вывод по т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 flipV="1">
            <a:off x="3505320" y="1599840"/>
            <a:ext cx="1295280" cy="106668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3505320" y="1600200"/>
            <a:ext cx="1218960" cy="114300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"/>
          <p:cNvSpPr/>
          <p:nvPr/>
        </p:nvSpPr>
        <p:spPr>
          <a:xfrm>
            <a:off x="3581280" y="3657600"/>
            <a:ext cx="121932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6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52280" y="7632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учили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5334120" y="7632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будут учиться наши д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85800" y="5181480"/>
            <a:ext cx="3733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льзя останавливать ребенка словами: «Мал еще, взрослые лучше знают!»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76320" y="5229360"/>
            <a:ext cx="530280" cy="485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4800600" y="5257800"/>
            <a:ext cx="530280" cy="495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5410080" y="5181480"/>
            <a:ext cx="3733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держите ребенка, если он высказывает и аргументирует свою точку зрения.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52280" y="2590920"/>
            <a:ext cx="3810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чебнике всегда есть один правильный ответ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чебнике излагается одна «правильная» точка зр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4267080" y="2590920"/>
            <a:ext cx="48769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в учебнике нет готового ответа, его надо создать самим, опираясь на тек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ти на любой творческий вопрос может быть несколько правильных от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3"/>
          <a:stretch/>
        </p:blipFill>
        <p:spPr>
          <a:xfrm>
            <a:off x="1447920" y="685800"/>
            <a:ext cx="2361960" cy="1806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"/>
          <p:cNvPicPr/>
          <p:nvPr/>
        </p:nvPicPr>
        <p:blipFill>
          <a:blip r:embed="rId4"/>
          <a:stretch/>
        </p:blipFill>
        <p:spPr>
          <a:xfrm>
            <a:off x="4390920" y="685800"/>
            <a:ext cx="269568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28600" y="152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учили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648320" y="15228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будут учиться наши д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85800" y="4800600"/>
            <a:ext cx="37339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надо делать за ребенка домашнее задание и другие дела, которые он может сделать сам.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76320" y="4876920"/>
            <a:ext cx="530280" cy="485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2"/>
          <a:stretch/>
        </p:blipFill>
        <p:spPr>
          <a:xfrm>
            <a:off x="4724280" y="4876920"/>
            <a:ext cx="530280" cy="495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5257800" y="4800600"/>
            <a:ext cx="3886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держите стремление ребенка быть самостоятельным.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52280" y="323208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Если не успел что-то сделать на уроке – дома с родителями разберешьс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4800600" y="32320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ашнее задание – это способ развития самосто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3"/>
          <a:stretch/>
        </p:blipFill>
        <p:spPr>
          <a:xfrm>
            <a:off x="4724280" y="735120"/>
            <a:ext cx="3124440" cy="232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"/>
          <p:cNvPicPr/>
          <p:nvPr/>
        </p:nvPicPr>
        <p:blipFill>
          <a:blip r:embed="rId4"/>
          <a:stretch/>
        </p:blipFill>
        <p:spPr>
          <a:xfrm>
            <a:off x="1295280" y="712800"/>
            <a:ext cx="289584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-76320" y="76320"/>
            <a:ext cx="1371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учили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85800" y="5608800"/>
            <a:ext cx="3733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судите об успехах ребенка по одним отметкам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76320" y="5684760"/>
            <a:ext cx="530280" cy="48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4495680" y="5684760"/>
            <a:ext cx="530280" cy="495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5029200" y="5608800"/>
            <a:ext cx="4114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держите любой успех ребенка, его продвижение к лучшему.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0" y="3048120"/>
            <a:ext cx="4800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 успехах ребенка судят по отметкам, которые поставил учите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делятся на  отличников, хорошистов, троечников и двоеч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4343400" y="3051000"/>
            <a:ext cx="49528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может быть и без отметки (без «5»,«4»,«3»,«2»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будут оценивать себя са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может быть лучшим в чем-то своем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1219320" y="152280"/>
            <a:ext cx="3031920" cy="288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4648320" y="152280"/>
            <a:ext cx="3124080" cy="2895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7543800" y="76320"/>
            <a:ext cx="1676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будут учиться наши д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Пользователь</cp:lastModifiedBy>
  <dcterms:modified xsi:type="dcterms:W3CDTF">2014-12-15T19:50:21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