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5EED-5693-430B-842D-1238282E7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11AD-664F-49AA-B79A-104490DAF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8154-53F0-4946-86E3-552D539A1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384-23D3-4C7C-85B7-BB62788D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8CC-DD00-498E-89E2-8A2C7674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573-8E77-418A-816E-474239D7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A25-5013-4695-AFA8-1C7CBEA0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F44-312C-487E-957D-9EB4781B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C7B-03E7-4FEE-BB2E-94B038F1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996-15AE-4A74-BE08-715E2A28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185-14A7-4744-A6B0-2D86760C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C37-D6DE-401E-A1C1-DAA71E61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2AE-B006-4F75-8456-8868133B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E6B-FBF6-4089-8BBC-A78BE6E5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D3A-97C4-4CB5-B37D-BF1A6556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D854-445F-497F-B13C-231C907C9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Как будут учиться </a:t>
            </a:r>
            <a:br>
              <a:rPr sz="6600"/>
            </a:b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наши дети?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так, как учились м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76280" y="0"/>
            <a:ext cx="841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качества Вы хотите видеть у своего ребенка по окончании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828800"/>
            <a:ext cx="3124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ставить цель и добиваться 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бщ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адап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146480" y="1343160"/>
            <a:ext cx="1873440" cy="37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943600" y="20574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мение ориен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амостоятельно добывать и применять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5410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меть заботиться о других, быть нравственным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охранить 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1295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ть хорошие, прочные зна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228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м, когда мы учились, главной задачей школы считалось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2666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нам после школы приходилось часто слышать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Забудьте то, чему вас учили в школе!»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«Школа учит не тому, что нужно в жизни!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твет мы говор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133720" y="39625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А этого мы не проходили..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PE01832_"/>
          <p:cNvPicPr/>
          <p:nvPr/>
        </p:nvPicPr>
        <p:blipFill>
          <a:blip r:embed="rId1"/>
          <a:stretch/>
        </p:blipFill>
        <p:spPr>
          <a:xfrm>
            <a:off x="228600" y="76212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152280" y="5334120"/>
            <a:ext cx="9220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В информационном обществе главными стали не знания, а умения ими пользова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885960" y="3429000"/>
            <a:ext cx="1095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04920" y="2286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105520" y="228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2120" y="54849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52280" y="561024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181480" y="5600880"/>
            <a:ext cx="530280" cy="495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5791320" y="548496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04920" y="1255680"/>
            <a:ext cx="3657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3"/>
          <a:stretch/>
        </p:blipFill>
        <p:spPr>
          <a:xfrm>
            <a:off x="3657600" y="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4724280" y="121932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ет ситуацию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 flipV="1">
            <a:off x="3505320" y="1599840"/>
            <a:ext cx="1295280" cy="10666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505320" y="1600200"/>
            <a:ext cx="1218960" cy="1143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3581280" y="3657600"/>
            <a:ext cx="121932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763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34120" y="763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580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6320" y="522936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800600" y="525780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41008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52280" y="2590920"/>
            <a:ext cx="3810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67080" y="2590920"/>
            <a:ext cx="4876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>
            <a:off x="1447920" y="685800"/>
            <a:ext cx="2361960" cy="180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4"/>
          <a:stretch/>
        </p:blipFill>
        <p:spPr>
          <a:xfrm>
            <a:off x="4390920" y="685800"/>
            <a:ext cx="269568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152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48320" y="15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5800" y="4800600"/>
            <a:ext cx="3733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76320" y="487692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4724280" y="487692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5257800" y="4800600"/>
            <a:ext cx="388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52280" y="3232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800600" y="32320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3"/>
          <a:stretch/>
        </p:blipFill>
        <p:spPr>
          <a:xfrm>
            <a:off x="4724280" y="735120"/>
            <a:ext cx="312444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4"/>
          <a:stretch/>
        </p:blipFill>
        <p:spPr>
          <a:xfrm>
            <a:off x="1295280" y="712800"/>
            <a:ext cx="28958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-76320" y="76320"/>
            <a:ext cx="137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5608800"/>
            <a:ext cx="3733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судите об успехах ребенка по одним отметкам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76320" y="5684760"/>
            <a:ext cx="530280" cy="4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4495680" y="568476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5029200" y="5608800"/>
            <a:ext cx="4114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любой успех ребенка, его продвижение к лучшему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0" y="3048120"/>
            <a:ext cx="4800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 успехах ребенка судят по отметкам, которые поставил уч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делятся на  отличников, хорошистов, троечников и двое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343400" y="3051000"/>
            <a:ext cx="4952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может быть и без отметки (без «5»,«4»,«3»,«2»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будут оценивать себя с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может быть лучшим в чем-то свое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219320" y="152280"/>
            <a:ext cx="3031920" cy="28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4648320" y="152280"/>
            <a:ext cx="312408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7543800" y="76320"/>
            <a:ext cx="167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</cp:lastModifiedBy>
  <dcterms:modified xsi:type="dcterms:W3CDTF">2014-12-15T19:50:2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