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9EF2-4A45-475A-BC59-52207E847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F69-C934-42A4-8F8F-83684D04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B01-643B-4A22-9878-E1BEE0692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977-ED6C-4DCF-84D7-256E6592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0165-56E5-45CC-A743-0A4347D9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4BEA-D5C4-4E0F-81B0-95CD14B7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59B9-A723-48B2-A8B0-CC0E3148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7106-150B-4122-89EE-ACABDE10E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D1F3A-5E62-4B89-AE9D-16C72F85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35DB-68F3-4F2C-9D7B-52F05567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B156-823E-4A05-A40F-2E456185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88A-9990-475F-BB89-696C8320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E921-2F12-45F2-8046-F919323E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956A-FC69-42A8-A424-9B77A6FA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63FB-D6DB-4F06-9595-077C6841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7E0F-9029-4751-9284-ED2FE634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06D98-09C8-4B94-801A-C181A6A08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7E4D-84A0-451A-B410-728EB7CF6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AEF-23D3-402C-8418-EA6AC12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6137-B077-4161-A43E-6A948228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1DDD-F103-4CD5-AE1B-DEB4E326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25D7-DA89-4ED1-A199-AD52D1F4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6C1-76D5-4916-8C75-E390EACF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28D-F4CB-4288-A08E-612398F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2e697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30FC-11B7-4329-BB44-1E4B26F4E5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2e69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65E9-1DCC-479F-8A8A-4608E8299E6A}" type="slidenum">
              <a:rPr b="0" lang="ru-R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3200" y="147276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ffffff"/>
                </a:solidFill>
                <a:latin typeface="Times New Roman"/>
              </a:rPr>
              <a:t>Урок Конституции</a:t>
            </a:r>
            <a:endParaRPr b="0" lang="en-US" sz="5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flag"/>
          <p:cNvPicPr/>
          <p:nvPr/>
        </p:nvPicPr>
        <p:blipFill>
          <a:blip r:embed="rId2"/>
          <a:stretch/>
        </p:blipFill>
        <p:spPr>
          <a:xfrm>
            <a:off x="3530520" y="152280"/>
            <a:ext cx="2095560" cy="122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952880" y="3657600"/>
            <a:ext cx="3810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Народ без законов, подобен человеку без принципов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64c"/>
                </a:solidFill>
                <a:latin typeface="Times New Roman"/>
              </a:rPr>
              <a:t>Захария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Глава Республики Мордови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67-77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4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Государственное собрание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78-92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5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равительство Республики Мордови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93-103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6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3200" y="2325600"/>
            <a:ext cx="7810560" cy="2450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удебная власть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4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7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73200" y="2325600"/>
            <a:ext cx="7810560" cy="2450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рокуратура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5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8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73200" y="2325600"/>
            <a:ext cx="7810560" cy="2450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Адвокатура и нотариат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6-107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9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73200" y="2325600"/>
            <a:ext cx="7810560" cy="3098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Местные самоуправлени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08-113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0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73200" y="2209680"/>
            <a:ext cx="7810560" cy="29919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409c5"/>
                </a:solidFill>
                <a:latin typeface="Times New Roman"/>
              </a:rPr>
              <a:t>Государственные символы и столица РМ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409c5"/>
                </a:solidFill>
                <a:latin typeface="Times New Roman"/>
              </a:rPr>
              <a:t>ст. 114-115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1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81" name="" descr="gerb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6629400" y="4133880"/>
            <a:ext cx="158256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223920" y="4394160"/>
          <a:ext cx="22906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3920" y="4394160"/>
                    <a:ext cx="22906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73200" y="2325600"/>
            <a:ext cx="7810560" cy="290196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0" bIns="262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орядок внесения изменений в Конституцию РМ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2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1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438280"/>
            <a:ext cx="7696080" cy="299700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370800" bIns="370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Конституция вступает в силу со дня ее официального опубликования по результатам всенародного голосования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1498680"/>
            <a:ext cx="8763120" cy="53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Мы, многонациональный народ Российском Федерации,</a:t>
            </a:r>
            <a:r>
              <a:rPr b="1" i="1" lang="ru-RU" sz="19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оединенные обшей судьбой на своей земле</a:t>
            </a:r>
            <a:r>
              <a:rPr b="1" i="1" lang="ru-RU" sz="1900" spc="-1" strike="noStrike">
                <a:solidFill>
                  <a:srgbClr val="1c1c1c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утверждая права и свободы человека, гражданский мир и согласие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охраняя исторически сложившееся государственное единство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исходя из общепризнанных принципов равноправия и самоопределения народов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чтя память предков, передавших нам любовь и уважение к Отечеству, веру в добро и справедливость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возрождая суверенную государственность России и утверждая незыблемость ее демократической основы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тремясь обеспечить благополучие и процветание России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исходя из ответственности за свою Родину перед нынешним и будущими поколениями,</a:t>
            </a:r>
            <a:endParaRPr b="0" lang="en-US" sz="19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сознавая себя частью мирового сообщества, принимаем</a:t>
            </a:r>
            <a:r>
              <a:rPr b="1" lang="ru-RU" sz="19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КОНСТИТУЦИЮ РОССИЙСКОЙ ФЕДЕРАЦИИ</a:t>
            </a:r>
            <a:r>
              <a:rPr b="1" lang="ru-RU" sz="20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0200" y="3301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КОНСТИТУЦИЯ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РОССИЙСКОЙ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850b42"/>
                </a:solidFill>
                <a:latin typeface="Times New Roman"/>
                <a:ea typeface="Times New Roman"/>
              </a:rPr>
              <a:t>ФЕДЕРАЦИИ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2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425680"/>
            <a:ext cx="7696080" cy="312876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154800" bIns="154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Устанавливается порядок действия законов и др. правовых актов, действующих на территории РФ до вступления в силу Конституции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3-9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2438280"/>
            <a:ext cx="7696080" cy="243324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70000" rIns="270000" tIns="370800" bIns="370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Об осуществлении полномочий Главы Правительства и судебной власти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2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Times New Roman"/>
              </a:rPr>
              <a:t>Часть 10-13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438280"/>
            <a:ext cx="7696080" cy="1869480"/>
          </a:xfrm>
          <a:prstGeom prst="rect">
            <a:avLst/>
          </a:prstGeom>
          <a:gradFill rotWithShape="0">
            <a:gsLst>
              <a:gs pos="0">
                <a:srgbClr val="fee7f2"/>
              </a:gs>
              <a:gs pos="50000">
                <a:srgbClr val="fbeac7"/>
              </a:gs>
              <a:gs pos="100000">
                <a:srgbClr val="fee7f2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370800" bIns="370800" anchor="t">
            <a:spAutoFit/>
          </a:bodyPr>
          <a:p>
            <a:pPr algn="ctr">
              <a:spcBef>
                <a:spcPts val="2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264c"/>
                </a:solidFill>
                <a:latin typeface="Times New Roman"/>
              </a:rPr>
              <a:t>Устанавливают порядок созыва Госсобрания</a:t>
            </a:r>
            <a:endParaRPr b="0" lang="en-US" sz="37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990720" y="101520"/>
            <a:ext cx="7848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Конституция –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Основной закон государства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05120" y="2019240"/>
            <a:ext cx="5410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66"/>
                </a:solidFill>
                <a:uFillTx/>
                <a:latin typeface="Times New Roman"/>
              </a:rPr>
              <a:t>Что такое Конституция?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3124080"/>
            <a:ext cx="7848720" cy="29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50b42"/>
                </a:solidFill>
                <a:latin typeface="Times New Roman"/>
              </a:rPr>
              <a:t>Это Основной закон государства</a:t>
            </a:r>
            <a:r>
              <a:rPr b="1" lang="ru-RU" sz="3000" spc="-1" strike="noStrike">
                <a:solidFill>
                  <a:srgbClr val="003300"/>
                </a:solidFill>
                <a:latin typeface="Times New Roman"/>
              </a:rPr>
              <a:t>: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выражающий волю господствующего класса или всего обществ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закрепляющий основы общественного и государственного строя, права и свободы человека и гражданин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19320" y="2006640"/>
            <a:ext cx="71625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66"/>
                </a:solidFill>
                <a:uFillTx/>
                <a:latin typeface="Times New Roman"/>
              </a:rPr>
              <a:t>Почему Конституция  - это стабильность и долговечность?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124080"/>
            <a:ext cx="7848720" cy="24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Она не подвержена частным изменениям в силу абстрактного содержания её положений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Она имеет жёсткую процедуру внесения изменений и дополнений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101520"/>
            <a:ext cx="7848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Конституция –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Основной закон государства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76520" y="1959120"/>
            <a:ext cx="65530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 u="sng">
                <a:solidFill>
                  <a:srgbClr val="003366"/>
                </a:solidFill>
                <a:uFillTx/>
                <a:latin typeface="Times New Roman"/>
              </a:rPr>
              <a:t>Каковы основные черты Конституции?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274920"/>
            <a:ext cx="784872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Имеет основополагающие положения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Соответствует складывающимся общественным отношениям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Обладает прямым действием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Times New Roman"/>
              </a:rPr>
              <a:t>- Характеризуется незыблемостью и обеспечением прав и свобод человека и гражданина</a:t>
            </a:r>
            <a:endParaRPr b="0" lang="en-US" sz="2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101520"/>
            <a:ext cx="7848360" cy="14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Конституция –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a40e52"/>
                </a:solidFill>
                <a:latin typeface="Times New Roman"/>
              </a:rPr>
              <a:t>Основной закон государства</a:t>
            </a:r>
            <a:endParaRPr b="0" lang="en-US" sz="35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19320" y="1828800"/>
            <a:ext cx="7086600" cy="3949560"/>
          </a:xfrm>
          <a:prstGeom prst="rect">
            <a:avLst/>
          </a:prstGeom>
          <a:gradFill rotWithShape="0">
            <a:gsLst>
              <a:gs pos="0">
                <a:srgbClr val="377e97"/>
              </a:gs>
              <a:gs pos="50000">
                <a:srgbClr val="ccecff"/>
              </a:gs>
              <a:gs pos="100000">
                <a:srgbClr val="377e97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8800" bIns="298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f0d4f"/>
                </a:solidFill>
                <a:latin typeface="Times New Roman"/>
              </a:rPr>
              <a:t>Может ли расколотое, находящееся в стадии брожения общество создать действенную Конституцию?</a:t>
            </a:r>
            <a:r>
              <a:rPr b="1" i="1" lang="ru-RU" sz="4000" spc="-1" strike="noStrike">
                <a:solidFill>
                  <a:srgbClr val="9f0d4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4920" y="2184480"/>
            <a:ext cx="8534160" cy="3757320"/>
          </a:xfrm>
          <a:prstGeom prst="rect">
            <a:avLst/>
          </a:prstGeom>
          <a:gradFill rotWithShape="0">
            <a:gsLst>
              <a:gs pos="0">
                <a:srgbClr val="bac8aa"/>
              </a:gs>
              <a:gs pos="50000">
                <a:srgbClr val="ffffff"/>
              </a:gs>
              <a:gs pos="100000">
                <a:srgbClr val="bac8aa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62800" bIns="262800" anchor="t">
            <a:spAutoFit/>
          </a:bodyPr>
          <a:p>
            <a:pPr algn="ctr">
              <a:spcBef>
                <a:spcPts val="33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300" spc="-1" strike="noStrike">
                <a:solidFill>
                  <a:srgbClr val="0050a0"/>
                </a:solidFill>
                <a:latin typeface="Times New Roman"/>
              </a:rPr>
              <a:t>Какие выборы обеспечивают выполнение важнейшего принципа демократии?</a:t>
            </a:r>
            <a:endParaRPr b="0" lang="en-US" sz="53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2006640" y="838080"/>
            <a:ext cx="5398560" cy="5398920"/>
            <a:chOff x="2006640" y="838080"/>
            <a:chExt cx="5398560" cy="5398920"/>
          </a:xfrm>
        </p:grpSpPr>
        <p:sp>
          <p:nvSpPr>
            <p:cNvPr id="98" name=""/>
            <p:cNvSpPr/>
            <p:nvPr/>
          </p:nvSpPr>
          <p:spPr>
            <a:xfrm>
              <a:off x="2006640" y="838080"/>
              <a:ext cx="5398560" cy="5398920"/>
            </a:xfrm>
            <a:prstGeom prst="ellipse">
              <a:avLst/>
            </a:prstGeom>
            <a:solidFill>
              <a:srgbClr val="bac8aa"/>
            </a:solidFill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14560" y="851400"/>
              <a:ext cx="0" cy="269928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4701240" y="1398240"/>
              <a:ext cx="1630440" cy="215100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4708800" y="2665080"/>
              <a:ext cx="2547360" cy="89208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4708800" y="3539520"/>
              <a:ext cx="2662200" cy="4489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4696200" y="3545280"/>
              <a:ext cx="582480" cy="26359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704120" y="3550320"/>
              <a:ext cx="1971360" cy="18439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757680" y="3524760"/>
              <a:ext cx="956160" cy="252432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2489040" y="3528720"/>
              <a:ext cx="2216880" cy="154008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260440" y="2417400"/>
              <a:ext cx="2459520" cy="111240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041920" y="3546360"/>
              <a:ext cx="2683080" cy="30024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360" y="1278360"/>
              <a:ext cx="1448640" cy="2277360"/>
            </a:xfrm>
            <a:prstGeom prst="line">
              <a:avLst/>
            </a:prstGeom>
            <a:ln cap="sq" w="28440">
              <a:solidFill>
                <a:srgbClr val="0026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2476440" y="1422360"/>
            <a:ext cx="4394160" cy="4424760"/>
            <a:chOff x="2476440" y="1422360"/>
            <a:chExt cx="4394160" cy="4424760"/>
          </a:xfrm>
        </p:grpSpPr>
        <p:sp>
          <p:nvSpPr>
            <p:cNvPr id="111" name=""/>
            <p:cNvSpPr/>
            <p:nvPr/>
          </p:nvSpPr>
          <p:spPr>
            <a:xfrm>
              <a:off x="4978440" y="14223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К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92840" y="2133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О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61120" y="30733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Н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058080" y="4000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95960" y="48639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Т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92640" y="51436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238560" y="46990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Т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03520" y="38797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У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76440" y="2895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Ц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09960" y="19875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И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24360" y="142236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9f0d4f"/>
                  </a:solidFill>
                  <a:latin typeface="Times New Roman"/>
                </a:rPr>
                <a:t>Я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463840" y="203040"/>
            <a:ext cx="4114800" cy="1143000"/>
            <a:chOff x="2463840" y="203040"/>
            <a:chExt cx="4114800" cy="1143000"/>
          </a:xfrm>
        </p:grpSpPr>
        <p:sp>
          <p:nvSpPr>
            <p:cNvPr id="123" name=""/>
            <p:cNvSpPr/>
            <p:nvPr/>
          </p:nvSpPr>
          <p:spPr>
            <a:xfrm>
              <a:off x="2463840" y="203040"/>
              <a:ext cx="4114800" cy="1143000"/>
            </a:xfrm>
            <a:prstGeom prst="ellipse">
              <a:avLst/>
            </a:prstGeom>
            <a:solidFill>
              <a:srgbClr val="cbd5bf"/>
            </a:solidFill>
            <a:ln w="0">
              <a:noFill/>
            </a:ln>
            <a:effectLst>
              <a:outerShdw dist="107932" dir="18900000" blurRad="0" rotWithShape="0">
                <a:srgbClr val="2e697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03520" y="46980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3361ad"/>
                  </a:solidFill>
                  <a:latin typeface="Times New Roman"/>
                </a:rPr>
                <a:t>Конституция РМ</a:t>
              </a:r>
              <a:endParaRPr b="0" lang="en-US" sz="36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03040" y="2387520"/>
            <a:ext cx="2298960" cy="123660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Это – нормативно-правовой акт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2560" y="2387520"/>
            <a:ext cx="2502000" cy="123660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Обладает юридическим верховенством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58080" y="2197080"/>
            <a:ext cx="2819160" cy="161748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Базируется на государственной воле российского общества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06760" y="4403880"/>
            <a:ext cx="4483080" cy="161748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Является базой всего текущего законодательства; служит источником его нормы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4406760"/>
            <a:ext cx="3581280" cy="1617480"/>
          </a:xfrm>
          <a:prstGeom prst="rect">
            <a:avLst/>
          </a:prstGeom>
          <a:solidFill>
            <a:srgbClr val="c0dae6"/>
          </a:solidFill>
          <a:ln w="0">
            <a:noFill/>
          </a:ln>
          <a:effectLst>
            <a:outerShdw dist="107932" dir="189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83352d"/>
                </a:solidFill>
                <a:latin typeface="Times New Roman"/>
              </a:rPr>
              <a:t>Характеризует особый порядок принятия и внесение поправок и изменений</a:t>
            </a:r>
            <a:endParaRPr b="0" lang="en-US" sz="25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3" idx="4"/>
            <a:endCxn id="125" idx="0"/>
          </p:cNvCxnSpPr>
          <p:nvPr/>
        </p:nvCxnSpPr>
        <p:spPr>
          <a:xfrm rot="5400000">
            <a:off x="2415600" y="282240"/>
            <a:ext cx="1042200" cy="3169440"/>
          </a:xfrm>
          <a:prstGeom prst="bentConnector3">
            <a:avLst>
              <a:gd name="adj1" fmla="val 50000"/>
            </a:avLst>
          </a:prstGeom>
          <a:ln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1" name=""/>
          <p:cNvCxnSpPr>
            <a:stCxn id="125" idx="3"/>
            <a:endCxn id="126" idx="1"/>
          </p:cNvCxnSpPr>
          <p:nvPr/>
        </p:nvCxnSpPr>
        <p:spPr>
          <a:xfrm>
            <a:off x="2502000" y="3004920"/>
            <a:ext cx="521280" cy="1080"/>
          </a:xfrm>
          <a:prstGeom prst="straightConnector1">
            <a:avLst/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2" name=""/>
          <p:cNvCxnSpPr>
            <a:stCxn id="126" idx="3"/>
            <a:endCxn id="127" idx="1"/>
          </p:cNvCxnSpPr>
          <p:nvPr/>
        </p:nvCxnSpPr>
        <p:spPr>
          <a:xfrm>
            <a:off x="5524560" y="3004920"/>
            <a:ext cx="534240" cy="1080"/>
          </a:xfrm>
          <a:prstGeom prst="straightConnector1">
            <a:avLst/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3" name=""/>
          <p:cNvCxnSpPr>
            <a:stCxn id="127" idx="2"/>
            <a:endCxn id="128" idx="0"/>
          </p:cNvCxnSpPr>
          <p:nvPr/>
        </p:nvCxnSpPr>
        <p:spPr>
          <a:xfrm rot="5400000">
            <a:off x="6761880" y="3698280"/>
            <a:ext cx="591120" cy="819720"/>
          </a:xfrm>
          <a:prstGeom prst="bentConnector3">
            <a:avLst>
              <a:gd name="adj1" fmla="val 49969"/>
            </a:avLst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128" idx="1"/>
            <a:endCxn id="129" idx="3"/>
          </p:cNvCxnSpPr>
          <p:nvPr/>
        </p:nvCxnSpPr>
        <p:spPr>
          <a:xfrm flipH="1">
            <a:off x="3809520" y="5211360"/>
            <a:ext cx="597600" cy="3960"/>
          </a:xfrm>
          <a:prstGeom prst="straightConnector1">
            <a:avLst/>
          </a:prstGeom>
          <a:ln cap="sq" w="76320">
            <a:solidFill>
              <a:srgbClr val="83352d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866960" y="304920"/>
            <a:ext cx="6324480" cy="995760"/>
          </a:xfrm>
          <a:prstGeom prst="rect">
            <a:avLst/>
          </a:prstGeom>
          <a:gradFill rotWithShape="0">
            <a:gsLst>
              <a:gs pos="0">
                <a:srgbClr val="44468e"/>
              </a:gs>
              <a:gs pos="50000">
                <a:srgbClr val="ffffff"/>
              </a:gs>
              <a:gs pos="100000">
                <a:srgbClr val="44468e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54800" bIns="154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dd3f07"/>
                </a:solidFill>
                <a:latin typeface="Times New Roman"/>
              </a:rPr>
              <a:t>Функции Конституции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5240" y="2514600"/>
            <a:ext cx="3962160" cy="1139760"/>
          </a:xfrm>
          <a:prstGeom prst="rect">
            <a:avLst/>
          </a:prstGeom>
          <a:gradFill rotWithShape="0">
            <a:gsLst>
              <a:gs pos="0">
                <a:srgbClr val="f97647"/>
              </a:gs>
              <a:gs pos="50000">
                <a:srgbClr val="fbfacd"/>
              </a:gs>
              <a:gs pos="100000">
                <a:srgbClr val="f97647"/>
              </a:gs>
            </a:gsLst>
            <a:lin ang="10800000"/>
          </a:gradFill>
          <a:ln cap="sq"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226800" bIns="22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be"/>
                </a:solidFill>
                <a:latin typeface="Times New Roman"/>
              </a:rPr>
              <a:t>Юридическая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2514600"/>
            <a:ext cx="4191120" cy="1139760"/>
          </a:xfrm>
          <a:prstGeom prst="rect">
            <a:avLst/>
          </a:prstGeom>
          <a:gradFill rotWithShape="0">
            <a:gsLst>
              <a:gs pos="0">
                <a:srgbClr val="f97647"/>
              </a:gs>
              <a:gs pos="50000">
                <a:srgbClr val="fbfacd"/>
              </a:gs>
              <a:gs pos="100000">
                <a:srgbClr val="f97647"/>
              </a:gs>
            </a:gsLst>
            <a:lin ang="10800000"/>
          </a:gradFill>
          <a:ln cap="sq"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226800" bIns="22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be"/>
                </a:solidFill>
                <a:latin typeface="Times New Roman"/>
              </a:rPr>
              <a:t>Политическая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27280" y="4597560"/>
            <a:ext cx="5257800" cy="1139760"/>
          </a:xfrm>
          <a:prstGeom prst="rect">
            <a:avLst/>
          </a:prstGeom>
          <a:gradFill rotWithShape="0">
            <a:gsLst>
              <a:gs pos="0">
                <a:srgbClr val="f97647"/>
              </a:gs>
              <a:gs pos="50000">
                <a:srgbClr val="fbfacd"/>
              </a:gs>
              <a:gs pos="100000">
                <a:srgbClr val="f97647"/>
              </a:gs>
            </a:gsLst>
            <a:lin ang="10800000"/>
          </a:gradFill>
          <a:ln cap="sq" w="38160">
            <a:solidFill>
              <a:srgbClr val="333399"/>
            </a:solidFill>
            <a:miter/>
          </a:ln>
          <a:effectLst>
            <a:outerShdw dist="107932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26000" rIns="126000" tIns="226800" bIns="22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be"/>
                </a:solidFill>
                <a:latin typeface="Times New Roman"/>
              </a:rPr>
              <a:t>Идеологическая</a:t>
            </a:r>
            <a:endParaRPr b="0" lang="en-US" sz="4500" spc="-1" strike="noStrike">
              <a:solidFill>
                <a:srgbClr val="00264c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5" idx="1"/>
            <a:endCxn id="136" idx="0"/>
          </p:cNvCxnSpPr>
          <p:nvPr/>
        </p:nvCxnSpPr>
        <p:spPr>
          <a:xfrm flipH="1" flipV="1" rot="10800000">
            <a:off x="1866600" y="802080"/>
            <a:ext cx="280080" cy="1693080"/>
          </a:xfrm>
          <a:prstGeom prst="bentConnector4">
            <a:avLst>
              <a:gd name="adj1" fmla="val -81724"/>
              <a:gd name="adj2" fmla="val 65291"/>
            </a:avLst>
          </a:prstGeom>
          <a:ln cap="sq" w="76320">
            <a:solidFill>
              <a:srgbClr val="469dbc"/>
            </a:solidFill>
            <a:miter/>
            <a:tailEnd len="sm" type="triangle" w="sm"/>
          </a:ln>
        </p:spPr>
      </p:cxnSp>
      <p:cxnSp>
        <p:nvCxnSpPr>
          <p:cNvPr id="140" name=""/>
          <p:cNvCxnSpPr>
            <a:stCxn id="135" idx="3"/>
            <a:endCxn id="137" idx="0"/>
          </p:cNvCxnSpPr>
          <p:nvPr/>
        </p:nvCxnSpPr>
        <p:spPr>
          <a:xfrm flipH="1">
            <a:off x="6819480" y="802800"/>
            <a:ext cx="1372320" cy="1693080"/>
          </a:xfrm>
          <a:prstGeom prst="bentConnector4">
            <a:avLst>
              <a:gd name="adj1" fmla="val -16662"/>
              <a:gd name="adj2" fmla="val 65291"/>
            </a:avLst>
          </a:prstGeom>
          <a:ln cap="sq" w="76320">
            <a:solidFill>
              <a:srgbClr val="469dbc"/>
            </a:solidFill>
            <a:miter/>
            <a:tailEnd len="sm" type="triangle" w="sm"/>
          </a:ln>
        </p:spPr>
      </p:cxnSp>
      <p:cxnSp>
        <p:nvCxnSpPr>
          <p:cNvPr id="141" name=""/>
          <p:cNvCxnSpPr>
            <a:stCxn id="135" idx="2"/>
            <a:endCxn id="138" idx="0"/>
          </p:cNvCxnSpPr>
          <p:nvPr/>
        </p:nvCxnSpPr>
        <p:spPr>
          <a:xfrm rot="5400000">
            <a:off x="3053520" y="2603520"/>
            <a:ext cx="3277440" cy="673920"/>
          </a:xfrm>
          <a:prstGeom prst="bentConnector3">
            <a:avLst>
              <a:gd name="adj1" fmla="val 19026"/>
            </a:avLst>
          </a:prstGeom>
          <a:ln cap="sq" w="76320">
            <a:solidFill>
              <a:srgbClr val="469dbc"/>
            </a:solidFill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2286000" y="533520"/>
            <a:ext cx="4647960" cy="2133360"/>
            <a:chOff x="2286000" y="533520"/>
            <a:chExt cx="4647960" cy="2133360"/>
          </a:xfrm>
        </p:grpSpPr>
        <p:sp>
          <p:nvSpPr>
            <p:cNvPr id="143" name=""/>
            <p:cNvSpPr/>
            <p:nvPr/>
          </p:nvSpPr>
          <p:spPr>
            <a:xfrm>
              <a:off x="2286000" y="533520"/>
              <a:ext cx="4647960" cy="2133360"/>
            </a:xfrm>
            <a:prstGeom prst="downArrowCallout">
              <a:avLst>
                <a:gd name="adj1" fmla="val 54473"/>
                <a:gd name="adj2" fmla="val 54468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9dc2db"/>
                </a:gs>
                <a:gs pos="50000">
                  <a:srgbClr val="ccecff"/>
                </a:gs>
                <a:gs pos="100000">
                  <a:srgbClr val="9dc2db"/>
                </a:gs>
              </a:gsLst>
              <a:lin ang="10800000"/>
            </a:gradFill>
            <a:ln cap="sq" w="12600">
              <a:solidFill>
                <a:srgbClr val="00264c"/>
              </a:solidFill>
              <a:miter/>
            </a:ln>
            <a:effectLst>
              <a:outerShdw dist="153753" dir="2700000" blurRad="0" rotWithShape="0">
                <a:srgbClr val="2e697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46800" bIns="46800" anchor="ctr">
              <a:noAutofit/>
            </a:bodyPr>
            <a:p>
              <a:endParaRPr b="0" lang="en-US" sz="2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18200" y="596880"/>
              <a:ext cx="4183200" cy="1312920"/>
            </a:xfrm>
            <a:prstGeom prst="rect">
              <a:avLst/>
            </a:prstGeom>
            <a:gradFill rotWithShape="0">
              <a:gsLst>
                <a:gs pos="0">
                  <a:srgbClr val="9dc2db"/>
                </a:gs>
                <a:gs pos="50000">
                  <a:srgbClr val="ccecff"/>
                </a:gs>
                <a:gs pos="100000">
                  <a:srgbClr val="9dc2d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72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a40e52"/>
                  </a:solidFill>
                  <a:latin typeface="Times New Roman"/>
                </a:rPr>
                <a:t>Структура Конституции РМ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2819520" y="2870280"/>
            <a:ext cx="3581280" cy="991440"/>
          </a:xfrm>
          <a:prstGeom prst="rect">
            <a:avLst/>
          </a:prstGeom>
          <a:gradFill rotWithShape="0">
            <a:gsLst>
              <a:gs pos="0">
                <a:srgbClr val="aabc96"/>
              </a:gs>
              <a:gs pos="50000">
                <a:srgbClr val="ffe1e1"/>
              </a:gs>
              <a:gs pos="100000">
                <a:srgbClr val="aabc96"/>
              </a:gs>
            </a:gsLst>
            <a:lin ang="8100000"/>
          </a:gradFill>
          <a:ln cap="sq" w="38160">
            <a:solidFill>
              <a:srgbClr val="99ccff"/>
            </a:solidFill>
            <a:miter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90800" bIns="190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76e"/>
                </a:solidFill>
                <a:latin typeface="Times New Roman"/>
              </a:rPr>
              <a:t>Преамбула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4521240"/>
            <a:ext cx="3352680" cy="1351440"/>
          </a:xfrm>
          <a:prstGeom prst="rect">
            <a:avLst/>
          </a:prstGeom>
          <a:gradFill rotWithShape="0">
            <a:gsLst>
              <a:gs pos="0">
                <a:srgbClr val="7979a5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cap="sq" w="50760">
            <a:solidFill>
              <a:srgbClr val="2e697e"/>
            </a:solidFill>
            <a:miter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06000" rIns="306000" tIns="370800" bIns="370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00422"/>
                </a:solidFill>
                <a:latin typeface="Times New Roman"/>
              </a:rPr>
              <a:t>Раздел 1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40280" y="4403520"/>
            <a:ext cx="3657600" cy="1747800"/>
          </a:xfrm>
          <a:prstGeom prst="rect">
            <a:avLst/>
          </a:prstGeom>
          <a:gradFill rotWithShape="0">
            <a:gsLst>
              <a:gs pos="0">
                <a:srgbClr val="7676a4"/>
              </a:gs>
              <a:gs pos="100000">
                <a:srgbClr val="ccecff"/>
              </a:gs>
            </a:gsLst>
            <a:path path="rect">
              <a:fillToRect l="50000" t="50000" r="50000" b="50000"/>
            </a:path>
          </a:gradFill>
          <a:ln cap="sq" w="50760">
            <a:solidFill>
              <a:srgbClr val="2e697e"/>
            </a:solidFill>
            <a:miter/>
          </a:ln>
          <a:effectLst>
            <a:outerShdw dist="153753" dir="2700000" blurRad="0" rotWithShape="0">
              <a:srgbClr val="2e697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108000" bIns="1080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00422"/>
                </a:solidFill>
                <a:latin typeface="Times New Roman"/>
              </a:rPr>
              <a:t>Раздел 2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00422"/>
                </a:solidFill>
                <a:latin typeface="Times New Roman"/>
              </a:rPr>
              <a:t>Заключительные и переходные положени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Основы конституционного строя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-14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1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73200" y="2325600"/>
            <a:ext cx="7810560" cy="32428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Права и свободы человека и гражданина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2409c5"/>
                </a:solidFill>
                <a:latin typeface="Times New Roman"/>
              </a:rPr>
              <a:t>ст. 15-58</a:t>
            </a:r>
            <a:endParaRPr b="0" lang="en-US" sz="5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2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198520"/>
            <a:ext cx="8255160" cy="3532680"/>
          </a:xfrm>
          <a:prstGeom prst="rect">
            <a:avLst/>
          </a:prstGeom>
          <a:gradFill rotWithShape="0">
            <a:gsLst>
              <a:gs pos="0">
                <a:srgbClr val="d1c39f"/>
              </a:gs>
              <a:gs pos="50000">
                <a:srgbClr val="ffefd1"/>
              </a:gs>
              <a:gs pos="100000">
                <a:srgbClr val="d1c39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26800" bIns="22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409c5"/>
                </a:solidFill>
                <a:latin typeface="Times New Roman"/>
              </a:rPr>
              <a:t>Государственный статус и административно-территориальное устройство РМ</a:t>
            </a:r>
            <a:endParaRPr b="0" lang="en-US" sz="42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409c5"/>
                </a:solidFill>
                <a:latin typeface="Times New Roman"/>
              </a:rPr>
              <a:t>ст. 56-66</a:t>
            </a:r>
            <a:endParaRPr b="0" lang="en-US" sz="5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04920"/>
            <a:ext cx="441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00422"/>
                </a:solidFill>
                <a:latin typeface="Times New Roman"/>
              </a:rPr>
              <a:t>Глава 3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6019920"/>
            <a:ext cx="3657600" cy="459720"/>
          </a:xfrm>
          <a:prstGeom prst="rect">
            <a:avLst/>
          </a:prstGeom>
          <a:solidFill>
            <a:srgbClr val="bac8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64c"/>
                </a:solidFill>
                <a:latin typeface="Times New Roman"/>
              </a:rPr>
              <a:t>Раздел 1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6T07:55:49Z</dcterms:created>
  <dc:creator>309</dc:creator>
  <dc:description/>
  <dc:language>en-US</dc:language>
  <cp:lastModifiedBy>309</cp:lastModifiedBy>
  <dcterms:modified xsi:type="dcterms:W3CDTF">2003-11-26T13:12:18Z</dcterms:modified>
  <cp:revision>115</cp:revision>
  <dc:subject/>
  <dc:title>Конституция РМ</dc:title>
</cp:coreProperties>
</file>