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27D-F7F3-4194-8052-20FF16BF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D9E-8343-4DD3-AAEB-333ADD2E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950-7261-40A2-9F7F-8F3EC78D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325-9115-469A-9594-46361BB0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5929-21A4-46BF-B5AF-71508BD3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8053-6263-497C-813F-DA159BA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C42-4757-469C-8168-B7D1F62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0C70-3DFE-4C96-9A5B-DE269D1F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C0D2-4915-4539-8DAC-CD856791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89EC-AFEE-4B2F-BD25-677C7A33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6EC5-A831-48E4-96F1-3B607FB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D09-1BD5-41DE-B2C2-7D571AD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A5C2-0CEB-4B2C-BC3D-BB3A8DD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743-4184-4348-B713-7A423959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3F08-0FC0-4BC8-AF46-FC83C905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08EB-5586-48E2-94FF-0C5F43E1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9389-D497-4F68-8708-234A0D05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F54-F9C6-467F-8F0E-5D8C21AF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CA5-36C8-4807-A703-0FBCC182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D29-30F2-4B89-A795-A12269F5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FB4-A5F4-4C18-8286-4B1C3B5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FCB-40F5-4174-9367-84C2969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67E-3ABF-4577-AA4E-D5E54F6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C8A-FB78-4417-9286-6743C11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e697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341-CDAA-4140-B3E7-63A9057B05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1F1-17A7-4F72-A066-05629FA577B1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3200" y="14727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ff"/>
                </a:solidFill>
                <a:latin typeface="Times New Roman"/>
              </a:rPr>
              <a:t>Урок Конституции</a:t>
            </a:r>
            <a:endParaRPr b="0" lang="en-US" sz="5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flag"/>
          <p:cNvPicPr/>
          <p:nvPr/>
        </p:nvPicPr>
        <p:blipFill>
          <a:blip r:embed="rId2"/>
          <a:stretch/>
        </p:blipFill>
        <p:spPr>
          <a:xfrm>
            <a:off x="3530520" y="152280"/>
            <a:ext cx="209556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52880" y="3657600"/>
            <a:ext cx="3810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Народ без законов, подобен человеку без принципов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Захария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Глава Республики Мордови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67-77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4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Государственное собрание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78-92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5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равительство Республики Мордови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93-103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6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3200" y="2325600"/>
            <a:ext cx="7810560" cy="2450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удебная власть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4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7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73200" y="2325600"/>
            <a:ext cx="7810560" cy="2450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рокуратура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5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8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73200" y="2325600"/>
            <a:ext cx="7810560" cy="2450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Адвокатура и нотариат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6-107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9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73200" y="2325600"/>
            <a:ext cx="7810560" cy="3098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Местные самоуправлени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8-113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0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3200" y="2209680"/>
            <a:ext cx="7810560" cy="29919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409c5"/>
                </a:solidFill>
                <a:latin typeface="Times New Roman"/>
              </a:rPr>
              <a:t>Государственные символы и столица РМ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409c5"/>
                </a:solidFill>
                <a:latin typeface="Times New Roman"/>
              </a:rPr>
              <a:t>ст. 114-115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1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81" name="" descr="gerb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629400" y="4133880"/>
            <a:ext cx="158256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23920" y="4394160"/>
          <a:ext cx="22906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920" y="4394160"/>
                    <a:ext cx="22906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73200" y="2325600"/>
            <a:ext cx="7810560" cy="29019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0" bIns="262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орядок внесения изменений в Конституцию РМ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2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1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438280"/>
            <a:ext cx="7696080" cy="2997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370800" bIns="370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Конституция вступает в силу со дня ее официального опубликования по результатам всенародного голосования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498680"/>
            <a:ext cx="876312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Мы, многонациональный народ Российском Федерации,</a:t>
            </a:r>
            <a:r>
              <a:rPr b="1" i="1" lang="ru-RU" sz="19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оединенные обшей судьбой на своей земле</a:t>
            </a:r>
            <a:r>
              <a:rPr b="1" i="1" lang="ru-RU" sz="1900" spc="-1" strike="noStrike">
                <a:solidFill>
                  <a:srgbClr val="1c1c1c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утверждая права и свободы человека, гражданский мир и согласие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охраняя исторически сложившееся государственное единство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исходя из общепризнанных принципов равноправия и самоопределения народов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чтя память предков, передавших нам любовь и уважение к Отечеству, веру в добро и справедливость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возрождая суверенную государственность России и утверждая незыблемость ее демократической основы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тремясь обеспечить благополучие и процветание России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исходя из ответственности за свою Родину перед нынешним и будущими поколениями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ознавая себя частью мирового сообщества, принимаем</a:t>
            </a:r>
            <a:r>
              <a:rPr b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КОНСТИТУЦИЮ РОССИЙСКОЙ ФЕДЕРАЦИИ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3301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КОНСТИТУЦИЯ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РОССИЙСКОЙ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ФЕДЕРАЦИ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2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425680"/>
            <a:ext cx="7696080" cy="31287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154800" bIns="154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Устанавливается порядок действия законов и др. правовых актов, действующих на территории РФ до вступления в силу Конституции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3-9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438280"/>
            <a:ext cx="7696080" cy="243324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270000" tIns="370800" bIns="370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Об осуществлении полномочий Главы Правительства и судебной власти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10-13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438280"/>
            <a:ext cx="7696080" cy="18694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370800" bIns="370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Устанавливают порядок созыва Госсобрания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101520"/>
            <a:ext cx="7848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Конституция –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Основной закон государства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2019240"/>
            <a:ext cx="5410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66"/>
                </a:solidFill>
                <a:uFillTx/>
                <a:latin typeface="Times New Roman"/>
              </a:rPr>
              <a:t>Что такое Конституция?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124080"/>
            <a:ext cx="7848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50b42"/>
                </a:solidFill>
                <a:latin typeface="Times New Roman"/>
              </a:rPr>
              <a:t>Это Основной закон государства</a:t>
            </a: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выражающий волю господствующего класса или всего обществ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закрепляющий основы общественного и государственного строя, права и свободы человека и гражданин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2006640"/>
            <a:ext cx="71625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66"/>
                </a:solidFill>
                <a:uFillTx/>
                <a:latin typeface="Times New Roman"/>
              </a:rPr>
              <a:t>Почему Конституция  - это стабильность и долговечность?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124080"/>
            <a:ext cx="784872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Она не подвержена частным изменениям в силу абстрактного содержания её положений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Она имеет жёсткую процедуру внесения изменений и дополнений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1520"/>
            <a:ext cx="7848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Конституция –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Основной закон государства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76520" y="1959120"/>
            <a:ext cx="65530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66"/>
                </a:solidFill>
                <a:uFillTx/>
                <a:latin typeface="Times New Roman"/>
              </a:rPr>
              <a:t>Каковы основные черты Конституции?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274920"/>
            <a:ext cx="78487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Имеет основополагающие положения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Соответствует складывающимся общественным отношениям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Обладает прямым действием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Характеризуется незыблемостью и обеспечением прав и свобод человека и гражданин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01520"/>
            <a:ext cx="7848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Конституция –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Основной закон государства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1828800"/>
            <a:ext cx="7086600" cy="3949560"/>
          </a:xfrm>
          <a:prstGeom prst="rect">
            <a:avLst/>
          </a:prstGeom>
          <a:gradFill rotWithShape="0">
            <a:gsLst>
              <a:gs pos="0">
                <a:srgbClr val="377e97"/>
              </a:gs>
              <a:gs pos="50000">
                <a:srgbClr val="ccecff"/>
              </a:gs>
              <a:gs pos="100000">
                <a:srgbClr val="377e97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f0d4f"/>
                </a:solidFill>
                <a:latin typeface="Times New Roman"/>
              </a:rPr>
              <a:t>Может ли расколотое, находящееся в стадии брожения общество создать действенную Конституцию?</a:t>
            </a:r>
            <a:r>
              <a:rPr b="1" i="1" lang="ru-RU" sz="4000" spc="-1" strike="noStrike">
                <a:solidFill>
                  <a:srgbClr val="9f0d4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2184480"/>
            <a:ext cx="8534160" cy="3757320"/>
          </a:xfrm>
          <a:prstGeom prst="rect">
            <a:avLst/>
          </a:prstGeom>
          <a:gradFill rotWithShape="0">
            <a:gsLst>
              <a:gs pos="0">
                <a:srgbClr val="bac8aa"/>
              </a:gs>
              <a:gs pos="50000">
                <a:srgbClr val="ffffff"/>
              </a:gs>
              <a:gs pos="100000">
                <a:srgbClr val="bac8aa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0" bIns="262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0050a0"/>
                </a:solidFill>
                <a:latin typeface="Times New Roman"/>
              </a:rPr>
              <a:t>Какие выборы обеспечивают выполнение важнейшего принципа демократии?</a:t>
            </a:r>
            <a:endParaRPr b="0" lang="en-US" sz="53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006640" y="838080"/>
            <a:ext cx="5398560" cy="5398920"/>
            <a:chOff x="2006640" y="838080"/>
            <a:chExt cx="5398560" cy="5398920"/>
          </a:xfrm>
        </p:grpSpPr>
        <p:sp>
          <p:nvSpPr>
            <p:cNvPr id="98" name=""/>
            <p:cNvSpPr/>
            <p:nvPr/>
          </p:nvSpPr>
          <p:spPr>
            <a:xfrm>
              <a:off x="2006640" y="838080"/>
              <a:ext cx="5398560" cy="5398920"/>
            </a:xfrm>
            <a:prstGeom prst="ellipse">
              <a:avLst/>
            </a:prstGeom>
            <a:solidFill>
              <a:srgbClr val="bac8aa"/>
            </a:solidFill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14560" y="851400"/>
              <a:ext cx="0" cy="269928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701240" y="1398240"/>
              <a:ext cx="1630440" cy="215100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708800" y="2665080"/>
              <a:ext cx="2547360" cy="89208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708800" y="3539520"/>
              <a:ext cx="2662200" cy="4489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96200" y="3545280"/>
              <a:ext cx="582480" cy="26359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704120" y="3550320"/>
              <a:ext cx="1971360" cy="18439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57680" y="3524760"/>
              <a:ext cx="956160" cy="25243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489040" y="3528720"/>
              <a:ext cx="2216880" cy="154008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0440" y="2417400"/>
              <a:ext cx="2459520" cy="111240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041920" y="3546360"/>
              <a:ext cx="2683080" cy="30024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360" y="1278360"/>
              <a:ext cx="1448640" cy="227736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476440" y="1422360"/>
            <a:ext cx="4394160" cy="4424760"/>
            <a:chOff x="2476440" y="1422360"/>
            <a:chExt cx="4394160" cy="4424760"/>
          </a:xfrm>
        </p:grpSpPr>
        <p:sp>
          <p:nvSpPr>
            <p:cNvPr id="111" name=""/>
            <p:cNvSpPr/>
            <p:nvPr/>
          </p:nvSpPr>
          <p:spPr>
            <a:xfrm>
              <a:off x="4978440" y="14223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928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О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61120" y="3073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Н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58080" y="4000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48639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Т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92640" y="5143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38560" y="4699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Т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03520" y="3879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У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7644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Ц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09960" y="1987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24360" y="14223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Я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463840" y="203040"/>
            <a:ext cx="4114800" cy="1143000"/>
            <a:chOff x="2463840" y="203040"/>
            <a:chExt cx="4114800" cy="1143000"/>
          </a:xfrm>
        </p:grpSpPr>
        <p:sp>
          <p:nvSpPr>
            <p:cNvPr id="123" name=""/>
            <p:cNvSpPr/>
            <p:nvPr/>
          </p:nvSpPr>
          <p:spPr>
            <a:xfrm>
              <a:off x="2463840" y="203040"/>
              <a:ext cx="4114800" cy="1143000"/>
            </a:xfrm>
            <a:prstGeom prst="ellipse">
              <a:avLst/>
            </a:prstGeom>
            <a:solidFill>
              <a:srgbClr val="cbd5bf"/>
            </a:solidFill>
            <a:ln w="0">
              <a:noFill/>
            </a:ln>
            <a:effectLst>
              <a:outerShdw dist="107932" dir="18900000" blurRad="0" rotWithShape="0">
                <a:srgbClr val="2e697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03520" y="46980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1ad"/>
                  </a:solidFill>
                  <a:latin typeface="Times New Roman"/>
                </a:rPr>
                <a:t>Конституция РМ</a:t>
              </a:r>
              <a:endParaRPr b="0" lang="en-US" sz="3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03040" y="2387520"/>
            <a:ext cx="2298960" cy="123660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Это – нормативно-правовой акт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2560" y="2387520"/>
            <a:ext cx="2502000" cy="123660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Обладает юридическим верховенством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58080" y="2197080"/>
            <a:ext cx="2819160" cy="161748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Базируется на государственной воле российского общества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6760" y="4403880"/>
            <a:ext cx="4483080" cy="161748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Является базой всего текущего законодательства; служит источником его нормы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406760"/>
            <a:ext cx="3581280" cy="161748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Характеризует особый порядок принятия и внесение поправок и изменений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3" idx="4"/>
            <a:endCxn id="125" idx="0"/>
          </p:cNvCxnSpPr>
          <p:nvPr/>
        </p:nvCxnSpPr>
        <p:spPr>
          <a:xfrm rot="5400000">
            <a:off x="2415600" y="282240"/>
            <a:ext cx="1042200" cy="3169440"/>
          </a:xfrm>
          <a:prstGeom prst="bentConnector3">
            <a:avLst>
              <a:gd name="adj1" fmla="val 50000"/>
            </a:avLst>
          </a:prstGeom>
          <a:ln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1" name=""/>
          <p:cNvCxnSpPr>
            <a:stCxn id="125" idx="3"/>
            <a:endCxn id="126" idx="1"/>
          </p:cNvCxnSpPr>
          <p:nvPr/>
        </p:nvCxnSpPr>
        <p:spPr>
          <a:xfrm>
            <a:off x="2502000" y="3004920"/>
            <a:ext cx="521280" cy="1080"/>
          </a:xfrm>
          <a:prstGeom prst="straightConnector1">
            <a:avLst/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2" name=""/>
          <p:cNvCxnSpPr>
            <a:stCxn id="126" idx="3"/>
            <a:endCxn id="127" idx="1"/>
          </p:cNvCxnSpPr>
          <p:nvPr/>
        </p:nvCxnSpPr>
        <p:spPr>
          <a:xfrm>
            <a:off x="5524560" y="3004920"/>
            <a:ext cx="534240" cy="1080"/>
          </a:xfrm>
          <a:prstGeom prst="straightConnector1">
            <a:avLst/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27" idx="2"/>
            <a:endCxn id="128" idx="0"/>
          </p:cNvCxnSpPr>
          <p:nvPr/>
        </p:nvCxnSpPr>
        <p:spPr>
          <a:xfrm rot="5400000">
            <a:off x="6761880" y="3698280"/>
            <a:ext cx="591120" cy="819720"/>
          </a:xfrm>
          <a:prstGeom prst="bentConnector3">
            <a:avLst>
              <a:gd name="adj1" fmla="val 49969"/>
            </a:avLst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128" idx="1"/>
            <a:endCxn id="129" idx="3"/>
          </p:cNvCxnSpPr>
          <p:nvPr/>
        </p:nvCxnSpPr>
        <p:spPr>
          <a:xfrm flipH="1">
            <a:off x="3809520" y="5211360"/>
            <a:ext cx="597600" cy="3960"/>
          </a:xfrm>
          <a:prstGeom prst="straightConnector1">
            <a:avLst/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66960" y="304920"/>
            <a:ext cx="6324480" cy="995760"/>
          </a:xfrm>
          <a:prstGeom prst="rect">
            <a:avLst/>
          </a:prstGeom>
          <a:gradFill rotWithShape="0">
            <a:gsLst>
              <a:gs pos="0">
                <a:srgbClr val="44468e"/>
              </a:gs>
              <a:gs pos="50000">
                <a:srgbClr val="ffffff"/>
              </a:gs>
              <a:gs pos="100000">
                <a:srgbClr val="44468e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d3f07"/>
                </a:solidFill>
                <a:latin typeface="Times New Roman"/>
              </a:rPr>
              <a:t>Функции Конституции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240" y="2514600"/>
            <a:ext cx="3962160" cy="1139760"/>
          </a:xfrm>
          <a:prstGeom prst="rect">
            <a:avLst/>
          </a:prstGeom>
          <a:gradFill rotWithShape="0">
            <a:gsLst>
              <a:gs pos="0">
                <a:srgbClr val="f97647"/>
              </a:gs>
              <a:gs pos="50000">
                <a:srgbClr val="fbfacd"/>
              </a:gs>
              <a:gs pos="100000">
                <a:srgbClr val="f97647"/>
              </a:gs>
            </a:gsLst>
            <a:lin ang="10800000"/>
          </a:gradFill>
          <a:ln cap="sq"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226800" bIns="22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be"/>
                </a:solidFill>
                <a:latin typeface="Times New Roman"/>
              </a:rPr>
              <a:t>Юридическая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514600"/>
            <a:ext cx="4191120" cy="1139760"/>
          </a:xfrm>
          <a:prstGeom prst="rect">
            <a:avLst/>
          </a:prstGeom>
          <a:gradFill rotWithShape="0">
            <a:gsLst>
              <a:gs pos="0">
                <a:srgbClr val="f97647"/>
              </a:gs>
              <a:gs pos="50000">
                <a:srgbClr val="fbfacd"/>
              </a:gs>
              <a:gs pos="100000">
                <a:srgbClr val="f97647"/>
              </a:gs>
            </a:gsLst>
            <a:lin ang="10800000"/>
          </a:gradFill>
          <a:ln cap="sq"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226800" bIns="22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be"/>
                </a:solidFill>
                <a:latin typeface="Times New Roman"/>
              </a:rPr>
              <a:t>Политическая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27280" y="4597560"/>
            <a:ext cx="5257800" cy="1139760"/>
          </a:xfrm>
          <a:prstGeom prst="rect">
            <a:avLst/>
          </a:prstGeom>
          <a:gradFill rotWithShape="0">
            <a:gsLst>
              <a:gs pos="0">
                <a:srgbClr val="f97647"/>
              </a:gs>
              <a:gs pos="50000">
                <a:srgbClr val="fbfacd"/>
              </a:gs>
              <a:gs pos="100000">
                <a:srgbClr val="f97647"/>
              </a:gs>
            </a:gsLst>
            <a:lin ang="10800000"/>
          </a:gradFill>
          <a:ln cap="sq"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226800" bIns="22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be"/>
                </a:solidFill>
                <a:latin typeface="Times New Roman"/>
              </a:rPr>
              <a:t>Идеологическая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5" idx="1"/>
            <a:endCxn id="136" idx="0"/>
          </p:cNvCxnSpPr>
          <p:nvPr/>
        </p:nvCxnSpPr>
        <p:spPr>
          <a:xfrm flipH="1" flipV="1" rot="10800000">
            <a:off x="1866600" y="802080"/>
            <a:ext cx="280080" cy="1693080"/>
          </a:xfrm>
          <a:prstGeom prst="bentConnector4">
            <a:avLst>
              <a:gd name="adj1" fmla="val -81724"/>
              <a:gd name="adj2" fmla="val 65291"/>
            </a:avLst>
          </a:prstGeom>
          <a:ln cap="sq" w="76320">
            <a:solidFill>
              <a:srgbClr val="469dbc"/>
            </a:solidFill>
            <a:miter/>
            <a:tailEnd len="sm" type="triangle" w="sm"/>
          </a:ln>
        </p:spPr>
      </p:cxnSp>
      <p:cxnSp>
        <p:nvCxnSpPr>
          <p:cNvPr id="140" name=""/>
          <p:cNvCxnSpPr>
            <a:stCxn id="135" idx="3"/>
            <a:endCxn id="137" idx="0"/>
          </p:cNvCxnSpPr>
          <p:nvPr/>
        </p:nvCxnSpPr>
        <p:spPr>
          <a:xfrm flipH="1">
            <a:off x="6819480" y="802800"/>
            <a:ext cx="1372320" cy="1693080"/>
          </a:xfrm>
          <a:prstGeom prst="bentConnector4">
            <a:avLst>
              <a:gd name="adj1" fmla="val -16662"/>
              <a:gd name="adj2" fmla="val 65291"/>
            </a:avLst>
          </a:prstGeom>
          <a:ln cap="sq" w="76320">
            <a:solidFill>
              <a:srgbClr val="469dbc"/>
            </a:solidFill>
            <a:miter/>
            <a:tailEnd len="sm" type="triangle" w="sm"/>
          </a:ln>
        </p:spPr>
      </p:cxnSp>
      <p:cxnSp>
        <p:nvCxnSpPr>
          <p:cNvPr id="141" name=""/>
          <p:cNvCxnSpPr>
            <a:stCxn id="135" idx="2"/>
            <a:endCxn id="138" idx="0"/>
          </p:cNvCxnSpPr>
          <p:nvPr/>
        </p:nvCxnSpPr>
        <p:spPr>
          <a:xfrm rot="5400000">
            <a:off x="3053520" y="2603520"/>
            <a:ext cx="3277440" cy="673920"/>
          </a:xfrm>
          <a:prstGeom prst="bentConnector3">
            <a:avLst>
              <a:gd name="adj1" fmla="val 19026"/>
            </a:avLst>
          </a:prstGeom>
          <a:ln cap="sq" w="76320">
            <a:solidFill>
              <a:srgbClr val="469dbc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286000" y="533520"/>
            <a:ext cx="4647960" cy="2133360"/>
            <a:chOff x="2286000" y="533520"/>
            <a:chExt cx="4647960" cy="2133360"/>
          </a:xfrm>
        </p:grpSpPr>
        <p:sp>
          <p:nvSpPr>
            <p:cNvPr id="143" name=""/>
            <p:cNvSpPr/>
            <p:nvPr/>
          </p:nvSpPr>
          <p:spPr>
            <a:xfrm>
              <a:off x="2286000" y="533520"/>
              <a:ext cx="4647960" cy="2133360"/>
            </a:xfrm>
            <a:prstGeom prst="downArrowCallout">
              <a:avLst>
                <a:gd name="adj1" fmla="val 54473"/>
                <a:gd name="adj2" fmla="val 54468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9dc2db"/>
                </a:gs>
                <a:gs pos="50000">
                  <a:srgbClr val="ccecff"/>
                </a:gs>
                <a:gs pos="100000">
                  <a:srgbClr val="9dc2db"/>
                </a:gs>
              </a:gsLst>
              <a:lin ang="10800000"/>
            </a:gradFill>
            <a:ln cap="sq" w="12600">
              <a:solidFill>
                <a:srgbClr val="00264c"/>
              </a:solidFill>
              <a:miter/>
            </a:ln>
            <a:effectLst>
              <a:outerShdw dist="153753" dir="2700000" blurRad="0" rotWithShape="0">
                <a:srgbClr val="2e697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8200" y="596880"/>
              <a:ext cx="4183200" cy="1312920"/>
            </a:xfrm>
            <a:prstGeom prst="rect">
              <a:avLst/>
            </a:prstGeom>
            <a:gradFill rotWithShape="0">
              <a:gsLst>
                <a:gs pos="0">
                  <a:srgbClr val="9dc2db"/>
                </a:gs>
                <a:gs pos="50000">
                  <a:srgbClr val="ccecff"/>
                </a:gs>
                <a:gs pos="100000">
                  <a:srgbClr val="9dc2d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a40e52"/>
                  </a:solidFill>
                  <a:latin typeface="Times New Roman"/>
                </a:rPr>
                <a:t>Структура Конституции РМ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19520" y="2870280"/>
            <a:ext cx="3581280" cy="991440"/>
          </a:xfrm>
          <a:prstGeom prst="rect">
            <a:avLst/>
          </a:prstGeom>
          <a:gradFill rotWithShape="0">
            <a:gsLst>
              <a:gs pos="0">
                <a:srgbClr val="aabc96"/>
              </a:gs>
              <a:gs pos="50000">
                <a:srgbClr val="ffe1e1"/>
              </a:gs>
              <a:gs pos="100000">
                <a:srgbClr val="aabc96"/>
              </a:gs>
            </a:gsLst>
            <a:lin ang="8100000"/>
          </a:gradFill>
          <a:ln cap="sq" w="38160">
            <a:solidFill>
              <a:srgbClr val="99ccff"/>
            </a:solidFill>
            <a:miter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76e"/>
                </a:solidFill>
                <a:latin typeface="Times New Roman"/>
              </a:rPr>
              <a:t>Преамбула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4521240"/>
            <a:ext cx="3352680" cy="1351440"/>
          </a:xfrm>
          <a:prstGeom prst="rect">
            <a:avLst/>
          </a:prstGeom>
          <a:gradFill rotWithShape="0">
            <a:gsLst>
              <a:gs pos="0">
                <a:srgbClr val="7979a5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cap="sq" w="50760">
            <a:solidFill>
              <a:srgbClr val="2e697e"/>
            </a:solidFill>
            <a:miter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06000" rIns="306000" tIns="370800" bIns="370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00422"/>
                </a:solidFill>
                <a:latin typeface="Times New Roman"/>
              </a:rPr>
              <a:t>Раздел 1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40280" y="4403520"/>
            <a:ext cx="3657600" cy="1747800"/>
          </a:xfrm>
          <a:prstGeom prst="rect">
            <a:avLst/>
          </a:prstGeom>
          <a:gradFill rotWithShape="0">
            <a:gsLst>
              <a:gs pos="0">
                <a:srgbClr val="7676a4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cap="sq" w="50760">
            <a:solidFill>
              <a:srgbClr val="2e697e"/>
            </a:solidFill>
            <a:miter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0" bIns="1080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00422"/>
                </a:solidFill>
                <a:latin typeface="Times New Roman"/>
              </a:rPr>
              <a:t>Раздел 2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0422"/>
                </a:solidFill>
                <a:latin typeface="Times New Roman"/>
              </a:rPr>
              <a:t>Заключительные и переходные положен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Основы конституционного стро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-14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рава и свободы человека и гражданина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5-58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2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198520"/>
            <a:ext cx="8255160" cy="35326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409c5"/>
                </a:solidFill>
                <a:latin typeface="Times New Roman"/>
              </a:rPr>
              <a:t>Государственный статус и административно-территориальное устройство РМ</a:t>
            </a:r>
            <a:endParaRPr b="0" lang="en-US" sz="4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409c5"/>
                </a:solidFill>
                <a:latin typeface="Times New Roman"/>
              </a:rPr>
              <a:t>ст. 56-66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3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7:55:49Z</dcterms:created>
  <dc:creator>309</dc:creator>
  <dc:description/>
  <dc:language>en-US</dc:language>
  <cp:lastModifiedBy>309</cp:lastModifiedBy>
  <dcterms:modified xsi:type="dcterms:W3CDTF">2003-11-26T13:12:18Z</dcterms:modified>
  <cp:revision>115</cp:revision>
  <dc:subject/>
  <dc:title>Конституция РМ</dc:title>
</cp:coreProperties>
</file>