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5C5-FBBD-4DA0-9246-B56780AB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0A2-4F27-494C-900C-429BD162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EDF-3F34-4645-8CAC-77703068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7AA-5043-4424-801C-0D5DBA29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E05-2CD4-4917-A7C4-C7F0FFCD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3E8-331B-4737-989E-E3BF6F8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B30-AA80-4A6A-AE83-9EC72FE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16C-AB97-4B38-9A6B-C71C9932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D48-6E20-4A5B-BC18-ACB2DC0F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B22-A698-47EC-8F05-03AD75B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149-CBA7-40C7-BED9-232052E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D31-DE0C-4339-B9CC-7B46AD4D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359-77CE-4438-9DA7-20F761B67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4.wmf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&#1076;&#1072;.wav" TargetMode="External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5.bin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6.bin"/><Relationship Id="rId17" Type="http://schemas.openxmlformats.org/officeDocument/2006/relationships/hyperlink" Target="file:///tmp/home/.config/libreoffice/4/user/gallery/&#1085;&#1077;&#1090;.wav" TargetMode="External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7.bin"/><Relationship Id="rId20" Type="http://schemas.openxmlformats.org/officeDocument/2006/relationships/hyperlink" Target="file:///tmp/home/.config/libreoffice/4/user/gallery/&#1085;&#1077;&#1090;.wav" TargetMode="External"/><Relationship Id="rId21" Type="http://schemas.openxmlformats.org/officeDocument/2006/relationships/image" Target="../media/image8.wmf"/><Relationship Id="rId22" Type="http://schemas.openxmlformats.org/officeDocument/2006/relationships/oleObject" Target="../embeddings/oleObject8.bin"/><Relationship Id="rId23" Type="http://schemas.openxmlformats.org/officeDocument/2006/relationships/hyperlink" Target="file:///tmp/home/.config/libreoffice/4/user/gallery/&#1085;&#1077;&#1090;.wav" TargetMode="External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9.bin"/><Relationship Id="rId26" Type="http://schemas.openxmlformats.org/officeDocument/2006/relationships/hyperlink" Target="file:///tmp/home/.config/libreoffice/4/user/gallery/&#1085;&#1077;&#1090;.wav" TargetMode="External"/><Relationship Id="rId27" Type="http://schemas.openxmlformats.org/officeDocument/2006/relationships/image" Target="../media/image10.wmf"/><Relationship Id="rId28" Type="http://schemas.openxmlformats.org/officeDocument/2006/relationships/oleObject" Target="../embeddings/oleObject10.bin"/><Relationship Id="rId29" Type="http://schemas.openxmlformats.org/officeDocument/2006/relationships/hyperlink" Target="file:///tmp/home/.config/libreoffice/4/user/gallery/&#1085;&#1077;&#1090;.wav" TargetMode="External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1.bin"/><Relationship Id="rId32" Type="http://schemas.openxmlformats.org/officeDocument/2006/relationships/hyperlink" Target="file:///tmp/home/.config/libreoffice/4/user/gallery/&#1085;&#1077;&#1090;.wav" TargetMode="External"/><Relationship Id="rId33" Type="http://schemas.openxmlformats.org/officeDocument/2006/relationships/image" Target="../media/image12.wmf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76;&#1072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76;&#1072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76;&#1072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76;&#1072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94960" y="765000"/>
            <a:ext cx="74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ccff99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99ccff"/>
                </a:solidFill>
                <a:latin typeface="Tahoma"/>
              </a:rPr>
              <a:t>Т</a:t>
            </a:r>
            <a:r>
              <a:rPr b="1" lang="ru-RU" sz="3600" spc="-1" strike="noStrike">
                <a:solidFill>
                  <a:srgbClr val="ff99cc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1" lang="ru-RU" sz="3600" spc="-1" strike="noStrike">
                <a:solidFill>
                  <a:srgbClr val="66ff33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996633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80008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66ff33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23120" y="21337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ahoma"/>
              </a:rPr>
              <a:t>Раскрась лошадку и она оживе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12760" y="306864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ши примеры и покажи отв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7" descr="Horse25"/>
          <p:cNvPicPr/>
          <p:nvPr/>
        </p:nvPicPr>
        <p:blipFill>
          <a:blip r:embed="rId1"/>
          <a:stretch/>
        </p:blipFill>
        <p:spPr>
          <a:xfrm>
            <a:off x="2556000" y="3645000"/>
            <a:ext cx="3168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96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46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8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8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Object 9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0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10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1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" name="Object 11" descr="">
                    <a:hlinkClick r:id="" action="ppaction://hlinkshowjump?jump=nextslide"/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2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Object 12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3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6" name="Object 13" descr="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4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" name="Object 14" descr="">
                    <a:hlinkClick r:id="rId20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0" name="Object 16" descr="">
                    <a:hlinkClick r:id="rId23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" name="Object 17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4" name="Object 18" descr="">
                    <a:hlinkClick r:id="rId29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6" name="Object 19" descr="">
                    <a:hlinkClick r:id="rId32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0" descr="1"/>
          <p:cNvPicPr/>
          <p:nvPr/>
        </p:nvPicPr>
        <p:blipFill>
          <a:blip r:embed="rId34"/>
          <a:srcRect l="2435" t="0" r="2435" b="0"/>
          <a:stretch/>
        </p:blipFill>
        <p:spPr>
          <a:xfrm>
            <a:off x="2700360" y="836640"/>
            <a:ext cx="3600360" cy="5283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3"/>
          <p:cNvSpPr/>
          <p:nvPr/>
        </p:nvSpPr>
        <p:spPr>
          <a:xfrm>
            <a:off x="5435640" y="981000"/>
            <a:ext cx="136836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"/>
          <p:cNvPicPr/>
          <p:nvPr/>
        </p:nvPicPr>
        <p:blipFill>
          <a:blip r:embed="rId1"/>
          <a:srcRect l="2435" t="1397" r="0" b="0"/>
          <a:stretch/>
        </p:blipFill>
        <p:spPr>
          <a:xfrm>
            <a:off x="2771640" y="836640"/>
            <a:ext cx="3692520" cy="5259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"/>
          <p:cNvSpPr/>
          <p:nvPr/>
        </p:nvSpPr>
        <p:spPr>
          <a:xfrm>
            <a:off x="1979640" y="2349360"/>
            <a:ext cx="1081080" cy="649440"/>
          </a:xfrm>
          <a:prstGeom prst="wedgeEllipseCallout">
            <a:avLst>
              <a:gd name="adj1" fmla="val 44861"/>
              <a:gd name="adj2" fmla="val 74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178360" y="25131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+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" name="Object 9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9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0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10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1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Object 11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2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Object 12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13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4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Object 14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5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5" name="Object 15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" name="Object 16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9" name="Object 17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Object 18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3" name="Object 19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"/>
          <p:cNvPicPr/>
          <p:nvPr/>
        </p:nvPicPr>
        <p:blipFill>
          <a:blip r:embed="rId1"/>
          <a:stretch/>
        </p:blipFill>
        <p:spPr>
          <a:xfrm>
            <a:off x="2679840" y="736560"/>
            <a:ext cx="3784320" cy="53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5" descr="">
                    <a:hlinkClick r:id="" action="ppaction://hlinkshowjump?jump=nextslide"/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0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6"/>
          <p:cNvSpPr/>
          <p:nvPr/>
        </p:nvSpPr>
        <p:spPr>
          <a:xfrm>
            <a:off x="5292720" y="2852640"/>
            <a:ext cx="1224000" cy="719280"/>
          </a:xfrm>
          <a:prstGeom prst="wedgeRoundRectCallout">
            <a:avLst>
              <a:gd name="adj1" fmla="val -50907"/>
              <a:gd name="adj2" fmla="val 9834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65308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4"/>
          <p:cNvPicPr/>
          <p:nvPr/>
        </p:nvPicPr>
        <p:blipFill>
          <a:blip r:embed="rId1"/>
          <a:srcRect l="0" t="0" r="0" b="2083"/>
          <a:stretch/>
        </p:blipFill>
        <p:spPr>
          <a:xfrm>
            <a:off x="2685960" y="723960"/>
            <a:ext cx="3772080" cy="52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9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3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5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7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9" name="Object 14" descr="">
                    <a:hlinkClick r:id="" action="ppaction://hlinkshowjump?jump=nextslide"/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41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16"/>
          <p:cNvSpPr/>
          <p:nvPr/>
        </p:nvSpPr>
        <p:spPr>
          <a:xfrm>
            <a:off x="6012000" y="3213000"/>
            <a:ext cx="1079280" cy="505080"/>
          </a:xfrm>
          <a:prstGeom prst="wedgeEllipseCallout">
            <a:avLst>
              <a:gd name="adj1" fmla="val -47500"/>
              <a:gd name="adj2" fmla="val 7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229080" y="3284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+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5"/>
          <p:cNvPicPr/>
          <p:nvPr/>
        </p:nvPicPr>
        <p:blipFill>
          <a:blip r:embed="rId1"/>
          <a:srcRect l="2435" t="0" r="0" b="415"/>
          <a:stretch/>
        </p:blipFill>
        <p:spPr>
          <a:xfrm>
            <a:off x="2771640" y="743040"/>
            <a:ext cx="3692520" cy="534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Object 9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6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16"/>
          <p:cNvSpPr/>
          <p:nvPr/>
        </p:nvSpPr>
        <p:spPr>
          <a:xfrm>
            <a:off x="2843280" y="1125360"/>
            <a:ext cx="865080" cy="721080"/>
          </a:xfrm>
          <a:prstGeom prst="wedgeRoundRectCallout">
            <a:avLst>
              <a:gd name="adj1" fmla="val 66879"/>
              <a:gd name="adj2" fmla="val 9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917800" y="1268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6"/>
          <p:cNvPicPr/>
          <p:nvPr/>
        </p:nvPicPr>
        <p:blipFill>
          <a:blip r:embed="rId1"/>
          <a:srcRect l="4318" t="1397" r="0" b="0"/>
          <a:stretch/>
        </p:blipFill>
        <p:spPr>
          <a:xfrm>
            <a:off x="2843280" y="836640"/>
            <a:ext cx="3620880" cy="525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9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Object 10" descr="">
                    <a:hlinkClick r:id="" action="ppaction://hlinkshowjump?jump=nextslide"/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3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5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87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9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91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6"/>
          <p:cNvSpPr/>
          <p:nvPr/>
        </p:nvSpPr>
        <p:spPr>
          <a:xfrm>
            <a:off x="1547640" y="1484280"/>
            <a:ext cx="1368720" cy="1728720"/>
          </a:xfrm>
          <a:prstGeom prst="cloudCallout">
            <a:avLst>
              <a:gd name="adj1" fmla="val 63226"/>
              <a:gd name="adj2" fmla="val 716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1744200" y="2224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7"/>
          <p:cNvPicPr/>
          <p:nvPr/>
        </p:nvPicPr>
        <p:blipFill>
          <a:blip r:embed="rId1"/>
          <a:srcRect l="2435" t="647" r="0" b="1968"/>
          <a:stretch/>
        </p:blipFill>
        <p:spPr>
          <a:xfrm>
            <a:off x="2771640" y="765000"/>
            <a:ext cx="369252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4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Object 12" descr="">
                    <a:hlinkClick r:id="" action="ppaction://hlinkshowjump?jump=nextslide"/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16"/>
          <p:cNvSpPr/>
          <p:nvPr/>
        </p:nvSpPr>
        <p:spPr>
          <a:xfrm>
            <a:off x="1979640" y="4005360"/>
            <a:ext cx="1152360" cy="431640"/>
          </a:xfrm>
          <a:prstGeom prst="wedgeRoundRectCallout">
            <a:avLst>
              <a:gd name="adj1" fmla="val 53166"/>
              <a:gd name="adj2" fmla="val 8345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126160" y="400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8"/>
          <p:cNvPicPr/>
          <p:nvPr/>
        </p:nvPicPr>
        <p:blipFill>
          <a:blip r:embed="rId1"/>
          <a:srcRect l="0" t="0" r="0" b="528"/>
          <a:stretch/>
        </p:blipFill>
        <p:spPr>
          <a:xfrm>
            <a:off x="2685960" y="736560"/>
            <a:ext cx="3772080" cy="53564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468360" y="1197000"/>
            <a:ext cx="3024000" cy="1584360"/>
          </a:xfrm>
          <a:prstGeom prst="cloudCallout">
            <a:avLst>
              <a:gd name="adj1" fmla="val 29055"/>
              <a:gd name="adj2" fmla="val 100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897480" y="17002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мечательн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Horse25"/>
          <p:cNvPicPr/>
          <p:nvPr/>
        </p:nvPicPr>
        <p:blipFill>
          <a:blip r:embed="rId2"/>
          <a:stretch/>
        </p:blipFill>
        <p:spPr>
          <a:xfrm>
            <a:off x="357120" y="448308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59:17Z</dcterms:created>
  <dc:creator>Администратор</dc:creator>
  <dc:description/>
  <dc:language>en-US</dc:language>
  <cp:lastModifiedBy>Admin</cp:lastModifiedBy>
  <dcterms:modified xsi:type="dcterms:W3CDTF">2017-04-25T07:50:37Z</dcterms:modified>
  <cp:revision>10</cp:revision>
  <dc:subject/>
  <dc:title>Слайд 1</dc:title>
</cp:coreProperties>
</file>