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80C9D-39A4-4E08-9F42-5AFE9E623A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9B2E-C47A-49CA-B56C-A04A534EE7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EF7-8750-4775-8A82-C4A2102AD3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FD0-2F6A-443F-B168-7EBF83CA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BBAB-69CC-4DFD-A48F-8B1BBE4E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FFF1-A178-4BB2-8291-76CF709F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326-8457-4FBE-B40F-25F9F76E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B5C1-1506-469C-A54E-C4805986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E39F-7B2C-4618-A540-54EC6E94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6B6-A936-4D0C-A098-59D50A09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6534-5B0A-4129-9B87-7A8B555A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2B4E-92E7-40C5-91C7-D74901A7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50A2-1EA0-4263-855E-4655F706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361-E2FA-4A2E-A56D-38145DCA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787-D3CE-474B-A009-D50FCD81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C7B5-0DDB-466A-94D9-C8A5D4F0BE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2" descr=""/>
          <p:cNvPicPr/>
          <p:nvPr/>
        </p:nvPicPr>
        <p:blipFill>
          <a:blip r:embed="rId1"/>
          <a:stretch/>
        </p:blipFill>
        <p:spPr>
          <a:xfrm>
            <a:off x="1243080" y="781200"/>
            <a:ext cx="6883200" cy="51688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176040" y="2351160"/>
            <a:ext cx="1687680" cy="25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23960"/>
            <a:ext cx="8229600" cy="9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Если с другом вышел в пу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3" descr="1310593667_detskayadrugba-b.jpg"/>
          <p:cNvPicPr/>
          <p:nvPr/>
        </p:nvPicPr>
        <p:blipFill>
          <a:blip r:embed="rId1"/>
          <a:stretch/>
        </p:blipFill>
        <p:spPr>
          <a:xfrm>
            <a:off x="536400" y="1481040"/>
            <a:ext cx="8217000" cy="4761000"/>
          </a:xfrm>
          <a:prstGeom prst="rect">
            <a:avLst/>
          </a:prstGeom>
          <a:ln w="0">
            <a:noFill/>
          </a:ln>
        </p:spPr>
      </p:pic>
      <p:pic>
        <p:nvPicPr>
          <p:cNvPr id="127" name="Детская-танцевальная-музыка-Если-с-другом-вышел-в-путь(muzofon.com).mp3" descr=""/>
          <p:cNvPicPr/>
          <p:nvPr/>
        </p:nvPicPr>
        <p:blipFill>
          <a:blip r:embed="rId2"/>
          <a:stretch/>
        </p:blipFill>
        <p:spPr>
          <a:xfrm>
            <a:off x="32400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16413"/>
          <p:cNvPicPr/>
          <p:nvPr/>
        </p:nvPicPr>
        <p:blipFill>
          <a:blip r:embed="rId3"/>
          <a:stretch/>
        </p:blipFill>
        <p:spPr>
          <a:xfrm>
            <a:off x="7020000" y="4005360"/>
            <a:ext cx="157464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m_368418ff"/>
          <p:cNvPicPr/>
          <p:nvPr/>
        </p:nvPicPr>
        <p:blipFill>
          <a:blip r:embed="rId4"/>
          <a:stretch/>
        </p:blipFill>
        <p:spPr>
          <a:xfrm>
            <a:off x="531720" y="1628640"/>
            <a:ext cx="1916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j0437581"/>
          <p:cNvPicPr/>
          <p:nvPr/>
        </p:nvPicPr>
        <p:blipFill>
          <a:blip r:embed="rId5"/>
          <a:stretch/>
        </p:blipFill>
        <p:spPr>
          <a:xfrm rot="286200">
            <a:off x="6959520" y="1722240"/>
            <a:ext cx="1712880" cy="1477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0437581"/>
          <p:cNvPicPr/>
          <p:nvPr/>
        </p:nvPicPr>
        <p:blipFill>
          <a:blip r:embed="rId6"/>
          <a:stretch/>
        </p:blipFill>
        <p:spPr>
          <a:xfrm rot="286200">
            <a:off x="395280" y="4436640"/>
            <a:ext cx="17128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4" dur="20252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ятель-это близкий и дружески расположенный знакомый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уг - это человек, который связан с тобой дружбой, то есть близкими отношениями, основанными на привязанности, доверии, общности интересов.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варищ-человек, близкий по своим взглядам, деятельности, по условиям жиз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17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.Осеева «До первого дожд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аня и Маша были очень дружны и всегда ходили вместе в  школу. Один раз когда девочки шли по улице начался сильный дождь. Маша была в плаще, а Таня в одном     платье. Девочки побеж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ними свой плащ, мы накроемся вместе! - крикнула на бегу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Я не могу, я промокну! – загнув вниз голову с капюшоном, ответила ей Маша. В школе учительница сказа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Как странно, у Маши платье сухое, а у тебя Таня, совершенно мокрое. Как же это случилось? Ведь вы же шли вмест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 У Маши был плащ, а я шла в одном платье, - сказала Та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ак вы могли бы укрыться одним плащом,- сказала учительница и , взглянув на Машу, покачала голов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идно ваша дружба до первого дождя! Обе девочки густо покраснели: Маша за себя, а Таня за Маш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-1440" y="0"/>
            <a:ext cx="88912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3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ПОГОВОРКИ и ПОСЛОВИЦ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980640"/>
            <a:ext cx="82296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Дружба крепка не лестью, а правдой и честью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Взаимное доверие - основа дружбы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Человек без друзей, что дерево без корней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 Старый друг, лучше новых двух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астоящая дружба не знает завист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Не богатство друг, а друг-богатств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j0437581"/>
          <p:cNvPicPr/>
          <p:nvPr/>
        </p:nvPicPr>
        <p:blipFill>
          <a:blip r:embed="rId1"/>
          <a:stretch/>
        </p:blipFill>
        <p:spPr>
          <a:xfrm rot="286200">
            <a:off x="8028000" y="764640"/>
            <a:ext cx="947880" cy="8175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j0437581"/>
          <p:cNvPicPr/>
          <p:nvPr/>
        </p:nvPicPr>
        <p:blipFill>
          <a:blip r:embed="rId2"/>
          <a:stretch/>
        </p:blipFill>
        <p:spPr>
          <a:xfrm rot="286200">
            <a:off x="7818120" y="5524200"/>
            <a:ext cx="1074600" cy="928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j0437581"/>
          <p:cNvPicPr/>
          <p:nvPr/>
        </p:nvPicPr>
        <p:blipFill>
          <a:blip r:embed="rId3"/>
          <a:stretch/>
        </p:blipFill>
        <p:spPr>
          <a:xfrm rot="286200">
            <a:off x="179280" y="764640"/>
            <a:ext cx="94788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j0437581"/>
          <p:cNvPicPr/>
          <p:nvPr/>
        </p:nvPicPr>
        <p:blipFill>
          <a:blip r:embed="rId4"/>
          <a:stretch/>
        </p:blipFill>
        <p:spPr>
          <a:xfrm rot="286200">
            <a:off x="179280" y="5805000"/>
            <a:ext cx="9478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7360" y="736200"/>
            <a:ext cx="7931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8000"/>
                </a:solidFill>
                <a:latin typeface="Arial"/>
              </a:rPr>
              <a:t>НАРОДНАЯ МУДРОСТЬ ГЛАСИТ: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«</a:t>
            </a:r>
            <a:r>
              <a:rPr b="1" i="1" lang="ru-RU" sz="4800" spc="-1" strike="noStrike">
                <a:solidFill>
                  <a:srgbClr val="800000"/>
                </a:solidFill>
                <a:latin typeface="Calibri"/>
              </a:rPr>
              <a:t>Найти хорошего друга – это только половина дела: нужно еще самому быть таким</a:t>
            </a:r>
            <a:r>
              <a:rPr b="1" lang="ru-RU" sz="4800" spc="-1" strike="noStrike">
                <a:solidFill>
                  <a:srgbClr val="800000"/>
                </a:solidFill>
                <a:latin typeface="Calibri"/>
              </a:rPr>
              <a:t>»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j0437581"/>
          <p:cNvPicPr/>
          <p:nvPr/>
        </p:nvPicPr>
        <p:blipFill>
          <a:blip r:embed="rId1"/>
          <a:stretch/>
        </p:blipFill>
        <p:spPr>
          <a:xfrm rot="286200">
            <a:off x="7308720" y="5013000"/>
            <a:ext cx="1595520" cy="1376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j0437581"/>
          <p:cNvPicPr/>
          <p:nvPr/>
        </p:nvPicPr>
        <p:blipFill>
          <a:blip r:embed="rId2"/>
          <a:stretch/>
        </p:blipFill>
        <p:spPr>
          <a:xfrm rot="286200">
            <a:off x="394920" y="5157720"/>
            <a:ext cx="1584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теперь давайте поиграем в игру «Собери пословицы»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ши пословицы случайно рассыпались! И сейчас их нужно собрать. Давайте найдем начало каждой фраз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000" y="2781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Нет друга – ищи,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Скажи мне кто твой друг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Человек без друз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Дружба крепка не лестью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006e2"/>
                </a:solidFill>
                <a:latin typeface="Times New Roman"/>
                <a:ea typeface="Times New Roman"/>
              </a:rPr>
              <a:t>Дружба как стекл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2006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3280" y="2781360"/>
            <a:ext cx="40420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что дерево без корн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а нашел - береги.                                                                                                    а правдой и честью.                                                                                                            разобьешь - не сложишь.                                                                                                                               в беде.                                                                                                                          и я скажу, кто 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2"/>
          <p:cNvSpPr/>
          <p:nvPr/>
        </p:nvSpPr>
        <p:spPr>
          <a:xfrm>
            <a:off x="421164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9"/>
          <p:cNvSpPr/>
          <p:nvPr/>
        </p:nvSpPr>
        <p:spPr>
          <a:xfrm>
            <a:off x="4643280" y="40464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0"/>
          <p:cNvSpPr/>
          <p:nvPr/>
        </p:nvSpPr>
        <p:spPr>
          <a:xfrm>
            <a:off x="5076720" y="40464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000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2"/>
          <p:cNvSpPr/>
          <p:nvPr/>
        </p:nvSpPr>
        <p:spPr>
          <a:xfrm>
            <a:off x="550872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3"/>
          <p:cNvSpPr/>
          <p:nvPr/>
        </p:nvSpPr>
        <p:spPr>
          <a:xfrm>
            <a:off x="5940360" y="40464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4"/>
          <p:cNvSpPr/>
          <p:nvPr/>
        </p:nvSpPr>
        <p:spPr>
          <a:xfrm>
            <a:off x="6372360" y="40464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334800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6"/>
          <p:cNvSpPr/>
          <p:nvPr/>
        </p:nvSpPr>
        <p:spPr>
          <a:xfrm>
            <a:off x="291636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7"/>
          <p:cNvSpPr/>
          <p:nvPr/>
        </p:nvSpPr>
        <p:spPr>
          <a:xfrm>
            <a:off x="248436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8"/>
          <p:cNvSpPr/>
          <p:nvPr/>
        </p:nvSpPr>
        <p:spPr>
          <a:xfrm>
            <a:off x="2050920" y="83664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9"/>
          <p:cNvSpPr/>
          <p:nvPr/>
        </p:nvSpPr>
        <p:spPr>
          <a:xfrm>
            <a:off x="161928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0"/>
          <p:cNvSpPr/>
          <p:nvPr/>
        </p:nvSpPr>
        <p:spPr>
          <a:xfrm>
            <a:off x="378000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1"/>
          <p:cNvSpPr/>
          <p:nvPr/>
        </p:nvSpPr>
        <p:spPr>
          <a:xfrm>
            <a:off x="421164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22"/>
          <p:cNvSpPr/>
          <p:nvPr/>
        </p:nvSpPr>
        <p:spPr>
          <a:xfrm>
            <a:off x="4643280" y="83664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3"/>
          <p:cNvSpPr/>
          <p:nvPr/>
        </p:nvSpPr>
        <p:spPr>
          <a:xfrm>
            <a:off x="507672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4"/>
          <p:cNvSpPr/>
          <p:nvPr/>
        </p:nvSpPr>
        <p:spPr>
          <a:xfrm>
            <a:off x="5508720" y="83664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5"/>
          <p:cNvSpPr/>
          <p:nvPr/>
        </p:nvSpPr>
        <p:spPr>
          <a:xfrm>
            <a:off x="5940360" y="83664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7"/>
          <p:cNvSpPr/>
          <p:nvPr/>
        </p:nvSpPr>
        <p:spPr>
          <a:xfrm>
            <a:off x="4643280" y="126828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8"/>
          <p:cNvSpPr/>
          <p:nvPr/>
        </p:nvSpPr>
        <p:spPr>
          <a:xfrm>
            <a:off x="421164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9"/>
          <p:cNvSpPr/>
          <p:nvPr/>
        </p:nvSpPr>
        <p:spPr>
          <a:xfrm>
            <a:off x="378000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0"/>
          <p:cNvSpPr/>
          <p:nvPr/>
        </p:nvSpPr>
        <p:spPr>
          <a:xfrm>
            <a:off x="334800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3.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1"/>
          <p:cNvSpPr/>
          <p:nvPr/>
        </p:nvSpPr>
        <p:spPr>
          <a:xfrm>
            <a:off x="507672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2"/>
          <p:cNvSpPr/>
          <p:nvPr/>
        </p:nvSpPr>
        <p:spPr>
          <a:xfrm>
            <a:off x="550872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3"/>
          <p:cNvSpPr/>
          <p:nvPr/>
        </p:nvSpPr>
        <p:spPr>
          <a:xfrm>
            <a:off x="5940360" y="126828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4"/>
          <p:cNvSpPr/>
          <p:nvPr/>
        </p:nvSpPr>
        <p:spPr>
          <a:xfrm>
            <a:off x="6372360" y="126828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5"/>
          <p:cNvSpPr/>
          <p:nvPr/>
        </p:nvSpPr>
        <p:spPr>
          <a:xfrm>
            <a:off x="507672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6"/>
          <p:cNvSpPr/>
          <p:nvPr/>
        </p:nvSpPr>
        <p:spPr>
          <a:xfrm>
            <a:off x="4643280" y="1700280"/>
            <a:ext cx="4334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7"/>
          <p:cNvSpPr/>
          <p:nvPr/>
        </p:nvSpPr>
        <p:spPr>
          <a:xfrm>
            <a:off x="421164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8"/>
          <p:cNvSpPr/>
          <p:nvPr/>
        </p:nvSpPr>
        <p:spPr>
          <a:xfrm>
            <a:off x="378000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9"/>
          <p:cNvSpPr/>
          <p:nvPr/>
        </p:nvSpPr>
        <p:spPr>
          <a:xfrm>
            <a:off x="291636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4. 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40"/>
          <p:cNvSpPr/>
          <p:nvPr/>
        </p:nvSpPr>
        <p:spPr>
          <a:xfrm>
            <a:off x="334800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41"/>
          <p:cNvSpPr/>
          <p:nvPr/>
        </p:nvSpPr>
        <p:spPr>
          <a:xfrm>
            <a:off x="5940360" y="1700280"/>
            <a:ext cx="43200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42"/>
          <p:cNvSpPr/>
          <p:nvPr/>
        </p:nvSpPr>
        <p:spPr>
          <a:xfrm>
            <a:off x="5508720" y="1700280"/>
            <a:ext cx="431640" cy="4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3"/>
          <p:cNvSpPr/>
          <p:nvPr/>
        </p:nvSpPr>
        <p:spPr>
          <a:xfrm>
            <a:off x="378000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4"/>
          <p:cNvSpPr/>
          <p:nvPr/>
        </p:nvSpPr>
        <p:spPr>
          <a:xfrm>
            <a:off x="680400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5"/>
          <p:cNvSpPr/>
          <p:nvPr/>
        </p:nvSpPr>
        <p:spPr>
          <a:xfrm>
            <a:off x="637236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6"/>
          <p:cNvSpPr/>
          <p:nvPr/>
        </p:nvSpPr>
        <p:spPr>
          <a:xfrm>
            <a:off x="594036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7"/>
          <p:cNvSpPr/>
          <p:nvPr/>
        </p:nvSpPr>
        <p:spPr>
          <a:xfrm>
            <a:off x="550872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8"/>
          <p:cNvSpPr/>
          <p:nvPr/>
        </p:nvSpPr>
        <p:spPr>
          <a:xfrm>
            <a:off x="5076720" y="2133720"/>
            <a:ext cx="43200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9"/>
          <p:cNvSpPr/>
          <p:nvPr/>
        </p:nvSpPr>
        <p:spPr>
          <a:xfrm>
            <a:off x="4643280" y="213372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50"/>
          <p:cNvSpPr/>
          <p:nvPr/>
        </p:nvSpPr>
        <p:spPr>
          <a:xfrm>
            <a:off x="421164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1"/>
          <p:cNvSpPr/>
          <p:nvPr/>
        </p:nvSpPr>
        <p:spPr>
          <a:xfrm>
            <a:off x="7667640" y="2133720"/>
            <a:ext cx="4334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2"/>
          <p:cNvSpPr/>
          <p:nvPr/>
        </p:nvSpPr>
        <p:spPr>
          <a:xfrm>
            <a:off x="7236000" y="2133720"/>
            <a:ext cx="431640" cy="4316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53"/>
          <p:cNvSpPr/>
          <p:nvPr/>
        </p:nvSpPr>
        <p:spPr>
          <a:xfrm>
            <a:off x="594036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4"/>
          <p:cNvSpPr/>
          <p:nvPr/>
        </p:nvSpPr>
        <p:spPr>
          <a:xfrm>
            <a:off x="550872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5"/>
          <p:cNvSpPr/>
          <p:nvPr/>
        </p:nvSpPr>
        <p:spPr>
          <a:xfrm>
            <a:off x="507672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6"/>
          <p:cNvSpPr/>
          <p:nvPr/>
        </p:nvSpPr>
        <p:spPr>
          <a:xfrm>
            <a:off x="4643280" y="256536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7"/>
          <p:cNvSpPr/>
          <p:nvPr/>
        </p:nvSpPr>
        <p:spPr>
          <a:xfrm>
            <a:off x="421164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58"/>
          <p:cNvSpPr/>
          <p:nvPr/>
        </p:nvSpPr>
        <p:spPr>
          <a:xfrm>
            <a:off x="378000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9"/>
          <p:cNvSpPr/>
          <p:nvPr/>
        </p:nvSpPr>
        <p:spPr>
          <a:xfrm>
            <a:off x="637236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60"/>
          <p:cNvSpPr/>
          <p:nvPr/>
        </p:nvSpPr>
        <p:spPr>
          <a:xfrm>
            <a:off x="7667640" y="2565360"/>
            <a:ext cx="4334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1"/>
          <p:cNvSpPr/>
          <p:nvPr/>
        </p:nvSpPr>
        <p:spPr>
          <a:xfrm>
            <a:off x="7236000" y="2565360"/>
            <a:ext cx="43164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62"/>
          <p:cNvSpPr/>
          <p:nvPr/>
        </p:nvSpPr>
        <p:spPr>
          <a:xfrm>
            <a:off x="6804000" y="2565360"/>
            <a:ext cx="432000" cy="4320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3"/>
          <p:cNvSpPr/>
          <p:nvPr/>
        </p:nvSpPr>
        <p:spPr>
          <a:xfrm>
            <a:off x="0" y="314172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тзывчивость, благожелательность, стремление помогать люд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4"/>
          <p:cNvSpPr/>
          <p:nvPr/>
        </p:nvSpPr>
        <p:spPr>
          <a:xfrm>
            <a:off x="0" y="357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Так называют человека высоконравственного, самоотверженного, честного и открыт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65"/>
          <p:cNvSpPr/>
          <p:nvPr/>
        </p:nvSpPr>
        <p:spPr>
          <a:xfrm>
            <a:off x="0" y="422100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мение  разумно решать разные сложные вопросы, давать нужн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66"/>
          <p:cNvSpPr/>
          <p:nvPr/>
        </p:nvSpPr>
        <p:spPr>
          <a:xfrm>
            <a:off x="0" y="465300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Это свойство души можно увидеть во взгляде любящего человека, услышать его в голо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7"/>
          <p:cNvSpPr/>
          <p:nvPr/>
        </p:nvSpPr>
        <p:spPr>
          <a:xfrm>
            <a:off x="-77400" y="5373720"/>
            <a:ext cx="42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Так называют экономно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8"/>
          <p:cNvSpPr/>
          <p:nvPr/>
        </p:nvSpPr>
        <p:spPr>
          <a:xfrm>
            <a:off x="0" y="580536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Этим словом называют человека исполнительного, соблюдающе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, выполняющего все старательно и то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Зачем дружба нужна людям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C:\Users\андрей\Desktop\d008.jpg"/>
          <p:cNvPicPr/>
          <p:nvPr/>
        </p:nvPicPr>
        <p:blipFill>
          <a:blip r:embed="rId1"/>
          <a:stretch/>
        </p:blipFill>
        <p:spPr>
          <a:xfrm>
            <a:off x="250920" y="1484280"/>
            <a:ext cx="8642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Дружб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привязанность между людьми, возникающая в результате взаимного уважения, веры в друг друга, общности интересов и взглядов, 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2340000" y="2714760"/>
            <a:ext cx="4103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Д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вер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Р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ад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а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Ж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ел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рьб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ктив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250920" y="741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итча «Бог Дружбы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Жил был на свете человек, и сопровождали его в жизни три бога: бог счастья, бог богатства и бог дружбы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Когда этот человек достиг в жизни больших успехов, боги посетили его, и сказали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Человек ты достиг желаемого и двое из нас покидают тебя, но ты можешь оставить одного из нас с собой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 Человек задумался, и ответил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усть со мной останется бог дружбы, – сказал человек и лег спать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аутро он открыл глаза и увидел рядом со своей постелью всех трех богов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Человек удивленно спросил: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очему Вы все остались. </a:t>
            </a:r>
            <a:br>
              <a:rPr sz="2000"/>
            </a:b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– Потому, что ты оставил рядом с собой бога дружбы, а он и наш друг. Дороже дружбы нет ничего на свете, поэтому мы и остались, – ответили ему бог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смысл притч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должна нас научить эта притча?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Что наиболее ценно в жизни по мнению авторов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57120" y="642960"/>
            <a:ext cx="82296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ескорысти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отсутствие стремления к личной выгоде, нажи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орядочность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это строгое соблюдение человеком всегда и во всём установленных в обществе норм поведения, неспособность человека к плохим поступ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" descr="H:\вежливость\pr[1].jpg"/>
          <p:cNvPicPr/>
          <p:nvPr/>
        </p:nvPicPr>
        <p:blipFill>
          <a:blip r:embed="rId1"/>
          <a:stretch/>
        </p:blipFill>
        <p:spPr>
          <a:xfrm>
            <a:off x="142920" y="3929040"/>
            <a:ext cx="18572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71760" y="1785960"/>
          <a:ext cx="6048360" cy="4419720"/>
        </p:xfrm>
        <a:graphic>
          <a:graphicData uri="http://schemas.openxmlformats.org/drawingml/2006/table">
            <a:tbl>
              <a:tblPr/>
              <a:tblGrid>
                <a:gridCol w="3024000"/>
                <a:gridCol w="30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Помогает друж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Мешает друж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корыст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пыльчив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вер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уп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е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им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крен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ви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осерд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ыстолюб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де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ж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вноправ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наде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вобод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ма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ат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ательств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ст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тр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9" name="Прямоугольник 5"/>
          <p:cNvSpPr/>
          <p:nvPr/>
        </p:nvSpPr>
        <p:spPr>
          <a:xfrm>
            <a:off x="857160" y="214200"/>
            <a:ext cx="7858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Что мешает дружбе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                  </a:t>
            </a: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Что помогает сохранить дружбу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 Narrow"/>
              </a:rPr>
              <a:t>Правила    дружб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оставляй друга в бе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омогай другу во всё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дь верным в дружбе, верь в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Будь требовательным к дружб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обманывай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мей уступать дру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зазнавайся, если у тебя что-то хорошо получ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Не сердись и не падай духом, если у тебя что-то не получилос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 смейся над недостатками дру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нови друга, если он делает что-то плохо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мей принять помощь, совет, не обижайся на крити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мей признавать свои ошибки, помириться с друг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17375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C:\Documents and Settings\РС-10\Рабочий стол\интересные картинки\картинки о дружбе\HEM65CAUQ24FOCAUF2POHCAG1XM36CATY4EZ9CAT7QTAJCAVI99MKCACVXZ4FCAXAGJPTCAMIUS25CANU1F93CAM8VQSYCAYIPMWMCAKNYBD4CA95JY1VCAM1U7WGCAF6ZA9LCAP00RGCCAVN5CLJCAOX9TXX.jpg"/>
          <p:cNvPicPr/>
          <p:nvPr/>
        </p:nvPicPr>
        <p:blipFill>
          <a:blip r:embed="rId1"/>
          <a:stretch/>
        </p:blipFill>
        <p:spPr>
          <a:xfrm>
            <a:off x="5603760" y="0"/>
            <a:ext cx="35402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"/>
          <p:cNvSpPr/>
          <p:nvPr/>
        </p:nvSpPr>
        <p:spPr>
          <a:xfrm>
            <a:off x="571680" y="455400"/>
            <a:ext cx="8215200" cy="57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r>
              <a:rPr b="1" lang="ru-RU" sz="20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Подобрать пословицу по ключевым сло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… – </a:t>
            </a: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ищи , а нашел –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 имей … … , а имей …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Человек без  …… , что дерево без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…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как стекло разобьешь – не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04a7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04a7b"/>
                </a:solidFill>
                <a:latin typeface="Calibri"/>
                <a:ea typeface="Times New Roman"/>
              </a:rPr>
              <a:t>Недруг поддакивает, а …спор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  <a:ea typeface="Times New Roman"/>
              </a:rPr>
              <a:t>?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 каких секретах дружбы говорится в пословиц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Documents and Settings\Admin\Рабочий стол\основы светской этики\мальчик.jpg"/>
          <p:cNvPicPr/>
          <p:nvPr/>
        </p:nvPicPr>
        <p:blipFill>
          <a:blip r:embed="rId1"/>
          <a:stretch/>
        </p:blipFill>
        <p:spPr>
          <a:xfrm>
            <a:off x="0" y="4929120"/>
            <a:ext cx="16635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6T18:01:34Z</dcterms:created>
  <dc:creator>я</dc:creator>
  <dc:description/>
  <dc:language>en-US</dc:language>
  <cp:lastModifiedBy>я</cp:lastModifiedBy>
  <dcterms:modified xsi:type="dcterms:W3CDTF">2014-03-24T05:59:58Z</dcterms:modified>
  <cp:revision>18</cp:revision>
  <dc:subject/>
  <dc:title>Слайд 1</dc:title>
</cp:coreProperties>
</file>