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3485-57CA-44BC-99CA-BA898C7099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65AD-3E81-4B1F-8EB0-048F7702380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5587-2181-435C-840F-50B652CB27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C6C5-247B-46D5-94CB-07CFB7A80F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E95C-AA46-44F2-A813-D03A2BE7CF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05E9-4341-43CD-B8BE-698C76FD74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79F-E318-4D62-A37E-9608AC8D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842-D44E-4541-86AD-09AB7B1B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919-71A4-4560-B97A-478FDAB9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E0C-A92F-497A-BDD4-647FF4AE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E28E-8758-442A-A1F7-E40A9EA1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AADF-4C6E-4636-8AAB-C620FD67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B722-8C8B-4EFD-B141-19738B08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DF95-CED9-437C-B61A-8647852C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A29B-7BF5-4983-811C-106A7A87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88C8-4A42-4EBF-937D-C0A7E219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4C09-4C3D-4C4D-BBE1-9F3ADA7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AB5-488F-41E0-90A0-B7E4A6AE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5AEA-8D59-4D4B-9948-1AB3C9EB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9557-AD05-4F10-A00C-E9DF4F7A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A64F-B027-40EE-B426-0F908CC9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3EA4-53B6-45EB-BA06-C234E99F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19EA-733E-4E5E-885C-39D6946C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E4EA-59D9-42C8-90B1-7A242361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C194-F158-4DED-BE32-0109E3C1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92F5-3A96-4D45-87FE-F04626A9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131B-4778-41F5-BEC4-0FA2A573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46694-43A9-40EA-9B36-9302F3D2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E2C-A179-4361-8C86-9E8225F8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54D35-9B2D-4A25-BA67-2F30D193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7996-7F8E-4223-8E13-22DFEF7B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0B06-C509-4E13-881F-07D66F59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97A3-5508-494C-A434-2E8981E3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89C5-885A-4E1B-9CD3-07EBAFBC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044D-5CE0-4CDE-B674-AF9C2521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736C-C843-4775-BE0A-D3BAC101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052E-FBC7-477C-930A-1081BFF7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483C0-7CF1-4D7F-9476-3E8E1E57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C4458-8611-4E65-946A-6DC5BF06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716-F24E-4BEF-8F9F-09D52398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691CD-51C3-464D-9117-9756FAB0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6ABE-2D76-4129-86D6-34F0C2A3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4613-A026-4674-B826-1AD1D47E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ECE2-36D0-486D-8E35-2CE8A70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D3124-DB2B-4E58-B271-8CE7F40A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5F3D-78DE-40EF-8F66-762C430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B5A0-E571-4637-9EE3-E0583DEE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2153-DC84-4A00-808D-80A4C01E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B357F-14E5-44D7-9CBF-1FE5C9FB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8FE90-E30C-41A1-AC66-A96D8A43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BD6-CE75-462B-B709-3F210D15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5616D-E8B8-4612-86AE-BC143A1F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8C54-3CBF-47E0-8B0F-3EC05865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A97E5-5907-48D4-95F1-2044E430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F8778-83E9-4F54-8CB7-08AEE2A6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139F-79CB-4160-A852-B454648D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069D4-7DCF-483D-BFDE-BC000B38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CEA4-4444-4013-A6BC-19C5A616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A256E-79A8-4FF9-A737-6126F42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DF263-4BEF-4576-887C-A2BDBDC5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B1F44-0883-4EFD-8973-A59666CC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E2F-06F4-464C-B9F9-E7394903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5B3E5-18A5-4350-86D6-149E045E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AC33C-F92E-4184-8576-CE6FB2E4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CEFE7-5EAF-4952-8291-8B115CA5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8CE8B-9775-473C-A6C0-C56AC448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B7BD-DBA0-4847-83C2-1177BAFE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1331D-EF3E-49F7-8C1B-20322C58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C0BD-4D2C-46DC-90A3-A135A4F2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57CC5-07D1-486E-9AF2-BBC2FDD4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51539-DE81-4B07-8C9B-F183C414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B0422-B9CE-44E9-B8B9-1E57CC0C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060-2442-480E-8037-A71F3405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FF597-1589-404F-9A2E-E776CF5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5D0C7-042C-476B-B69E-CB133256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A4760-24C0-423C-9A3E-BD0ADAF7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672-0C74-4F7B-832E-899A9FBC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F7B-D37C-471B-B2B0-1FD75747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52C3-CF83-4093-82D3-D09B2E4B106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C22C-6921-4502-B736-09D1DD35DF1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C9A1-CB92-4C19-8AB7-F4DB87C3987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A85E-606E-4A5A-8CDC-515C2517653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34AA-A79A-451D-AC83-871899556D3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2EE3-3179-415F-87B8-7D91ABF6F09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Заголовок 1"/>
          <p:cNvSpPr/>
          <p:nvPr/>
        </p:nvSpPr>
        <p:spPr>
          <a:xfrm>
            <a:off x="1835280" y="969840"/>
            <a:ext cx="5292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одзаголовок 2"/>
          <p:cNvSpPr/>
          <p:nvPr/>
        </p:nvSpPr>
        <p:spPr>
          <a:xfrm>
            <a:off x="324000" y="2781360"/>
            <a:ext cx="85010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тельна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касательной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1862280" y="4797360"/>
            <a:ext cx="5292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кеев Магомед Якуб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авнение касательн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f(a) + 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 · (x - 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;f(a)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оординаты точки  кас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i="1" lang="he-IL" sz="3200" spc="-1" strike="noStrike">
                <a:solidFill>
                  <a:srgbClr val="ffffff"/>
                </a:solidFill>
                <a:latin typeface="Book Antiqua"/>
                <a:ea typeface="Levenim MT"/>
              </a:rPr>
              <a:t>´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(a) = tg</a:t>
            </a: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– тангенс угла наклона касательной в данной точке или угловой коэффици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х;у) – координаты любой  точки касатель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71600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197000"/>
            <a:ext cx="77724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. Обозначим абсциссу точки касания буквой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. Вычисли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. Найде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Levenim MT"/>
              </a:rPr>
              <a:t>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вычисли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Levenim MT"/>
              </a:rPr>
              <a:t>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4. Подставим найденные значения в общее уравнение касательн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5.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f(a) + 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 · (x - 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971640" y="1341360"/>
          <a:ext cx="7056360" cy="4032360"/>
        </p:xfrm>
        <a:graphic>
          <a:graphicData uri="http://schemas.openxmlformats.org/drawingml/2006/table">
            <a:tbl>
              <a:tblPr/>
              <a:tblGrid>
                <a:gridCol w="777960"/>
                <a:gridCol w="3925800"/>
                <a:gridCol w="23526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3-2x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(1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5/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³√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3x+2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1/3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12/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3x²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 </a:t>
                      </a:r>
                      <a:r>
                        <a:rPr b="1" lang="en-US" sz="2800" spc="-1" strike="noStrike" baseline="30000">
                          <a:solidFill>
                            <a:srgbClr val="a116e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3-2x²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2ctg2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l-GR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/4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4/(2-cos3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el-GR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/6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 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tg 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el-GR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/6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2195640" y="5589720"/>
          <a:ext cx="5495760" cy="1036440"/>
        </p:xfrm>
        <a:graphic>
          <a:graphicData uri="http://schemas.openxmlformats.org/drawingml/2006/table">
            <a:tbl>
              <a:tblPr/>
              <a:tblGrid>
                <a:gridCol w="785520"/>
                <a:gridCol w="784440"/>
                <a:gridCol w="785880"/>
                <a:gridCol w="784080"/>
                <a:gridCol w="785880"/>
                <a:gridCol w="784080"/>
                <a:gridCol w="785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4/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4" name="Picture 182" descr="Mailme"/>
          <p:cNvPicPr/>
          <p:nvPr/>
        </p:nvPicPr>
        <p:blipFill>
          <a:blip r:embed="rId1"/>
          <a:stretch/>
        </p:blipFill>
        <p:spPr>
          <a:xfrm>
            <a:off x="7596360" y="558972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83"/>
          <p:cNvSpPr txBox="1"/>
          <p:nvPr/>
        </p:nvSpPr>
        <p:spPr>
          <a:xfrm>
            <a:off x="468360" y="189000"/>
            <a:ext cx="727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cc"/>
                  </a:solidFill>
                  <a:miter/>
                </a:ln>
                <a:solidFill>
                  <a:srgbClr val="d4d2d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ШИФРУЙТЕ, КАК ИСААК  НЬЮТОН</a:t>
            </a:r>
            <a:endParaRPr b="1" lang="en-US" sz="1800" spc="1" strike="noStrike">
              <a:ln w="15840">
                <a:solidFill>
                  <a:srgbClr val="3333cc"/>
                </a:solidFill>
                <a:miter/>
              </a:ln>
              <a:solidFill>
                <a:srgbClr val="d4d2d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cc"/>
                  </a:solidFill>
                  <a:miter/>
                </a:ln>
                <a:solidFill>
                  <a:srgbClr val="d4d2d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ВАЛ  ПРОИЗВОДНУЮ  ФУНКЦИИ</a:t>
            </a:r>
            <a:endParaRPr b="1" lang="en-US" sz="1800" spc="1" strike="noStrike">
              <a:ln w="15840">
                <a:solidFill>
                  <a:srgbClr val="3333cc"/>
                </a:solidFill>
                <a:miter/>
              </a:ln>
              <a:solidFill>
                <a:srgbClr val="d4d2d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2340000" y="5877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   л   ю  к    с   и   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"/>
          <p:cNvPicPr/>
          <p:nvPr/>
        </p:nvPicPr>
        <p:blipFill>
          <a:blip r:embed="rId1"/>
          <a:srcRect l="0" t="0" r="2550" b="8811"/>
          <a:stretch/>
        </p:blipFill>
        <p:spPr>
          <a:xfrm>
            <a:off x="6732720" y="1413000"/>
            <a:ext cx="2232000" cy="2477880"/>
          </a:xfrm>
          <a:prstGeom prst="rect">
            <a:avLst/>
          </a:prstGeom>
          <a:ln w="0">
            <a:noFill/>
          </a:ln>
        </p:spPr>
      </p:pic>
      <p:sp>
        <p:nvSpPr>
          <p:cNvPr id="408" name="WordArt 6"/>
          <p:cNvSpPr txBox="1"/>
          <p:nvPr/>
        </p:nvSpPr>
        <p:spPr>
          <a:xfrm>
            <a:off x="468360" y="260280"/>
            <a:ext cx="763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нятие "производная" возникло в связ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 необходимостью решения ряда задач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изики, механики и математик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250920" y="1700280"/>
            <a:ext cx="468144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есть откры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сновных закон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че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нализа принадлежи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нглийскому учено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ьютону и немецко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ку Лейбницу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10" name="WordArt 8"/>
          <p:cNvSpPr txBox="1"/>
          <p:nvPr/>
        </p:nvSpPr>
        <p:spPr>
          <a:xfrm>
            <a:off x="250920" y="4221000"/>
            <a:ext cx="4681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Лейбниц рассматрив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чу о проведе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сательной к произвольно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риво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411" name="Рисунок 5" descr="Лейбниц"/>
          <p:cNvPicPr/>
          <p:nvPr/>
        </p:nvPicPr>
        <p:blipFill>
          <a:blip r:embed="rId2"/>
          <a:stretch/>
        </p:blipFill>
        <p:spPr>
          <a:xfrm>
            <a:off x="6732720" y="4005360"/>
            <a:ext cx="216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324000" y="109440"/>
            <a:ext cx="8740800" cy="2054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371600" y="2276640"/>
            <a:ext cx="6400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ить уравнение касательной к графику функци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(x)=x²-3x+5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точке с абсциссой а = -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Задания ЕГЭ 2011 В-8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ункция у = f(x) определена на  промежутке (-3; 4). На рисунке изображён её  график и касательная к этому графику в точке с абсциссо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= 1.   Вычислите значение  производной f'(x) в точке а= 1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038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ункция у = f(x) определена на  промежутке (-3;4). На рисунке изображён её  график и касательная к этому графику в точке с абсциссой а = -2. Вычислите значение  производной f'(x) в точке а = -2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4648320" y="404640"/>
            <a:ext cx="4171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4" descr=""/>
          <p:cNvPicPr/>
          <p:nvPr/>
        </p:nvPicPr>
        <p:blipFill>
          <a:blip r:embed="rId1"/>
          <a:stretch/>
        </p:blipFill>
        <p:spPr>
          <a:xfrm>
            <a:off x="469800" y="139680"/>
            <a:ext cx="8863200" cy="2023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Подготовка к ЕГЭ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В-8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56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Самостоятельная работа</a:t>
            </a: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Напишите уравнение касательной к графику функции у=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f(x)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 в точке с абсциссой а.</a:t>
            </a: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вариант 1             вариант 2</a:t>
            </a: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х²+ х+1, а=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3284280"/>
            <a:ext cx="403848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х-3х², а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5"/>
          <p:cNvSpPr txBox="1"/>
          <p:nvPr/>
        </p:nvSpPr>
        <p:spPr>
          <a:xfrm>
            <a:off x="1042920" y="333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d4d2d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И  УРОКА:</a:t>
            </a:r>
            <a:endParaRPr b="1" lang="en-US" sz="1800" spc="1" strike="noStrike">
              <a:ln w="38160">
                <a:solidFill>
                  <a:srgbClr val="3333cc"/>
                </a:solidFill>
                <a:miter/>
              </a:ln>
              <a:solidFill>
                <a:srgbClr val="d4d2d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5" name="WordArt 6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6138720" cy="1170000"/>
          </a:xfrm>
          <a:prstGeom prst="rect">
            <a:avLst/>
          </a:prstGeom>
          <a:ln w="0">
            <a:noFill/>
          </a:ln>
        </p:spPr>
      </p:pic>
      <p:sp>
        <p:nvSpPr>
          <p:cNvPr id="426" name="WordArt 7"/>
          <p:cNvSpPr txBox="1"/>
          <p:nvPr/>
        </p:nvSpPr>
        <p:spPr>
          <a:xfrm>
            <a:off x="395280" y="2637000"/>
            <a:ext cx="626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. Вывести  уравнение  касательно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7" name="WordArt 8"/>
          <p:cNvSpPr txBox="1"/>
          <p:nvPr/>
        </p:nvSpPr>
        <p:spPr>
          <a:xfrm>
            <a:off x="395280" y="3284640"/>
            <a:ext cx="806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. Создать  алгоритм  составления 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сательной  к  графику  функции  y=f(x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8" name="WordArt 9"/>
          <p:cNvSpPr txBox="1"/>
          <p:nvPr/>
        </p:nvSpPr>
        <p:spPr>
          <a:xfrm>
            <a:off x="539640" y="4508640"/>
            <a:ext cx="7345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. Начать  отрабатывать умения  и  навы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 составлении  уравнения  касательной 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злич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ческих  ситуациях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484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из урока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68360" y="1773000"/>
            <a:ext cx="5158080" cy="27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хих идей не быв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слите творче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куй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критику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зывается касательной к графику функции в точ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чём заключается геометрический смысл производной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формулируйте алгоритм нахождения уравнения касательной в точк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4"/>
          <p:cNvSpPr/>
          <p:nvPr/>
        </p:nvSpPr>
        <p:spPr>
          <a:xfrm>
            <a:off x="971640" y="1484280"/>
            <a:ext cx="1512720" cy="1332000"/>
          </a:xfrm>
          <a:prstGeom prst="smileyFace">
            <a:avLst>
              <a:gd name="adj" fmla="val -295"/>
            </a:avLst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916360" y="184464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евожно, не уверен в се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2843280" y="3789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покойно, у меня все получи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2627280" y="573408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езразлично, что будет, то и буд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539640" y="26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ете смайлик, соответствующий вашему настроению и состоянию после проведенного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826920" y="3284640"/>
            <a:ext cx="1513080" cy="1331640"/>
          </a:xfrm>
          <a:prstGeom prst="smileyFace">
            <a:avLst>
              <a:gd name="adj" fmla="val 9282"/>
            </a:avLst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0"/>
          <p:cNvSpPr/>
          <p:nvPr/>
        </p:nvSpPr>
        <p:spPr>
          <a:xfrm>
            <a:off x="826920" y="5300640"/>
            <a:ext cx="1513080" cy="1332000"/>
          </a:xfrm>
          <a:prstGeom prst="smileyFace">
            <a:avLst>
              <a:gd name="adj" fmla="val -4652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950760" y="1517760"/>
            <a:ext cx="72424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0920" y="260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я формулы и правила дифференцирования, найдите производные следующих фун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684360" y="1844640"/>
                <a:ext cx="1717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9" name="Text Box 8"/>
          <p:cNvSpPr/>
          <p:nvPr/>
        </p:nvSpPr>
        <p:spPr>
          <a:xfrm>
            <a:off x="3852720" y="206064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5292720" y="1844640"/>
                <a:ext cx="122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684360" y="2492280"/>
                <a:ext cx="15699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5292720" y="2349360"/>
                <a:ext cx="1368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684360" y="3141720"/>
                <a:ext cx="1800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5292720" y="3068640"/>
                <a:ext cx="936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8"/>
              <p:cNvSpPr txBox="1"/>
              <p:nvPr/>
            </p:nvSpPr>
            <p:spPr>
              <a:xfrm>
                <a:off x="684360" y="3645000"/>
                <a:ext cx="22780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9"/>
              <p:cNvSpPr txBox="1"/>
              <p:nvPr/>
            </p:nvSpPr>
            <p:spPr>
              <a:xfrm>
                <a:off x="5292720" y="3573360"/>
                <a:ext cx="2016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Rectangle 2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684360" y="4508640"/>
                <a:ext cx="2232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26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1"/>
              <p:cNvSpPr txBox="1"/>
              <p:nvPr/>
            </p:nvSpPr>
            <p:spPr>
              <a:xfrm>
                <a:off x="5292720" y="4508640"/>
                <a:ext cx="3260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28"/>
          <p:cNvSpPr/>
          <p:nvPr/>
        </p:nvSpPr>
        <p:spPr>
          <a:xfrm>
            <a:off x="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2"/>
              <p:cNvSpPr txBox="1"/>
              <p:nvPr/>
            </p:nvSpPr>
            <p:spPr>
              <a:xfrm>
                <a:off x="684360" y="5157720"/>
                <a:ext cx="2811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3"/>
              <p:cNvSpPr txBox="1"/>
              <p:nvPr/>
            </p:nvSpPr>
            <p:spPr>
              <a:xfrm>
                <a:off x="5292720" y="5013360"/>
                <a:ext cx="2376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3956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ы ли вы с утверждением: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9280" y="1784520"/>
            <a:ext cx="896472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сательная – это прямая, имеющая с данной кривой одну общую точк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55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ая соединительная линия 30"/>
          <p:cNvSpPr/>
          <p:nvPr/>
        </p:nvSpPr>
        <p:spPr>
          <a:xfrm>
            <a:off x="7357320" y="3143160"/>
            <a:ext cx="71640" cy="3502080"/>
          </a:xfrm>
          <a:prstGeom prst="line">
            <a:avLst/>
          </a:prstGeom>
          <a:ln w="38160">
            <a:solidFill>
              <a:srgbClr val="ffc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Text Box 38"/>
          <p:cNvGrpSpPr/>
          <p:nvPr/>
        </p:nvGrpSpPr>
        <p:grpSpPr>
          <a:xfrm>
            <a:off x="1925640" y="3213000"/>
            <a:ext cx="463680" cy="523800"/>
            <a:chOff x="1925640" y="3213000"/>
            <a:chExt cx="463680" cy="523800"/>
          </a:xfrm>
        </p:grpSpPr>
        <p:pic>
          <p:nvPicPr>
            <p:cNvPr id="294" name="Text Box 38" descr=""/>
            <p:cNvPicPr/>
            <p:nvPr/>
          </p:nvPicPr>
          <p:blipFill>
            <a:blip r:embed="rId1"/>
            <a:stretch/>
          </p:blipFill>
          <p:spPr>
            <a:xfrm>
              <a:off x="1925640" y="3213000"/>
              <a:ext cx="4636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2000160" y="3286080"/>
              <a:ext cx="3160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32"/>
          <p:cNvGrpSpPr/>
          <p:nvPr/>
        </p:nvGrpSpPr>
        <p:grpSpPr>
          <a:xfrm>
            <a:off x="323640" y="404280"/>
            <a:ext cx="3795840" cy="3996360"/>
            <a:chOff x="323640" y="404280"/>
            <a:chExt cx="3795840" cy="3996360"/>
          </a:xfrm>
        </p:grpSpPr>
        <p:cxnSp>
          <p:nvCxnSpPr>
            <p:cNvPr id="297" name="AutoShape 33"/>
            <p:cNvCxnSpPr/>
            <p:nvPr/>
          </p:nvCxnSpPr>
          <p:spPr>
            <a:xfrm flipV="1">
              <a:off x="1744560" y="404280"/>
              <a:ext cx="1080" cy="399672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  <p:cxnSp>
          <p:nvCxnSpPr>
            <p:cNvPr id="298" name="AutoShape 34"/>
            <p:cNvCxnSpPr/>
            <p:nvPr/>
          </p:nvCxnSpPr>
          <p:spPr>
            <a:xfrm>
              <a:off x="323640" y="3147480"/>
              <a:ext cx="3796200" cy="108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</p:grpSp>
      <p:grpSp>
        <p:nvGrpSpPr>
          <p:cNvPr id="299" name="Text Box 37"/>
          <p:cNvGrpSpPr/>
          <p:nvPr/>
        </p:nvGrpSpPr>
        <p:grpSpPr>
          <a:xfrm>
            <a:off x="3481560" y="5479920"/>
            <a:ext cx="1041120" cy="795960"/>
            <a:chOff x="3481560" y="5479920"/>
            <a:chExt cx="1041120" cy="795960"/>
          </a:xfrm>
        </p:grpSpPr>
        <p:pic>
          <p:nvPicPr>
            <p:cNvPr id="300" name="Text Box 37" descr=""/>
            <p:cNvPicPr/>
            <p:nvPr/>
          </p:nvPicPr>
          <p:blipFill>
            <a:blip r:embed="rId2"/>
            <a:stretch/>
          </p:blipFill>
          <p:spPr>
            <a:xfrm>
              <a:off x="3481560" y="5479920"/>
              <a:ext cx="104112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571920" y="5572080"/>
              <a:ext cx="85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Text Box 38"/>
          <p:cNvGrpSpPr/>
          <p:nvPr/>
        </p:nvGrpSpPr>
        <p:grpSpPr>
          <a:xfrm>
            <a:off x="8375760" y="4724280"/>
            <a:ext cx="493560" cy="554040"/>
            <a:chOff x="8375760" y="4724280"/>
            <a:chExt cx="493560" cy="554040"/>
          </a:xfrm>
        </p:grpSpPr>
        <p:pic>
          <p:nvPicPr>
            <p:cNvPr id="303" name="Text Box 38" descr=""/>
            <p:cNvPicPr/>
            <p:nvPr/>
          </p:nvPicPr>
          <p:blipFill>
            <a:blip r:embed="rId3"/>
            <a:stretch/>
          </p:blipFill>
          <p:spPr>
            <a:xfrm>
              <a:off x="8375760" y="4724280"/>
              <a:ext cx="493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464680" y="4813200"/>
              <a:ext cx="3157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Text Box 39"/>
          <p:cNvGrpSpPr/>
          <p:nvPr/>
        </p:nvGrpSpPr>
        <p:grpSpPr>
          <a:xfrm>
            <a:off x="5492880" y="3103560"/>
            <a:ext cx="500040" cy="560520"/>
            <a:chOff x="5492880" y="3103560"/>
            <a:chExt cx="500040" cy="560520"/>
          </a:xfrm>
        </p:grpSpPr>
        <p:pic>
          <p:nvPicPr>
            <p:cNvPr id="306" name="Text Box 39" descr=""/>
            <p:cNvPicPr/>
            <p:nvPr/>
          </p:nvPicPr>
          <p:blipFill>
            <a:blip r:embed="rId4"/>
            <a:stretch/>
          </p:blipFill>
          <p:spPr>
            <a:xfrm>
              <a:off x="5492880" y="3103560"/>
              <a:ext cx="5000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584680" y="3192480"/>
              <a:ext cx="316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Text Box 40"/>
          <p:cNvGrpSpPr/>
          <p:nvPr/>
        </p:nvGrpSpPr>
        <p:grpSpPr>
          <a:xfrm>
            <a:off x="6053040" y="3340080"/>
            <a:ext cx="1305000" cy="542880"/>
            <a:chOff x="6053040" y="3340080"/>
            <a:chExt cx="1305000" cy="542880"/>
          </a:xfrm>
        </p:grpSpPr>
        <p:pic>
          <p:nvPicPr>
            <p:cNvPr id="309" name="Text Box 40" descr=""/>
            <p:cNvPicPr/>
            <p:nvPr/>
          </p:nvPicPr>
          <p:blipFill>
            <a:blip r:embed="rId5"/>
            <a:stretch/>
          </p:blipFill>
          <p:spPr>
            <a:xfrm>
              <a:off x="6053040" y="3340080"/>
              <a:ext cx="1305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143760" y="3429000"/>
              <a:ext cx="11239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 cos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Text Box 41"/>
          <p:cNvGrpSpPr/>
          <p:nvPr/>
        </p:nvGrpSpPr>
        <p:grpSpPr>
          <a:xfrm>
            <a:off x="4157640" y="4054320"/>
            <a:ext cx="663480" cy="682920"/>
            <a:chOff x="4157640" y="4054320"/>
            <a:chExt cx="663480" cy="682920"/>
          </a:xfrm>
        </p:grpSpPr>
        <p:pic>
          <p:nvPicPr>
            <p:cNvPr id="312" name="Text Box 41" descr=""/>
            <p:cNvPicPr/>
            <p:nvPr/>
          </p:nvPicPr>
          <p:blipFill>
            <a:blip r:embed="rId6"/>
            <a:stretch/>
          </p:blipFill>
          <p:spPr>
            <a:xfrm>
              <a:off x="4157640" y="4054320"/>
              <a:ext cx="66348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251240" y="4143240"/>
              <a:ext cx="479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3429000" y="3071520"/>
            <a:ext cx="5501160" cy="3286440"/>
            <a:chOff x="3429000" y="3071520"/>
            <a:chExt cx="5501160" cy="3286440"/>
          </a:xfrm>
        </p:grpSpPr>
        <p:cxnSp>
          <p:nvCxnSpPr>
            <p:cNvPr id="315" name="AutoShape 44"/>
            <p:cNvCxnSpPr/>
            <p:nvPr/>
          </p:nvCxnSpPr>
          <p:spPr>
            <a:xfrm flipV="1">
              <a:off x="6014160" y="3071520"/>
              <a:ext cx="1080" cy="328680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  <p:cxnSp>
          <p:nvCxnSpPr>
            <p:cNvPr id="316" name="AutoShape 45"/>
            <p:cNvCxnSpPr/>
            <p:nvPr/>
          </p:nvCxnSpPr>
          <p:spPr>
            <a:xfrm>
              <a:off x="3429000" y="4714920"/>
              <a:ext cx="5501520" cy="2160"/>
            </a:xfrm>
            <a:prstGeom prst="straightConnector1">
              <a:avLst/>
            </a:prstGeom>
            <a:ln w="12600">
              <a:solidFill>
                <a:srgbClr val="cbced1"/>
              </a:solidFill>
              <a:miter/>
              <a:tailEnd len="med" type="triangle" w="med"/>
            </a:ln>
          </p:spPr>
        </p:cxnSp>
      </p:grpSp>
      <p:grpSp>
        <p:nvGrpSpPr>
          <p:cNvPr id="317" name="Group 46"/>
          <p:cNvGrpSpPr/>
          <p:nvPr/>
        </p:nvGrpSpPr>
        <p:grpSpPr>
          <a:xfrm>
            <a:off x="3828960" y="3949200"/>
            <a:ext cx="4319640" cy="1535760"/>
            <a:chOff x="3828960" y="3949200"/>
            <a:chExt cx="4319640" cy="1535760"/>
          </a:xfrm>
        </p:grpSpPr>
        <p:sp>
          <p:nvSpPr>
            <p:cNvPr id="318" name="Freeform 47"/>
            <p:cNvSpPr/>
            <p:nvPr/>
          </p:nvSpPr>
          <p:spPr>
            <a:xfrm>
              <a:off x="3828960" y="4718160"/>
              <a:ext cx="1440000" cy="7668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48"/>
            <p:cNvSpPr/>
            <p:nvPr/>
          </p:nvSpPr>
          <p:spPr>
            <a:xfrm rot="10800000">
              <a:off x="5268960" y="3949200"/>
              <a:ext cx="1440000" cy="7686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49"/>
            <p:cNvSpPr/>
            <p:nvPr/>
          </p:nvSpPr>
          <p:spPr>
            <a:xfrm>
              <a:off x="6708960" y="4718160"/>
              <a:ext cx="1439640" cy="7668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21" name="AutoShape 50"/>
          <p:cNvCxnSpPr/>
          <p:nvPr/>
        </p:nvCxnSpPr>
        <p:spPr>
          <a:xfrm>
            <a:off x="4000680" y="5500440"/>
            <a:ext cx="43423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</a:ln>
        </p:spPr>
      </p:cxnSp>
      <p:cxnSp>
        <p:nvCxnSpPr>
          <p:cNvPr id="322" name="AutoShape 51"/>
          <p:cNvCxnSpPr/>
          <p:nvPr/>
        </p:nvCxnSpPr>
        <p:spPr>
          <a:xfrm flipV="1">
            <a:off x="7395840" y="4714560"/>
            <a:ext cx="1080" cy="768960"/>
          </a:xfrm>
          <a:prstGeom prst="straightConnector1">
            <a:avLst/>
          </a:prstGeom>
          <a:ln w="9360">
            <a:solidFill>
              <a:srgbClr val="b2b5bb"/>
            </a:solidFill>
            <a:prstDash val="dash"/>
            <a:miter/>
          </a:ln>
        </p:spPr>
      </p:cxnSp>
      <p:cxnSp>
        <p:nvCxnSpPr>
          <p:cNvPr id="323" name="AutoShape 52"/>
          <p:cNvCxnSpPr/>
          <p:nvPr/>
        </p:nvCxnSpPr>
        <p:spPr>
          <a:xfrm flipV="1">
            <a:off x="4517640" y="4716000"/>
            <a:ext cx="1080" cy="767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24" name="Text Box 53"/>
          <p:cNvGrpSpPr/>
          <p:nvPr/>
        </p:nvGrpSpPr>
        <p:grpSpPr>
          <a:xfrm>
            <a:off x="7553160" y="4121280"/>
            <a:ext cx="609840" cy="573120"/>
            <a:chOff x="7553160" y="4121280"/>
            <a:chExt cx="609840" cy="573120"/>
          </a:xfrm>
        </p:grpSpPr>
        <p:pic>
          <p:nvPicPr>
            <p:cNvPr id="325" name="Text Box 53" descr=""/>
            <p:cNvPicPr/>
            <p:nvPr/>
          </p:nvPicPr>
          <p:blipFill>
            <a:blip r:embed="rId7"/>
            <a:stretch/>
          </p:blipFill>
          <p:spPr>
            <a:xfrm>
              <a:off x="7553160" y="4121280"/>
              <a:ext cx="6098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643880" y="4214880"/>
              <a:ext cx="4284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Text Box 38"/>
          <p:cNvGrpSpPr/>
          <p:nvPr/>
        </p:nvGrpSpPr>
        <p:grpSpPr>
          <a:xfrm>
            <a:off x="3597120" y="3213000"/>
            <a:ext cx="498600" cy="560520"/>
            <a:chOff x="3597120" y="3213000"/>
            <a:chExt cx="498600" cy="560520"/>
          </a:xfrm>
        </p:grpSpPr>
        <p:pic>
          <p:nvPicPr>
            <p:cNvPr id="328" name="Text Box 38" descr=""/>
            <p:cNvPicPr/>
            <p:nvPr/>
          </p:nvPicPr>
          <p:blipFill>
            <a:blip r:embed="rId8"/>
            <a:stretch/>
          </p:blipFill>
          <p:spPr>
            <a:xfrm>
              <a:off x="3597120" y="3213000"/>
              <a:ext cx="498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686040" y="3303720"/>
              <a:ext cx="316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Text Box 39"/>
          <p:cNvGrpSpPr/>
          <p:nvPr/>
        </p:nvGrpSpPr>
        <p:grpSpPr>
          <a:xfrm>
            <a:off x="1146240" y="255600"/>
            <a:ext cx="500040" cy="561960"/>
            <a:chOff x="1146240" y="255600"/>
            <a:chExt cx="500040" cy="561960"/>
          </a:xfrm>
        </p:grpSpPr>
        <p:pic>
          <p:nvPicPr>
            <p:cNvPr id="331" name="Text Box 39" descr=""/>
            <p:cNvPicPr/>
            <p:nvPr/>
          </p:nvPicPr>
          <p:blipFill>
            <a:blip r:embed="rId9"/>
            <a:stretch/>
          </p:blipFill>
          <p:spPr>
            <a:xfrm>
              <a:off x="1146240" y="255600"/>
              <a:ext cx="5000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238400" y="349200"/>
              <a:ext cx="31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Полилиния 59"/>
          <p:cNvSpPr/>
          <p:nvPr/>
        </p:nvSpPr>
        <p:spPr>
          <a:xfrm>
            <a:off x="701640" y="838080"/>
            <a:ext cx="2163960" cy="2333880"/>
          </a:xfrm>
          <a:custGeom>
            <a:avLst/>
            <a:gdLst/>
            <a:ahLst/>
            <a:rect l="l" t="t" r="r" b="b"/>
            <a:pathLst>
              <a:path w="2164080" h="2334260">
                <a:moveTo>
                  <a:pt x="0" y="0"/>
                </a:moveTo>
                <a:cubicBezTo>
                  <a:pt x="168910" y="681990"/>
                  <a:pt x="337820" y="1363980"/>
                  <a:pt x="518160" y="1752600"/>
                </a:cubicBezTo>
                <a:cubicBezTo>
                  <a:pt x="698500" y="2141220"/>
                  <a:pt x="889000" y="2329180"/>
                  <a:pt x="1082040" y="2331720"/>
                </a:cubicBezTo>
                <a:cubicBezTo>
                  <a:pt x="1275080" y="2334260"/>
                  <a:pt x="1496060" y="2153920"/>
                  <a:pt x="1676400" y="1767840"/>
                </a:cubicBezTo>
                <a:cubicBezTo>
                  <a:pt x="1856740" y="1381760"/>
                  <a:pt x="2010410" y="698500"/>
                  <a:pt x="2164080" y="1524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61"/>
          <p:cNvSpPr/>
          <p:nvPr/>
        </p:nvSpPr>
        <p:spPr>
          <a:xfrm>
            <a:off x="2320200" y="857160"/>
            <a:ext cx="36360" cy="3714840"/>
          </a:xfrm>
          <a:prstGeom prst="line">
            <a:avLst/>
          </a:prstGeom>
          <a:ln w="28440">
            <a:solidFill>
              <a:srgbClr val="6762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ая соединительная линия 66"/>
          <p:cNvSpPr/>
          <p:nvPr/>
        </p:nvSpPr>
        <p:spPr>
          <a:xfrm flipH="1">
            <a:off x="1499760" y="1000080"/>
            <a:ext cx="1714680" cy="32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Прямоугольник 68"/>
          <p:cNvGrpSpPr/>
          <p:nvPr/>
        </p:nvGrpSpPr>
        <p:grpSpPr>
          <a:xfrm>
            <a:off x="133200" y="2560680"/>
            <a:ext cx="1116000" cy="584280"/>
            <a:chOff x="133200" y="2560680"/>
            <a:chExt cx="1116000" cy="584280"/>
          </a:xfrm>
        </p:grpSpPr>
        <p:pic>
          <p:nvPicPr>
            <p:cNvPr id="337" name="Прямоугольник 68" descr=""/>
            <p:cNvPicPr/>
            <p:nvPr/>
          </p:nvPicPr>
          <p:blipFill>
            <a:blip r:embed="rId10"/>
            <a:stretch/>
          </p:blipFill>
          <p:spPr>
            <a:xfrm>
              <a:off x="133200" y="2560680"/>
              <a:ext cx="11160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32920" y="26528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  x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Text Box 37"/>
          <p:cNvGrpSpPr/>
          <p:nvPr/>
        </p:nvGrpSpPr>
        <p:grpSpPr>
          <a:xfrm>
            <a:off x="2335320" y="3981600"/>
            <a:ext cx="1041120" cy="583920"/>
            <a:chOff x="2335320" y="3981600"/>
            <a:chExt cx="1041120" cy="583920"/>
          </a:xfrm>
        </p:grpSpPr>
        <p:pic>
          <p:nvPicPr>
            <p:cNvPr id="340" name="Text Box 37" descr=""/>
            <p:cNvPicPr/>
            <p:nvPr/>
          </p:nvPicPr>
          <p:blipFill>
            <a:blip r:embed="rId11"/>
            <a:stretch/>
          </p:blipFill>
          <p:spPr>
            <a:xfrm>
              <a:off x="2335320" y="3981600"/>
              <a:ext cx="10411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428920" y="407196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Text Box 37"/>
          <p:cNvGrpSpPr/>
          <p:nvPr/>
        </p:nvGrpSpPr>
        <p:grpSpPr>
          <a:xfrm>
            <a:off x="3084480" y="1481040"/>
            <a:ext cx="1468440" cy="797400"/>
            <a:chOff x="3084480" y="1481040"/>
            <a:chExt cx="1468440" cy="797400"/>
          </a:xfrm>
        </p:grpSpPr>
        <p:pic>
          <p:nvPicPr>
            <p:cNvPr id="343" name="Text Box 37" descr=""/>
            <p:cNvPicPr/>
            <p:nvPr/>
          </p:nvPicPr>
          <p:blipFill>
            <a:blip r:embed="rId12"/>
            <a:stretch/>
          </p:blipFill>
          <p:spPr>
            <a:xfrm>
              <a:off x="3084480" y="1481040"/>
              <a:ext cx="14684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178080" y="157464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2х -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Text Box 53"/>
          <p:cNvGrpSpPr/>
          <p:nvPr/>
        </p:nvGrpSpPr>
        <p:grpSpPr>
          <a:xfrm>
            <a:off x="7407360" y="5907240"/>
            <a:ext cx="1041480" cy="572760"/>
            <a:chOff x="7407360" y="5907240"/>
            <a:chExt cx="1041480" cy="572760"/>
          </a:xfrm>
        </p:grpSpPr>
        <p:pic>
          <p:nvPicPr>
            <p:cNvPr id="346" name="Text Box 53" descr=""/>
            <p:cNvPicPr/>
            <p:nvPr/>
          </p:nvPicPr>
          <p:blipFill>
            <a:blip r:embed="rId13"/>
            <a:stretch/>
          </p:blipFill>
          <p:spPr>
            <a:xfrm>
              <a:off x="7407360" y="5907240"/>
              <a:ext cx="10414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500960" y="6000840"/>
              <a:ext cx="857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 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5"/>
          <p:cNvSpPr txBox="1"/>
          <p:nvPr/>
        </p:nvSpPr>
        <p:spPr>
          <a:xfrm>
            <a:off x="1042920" y="333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d4d2d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И  УРОКА:</a:t>
            </a:r>
            <a:endParaRPr b="1" lang="en-US" sz="1800" spc="1" strike="noStrike">
              <a:ln w="38160">
                <a:solidFill>
                  <a:srgbClr val="3333cc"/>
                </a:solidFill>
                <a:miter/>
              </a:ln>
              <a:solidFill>
                <a:srgbClr val="d4d2d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9" name="WordArt 6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6138720" cy="1170000"/>
          </a:xfrm>
          <a:prstGeom prst="rect">
            <a:avLst/>
          </a:prstGeom>
          <a:ln w="0">
            <a:noFill/>
          </a:ln>
        </p:spPr>
      </p:pic>
      <p:sp>
        <p:nvSpPr>
          <p:cNvPr id="350" name="WordArt 7"/>
          <p:cNvSpPr txBox="1"/>
          <p:nvPr/>
        </p:nvSpPr>
        <p:spPr>
          <a:xfrm>
            <a:off x="395280" y="2637000"/>
            <a:ext cx="626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. Вывести  уравнение  касательно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351" name="WordArt 8"/>
          <p:cNvSpPr txBox="1"/>
          <p:nvPr/>
        </p:nvSpPr>
        <p:spPr>
          <a:xfrm>
            <a:off x="395280" y="3284640"/>
            <a:ext cx="806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. Создать  алгоритм  составления 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сательной  к  графику  функции  y=f(x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352" name="WordArt 9"/>
          <p:cNvSpPr txBox="1"/>
          <p:nvPr/>
        </p:nvSpPr>
        <p:spPr>
          <a:xfrm>
            <a:off x="539640" y="4508640"/>
            <a:ext cx="7345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. Начать  отрабатывать умения  и  навы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 составлении  уравнения  касательной 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злич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ческих  ситуациях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Text Box 38"/>
          <p:cNvGrpSpPr/>
          <p:nvPr/>
        </p:nvGrpSpPr>
        <p:grpSpPr>
          <a:xfrm>
            <a:off x="4059360" y="3267000"/>
            <a:ext cx="463320" cy="523800"/>
            <a:chOff x="4059360" y="3267000"/>
            <a:chExt cx="463320" cy="523800"/>
          </a:xfrm>
        </p:grpSpPr>
        <p:pic>
          <p:nvPicPr>
            <p:cNvPr id="354" name="Text Box 38" descr=""/>
            <p:cNvPicPr/>
            <p:nvPr/>
          </p:nvPicPr>
          <p:blipFill>
            <a:blip r:embed="rId1"/>
            <a:stretch/>
          </p:blipFill>
          <p:spPr>
            <a:xfrm>
              <a:off x="4059360" y="3267000"/>
              <a:ext cx="4633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135320" y="3338640"/>
              <a:ext cx="316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Group 32"/>
          <p:cNvGrpSpPr/>
          <p:nvPr/>
        </p:nvGrpSpPr>
        <p:grpSpPr>
          <a:xfrm>
            <a:off x="2492280" y="480600"/>
            <a:ext cx="3796200" cy="3995640"/>
            <a:chOff x="2492280" y="480600"/>
            <a:chExt cx="3796200" cy="3995640"/>
          </a:xfrm>
        </p:grpSpPr>
        <p:cxnSp>
          <p:nvCxnSpPr>
            <p:cNvPr id="357" name="AutoShape 33"/>
            <p:cNvCxnSpPr/>
            <p:nvPr/>
          </p:nvCxnSpPr>
          <p:spPr>
            <a:xfrm flipV="1">
              <a:off x="3912840" y="480600"/>
              <a:ext cx="1080" cy="399600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  <p:cxnSp>
          <p:nvCxnSpPr>
            <p:cNvPr id="358" name="AutoShape 34"/>
            <p:cNvCxnSpPr/>
            <p:nvPr/>
          </p:nvCxnSpPr>
          <p:spPr>
            <a:xfrm>
              <a:off x="2492280" y="3223800"/>
              <a:ext cx="3796560" cy="108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</p:grpSp>
      <p:grpSp>
        <p:nvGrpSpPr>
          <p:cNvPr id="359" name="Text Box 38"/>
          <p:cNvGrpSpPr/>
          <p:nvPr/>
        </p:nvGrpSpPr>
        <p:grpSpPr>
          <a:xfrm>
            <a:off x="5761080" y="3249720"/>
            <a:ext cx="493560" cy="560160"/>
            <a:chOff x="5761080" y="3249720"/>
            <a:chExt cx="493560" cy="560160"/>
          </a:xfrm>
        </p:grpSpPr>
        <p:pic>
          <p:nvPicPr>
            <p:cNvPr id="360" name="Text Box 38" descr=""/>
            <p:cNvPicPr/>
            <p:nvPr/>
          </p:nvPicPr>
          <p:blipFill>
            <a:blip r:embed="rId2"/>
            <a:stretch/>
          </p:blipFill>
          <p:spPr>
            <a:xfrm>
              <a:off x="5761080" y="3249720"/>
              <a:ext cx="4935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850000" y="3338640"/>
              <a:ext cx="31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Text Box 39"/>
          <p:cNvGrpSpPr/>
          <p:nvPr/>
        </p:nvGrpSpPr>
        <p:grpSpPr>
          <a:xfrm>
            <a:off x="3279600" y="311040"/>
            <a:ext cx="500400" cy="560520"/>
            <a:chOff x="3279600" y="311040"/>
            <a:chExt cx="500400" cy="560520"/>
          </a:xfrm>
        </p:grpSpPr>
        <p:pic>
          <p:nvPicPr>
            <p:cNvPr id="363" name="Text Box 39" descr=""/>
            <p:cNvPicPr/>
            <p:nvPr/>
          </p:nvPicPr>
          <p:blipFill>
            <a:blip r:embed="rId3"/>
            <a:stretch/>
          </p:blipFill>
          <p:spPr>
            <a:xfrm>
              <a:off x="3279600" y="311040"/>
              <a:ext cx="5004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373560" y="401760"/>
              <a:ext cx="31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Полилиния 59"/>
          <p:cNvSpPr/>
          <p:nvPr/>
        </p:nvSpPr>
        <p:spPr>
          <a:xfrm>
            <a:off x="2836800" y="890640"/>
            <a:ext cx="2163960" cy="2333520"/>
          </a:xfrm>
          <a:custGeom>
            <a:avLst/>
            <a:gdLst/>
            <a:ahLst/>
            <a:rect l="l" t="t" r="r" b="b"/>
            <a:pathLst>
              <a:path w="2164080" h="2334260">
                <a:moveTo>
                  <a:pt x="0" y="0"/>
                </a:moveTo>
                <a:cubicBezTo>
                  <a:pt x="168910" y="681990"/>
                  <a:pt x="337820" y="1363980"/>
                  <a:pt x="518160" y="1752600"/>
                </a:cubicBezTo>
                <a:cubicBezTo>
                  <a:pt x="698500" y="2141220"/>
                  <a:pt x="889000" y="2329180"/>
                  <a:pt x="1082040" y="2331720"/>
                </a:cubicBezTo>
                <a:cubicBezTo>
                  <a:pt x="1275080" y="2334260"/>
                  <a:pt x="1496060" y="2153920"/>
                  <a:pt x="1676400" y="1767840"/>
                </a:cubicBezTo>
                <a:cubicBezTo>
                  <a:pt x="1856740" y="1381760"/>
                  <a:pt x="2010410" y="698500"/>
                  <a:pt x="2164080" y="1524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61"/>
          <p:cNvSpPr/>
          <p:nvPr/>
        </p:nvSpPr>
        <p:spPr>
          <a:xfrm>
            <a:off x="4456080" y="909720"/>
            <a:ext cx="36720" cy="3714840"/>
          </a:xfrm>
          <a:prstGeom prst="line">
            <a:avLst/>
          </a:prstGeom>
          <a:ln w="28440">
            <a:solidFill>
              <a:srgbClr val="6762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66"/>
          <p:cNvSpPr/>
          <p:nvPr/>
        </p:nvSpPr>
        <p:spPr>
          <a:xfrm flipH="1">
            <a:off x="3634920" y="1052640"/>
            <a:ext cx="1714680" cy="32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Прямоугольник 68"/>
          <p:cNvGrpSpPr/>
          <p:nvPr/>
        </p:nvGrpSpPr>
        <p:grpSpPr>
          <a:xfrm>
            <a:off x="2255760" y="2603520"/>
            <a:ext cx="1109880" cy="584280"/>
            <a:chOff x="2255760" y="2603520"/>
            <a:chExt cx="1109880" cy="584280"/>
          </a:xfrm>
        </p:grpSpPr>
        <p:pic>
          <p:nvPicPr>
            <p:cNvPr id="369" name="Прямоугольник 68" descr=""/>
            <p:cNvPicPr/>
            <p:nvPr/>
          </p:nvPicPr>
          <p:blipFill>
            <a:blip r:embed="rId4"/>
            <a:stretch/>
          </p:blipFill>
          <p:spPr>
            <a:xfrm>
              <a:off x="2255760" y="2603520"/>
              <a:ext cx="11098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353680" y="26956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  x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Text Box 37"/>
          <p:cNvGrpSpPr/>
          <p:nvPr/>
        </p:nvGrpSpPr>
        <p:grpSpPr>
          <a:xfrm>
            <a:off x="4475160" y="4035600"/>
            <a:ext cx="1035000" cy="579240"/>
            <a:chOff x="4475160" y="4035600"/>
            <a:chExt cx="1035000" cy="579240"/>
          </a:xfrm>
        </p:grpSpPr>
        <p:pic>
          <p:nvPicPr>
            <p:cNvPr id="372" name="Text Box 37" descr=""/>
            <p:cNvPicPr/>
            <p:nvPr/>
          </p:nvPicPr>
          <p:blipFill>
            <a:blip r:embed="rId5"/>
            <a:stretch/>
          </p:blipFill>
          <p:spPr>
            <a:xfrm>
              <a:off x="4475160" y="4035600"/>
              <a:ext cx="10350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564080" y="412416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Text Box 37"/>
          <p:cNvGrpSpPr/>
          <p:nvPr/>
        </p:nvGrpSpPr>
        <p:grpSpPr>
          <a:xfrm>
            <a:off x="5187960" y="1530360"/>
            <a:ext cx="1468440" cy="797400"/>
            <a:chOff x="5187960" y="1530360"/>
            <a:chExt cx="1468440" cy="797400"/>
          </a:xfrm>
        </p:grpSpPr>
        <p:pic>
          <p:nvPicPr>
            <p:cNvPr id="375" name="Text Box 37" descr=""/>
            <p:cNvPicPr/>
            <p:nvPr/>
          </p:nvPicPr>
          <p:blipFill>
            <a:blip r:embed="rId6"/>
            <a:stretch/>
          </p:blipFill>
          <p:spPr>
            <a:xfrm>
              <a:off x="5187960" y="1530360"/>
              <a:ext cx="146844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278320" y="162396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2х -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"/>
          <p:cNvSpPr txBox="1"/>
          <p:nvPr/>
        </p:nvSpPr>
        <p:spPr>
          <a:xfrm>
            <a:off x="971280" y="4941720"/>
            <a:ext cx="73803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сательная – предельное положение секущ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000" y="980640"/>
            <a:ext cx="814716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x+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гловой коэффицие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 = tg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  <a:ea typeface="Levenim MT"/>
              </a:rPr>
              <a:t>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x) = tg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α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3"/>
          <p:cNvGrpSpPr/>
          <p:nvPr/>
        </p:nvGrpSpPr>
        <p:grpSpPr>
          <a:xfrm>
            <a:off x="755640" y="549360"/>
            <a:ext cx="6509160" cy="4248000"/>
            <a:chOff x="755640" y="549360"/>
            <a:chExt cx="6509160" cy="4248000"/>
          </a:xfrm>
        </p:grpSpPr>
        <p:cxnSp>
          <p:nvCxnSpPr>
            <p:cNvPr id="380" name="AutoShape 44"/>
            <p:cNvCxnSpPr/>
            <p:nvPr/>
          </p:nvCxnSpPr>
          <p:spPr>
            <a:xfrm flipV="1">
              <a:off x="3815640" y="549360"/>
              <a:ext cx="1080" cy="424836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  <p:cxnSp>
          <p:nvCxnSpPr>
            <p:cNvPr id="381" name="AutoShape 45"/>
            <p:cNvCxnSpPr/>
            <p:nvPr/>
          </p:nvCxnSpPr>
          <p:spPr>
            <a:xfrm>
              <a:off x="755640" y="2673360"/>
              <a:ext cx="6509520" cy="1440"/>
            </a:xfrm>
            <a:prstGeom prst="straightConnector1">
              <a:avLst/>
            </a:prstGeom>
            <a:ln w="12600">
              <a:solidFill>
                <a:srgbClr val="cbced1"/>
              </a:solidFill>
              <a:miter/>
              <a:tailEnd len="med" type="triangle" w="med"/>
            </a:ln>
          </p:spPr>
        </p:cxnSp>
      </p:grpSp>
      <p:grpSp>
        <p:nvGrpSpPr>
          <p:cNvPr id="382" name="Text Box 39"/>
          <p:cNvGrpSpPr/>
          <p:nvPr/>
        </p:nvGrpSpPr>
        <p:grpSpPr>
          <a:xfrm>
            <a:off x="3170160" y="407880"/>
            <a:ext cx="560520" cy="671760"/>
            <a:chOff x="3170160" y="407880"/>
            <a:chExt cx="560520" cy="671760"/>
          </a:xfrm>
        </p:grpSpPr>
        <p:pic>
          <p:nvPicPr>
            <p:cNvPr id="383" name="Text Box 39" descr=""/>
            <p:cNvPicPr/>
            <p:nvPr/>
          </p:nvPicPr>
          <p:blipFill>
            <a:blip r:embed="rId1"/>
            <a:stretch/>
          </p:blipFill>
          <p:spPr>
            <a:xfrm>
              <a:off x="3170160" y="407880"/>
              <a:ext cx="56052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3263760" y="498600"/>
              <a:ext cx="374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Text Box 38"/>
          <p:cNvGrpSpPr/>
          <p:nvPr/>
        </p:nvGrpSpPr>
        <p:grpSpPr>
          <a:xfrm>
            <a:off x="6900840" y="2706840"/>
            <a:ext cx="596880" cy="652320"/>
            <a:chOff x="6900840" y="2706840"/>
            <a:chExt cx="596880" cy="652320"/>
          </a:xfrm>
        </p:grpSpPr>
        <p:pic>
          <p:nvPicPr>
            <p:cNvPr id="386" name="Text Box 38" descr=""/>
            <p:cNvPicPr/>
            <p:nvPr/>
          </p:nvPicPr>
          <p:blipFill>
            <a:blip r:embed="rId2"/>
            <a:stretch/>
          </p:blipFill>
          <p:spPr>
            <a:xfrm>
              <a:off x="6900840" y="2706840"/>
              <a:ext cx="5968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994440" y="2797200"/>
              <a:ext cx="4129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Полилиния 10"/>
          <p:cNvGrpSpPr/>
          <p:nvPr/>
        </p:nvGrpSpPr>
        <p:grpSpPr>
          <a:xfrm>
            <a:off x="3517920" y="1152360"/>
            <a:ext cx="4125960" cy="2219040"/>
            <a:chOff x="3517920" y="1152360"/>
            <a:chExt cx="4125960" cy="2219040"/>
          </a:xfrm>
        </p:grpSpPr>
        <p:pic>
          <p:nvPicPr>
            <p:cNvPr id="389" name="Полилиния 10" descr=""/>
            <p:cNvPicPr/>
            <p:nvPr/>
          </p:nvPicPr>
          <p:blipFill>
            <a:blip r:embed="rId3"/>
            <a:stretch/>
          </p:blipFill>
          <p:spPr>
            <a:xfrm>
              <a:off x="3517920" y="1179000"/>
              <a:ext cx="4125960" cy="21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3595680" y="1152360"/>
              <a:ext cx="3973680" cy="21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Прямая соединительная линия 12" descr=""/>
          <p:cNvPicPr/>
          <p:nvPr/>
        </p:nvPicPr>
        <p:blipFill>
          <a:blip r:embed="rId4"/>
          <a:stretch/>
        </p:blipFill>
        <p:spPr>
          <a:xfrm>
            <a:off x="3206880" y="469800"/>
            <a:ext cx="4157640" cy="1096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3"/>
          <p:cNvSpPr/>
          <p:nvPr/>
        </p:nvSpPr>
        <p:spPr>
          <a:xfrm>
            <a:off x="6516720" y="1628640"/>
            <a:ext cx="11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 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"/>
          <p:cNvSpPr/>
          <p:nvPr/>
        </p:nvSpPr>
        <p:spPr>
          <a:xfrm>
            <a:off x="4211640" y="76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Блок-схема: узел 11"/>
          <p:cNvSpPr/>
          <p:nvPr/>
        </p:nvSpPr>
        <p:spPr>
          <a:xfrm>
            <a:off x="4500720" y="1125360"/>
            <a:ext cx="142560" cy="14292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Прямая соединительная линия 16" descr=""/>
          <p:cNvPicPr/>
          <p:nvPr/>
        </p:nvPicPr>
        <p:blipFill>
          <a:blip r:embed="rId5"/>
          <a:stretch/>
        </p:blipFill>
        <p:spPr>
          <a:xfrm>
            <a:off x="4498920" y="1206360"/>
            <a:ext cx="152280" cy="157320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ая соединительная линия 18"/>
          <p:cNvSpPr/>
          <p:nvPr/>
        </p:nvSpPr>
        <p:spPr>
          <a:xfrm flipV="1">
            <a:off x="3780000" y="1247400"/>
            <a:ext cx="741240" cy="20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6:08:20Z</dcterms:created>
  <dc:creator>Светлана</dc:creator>
  <dc:description/>
  <dc:language>en-US</dc:language>
  <cp:lastModifiedBy>Фатима</cp:lastModifiedBy>
  <dcterms:modified xsi:type="dcterms:W3CDTF">2017-09-26T11:55:48Z</dcterms:modified>
  <cp:revision>66</cp:revision>
  <dc:subject/>
  <dc:title>Слайд 1</dc:title>
</cp:coreProperties>
</file>