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5.gif" ContentType="image/gif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164-2990-4C3A-9141-7E61F670E4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8118-A6D6-46DE-A53D-934A669BDC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977B-14CF-4533-9928-9DB658C6759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FC62-BE7F-4437-9D36-CC838EAFAFD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ADFE-BF45-4636-8C63-FC5BDD8BE7D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DCF0-05E8-466E-94D5-AB32B59F909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9A1-4D8F-463D-92AA-A056AACE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EAF-F74E-463A-AEAF-0C57B8CE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5458-C745-4103-BE5B-FDA211F3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9EE1-037A-4D00-A065-3A2D3978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6189-E2FD-4F36-A7F7-85EF4DBF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EC47-0997-4560-9A42-12B3B3BE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6B84-097C-4FCB-9152-10E79363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CB43-8564-4EE9-AE04-56AE71B6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BF8D-5B09-49D4-9924-6037939C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3E583-33DC-489E-B82B-E16C1815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68EF-0AEC-4922-B7FC-4C5F5B6C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0DC-CA1A-4209-80BC-9521E1C6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12F-B0AA-49C3-8916-6C01725D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074D-04D0-4CAF-B207-193A30A2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D335-738F-4200-9617-84FE1AB5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B3BC-B853-448B-B7B5-5D5EA6E1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3901C-9C62-4DA1-A335-537C89576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5EB28-ACC1-46F5-AC14-81F128A45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A9A9-EEBB-45D6-B9F4-9A53519D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7C60-DD55-4506-B2B5-D3685CE0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BC9DF-D4A0-4119-8CA2-7CBC378D8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32F0-05B7-4B74-B12C-CD0CBAD0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47D3-BB5B-4EBD-B8F1-A4059233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10E7A-DAF4-466B-A703-0446A310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A3D01-7D5D-4FBF-AA56-4AABF58A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D9ABE-5EB4-43BB-9948-FEB7B00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EF678-98D9-4DAA-B9B0-3CD5390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ED3F-1B49-4971-BAC7-AF2D140C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946E3-72F2-45FE-B2C2-26389341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F95D-2CFD-4E8D-A8CB-4497A988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77ED-0BD5-4FA9-93E5-4454D1188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A3BF6-9E7E-4AF2-AB89-206AF08D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DC53D-321D-43FF-B168-C7AFDE4E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926-A3E3-44FE-B637-FED76A5B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B5A26-C4B3-4A9B-9A45-251DE1A1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2E237-3BC4-43F7-8C5D-3B937FB9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1524B-6F13-41C9-A556-B82319AB0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EA5B2-A74A-4165-A22A-81E44EE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F171B-8069-48CA-82CB-526F3367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3967-9D97-4889-B047-37A1F32E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C09F0-E3B3-40F6-AE7E-BF7624CB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D236-B307-4878-9569-9BFCF77F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A5B5-D1CD-473E-89C3-9D764CC58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B6156-6ACE-455A-A2D5-62355983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C50-B807-4055-BE99-85B5D1F5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30A3F-8227-48A9-BD1E-0C599D2B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AC7B-BB99-4779-B361-DB603BF8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8B6F8-4514-4008-A4CC-AAAB9F81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D0015C-8662-4AE2-AD0C-BF304F39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7D7F7-4770-4F16-BC46-3819102E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2C697-62AB-4337-8D9F-17C1573C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4DB3-6AF8-4DC9-B580-0EA273B8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E45A2-6255-4C72-BBC4-BF5F5A5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234D5-0D18-4D28-86A4-EB70A60E2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B6CDD-29EE-4B79-99D6-5476804F3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FAC8-F736-4565-9F2B-8682B1CE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AAE30-00E7-4C9D-84F1-2F47FF6A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2A472-DFFB-4232-B2F3-F524F14A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1DBE-5BA9-46CD-A167-C2FF9399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C348-9875-4EB7-99CF-1B836456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8478E-525C-4EF6-B09B-40E8BF52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65B3-2975-47E4-828E-C7997209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2538F-E936-46A9-B3D9-0558F988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CE2A1-A499-4EB1-9E06-FC6BAEC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332CF-A0B1-4B4C-8302-69DEB0AC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496B2-6800-4AA5-8847-136CBFC9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614-768D-406C-A881-D23990C7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432F-C12C-4FCC-9CD9-20F006A4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3CA7D-F2C5-40EF-8486-8BD47869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A1DBF-3F7C-4BB1-92EE-86691596F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2A7C-DC7A-4F3C-A210-03E260C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92B-1B7F-45C0-9077-52BC2597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193E-5E99-42CA-83B3-E27840CFDB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C9B1-C571-4550-BE14-8FE16606861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8F06-EEAC-47BC-A796-254B86E7456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C59F-20FD-47F9-96BC-7625385A48A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AC09-7396-4D53-A67A-E8DE028AA5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4BD3-2D3C-41FC-92B9-6F74A87693D7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Заголовок 1"/>
          <p:cNvSpPr/>
          <p:nvPr/>
        </p:nvSpPr>
        <p:spPr>
          <a:xfrm>
            <a:off x="1835280" y="969840"/>
            <a:ext cx="5292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Подзаголовок 2"/>
          <p:cNvSpPr/>
          <p:nvPr/>
        </p:nvSpPr>
        <p:spPr>
          <a:xfrm>
            <a:off x="324000" y="2781360"/>
            <a:ext cx="850104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ательная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авнение касательной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класс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Заголовок 1"/>
          <p:cNvSpPr/>
          <p:nvPr/>
        </p:nvSpPr>
        <p:spPr>
          <a:xfrm>
            <a:off x="1862280" y="4797360"/>
            <a:ext cx="52927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пкеев Магомед Якубови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авнение касательной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f(a) + 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 · (x - 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;f(a)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координаты точки  кас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i="1" lang="he-IL" sz="3200" spc="-1" strike="noStrike">
                <a:solidFill>
                  <a:srgbClr val="ffffff"/>
                </a:solidFill>
                <a:latin typeface="Book Antiqua"/>
                <a:ea typeface="Levenim MT"/>
              </a:rPr>
              <a:t>´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(a) = tg</a:t>
            </a:r>
            <a:r>
              <a:rPr b="1" i="1" lang="el-GR" sz="32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k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тангенс угла наклона касательной в данной точке или угловой коэффициен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х;у) – координаты любой  точки касатель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11120" indent="-342720">
              <a:spcBef>
                <a:spcPts val="700"/>
              </a:spcBef>
              <a:buClr>
                <a:srgbClr val="d4d2d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716000" y="1700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914400" y="1197000"/>
            <a:ext cx="7772400" cy="41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1. Обозначим абсциссу точки касания буквой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2. Вычислим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(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3. Найде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Levenim MT"/>
              </a:rPr>
              <a:t>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x)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 вычисли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  <a:ea typeface="Levenim MT"/>
              </a:rPr>
              <a:t>´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4. Подставим найденные значения в общее уравнение касатель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5.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 = f(a) + </a:t>
            </a:r>
            <a:r>
              <a:rPr b="1" i="1" lang="en-US" sz="32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 </a:t>
            </a:r>
            <a:r>
              <a:rPr b="1" i="1" lang="en-US" sz="32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) · (x - a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3" dur="20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8" dur="2000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4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2" name=""/>
          <p:cNvGraphicFramePr/>
          <p:nvPr/>
        </p:nvGraphicFramePr>
        <p:xfrm>
          <a:off x="971640" y="1341360"/>
          <a:ext cx="7056360" cy="4032360"/>
        </p:xfrm>
        <a:graphic>
          <a:graphicData uri="http://schemas.openxmlformats.org/drawingml/2006/table">
            <a:tbl>
              <a:tblPr/>
              <a:tblGrid>
                <a:gridCol w="777960"/>
                <a:gridCol w="3925800"/>
                <a:gridCol w="23526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-2x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(1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5/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³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x+2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/3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12/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x²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 </a:t>
                      </a:r>
                      <a:r>
                        <a:rPr b="1" lang="en-US" sz="2800" spc="-1" strike="noStrike" baseline="30000">
                          <a:solidFill>
                            <a:srgbClr val="a116e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√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3-2x²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2ctg2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/4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4/(2-cos3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 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/6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(x)= 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tg 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'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(</a:t>
                      </a:r>
                      <a:r>
                        <a:rPr b="1" lang="el-GR" sz="2800" spc="-1" strike="noStrike">
                          <a:solidFill>
                            <a:srgbClr val="a116e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/6</a:t>
                      </a:r>
                      <a:r>
                        <a:rPr b="1" lang="en-US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)=</a:t>
                      </a: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2195640" y="5589720"/>
          <a:ext cx="5495760" cy="1036440"/>
        </p:xfrm>
        <a:graphic>
          <a:graphicData uri="http://schemas.openxmlformats.org/drawingml/2006/table">
            <a:tbl>
              <a:tblPr/>
              <a:tblGrid>
                <a:gridCol w="785520"/>
                <a:gridCol w="784440"/>
                <a:gridCol w="785880"/>
                <a:gridCol w="784080"/>
                <a:gridCol w="785880"/>
                <a:gridCol w="784080"/>
                <a:gridCol w="785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4/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a116e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38160">
                      <a:solidFill>
                        <a:srgbClr val="d4d2d0"/>
                      </a:solidFill>
                    </a:lnT>
                    <a:lnB w="18720">
                      <a:solidFill>
                        <a:srgbClr val="d4d2d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1872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d4d2d0"/>
                      </a:solidFill>
                    </a:lnL>
                    <a:lnR w="38160">
                      <a:solidFill>
                        <a:srgbClr val="d4d2d0"/>
                      </a:solidFill>
                    </a:lnR>
                    <a:lnT w="18720">
                      <a:solidFill>
                        <a:srgbClr val="d4d2d0"/>
                      </a:solidFill>
                    </a:lnT>
                    <a:lnB w="38160">
                      <a:solidFill>
                        <a:srgbClr val="d4d2d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4" name="Picture 182" descr="Mailme"/>
          <p:cNvPicPr/>
          <p:nvPr/>
        </p:nvPicPr>
        <p:blipFill>
          <a:blip r:embed="rId1"/>
          <a:stretch/>
        </p:blipFill>
        <p:spPr>
          <a:xfrm>
            <a:off x="7596360" y="558972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405" name="WordArt 183"/>
          <p:cNvSpPr txBox="1"/>
          <p:nvPr/>
        </p:nvSpPr>
        <p:spPr>
          <a:xfrm>
            <a:off x="468360" y="189000"/>
            <a:ext cx="7272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СШИФРУЙТЕ, КАК ИСААК  НЬЮТОН</a:t>
            </a:r>
            <a:endParaRPr b="1" lang="en-US" sz="1800" spc="1" strike="noStrike">
              <a:ln w="1584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ЗВАЛ  ПРОИЗВОДНУЮ  ФУНКЦИИ</a:t>
            </a:r>
            <a:endParaRPr b="1" lang="en-US" sz="1800" spc="1" strike="noStrike">
              <a:ln w="1584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06" name="TextBox 5"/>
          <p:cNvSpPr/>
          <p:nvPr/>
        </p:nvSpPr>
        <p:spPr>
          <a:xfrm>
            <a:off x="2340000" y="587700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   л   ю  к    с   и   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4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4" descr=""/>
          <p:cNvPicPr/>
          <p:nvPr/>
        </p:nvPicPr>
        <p:blipFill>
          <a:blip r:embed="rId1"/>
          <a:srcRect l="0" t="0" r="2550" b="8811"/>
          <a:stretch/>
        </p:blipFill>
        <p:spPr>
          <a:xfrm>
            <a:off x="6732720" y="1413000"/>
            <a:ext cx="2232000" cy="2477880"/>
          </a:xfrm>
          <a:prstGeom prst="rect">
            <a:avLst/>
          </a:prstGeom>
          <a:ln w="0">
            <a:noFill/>
          </a:ln>
        </p:spPr>
      </p:pic>
      <p:sp>
        <p:nvSpPr>
          <p:cNvPr id="408" name="WordArt 6"/>
          <p:cNvSpPr txBox="1"/>
          <p:nvPr/>
        </p:nvSpPr>
        <p:spPr>
          <a:xfrm>
            <a:off x="468360" y="260280"/>
            <a:ext cx="7632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нятие "производная" возникло в связ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с необходимостью решения ряда задач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физики, механики и математики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09" name="WordArt 7"/>
          <p:cNvSpPr txBox="1"/>
          <p:nvPr/>
        </p:nvSpPr>
        <p:spPr>
          <a:xfrm>
            <a:off x="250920" y="1700280"/>
            <a:ext cx="468144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Честь откры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сновных законо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ализа принадлежи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английскому учен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Ньютону и немецком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ку Лейбницу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10" name="WordArt 8"/>
          <p:cNvSpPr txBox="1"/>
          <p:nvPr/>
        </p:nvSpPr>
        <p:spPr>
          <a:xfrm>
            <a:off x="250920" y="4221000"/>
            <a:ext cx="468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Лейбниц рассматрива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задачу о проведени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к произвольно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рив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411" name="Рисунок 5" descr="Лейбниц"/>
          <p:cNvPicPr/>
          <p:nvPr/>
        </p:nvPicPr>
        <p:blipFill>
          <a:blip r:embed="rId2"/>
          <a:stretch/>
        </p:blipFill>
        <p:spPr>
          <a:xfrm>
            <a:off x="6732720" y="4005360"/>
            <a:ext cx="216036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Заголовок 1" descr=""/>
          <p:cNvPicPr/>
          <p:nvPr/>
        </p:nvPicPr>
        <p:blipFill>
          <a:blip r:embed="rId1"/>
          <a:stretch/>
        </p:blipFill>
        <p:spPr>
          <a:xfrm>
            <a:off x="324000" y="109440"/>
            <a:ext cx="8740800" cy="205416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1371600" y="2276640"/>
            <a:ext cx="64008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ить уравнение касательной к графику функции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(x)=x²-3x+5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точке с абсциссой а = -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Franklin Gothic Book"/>
              </a:rPr>
              <a:t>Задания ЕГЭ 2011 В-8</a:t>
            </a:r>
            <a:endParaRPr b="0" lang="en-US" sz="5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ункция у = f(x) определена на  промежутке (-3; 4). На рисунке изображён её  график и касательная к этому графику в точке с абсциссой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= 1.   Вычислите значение  производной f'(x) в точке а= 1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2" descr=""/>
          <p:cNvPicPr/>
          <p:nvPr/>
        </p:nvPicPr>
        <p:blipFill>
          <a:blip r:embed="rId1"/>
          <a:stretch/>
        </p:blipFill>
        <p:spPr>
          <a:xfrm>
            <a:off x="4788000" y="1197000"/>
            <a:ext cx="403848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Функция у = f(x) определена на  промежутке (-3;4). На рисунке изображён её  график и касательная к этому графику в точке с абсциссой а = -2. Вычислите значение  производной f'(x) в точке а = -2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4648320" y="404640"/>
            <a:ext cx="41716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4" descr=""/>
          <p:cNvPicPr/>
          <p:nvPr/>
        </p:nvPicPr>
        <p:blipFill>
          <a:blip r:embed="rId1"/>
          <a:stretch/>
        </p:blipFill>
        <p:spPr>
          <a:xfrm>
            <a:off x="469800" y="139680"/>
            <a:ext cx="8863200" cy="2023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Подготовка к ЕГЭ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В-8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41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565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Самостоятельная работа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Напишите уравнение касательной к графику функции у=</a:t>
            </a:r>
            <a:r>
              <a:rPr b="0" lang="en-US" sz="4100" spc="-1" strike="noStrike">
                <a:solidFill>
                  <a:srgbClr val="ffffff"/>
                </a:solidFill>
                <a:latin typeface="Franklin Gothic Book"/>
              </a:rPr>
              <a:t>f(x)</a:t>
            </a: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 в точке с абсциссой а.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вариант 1             вариант 2</a:t>
            </a:r>
            <a:br>
              <a:rPr sz="4100"/>
            </a:b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= х²+ х+1, а=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9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648320" y="3284280"/>
            <a:ext cx="403848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= х-3х², а=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WordArt 5"/>
          <p:cNvSpPr txBox="1"/>
          <p:nvPr/>
        </p:nvSpPr>
        <p:spPr>
          <a:xfrm>
            <a:off x="1042920" y="333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  УРОКА:</a:t>
            </a:r>
            <a:endParaRPr b="1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5" name="WordArt 6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6138720" cy="1170000"/>
          </a:xfrm>
          <a:prstGeom prst="rect">
            <a:avLst/>
          </a:prstGeom>
          <a:ln w="0">
            <a:noFill/>
          </a:ln>
        </p:spPr>
      </p:pic>
      <p:sp>
        <p:nvSpPr>
          <p:cNvPr id="426" name="WordArt 7"/>
          <p:cNvSpPr txBox="1"/>
          <p:nvPr/>
        </p:nvSpPr>
        <p:spPr>
          <a:xfrm>
            <a:off x="395280" y="2637000"/>
            <a:ext cx="626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. Вывести  уравнение  касательн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7" name="WordArt 8"/>
          <p:cNvSpPr txBox="1"/>
          <p:nvPr/>
        </p:nvSpPr>
        <p:spPr>
          <a:xfrm>
            <a:off x="395280" y="328464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. Создать  алгоритм  составления 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 к  графику  функции  y=f(x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28" name="WordArt 9"/>
          <p:cNvSpPr txBox="1"/>
          <p:nvPr/>
        </p:nvSpPr>
        <p:spPr>
          <a:xfrm>
            <a:off x="539640" y="4508640"/>
            <a:ext cx="734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. Начать  отрабатывать умения  и  навы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составлении  уравнения  касательной 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лич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их  ситуация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484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виз урока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268360" y="1773000"/>
            <a:ext cx="5158080" cy="27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хих идей не быв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слите творчес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скуй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 критикуй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ведение итогов</a:t>
            </a:r>
            <a:endParaRPr b="0" lang="en-US" sz="6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зывается касательной к графику функции в точк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 чём заключается геометрический смысл производной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формулируйте алгоритм нахождения уравнения касательной в точке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AutoShape 4"/>
          <p:cNvSpPr/>
          <p:nvPr/>
        </p:nvSpPr>
        <p:spPr>
          <a:xfrm>
            <a:off x="971640" y="1484280"/>
            <a:ext cx="1512720" cy="1332000"/>
          </a:xfrm>
          <a:prstGeom prst="smileyFace">
            <a:avLst>
              <a:gd name="adj" fmla="val -295"/>
            </a:avLst>
          </a:prstGeom>
          <a:solidFill>
            <a:srgbClr val="c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916360" y="1844640"/>
            <a:ext cx="59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евожно, не уверен в се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843280" y="3789360"/>
            <a:ext cx="63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покойно, у меня все получи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2627280" y="5734080"/>
            <a:ext cx="65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безразлично, что будет, то и буд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539640" y="26028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ерете смайлик, соответствующий вашему настроению и состоянию после проведенного уро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AutoShape 9"/>
          <p:cNvSpPr/>
          <p:nvPr/>
        </p:nvSpPr>
        <p:spPr>
          <a:xfrm>
            <a:off x="826920" y="3284640"/>
            <a:ext cx="1513080" cy="1331640"/>
          </a:xfrm>
          <a:prstGeom prst="smileyFace">
            <a:avLst>
              <a:gd name="adj" fmla="val 9282"/>
            </a:avLst>
          </a:prstGeom>
          <a:solidFill>
            <a:srgbClr val="0070c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AutoShape 10"/>
          <p:cNvSpPr/>
          <p:nvPr/>
        </p:nvSpPr>
        <p:spPr>
          <a:xfrm>
            <a:off x="826920" y="5300640"/>
            <a:ext cx="1513080" cy="1332000"/>
          </a:xfrm>
          <a:prstGeom prst="smileyFace">
            <a:avLst>
              <a:gd name="adj" fmla="val -4652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2" dur="2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Прямоугольник 1" descr=""/>
          <p:cNvPicPr/>
          <p:nvPr/>
        </p:nvPicPr>
        <p:blipFill>
          <a:blip r:embed="rId1"/>
          <a:stretch/>
        </p:blipFill>
        <p:spPr>
          <a:xfrm>
            <a:off x="950760" y="1517760"/>
            <a:ext cx="72424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250920" y="260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я формулы и правила дифференцирования, найдите производные следующих функций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684360" y="1844640"/>
                <a:ext cx="17175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9" name="Text Box 8"/>
          <p:cNvSpPr/>
          <p:nvPr/>
        </p:nvSpPr>
        <p:spPr>
          <a:xfrm>
            <a:off x="3852720" y="206064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3"/>
              <p:cNvSpPr txBox="1"/>
              <p:nvPr/>
            </p:nvSpPr>
            <p:spPr>
              <a:xfrm>
                <a:off x="5292720" y="1844640"/>
                <a:ext cx="122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9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2" name="Rectangle 1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Object 4"/>
              <p:cNvSpPr txBox="1"/>
              <p:nvPr/>
            </p:nvSpPr>
            <p:spPr>
              <a:xfrm>
                <a:off x="684360" y="2492280"/>
                <a:ext cx="156996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5"/>
              <p:cNvSpPr txBox="1"/>
              <p:nvPr/>
            </p:nvSpPr>
            <p:spPr>
              <a:xfrm>
                <a:off x="5292720" y="2349360"/>
                <a:ext cx="1368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х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6" name="Rectangle 1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7" name="Object 6"/>
              <p:cNvSpPr txBox="1"/>
              <p:nvPr/>
            </p:nvSpPr>
            <p:spPr>
              <a:xfrm>
                <a:off x="684360" y="3141720"/>
                <a:ext cx="1800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8" name="Rectangle 1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Object 7"/>
              <p:cNvSpPr txBox="1"/>
              <p:nvPr/>
            </p:nvSpPr>
            <p:spPr>
              <a:xfrm>
                <a:off x="5292720" y="3068640"/>
                <a:ext cx="936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Object 8"/>
              <p:cNvSpPr txBox="1"/>
              <p:nvPr/>
            </p:nvSpPr>
            <p:spPr>
              <a:xfrm>
                <a:off x="684360" y="3645000"/>
                <a:ext cx="2278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у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5292720" y="3573360"/>
                <a:ext cx="2016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3" name="Rectangle 2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10"/>
              <p:cNvSpPr txBox="1"/>
              <p:nvPr/>
            </p:nvSpPr>
            <p:spPr>
              <a:xfrm>
                <a:off x="684360" y="4508640"/>
                <a:ext cx="2232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Rectangle 26"/>
          <p:cNvSpPr/>
          <p:nvPr/>
        </p:nvSpPr>
        <p:spPr>
          <a:xfrm>
            <a:off x="0" y="3102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1"/>
              <p:cNvSpPr txBox="1"/>
              <p:nvPr/>
            </p:nvSpPr>
            <p:spPr>
              <a:xfrm>
                <a:off x="5292720" y="4508640"/>
                <a:ext cx="32608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Rectangle 28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2"/>
              <p:cNvSpPr txBox="1"/>
              <p:nvPr/>
            </p:nvSpPr>
            <p:spPr>
              <a:xfrm>
                <a:off x="684360" y="5157720"/>
                <a:ext cx="28112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9" name="Object 13"/>
              <p:cNvSpPr txBox="1"/>
              <p:nvPr/>
            </p:nvSpPr>
            <p:spPr>
              <a:xfrm>
                <a:off x="5292720" y="5013360"/>
                <a:ext cx="23763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х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9560" y="266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гласны ли вы с утверждением: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79280" y="1784520"/>
            <a:ext cx="8964720" cy="38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2216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Касательная – это прямая, имеющая с данной кривой одну общую точк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55600"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ая соединительная линия 30"/>
          <p:cNvSpPr/>
          <p:nvPr/>
        </p:nvSpPr>
        <p:spPr>
          <a:xfrm>
            <a:off x="7357320" y="3143160"/>
            <a:ext cx="71640" cy="3502080"/>
          </a:xfrm>
          <a:prstGeom prst="line">
            <a:avLst/>
          </a:prstGeom>
          <a:ln w="38160">
            <a:solidFill>
              <a:srgbClr val="ffc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3" name="Text Box 38"/>
          <p:cNvGrpSpPr/>
          <p:nvPr/>
        </p:nvGrpSpPr>
        <p:grpSpPr>
          <a:xfrm>
            <a:off x="1925640" y="3213000"/>
            <a:ext cx="463680" cy="523800"/>
            <a:chOff x="1925640" y="3213000"/>
            <a:chExt cx="463680" cy="523800"/>
          </a:xfrm>
        </p:grpSpPr>
        <p:pic>
          <p:nvPicPr>
            <p:cNvPr id="294" name="Text Box 38" descr=""/>
            <p:cNvPicPr/>
            <p:nvPr/>
          </p:nvPicPr>
          <p:blipFill>
            <a:blip r:embed="rId1"/>
            <a:stretch/>
          </p:blipFill>
          <p:spPr>
            <a:xfrm>
              <a:off x="1925640" y="3213000"/>
              <a:ext cx="4636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2000160" y="3286080"/>
              <a:ext cx="31608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32"/>
          <p:cNvGrpSpPr/>
          <p:nvPr/>
        </p:nvGrpSpPr>
        <p:grpSpPr>
          <a:xfrm>
            <a:off x="323640" y="404280"/>
            <a:ext cx="3795840" cy="3996360"/>
            <a:chOff x="323640" y="404280"/>
            <a:chExt cx="3795840" cy="3996360"/>
          </a:xfrm>
        </p:grpSpPr>
        <p:cxnSp>
          <p:nvCxnSpPr>
            <p:cNvPr id="297" name="AutoShape 33"/>
            <p:cNvCxnSpPr/>
            <p:nvPr/>
          </p:nvCxnSpPr>
          <p:spPr>
            <a:xfrm flipV="1">
              <a:off x="1744560" y="404280"/>
              <a:ext cx="1080" cy="399672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298" name="AutoShape 34"/>
            <p:cNvCxnSpPr/>
            <p:nvPr/>
          </p:nvCxnSpPr>
          <p:spPr>
            <a:xfrm>
              <a:off x="323640" y="3147480"/>
              <a:ext cx="3796200" cy="108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299" name="Text Box 37"/>
          <p:cNvGrpSpPr/>
          <p:nvPr/>
        </p:nvGrpSpPr>
        <p:grpSpPr>
          <a:xfrm>
            <a:off x="3481560" y="5479920"/>
            <a:ext cx="1041120" cy="795960"/>
            <a:chOff x="3481560" y="5479920"/>
            <a:chExt cx="1041120" cy="795960"/>
          </a:xfrm>
        </p:grpSpPr>
        <p:pic>
          <p:nvPicPr>
            <p:cNvPr id="300" name="Text Box 37" descr=""/>
            <p:cNvPicPr/>
            <p:nvPr/>
          </p:nvPicPr>
          <p:blipFill>
            <a:blip r:embed="rId2"/>
            <a:stretch/>
          </p:blipFill>
          <p:spPr>
            <a:xfrm>
              <a:off x="3481560" y="5479920"/>
              <a:ext cx="1041120" cy="5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571920" y="5572080"/>
              <a:ext cx="85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Text Box 38"/>
          <p:cNvGrpSpPr/>
          <p:nvPr/>
        </p:nvGrpSpPr>
        <p:grpSpPr>
          <a:xfrm>
            <a:off x="8375760" y="4724280"/>
            <a:ext cx="493560" cy="554040"/>
            <a:chOff x="8375760" y="4724280"/>
            <a:chExt cx="493560" cy="554040"/>
          </a:xfrm>
        </p:grpSpPr>
        <p:pic>
          <p:nvPicPr>
            <p:cNvPr id="303" name="Text Box 38" descr=""/>
            <p:cNvPicPr/>
            <p:nvPr/>
          </p:nvPicPr>
          <p:blipFill>
            <a:blip r:embed="rId3"/>
            <a:stretch/>
          </p:blipFill>
          <p:spPr>
            <a:xfrm>
              <a:off x="8375760" y="4724280"/>
              <a:ext cx="493560" cy="5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464680" y="4813200"/>
              <a:ext cx="31572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5" name="Text Box 39"/>
          <p:cNvGrpSpPr/>
          <p:nvPr/>
        </p:nvGrpSpPr>
        <p:grpSpPr>
          <a:xfrm>
            <a:off x="5492880" y="3103560"/>
            <a:ext cx="500040" cy="560520"/>
            <a:chOff x="5492880" y="3103560"/>
            <a:chExt cx="500040" cy="560520"/>
          </a:xfrm>
        </p:grpSpPr>
        <p:pic>
          <p:nvPicPr>
            <p:cNvPr id="306" name="Text Box 39" descr=""/>
            <p:cNvPicPr/>
            <p:nvPr/>
          </p:nvPicPr>
          <p:blipFill>
            <a:blip r:embed="rId4"/>
            <a:stretch/>
          </p:blipFill>
          <p:spPr>
            <a:xfrm>
              <a:off x="5492880" y="3103560"/>
              <a:ext cx="5000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5584680" y="319248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8" name="Text Box 40"/>
          <p:cNvGrpSpPr/>
          <p:nvPr/>
        </p:nvGrpSpPr>
        <p:grpSpPr>
          <a:xfrm>
            <a:off x="6053040" y="3340080"/>
            <a:ext cx="1305000" cy="542880"/>
            <a:chOff x="6053040" y="3340080"/>
            <a:chExt cx="1305000" cy="542880"/>
          </a:xfrm>
        </p:grpSpPr>
        <p:pic>
          <p:nvPicPr>
            <p:cNvPr id="309" name="Text Box 40" descr=""/>
            <p:cNvPicPr/>
            <p:nvPr/>
          </p:nvPicPr>
          <p:blipFill>
            <a:blip r:embed="rId5"/>
            <a:stretch/>
          </p:blipFill>
          <p:spPr>
            <a:xfrm>
              <a:off x="6053040" y="3340080"/>
              <a:ext cx="130500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6143760" y="3429000"/>
              <a:ext cx="11239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cos 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1" name="Text Box 41"/>
          <p:cNvGrpSpPr/>
          <p:nvPr/>
        </p:nvGrpSpPr>
        <p:grpSpPr>
          <a:xfrm>
            <a:off x="4157640" y="4054320"/>
            <a:ext cx="663480" cy="682920"/>
            <a:chOff x="4157640" y="4054320"/>
            <a:chExt cx="663480" cy="682920"/>
          </a:xfrm>
        </p:grpSpPr>
        <p:pic>
          <p:nvPicPr>
            <p:cNvPr id="312" name="Text Box 41" descr=""/>
            <p:cNvPicPr/>
            <p:nvPr/>
          </p:nvPicPr>
          <p:blipFill>
            <a:blip r:embed="rId6"/>
            <a:stretch/>
          </p:blipFill>
          <p:spPr>
            <a:xfrm>
              <a:off x="4157640" y="4054320"/>
              <a:ext cx="663480" cy="6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251240" y="4143240"/>
              <a:ext cx="47952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Group 43"/>
          <p:cNvGrpSpPr/>
          <p:nvPr/>
        </p:nvGrpSpPr>
        <p:grpSpPr>
          <a:xfrm>
            <a:off x="3429000" y="3071520"/>
            <a:ext cx="5501160" cy="3286440"/>
            <a:chOff x="3429000" y="3071520"/>
            <a:chExt cx="5501160" cy="3286440"/>
          </a:xfrm>
        </p:grpSpPr>
        <p:cxnSp>
          <p:nvCxnSpPr>
            <p:cNvPr id="315" name="AutoShape 44"/>
            <p:cNvCxnSpPr/>
            <p:nvPr/>
          </p:nvCxnSpPr>
          <p:spPr>
            <a:xfrm flipV="1">
              <a:off x="6014160" y="3071520"/>
              <a:ext cx="1080" cy="328680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16" name="AutoShape 45"/>
            <p:cNvCxnSpPr/>
            <p:nvPr/>
          </p:nvCxnSpPr>
          <p:spPr>
            <a:xfrm>
              <a:off x="3429000" y="4714920"/>
              <a:ext cx="5501520" cy="2160"/>
            </a:xfrm>
            <a:prstGeom prst="straightConnector1">
              <a:avLst/>
            </a:prstGeom>
            <a:ln w="1260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17" name="Group 46"/>
          <p:cNvGrpSpPr/>
          <p:nvPr/>
        </p:nvGrpSpPr>
        <p:grpSpPr>
          <a:xfrm>
            <a:off x="3828960" y="3949200"/>
            <a:ext cx="4319640" cy="1535760"/>
            <a:chOff x="3828960" y="3949200"/>
            <a:chExt cx="4319640" cy="1535760"/>
          </a:xfrm>
        </p:grpSpPr>
        <p:sp>
          <p:nvSpPr>
            <p:cNvPr id="318" name="Freeform 47"/>
            <p:cNvSpPr/>
            <p:nvPr/>
          </p:nvSpPr>
          <p:spPr>
            <a:xfrm>
              <a:off x="3828960" y="4718160"/>
              <a:ext cx="144000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48"/>
            <p:cNvSpPr/>
            <p:nvPr/>
          </p:nvSpPr>
          <p:spPr>
            <a:xfrm rot="10800000">
              <a:off x="5268960" y="3949200"/>
              <a:ext cx="1440000" cy="7686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49"/>
            <p:cNvSpPr/>
            <p:nvPr/>
          </p:nvSpPr>
          <p:spPr>
            <a:xfrm>
              <a:off x="6708960" y="4718160"/>
              <a:ext cx="1439640" cy="766800"/>
            </a:xfrm>
            <a:custGeom>
              <a:avLst/>
              <a:gdLst/>
              <a:ahLst/>
              <a:rect l="l" t="t" r="r" b="b"/>
              <a:pathLst>
                <a:path w="1695" h="855">
                  <a:moveTo>
                    <a:pt x="0" y="0"/>
                  </a:moveTo>
                  <a:cubicBezTo>
                    <a:pt x="264" y="427"/>
                    <a:pt x="528" y="855"/>
                    <a:pt x="810" y="855"/>
                  </a:cubicBezTo>
                  <a:cubicBezTo>
                    <a:pt x="1092" y="855"/>
                    <a:pt x="1393" y="427"/>
                    <a:pt x="1695" y="0"/>
                  </a:cubicBezTo>
                </a:path>
              </a:pathLst>
            </a:custGeom>
            <a:noFill/>
            <a:ln w="25560">
              <a:solidFill>
                <a:srgbClr val="ba60c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21" name="AutoShape 50"/>
          <p:cNvCxnSpPr/>
          <p:nvPr/>
        </p:nvCxnSpPr>
        <p:spPr>
          <a:xfrm>
            <a:off x="4000680" y="5500440"/>
            <a:ext cx="4342320" cy="1080"/>
          </a:xfrm>
          <a:prstGeom prst="straightConnector1">
            <a:avLst/>
          </a:prstGeom>
          <a:ln w="25560">
            <a:solidFill>
              <a:srgbClr val="00b050"/>
            </a:solidFill>
            <a:miter/>
          </a:ln>
        </p:spPr>
      </p:cxnSp>
      <p:cxnSp>
        <p:nvCxnSpPr>
          <p:cNvPr id="322" name="AutoShape 51"/>
          <p:cNvCxnSpPr/>
          <p:nvPr/>
        </p:nvCxnSpPr>
        <p:spPr>
          <a:xfrm flipV="1">
            <a:off x="7395840" y="4714560"/>
            <a:ext cx="1080" cy="768960"/>
          </a:xfrm>
          <a:prstGeom prst="straightConnector1">
            <a:avLst/>
          </a:prstGeom>
          <a:ln w="9360">
            <a:solidFill>
              <a:srgbClr val="b2b5bb"/>
            </a:solidFill>
            <a:prstDash val="dash"/>
            <a:miter/>
          </a:ln>
        </p:spPr>
      </p:cxnSp>
      <p:cxnSp>
        <p:nvCxnSpPr>
          <p:cNvPr id="323" name="AutoShape 52"/>
          <p:cNvCxnSpPr/>
          <p:nvPr/>
        </p:nvCxnSpPr>
        <p:spPr>
          <a:xfrm flipV="1">
            <a:off x="4517640" y="4716000"/>
            <a:ext cx="1080" cy="767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24" name="Text Box 53"/>
          <p:cNvGrpSpPr/>
          <p:nvPr/>
        </p:nvGrpSpPr>
        <p:grpSpPr>
          <a:xfrm>
            <a:off x="7553160" y="4121280"/>
            <a:ext cx="609840" cy="573120"/>
            <a:chOff x="7553160" y="4121280"/>
            <a:chExt cx="609840" cy="573120"/>
          </a:xfrm>
        </p:grpSpPr>
        <p:pic>
          <p:nvPicPr>
            <p:cNvPr id="325" name="Text Box 53" descr=""/>
            <p:cNvPicPr/>
            <p:nvPr/>
          </p:nvPicPr>
          <p:blipFill>
            <a:blip r:embed="rId7"/>
            <a:stretch/>
          </p:blipFill>
          <p:spPr>
            <a:xfrm>
              <a:off x="7553160" y="4121280"/>
              <a:ext cx="609840" cy="57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7643880" y="4214880"/>
              <a:ext cx="4284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Text Box 38"/>
          <p:cNvGrpSpPr/>
          <p:nvPr/>
        </p:nvGrpSpPr>
        <p:grpSpPr>
          <a:xfrm>
            <a:off x="3597120" y="3213000"/>
            <a:ext cx="498600" cy="560520"/>
            <a:chOff x="3597120" y="3213000"/>
            <a:chExt cx="498600" cy="560520"/>
          </a:xfrm>
        </p:grpSpPr>
        <p:pic>
          <p:nvPicPr>
            <p:cNvPr id="328" name="Text Box 38" descr=""/>
            <p:cNvPicPr/>
            <p:nvPr/>
          </p:nvPicPr>
          <p:blipFill>
            <a:blip r:embed="rId8"/>
            <a:stretch/>
          </p:blipFill>
          <p:spPr>
            <a:xfrm>
              <a:off x="3597120" y="3213000"/>
              <a:ext cx="4986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686040" y="330372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Text Box 39"/>
          <p:cNvGrpSpPr/>
          <p:nvPr/>
        </p:nvGrpSpPr>
        <p:grpSpPr>
          <a:xfrm>
            <a:off x="1146240" y="255600"/>
            <a:ext cx="500040" cy="561960"/>
            <a:chOff x="1146240" y="255600"/>
            <a:chExt cx="500040" cy="561960"/>
          </a:xfrm>
        </p:grpSpPr>
        <p:pic>
          <p:nvPicPr>
            <p:cNvPr id="331" name="Text Box 39" descr=""/>
            <p:cNvPicPr/>
            <p:nvPr/>
          </p:nvPicPr>
          <p:blipFill>
            <a:blip r:embed="rId9"/>
            <a:stretch/>
          </p:blipFill>
          <p:spPr>
            <a:xfrm>
              <a:off x="1146240" y="255600"/>
              <a:ext cx="50004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238400" y="349200"/>
              <a:ext cx="31572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Полилиния 59"/>
          <p:cNvSpPr/>
          <p:nvPr/>
        </p:nvSpPr>
        <p:spPr>
          <a:xfrm>
            <a:off x="701640" y="838080"/>
            <a:ext cx="2163960" cy="233388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ая соединительная линия 61"/>
          <p:cNvSpPr/>
          <p:nvPr/>
        </p:nvSpPr>
        <p:spPr>
          <a:xfrm>
            <a:off x="2320200" y="857160"/>
            <a:ext cx="36360" cy="3714840"/>
          </a:xfrm>
          <a:prstGeom prst="line">
            <a:avLst/>
          </a:prstGeom>
          <a:ln w="28440">
            <a:solidFill>
              <a:srgbClr val="676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ая соединительная линия 66"/>
          <p:cNvSpPr/>
          <p:nvPr/>
        </p:nvSpPr>
        <p:spPr>
          <a:xfrm flipH="1">
            <a:off x="1499760" y="100008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6" name="Прямоугольник 68"/>
          <p:cNvGrpSpPr/>
          <p:nvPr/>
        </p:nvGrpSpPr>
        <p:grpSpPr>
          <a:xfrm>
            <a:off x="133200" y="2560680"/>
            <a:ext cx="1116000" cy="584280"/>
            <a:chOff x="133200" y="2560680"/>
            <a:chExt cx="1116000" cy="584280"/>
          </a:xfrm>
        </p:grpSpPr>
        <p:pic>
          <p:nvPicPr>
            <p:cNvPr id="337" name="Прямоугольник 68" descr=""/>
            <p:cNvPicPr/>
            <p:nvPr/>
          </p:nvPicPr>
          <p:blipFill>
            <a:blip r:embed="rId10"/>
            <a:stretch/>
          </p:blipFill>
          <p:spPr>
            <a:xfrm>
              <a:off x="133200" y="2560680"/>
              <a:ext cx="111600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32920" y="26528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Text Box 37"/>
          <p:cNvGrpSpPr/>
          <p:nvPr/>
        </p:nvGrpSpPr>
        <p:grpSpPr>
          <a:xfrm>
            <a:off x="2335320" y="3981600"/>
            <a:ext cx="1041120" cy="583920"/>
            <a:chOff x="2335320" y="3981600"/>
            <a:chExt cx="1041120" cy="583920"/>
          </a:xfrm>
        </p:grpSpPr>
        <p:pic>
          <p:nvPicPr>
            <p:cNvPr id="340" name="Text Box 37" descr=""/>
            <p:cNvPicPr/>
            <p:nvPr/>
          </p:nvPicPr>
          <p:blipFill>
            <a:blip r:embed="rId11"/>
            <a:stretch/>
          </p:blipFill>
          <p:spPr>
            <a:xfrm>
              <a:off x="2335320" y="3981600"/>
              <a:ext cx="1041120" cy="58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2428920" y="40719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Text Box 37"/>
          <p:cNvGrpSpPr/>
          <p:nvPr/>
        </p:nvGrpSpPr>
        <p:grpSpPr>
          <a:xfrm>
            <a:off x="3084480" y="1481040"/>
            <a:ext cx="1468440" cy="797400"/>
            <a:chOff x="3084480" y="1481040"/>
            <a:chExt cx="1468440" cy="797400"/>
          </a:xfrm>
        </p:grpSpPr>
        <p:pic>
          <p:nvPicPr>
            <p:cNvPr id="343" name="Text Box 37" descr=""/>
            <p:cNvPicPr/>
            <p:nvPr/>
          </p:nvPicPr>
          <p:blipFill>
            <a:blip r:embed="rId12"/>
            <a:stretch/>
          </p:blipFill>
          <p:spPr>
            <a:xfrm>
              <a:off x="3084480" y="1481040"/>
              <a:ext cx="146844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3178080" y="157464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5" name="Text Box 53"/>
          <p:cNvGrpSpPr/>
          <p:nvPr/>
        </p:nvGrpSpPr>
        <p:grpSpPr>
          <a:xfrm>
            <a:off x="7407360" y="5907240"/>
            <a:ext cx="1041480" cy="572760"/>
            <a:chOff x="7407360" y="5907240"/>
            <a:chExt cx="1041480" cy="572760"/>
          </a:xfrm>
        </p:grpSpPr>
        <p:pic>
          <p:nvPicPr>
            <p:cNvPr id="346" name="Text Box 53" descr=""/>
            <p:cNvPicPr/>
            <p:nvPr/>
          </p:nvPicPr>
          <p:blipFill>
            <a:blip r:embed="rId13"/>
            <a:stretch/>
          </p:blipFill>
          <p:spPr>
            <a:xfrm>
              <a:off x="7407360" y="5907240"/>
              <a:ext cx="1041480" cy="57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7500960" y="6000840"/>
              <a:ext cx="85716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 =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π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WordArt 5"/>
          <p:cNvSpPr txBox="1"/>
          <p:nvPr/>
        </p:nvSpPr>
        <p:spPr>
          <a:xfrm>
            <a:off x="1042920" y="333360"/>
            <a:ext cx="6985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3333cc"/>
                  </a:solidFill>
                  <a:miter/>
                </a:ln>
                <a:solidFill>
                  <a:srgbClr val="d4d2d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ЦЕЛИ  УРОКА:</a:t>
            </a:r>
            <a:endParaRPr b="1" lang="en-US" sz="1800" spc="1" strike="noStrike">
              <a:ln w="38160">
                <a:solidFill>
                  <a:srgbClr val="3333cc"/>
                </a:solidFill>
                <a:miter/>
              </a:ln>
              <a:solidFill>
                <a:srgbClr val="d4d2d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49" name="WordArt 6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6138720" cy="1170000"/>
          </a:xfrm>
          <a:prstGeom prst="rect">
            <a:avLst/>
          </a:prstGeom>
          <a:ln w="0">
            <a:noFill/>
          </a:ln>
        </p:spPr>
      </p:pic>
      <p:sp>
        <p:nvSpPr>
          <p:cNvPr id="350" name="WordArt 7"/>
          <p:cNvSpPr txBox="1"/>
          <p:nvPr/>
        </p:nvSpPr>
        <p:spPr>
          <a:xfrm>
            <a:off x="395280" y="2637000"/>
            <a:ext cx="626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2. Вывести  уравнение  касательной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51" name="WordArt 8"/>
          <p:cNvSpPr txBox="1"/>
          <p:nvPr/>
        </p:nvSpPr>
        <p:spPr>
          <a:xfrm>
            <a:off x="395280" y="3284640"/>
            <a:ext cx="8064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3. Создать  алгоритм  составления  урав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касательной  к  графику  функции  y=f(x)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352" name="WordArt 9"/>
          <p:cNvSpPr txBox="1"/>
          <p:nvPr/>
        </p:nvSpPr>
        <p:spPr>
          <a:xfrm>
            <a:off x="539640" y="4508640"/>
            <a:ext cx="73454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4. Начать  отрабатывать умения  и  навы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  составлении  уравнения  касательной  в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различны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атематических  ситуациях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Text Box 38"/>
          <p:cNvGrpSpPr/>
          <p:nvPr/>
        </p:nvGrpSpPr>
        <p:grpSpPr>
          <a:xfrm>
            <a:off x="4059360" y="3267000"/>
            <a:ext cx="463320" cy="523800"/>
            <a:chOff x="4059360" y="3267000"/>
            <a:chExt cx="463320" cy="523800"/>
          </a:xfrm>
        </p:grpSpPr>
        <p:pic>
          <p:nvPicPr>
            <p:cNvPr id="354" name="Text Box 38" descr=""/>
            <p:cNvPicPr/>
            <p:nvPr/>
          </p:nvPicPr>
          <p:blipFill>
            <a:blip r:embed="rId1"/>
            <a:stretch/>
          </p:blipFill>
          <p:spPr>
            <a:xfrm>
              <a:off x="4059360" y="3267000"/>
              <a:ext cx="46332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135320" y="3338640"/>
              <a:ext cx="31608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Group 32"/>
          <p:cNvGrpSpPr/>
          <p:nvPr/>
        </p:nvGrpSpPr>
        <p:grpSpPr>
          <a:xfrm>
            <a:off x="2492280" y="480600"/>
            <a:ext cx="3796200" cy="3995640"/>
            <a:chOff x="2492280" y="480600"/>
            <a:chExt cx="3796200" cy="3995640"/>
          </a:xfrm>
        </p:grpSpPr>
        <p:cxnSp>
          <p:nvCxnSpPr>
            <p:cNvPr id="357" name="AutoShape 33"/>
            <p:cNvCxnSpPr/>
            <p:nvPr/>
          </p:nvCxnSpPr>
          <p:spPr>
            <a:xfrm flipV="1">
              <a:off x="3912840" y="480600"/>
              <a:ext cx="1080" cy="399600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58" name="AutoShape 34"/>
            <p:cNvCxnSpPr/>
            <p:nvPr/>
          </p:nvCxnSpPr>
          <p:spPr>
            <a:xfrm>
              <a:off x="2492280" y="3223800"/>
              <a:ext cx="3796560" cy="108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59" name="Text Box 38"/>
          <p:cNvGrpSpPr/>
          <p:nvPr/>
        </p:nvGrpSpPr>
        <p:grpSpPr>
          <a:xfrm>
            <a:off x="5761080" y="3249720"/>
            <a:ext cx="493560" cy="560160"/>
            <a:chOff x="5761080" y="3249720"/>
            <a:chExt cx="493560" cy="560160"/>
          </a:xfrm>
        </p:grpSpPr>
        <p:pic>
          <p:nvPicPr>
            <p:cNvPr id="360" name="Text Box 38" descr=""/>
            <p:cNvPicPr/>
            <p:nvPr/>
          </p:nvPicPr>
          <p:blipFill>
            <a:blip r:embed="rId2"/>
            <a:stretch/>
          </p:blipFill>
          <p:spPr>
            <a:xfrm>
              <a:off x="5761080" y="3249720"/>
              <a:ext cx="493560" cy="56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5850000" y="3338640"/>
              <a:ext cx="31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Text Box 39"/>
          <p:cNvGrpSpPr/>
          <p:nvPr/>
        </p:nvGrpSpPr>
        <p:grpSpPr>
          <a:xfrm>
            <a:off x="3279600" y="311040"/>
            <a:ext cx="500400" cy="560520"/>
            <a:chOff x="3279600" y="311040"/>
            <a:chExt cx="500400" cy="560520"/>
          </a:xfrm>
        </p:grpSpPr>
        <p:pic>
          <p:nvPicPr>
            <p:cNvPr id="363" name="Text Box 39" descr=""/>
            <p:cNvPicPr/>
            <p:nvPr/>
          </p:nvPicPr>
          <p:blipFill>
            <a:blip r:embed="rId3"/>
            <a:stretch/>
          </p:blipFill>
          <p:spPr>
            <a:xfrm>
              <a:off x="3279600" y="311040"/>
              <a:ext cx="50040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373560" y="401760"/>
              <a:ext cx="3157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Полилиния 59"/>
          <p:cNvSpPr/>
          <p:nvPr/>
        </p:nvSpPr>
        <p:spPr>
          <a:xfrm>
            <a:off x="2836800" y="890640"/>
            <a:ext cx="2163960" cy="2333520"/>
          </a:xfrm>
          <a:custGeom>
            <a:avLst/>
            <a:gdLst/>
            <a:ahLst/>
            <a:rect l="l" t="t" r="r" b="b"/>
            <a:pathLst>
              <a:path w="2164080" h="2334260">
                <a:moveTo>
                  <a:pt x="0" y="0"/>
                </a:moveTo>
                <a:cubicBezTo>
                  <a:pt x="168910" y="681990"/>
                  <a:pt x="337820" y="1363980"/>
                  <a:pt x="518160" y="1752600"/>
                </a:cubicBezTo>
                <a:cubicBezTo>
                  <a:pt x="698500" y="2141220"/>
                  <a:pt x="889000" y="2329180"/>
                  <a:pt x="1082040" y="2331720"/>
                </a:cubicBezTo>
                <a:cubicBezTo>
                  <a:pt x="1275080" y="2334260"/>
                  <a:pt x="1496060" y="2153920"/>
                  <a:pt x="1676400" y="1767840"/>
                </a:cubicBezTo>
                <a:cubicBezTo>
                  <a:pt x="1856740" y="1381760"/>
                  <a:pt x="2010410" y="698500"/>
                  <a:pt x="2164080" y="15240"/>
                </a:cubicBezTo>
              </a:path>
            </a:pathLst>
          </a:custGeom>
          <a:noFill/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ая соединительная линия 61"/>
          <p:cNvSpPr/>
          <p:nvPr/>
        </p:nvSpPr>
        <p:spPr>
          <a:xfrm>
            <a:off x="4456080" y="909720"/>
            <a:ext cx="36720" cy="3714840"/>
          </a:xfrm>
          <a:prstGeom prst="line">
            <a:avLst/>
          </a:prstGeom>
          <a:ln w="28440">
            <a:solidFill>
              <a:srgbClr val="6762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ая соединительная линия 66"/>
          <p:cNvSpPr/>
          <p:nvPr/>
        </p:nvSpPr>
        <p:spPr>
          <a:xfrm flipH="1">
            <a:off x="3634920" y="1052640"/>
            <a:ext cx="1714680" cy="32860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Прямоугольник 68"/>
          <p:cNvGrpSpPr/>
          <p:nvPr/>
        </p:nvGrpSpPr>
        <p:grpSpPr>
          <a:xfrm>
            <a:off x="2255760" y="2603520"/>
            <a:ext cx="1109880" cy="584280"/>
            <a:chOff x="2255760" y="2603520"/>
            <a:chExt cx="1109880" cy="584280"/>
          </a:xfrm>
        </p:grpSpPr>
        <p:pic>
          <p:nvPicPr>
            <p:cNvPr id="369" name="Прямоугольник 68" descr=""/>
            <p:cNvPicPr/>
            <p:nvPr/>
          </p:nvPicPr>
          <p:blipFill>
            <a:blip r:embed="rId4"/>
            <a:stretch/>
          </p:blipFill>
          <p:spPr>
            <a:xfrm>
              <a:off x="2255760" y="2603520"/>
              <a:ext cx="110988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353680" y="269568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  x</a:t>
              </a:r>
              <a:r>
                <a:rPr b="0" lang="ru-RU" sz="2000" spc="-1" strike="noStrike" baseline="30000">
                  <a:solidFill>
                    <a:srgbClr val="000000"/>
                  </a:solidFill>
                  <a:latin typeface="Arial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Text Box 37"/>
          <p:cNvGrpSpPr/>
          <p:nvPr/>
        </p:nvGrpSpPr>
        <p:grpSpPr>
          <a:xfrm>
            <a:off x="4475160" y="4035600"/>
            <a:ext cx="1035000" cy="579240"/>
            <a:chOff x="4475160" y="4035600"/>
            <a:chExt cx="1035000" cy="579240"/>
          </a:xfrm>
        </p:grpSpPr>
        <p:pic>
          <p:nvPicPr>
            <p:cNvPr id="372" name="Text Box 37" descr=""/>
            <p:cNvPicPr/>
            <p:nvPr/>
          </p:nvPicPr>
          <p:blipFill>
            <a:blip r:embed="rId5"/>
            <a:stretch/>
          </p:blipFill>
          <p:spPr>
            <a:xfrm>
              <a:off x="4475160" y="4035600"/>
              <a:ext cx="103500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4564080" y="412416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х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Text Box 37"/>
          <p:cNvGrpSpPr/>
          <p:nvPr/>
        </p:nvGrpSpPr>
        <p:grpSpPr>
          <a:xfrm>
            <a:off x="5187960" y="1530360"/>
            <a:ext cx="1468440" cy="797400"/>
            <a:chOff x="5187960" y="1530360"/>
            <a:chExt cx="1468440" cy="797400"/>
          </a:xfrm>
        </p:grpSpPr>
        <p:pic>
          <p:nvPicPr>
            <p:cNvPr id="375" name="Text Box 37" descr=""/>
            <p:cNvPicPr/>
            <p:nvPr/>
          </p:nvPicPr>
          <p:blipFill>
            <a:blip r:embed="rId6"/>
            <a:stretch/>
          </p:blipFill>
          <p:spPr>
            <a:xfrm>
              <a:off x="5187960" y="1530360"/>
              <a:ext cx="146844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278320" y="1623960"/>
              <a:ext cx="128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  =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2х -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"/>
          <p:cNvSpPr txBox="1"/>
          <p:nvPr/>
        </p:nvSpPr>
        <p:spPr>
          <a:xfrm>
            <a:off x="971280" y="4941720"/>
            <a:ext cx="7380360" cy="14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сательная – предельное положение секущ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68000" y="980640"/>
            <a:ext cx="814716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x+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-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гловой коэффициен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 = tg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he-IL" sz="4400" spc="-1" strike="noStrike">
                <a:solidFill>
                  <a:srgbClr val="000000"/>
                </a:solidFill>
                <a:latin typeface="Arial"/>
                <a:ea typeface="Levenim MT"/>
              </a:rPr>
              <a:t>´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x) = tg</a:t>
            </a:r>
            <a:r>
              <a:rPr b="1" lang="el-GR" sz="4400" spc="-1" strike="noStrike">
                <a:solidFill>
                  <a:srgbClr val="000000"/>
                </a:solidFill>
                <a:latin typeface="Arial"/>
              </a:rPr>
              <a:t>α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43"/>
          <p:cNvGrpSpPr/>
          <p:nvPr/>
        </p:nvGrpSpPr>
        <p:grpSpPr>
          <a:xfrm>
            <a:off x="755640" y="549360"/>
            <a:ext cx="6509160" cy="4248000"/>
            <a:chOff x="755640" y="549360"/>
            <a:chExt cx="6509160" cy="4248000"/>
          </a:xfrm>
        </p:grpSpPr>
        <p:cxnSp>
          <p:nvCxnSpPr>
            <p:cNvPr id="380" name="AutoShape 44"/>
            <p:cNvCxnSpPr/>
            <p:nvPr/>
          </p:nvCxnSpPr>
          <p:spPr>
            <a:xfrm flipV="1">
              <a:off x="3815640" y="549360"/>
              <a:ext cx="1080" cy="4248360"/>
            </a:xfrm>
            <a:prstGeom prst="straightConnector1">
              <a:avLst/>
            </a:prstGeom>
            <a:ln w="25560">
              <a:solidFill>
                <a:srgbClr val="cbced1"/>
              </a:solidFill>
              <a:miter/>
              <a:tailEnd len="med" type="triangle" w="med"/>
            </a:ln>
          </p:spPr>
        </p:cxnSp>
        <p:cxnSp>
          <p:nvCxnSpPr>
            <p:cNvPr id="381" name="AutoShape 45"/>
            <p:cNvCxnSpPr/>
            <p:nvPr/>
          </p:nvCxnSpPr>
          <p:spPr>
            <a:xfrm>
              <a:off x="755640" y="2673360"/>
              <a:ext cx="6509520" cy="1440"/>
            </a:xfrm>
            <a:prstGeom prst="straightConnector1">
              <a:avLst/>
            </a:prstGeom>
            <a:ln w="12600">
              <a:solidFill>
                <a:srgbClr val="cbced1"/>
              </a:solidFill>
              <a:miter/>
              <a:tailEnd len="med" type="triangle" w="med"/>
            </a:ln>
          </p:spPr>
        </p:cxnSp>
      </p:grpSp>
      <p:grpSp>
        <p:nvGrpSpPr>
          <p:cNvPr id="382" name="Text Box 39"/>
          <p:cNvGrpSpPr/>
          <p:nvPr/>
        </p:nvGrpSpPr>
        <p:grpSpPr>
          <a:xfrm>
            <a:off x="3170160" y="407880"/>
            <a:ext cx="560520" cy="671760"/>
            <a:chOff x="3170160" y="407880"/>
            <a:chExt cx="560520" cy="671760"/>
          </a:xfrm>
        </p:grpSpPr>
        <p:pic>
          <p:nvPicPr>
            <p:cNvPr id="383" name="Text Box 39" descr=""/>
            <p:cNvPicPr/>
            <p:nvPr/>
          </p:nvPicPr>
          <p:blipFill>
            <a:blip r:embed="rId1"/>
            <a:stretch/>
          </p:blipFill>
          <p:spPr>
            <a:xfrm>
              <a:off x="3170160" y="407880"/>
              <a:ext cx="56052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4" name=""/>
            <p:cNvSpPr/>
            <p:nvPr/>
          </p:nvSpPr>
          <p:spPr>
            <a:xfrm>
              <a:off x="3263760" y="498600"/>
              <a:ext cx="3747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Text Box 38"/>
          <p:cNvGrpSpPr/>
          <p:nvPr/>
        </p:nvGrpSpPr>
        <p:grpSpPr>
          <a:xfrm>
            <a:off x="6900840" y="2706840"/>
            <a:ext cx="596880" cy="652320"/>
            <a:chOff x="6900840" y="2706840"/>
            <a:chExt cx="596880" cy="652320"/>
          </a:xfrm>
        </p:grpSpPr>
        <p:pic>
          <p:nvPicPr>
            <p:cNvPr id="386" name="Text Box 38" descr=""/>
            <p:cNvPicPr/>
            <p:nvPr/>
          </p:nvPicPr>
          <p:blipFill>
            <a:blip r:embed="rId2"/>
            <a:stretch/>
          </p:blipFill>
          <p:spPr>
            <a:xfrm>
              <a:off x="6900840" y="2706840"/>
              <a:ext cx="5968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994440" y="2797200"/>
              <a:ext cx="412920" cy="4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b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Полилиния 10"/>
          <p:cNvGrpSpPr/>
          <p:nvPr/>
        </p:nvGrpSpPr>
        <p:grpSpPr>
          <a:xfrm>
            <a:off x="3517920" y="1152360"/>
            <a:ext cx="4125960" cy="2219040"/>
            <a:chOff x="3517920" y="1152360"/>
            <a:chExt cx="4125960" cy="2219040"/>
          </a:xfrm>
        </p:grpSpPr>
        <p:pic>
          <p:nvPicPr>
            <p:cNvPr id="389" name="Полилиния 10" descr=""/>
            <p:cNvPicPr/>
            <p:nvPr/>
          </p:nvPicPr>
          <p:blipFill>
            <a:blip r:embed="rId3"/>
            <a:stretch/>
          </p:blipFill>
          <p:spPr>
            <a:xfrm>
              <a:off x="3517920" y="1179000"/>
              <a:ext cx="4125960" cy="21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3595680" y="1152360"/>
              <a:ext cx="3973680" cy="21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1" name="Прямая соединительная линия 12" descr=""/>
          <p:cNvPicPr/>
          <p:nvPr/>
        </p:nvPicPr>
        <p:blipFill>
          <a:blip r:embed="rId4"/>
          <a:stretch/>
        </p:blipFill>
        <p:spPr>
          <a:xfrm>
            <a:off x="3206880" y="469800"/>
            <a:ext cx="4157640" cy="109692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3"/>
          <p:cNvSpPr/>
          <p:nvPr/>
        </p:nvSpPr>
        <p:spPr>
          <a:xfrm>
            <a:off x="6516720" y="1628640"/>
            <a:ext cx="119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 (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Box 14"/>
          <p:cNvSpPr/>
          <p:nvPr/>
        </p:nvSpPr>
        <p:spPr>
          <a:xfrm>
            <a:off x="4211640" y="76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Блок-схема: узел 11"/>
          <p:cNvSpPr/>
          <p:nvPr/>
        </p:nvSpPr>
        <p:spPr>
          <a:xfrm>
            <a:off x="4500720" y="1125360"/>
            <a:ext cx="142560" cy="142920"/>
          </a:xfrm>
          <a:prstGeom prst="flowChartConnector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Прямая соединительная линия 16" descr=""/>
          <p:cNvPicPr/>
          <p:nvPr/>
        </p:nvPicPr>
        <p:blipFill>
          <a:blip r:embed="rId5"/>
          <a:stretch/>
        </p:blipFill>
        <p:spPr>
          <a:xfrm>
            <a:off x="4498920" y="1206360"/>
            <a:ext cx="152280" cy="1573200"/>
          </a:xfrm>
          <a:prstGeom prst="rect">
            <a:avLst/>
          </a:prstGeom>
          <a:ln w="0">
            <a:noFill/>
          </a:ln>
        </p:spPr>
      </p:pic>
      <p:sp>
        <p:nvSpPr>
          <p:cNvPr id="396" name="Прямая соединительная линия 18"/>
          <p:cNvSpPr/>
          <p:nvPr/>
        </p:nvSpPr>
        <p:spPr>
          <a:xfrm flipV="1">
            <a:off x="3780000" y="1247400"/>
            <a:ext cx="741240" cy="205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0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77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4" dur="770" fill="hold"/>
                                        <p:tgtEl>
                                          <p:spTgt spid="3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6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8" dur="77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16:08:20Z</dcterms:created>
  <dc:creator>Светлана</dc:creator>
  <dc:description/>
  <dc:language>en-US</dc:language>
  <cp:lastModifiedBy>Фатима</cp:lastModifiedBy>
  <dcterms:modified xsi:type="dcterms:W3CDTF">2017-09-26T11:55:48Z</dcterms:modified>
  <cp:revision>66</cp:revision>
  <dc:subject/>
  <dc:title>Слайд 1</dc:title>
</cp:coreProperties>
</file>