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CC8-33F5-4DF1-B54C-D3EFAAE71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2E6-ABB2-42A2-8E32-ADAA923C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D3BA-9C27-4D4F-85A6-B22CF5AE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8AA-86BC-45DC-88A4-6D7770B9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D9B0-64C2-49EB-A1CA-73820A20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AFF0-1793-442B-AAF3-83A08A3C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B085-B83E-4036-82AD-DDB88AC3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676F-F548-4163-8627-1BB44CDF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CF9FD-F9F4-48F6-8E9D-04E3C3AA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F951D-145B-4DA1-856C-59D2C006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E2D4-3AA4-4719-89FB-6924F58B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211F-BC3E-4DAA-AF8E-0F677AE0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208E-C0FF-4680-8EE7-1B50C66C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E906-6DD5-45AB-89F4-BEADB58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3308-D65D-4D7F-857D-53D7DE5A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5761-E3D2-4D3F-BE55-D82F8AF3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CF12-3EE2-4A24-8812-46D24ECEE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21C0F-40CC-40F3-A4C0-D9011CFF4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25AA-71CC-4526-A471-95845A36A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42F0-E469-4743-8430-2C9F87B0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EE570-6622-4203-AA13-6FD90826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DE27D-180E-4F1C-BB51-AF83DA81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010-9A28-4640-B180-BD3A1CD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AE309-144C-42BB-A31A-7AFEE2ED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258D4-F3B2-4217-8C6A-7FFB617C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13B0-9CC1-409F-BC94-EE237459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159E4-AA6D-4405-9A23-BF4F22A7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1CD4-8022-4026-9E22-36E86D724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33AE4-87F2-49F4-AD69-A26F7EFE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0621-FC22-47C5-B07F-7D54B51CC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27421-FD4C-4D08-A267-DA6A5C90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ACF8-2D0E-4C0E-8E22-571C9919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DFAEE-7799-4B6E-8BA3-F9BEADA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3E0-A73E-4121-80EE-5CDB787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F2D6C-5FD4-4A7C-BED2-2F7FECD4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910B-DDDE-47E6-B650-F178AA7B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075F2-4166-4CD4-AA2A-57F51A0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C0C3-77ED-4213-AF17-851E76F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C8AD-F81B-4F33-A790-DE4AE561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E5A4-326F-4CEB-91CF-05B3076C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195B4-B53C-434E-8CD5-BEAF122C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FDC21-9DF7-48BA-AFEE-B31A1060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EF64-0CEB-4D02-A76D-20F9B9337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2B0-B918-4BF1-80E2-0BDCB0E1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CD6-BC5D-4EC8-9F8D-FC645B7A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FC8-CE98-4150-9522-9A6265F0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A35-E9E6-4B73-8831-73F8AB13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E35F-720E-4232-B34E-C2949596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4F9B-38B2-4F9C-B9AB-B70E14D7D5C4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DBBC-CCF2-4D47-A1F8-7965D3BDE0F6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3E80-BF7F-4009-ACD2-7D3E2DA80FCB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06AC-206D-4FC3-B74B-AE11DE85B6A1}" type="slidenum">
              <a:rPr b="0" lang="ru-RU" sz="900" spc="-1" strike="noStrike">
                <a:solidFill>
                  <a:srgbClr val="90c2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3" descr=""/>
          <p:cNvPicPr/>
          <p:nvPr/>
        </p:nvPicPr>
        <p:blipFill>
          <a:blip r:embed="rId1"/>
          <a:stretch/>
        </p:blipFill>
        <p:spPr>
          <a:xfrm>
            <a:off x="2727360" y="836640"/>
            <a:ext cx="1755720" cy="256536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2" descr=""/>
          <p:cNvPicPr/>
          <p:nvPr/>
        </p:nvPicPr>
        <p:blipFill>
          <a:blip r:embed="rId2"/>
          <a:stretch/>
        </p:blipFill>
        <p:spPr>
          <a:xfrm>
            <a:off x="876240" y="68400"/>
            <a:ext cx="1755720" cy="256680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1" descr=""/>
          <p:cNvPicPr/>
          <p:nvPr/>
        </p:nvPicPr>
        <p:blipFill>
          <a:blip r:embed="rId3"/>
          <a:stretch/>
        </p:blipFill>
        <p:spPr>
          <a:xfrm>
            <a:off x="4859280" y="68400"/>
            <a:ext cx="1754280" cy="25635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6920" y="3278160"/>
            <a:ext cx="66247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8300" spc="-1" strike="noStrike">
                <a:solidFill>
                  <a:srgbClr val="ffff00"/>
                </a:solidFill>
                <a:latin typeface="Gungsuh"/>
              </a:rPr>
              <a:t>И</a:t>
            </a:r>
            <a:r>
              <a:rPr b="1" lang="ru-RU" sz="8300" spc="-1" strike="noStrike">
                <a:solidFill>
                  <a:srgbClr val="00b050"/>
                </a:solidFill>
                <a:latin typeface="Gungsuh"/>
              </a:rPr>
              <a:t>З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У</a:t>
            </a:r>
            <a:r>
              <a:rPr b="1" lang="ru-RU" sz="8300" spc="-1" strike="noStrike">
                <a:solidFill>
                  <a:srgbClr val="0070c0"/>
                </a:solidFill>
                <a:latin typeface="Gungsuh"/>
              </a:rPr>
              <a:t>Ч</a:t>
            </a:r>
            <a:r>
              <a:rPr b="1" lang="ru-RU" sz="8300" spc="-1" strike="noStrike">
                <a:solidFill>
                  <a:srgbClr val="ffff00"/>
                </a:solidFill>
                <a:latin typeface="Gungsuh"/>
              </a:rPr>
              <a:t>А</a:t>
            </a:r>
            <a:r>
              <a:rPr b="1" lang="ru-RU" sz="8300" spc="-1" strike="noStrike">
                <a:solidFill>
                  <a:srgbClr val="00b050"/>
                </a:solidFill>
                <a:latin typeface="Gungsuh"/>
              </a:rPr>
              <a:t>Е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М</a:t>
            </a:r>
            <a:br>
              <a:rPr sz="8300"/>
            </a:br>
            <a:r>
              <a:rPr b="1" lang="ru-RU" sz="8300" spc="-1" strike="noStrike">
                <a:solidFill>
                  <a:srgbClr val="0070c0"/>
                </a:solidFill>
                <a:latin typeface="Gungsuh"/>
              </a:rPr>
              <a:t>Ц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33cc33"/>
                </a:solidFill>
                <a:latin typeface="Gungsuh"/>
              </a:rPr>
              <a:t>В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ff0000"/>
                </a:solidFill>
                <a:latin typeface="Gungsuh"/>
              </a:rPr>
              <a:t>Е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0066ff"/>
                </a:solidFill>
                <a:latin typeface="Gungsuh"/>
              </a:rPr>
              <a:t>Т</a:t>
            </a:r>
            <a:r>
              <a:rPr b="1" lang="ru-RU" sz="8300" spc="-1" strike="noStrike">
                <a:solidFill>
                  <a:srgbClr val="90c226"/>
                </a:solidFill>
                <a:latin typeface="Gungsuh"/>
              </a:rPr>
              <a:t> </a:t>
            </a:r>
            <a:r>
              <a:rPr b="1" lang="ru-RU" sz="8300" spc="-1" strike="noStrike">
                <a:solidFill>
                  <a:srgbClr val="ffff66"/>
                </a:solidFill>
                <a:latin typeface="Gungsuh"/>
              </a:rPr>
              <a:t>А</a:t>
            </a:r>
            <a:endParaRPr b="0" lang="en-US" sz="8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2088000" y="5877000"/>
            <a:ext cx="576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втор: Половкова Е.В., воспитатель ГБДОУ №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a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11"/>
          <p:cNvGrpSpPr/>
          <p:nvPr/>
        </p:nvGrpSpPr>
        <p:grpSpPr>
          <a:xfrm>
            <a:off x="287280" y="106200"/>
            <a:ext cx="7804080" cy="4999320"/>
            <a:chOff x="287280" y="106200"/>
            <a:chExt cx="7804080" cy="4999320"/>
          </a:xfrm>
        </p:grpSpPr>
        <p:sp>
          <p:nvSpPr>
            <p:cNvPr id="218" name="Text Box 2"/>
            <p:cNvSpPr/>
            <p:nvPr/>
          </p:nvSpPr>
          <p:spPr>
            <a:xfrm>
              <a:off x="3674520" y="106200"/>
              <a:ext cx="42616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агорелся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바탕"/>
                </a:rPr>
                <a:t> </a:t>
              </a:r>
              <a:r>
                <a:rPr b="1" i="1" lang="ru-RU" sz="3200" spc="-1" strike="noStrike">
                  <a:solidFill>
                    <a:srgbClr val="ff0000"/>
                  </a:solidFill>
                  <a:latin typeface="바탕"/>
                </a:rPr>
                <a:t>красный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свет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начит всем проезда н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ужно подождать немножко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Batang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Говорит котенку ко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Picture 199" descr="j0326464"/>
            <p:cNvPicPr/>
            <p:nvPr/>
          </p:nvPicPr>
          <p:blipFill>
            <a:blip r:embed="rId1"/>
            <a:stretch/>
          </p:blipFill>
          <p:spPr>
            <a:xfrm flipH="1">
              <a:off x="287280" y="2095560"/>
              <a:ext cx="3743280" cy="30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00" descr="j0411642"/>
            <p:cNvPicPr/>
            <p:nvPr/>
          </p:nvPicPr>
          <p:blipFill>
            <a:blip r:embed="rId2"/>
            <a:stretch/>
          </p:blipFill>
          <p:spPr>
            <a:xfrm>
              <a:off x="2884320" y="3789360"/>
              <a:ext cx="1120680" cy="12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01" descr="j0432651"/>
            <p:cNvPicPr/>
            <p:nvPr/>
          </p:nvPicPr>
          <p:blipFill>
            <a:blip r:embed="rId3"/>
            <a:stretch/>
          </p:blipFill>
          <p:spPr>
            <a:xfrm>
              <a:off x="5805360" y="273528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Овал 1"/>
          <p:cNvSpPr/>
          <p:nvPr/>
        </p:nvSpPr>
        <p:spPr>
          <a:xfrm>
            <a:off x="6732720" y="2997360"/>
            <a:ext cx="431640" cy="422280"/>
          </a:xfrm>
          <a:prstGeom prst="ellipse">
            <a:avLst/>
          </a:prstGeom>
          <a:solidFill>
            <a:srgbClr val="ff00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3"/>
          <p:cNvSpPr/>
          <p:nvPr/>
        </p:nvSpPr>
        <p:spPr>
          <a:xfrm>
            <a:off x="6732720" y="3600360"/>
            <a:ext cx="431640" cy="432000"/>
          </a:xfrm>
          <a:prstGeom prst="ellipse">
            <a:avLst/>
          </a:prstGeom>
          <a:solidFill>
            <a:srgbClr val="ffff00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Овал 4"/>
          <p:cNvSpPr/>
          <p:nvPr/>
        </p:nvSpPr>
        <p:spPr>
          <a:xfrm>
            <a:off x="6732720" y="4213080"/>
            <a:ext cx="447480" cy="439920"/>
          </a:xfrm>
          <a:prstGeom prst="ellipse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animClr clrSpc="rgb">
                                      <p:cBhvr>
                                        <p:cTn id="6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4a021"/>
                                      </p:to>
                                    </p:animClr>
                                    <p:set>
                                      <p:cBhvr>
                                        <p:cTn id="6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5"/>
          <p:cNvGrpSpPr/>
          <p:nvPr/>
        </p:nvGrpSpPr>
        <p:grpSpPr>
          <a:xfrm>
            <a:off x="179280" y="646200"/>
            <a:ext cx="8786880" cy="5753160"/>
            <a:chOff x="179280" y="646200"/>
            <a:chExt cx="8786880" cy="5753160"/>
          </a:xfrm>
        </p:grpSpPr>
        <p:sp>
          <p:nvSpPr>
            <p:cNvPr id="226" name="Text Box 6"/>
            <p:cNvSpPr/>
            <p:nvPr/>
          </p:nvSpPr>
          <p:spPr>
            <a:xfrm>
              <a:off x="179280" y="646200"/>
              <a:ext cx="554508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Вот </a:t>
              </a:r>
              <a:r>
                <a:rPr b="1" i="1" lang="ru-RU" sz="3200" spc="-1" strike="noStrike">
                  <a:solidFill>
                    <a:srgbClr val="00cc00"/>
                  </a:solidFill>
                  <a:latin typeface="바탕"/>
                </a:rPr>
                <a:t>зеленая </a:t>
              </a: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лягуш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а кувшинке греет брюшко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Зеленеет в речке ряска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바탕"/>
                </a:rPr>
                <a:t>Ну, не жизнь, а просто сказка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10" descr="j0203506"/>
            <p:cNvPicPr/>
            <p:nvPr/>
          </p:nvPicPr>
          <p:blipFill>
            <a:blip r:embed="rId1"/>
            <a:stretch/>
          </p:blipFill>
          <p:spPr>
            <a:xfrm>
              <a:off x="3636720" y="646200"/>
              <a:ext cx="5329440" cy="575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Рисунок 1" descr=""/>
          <p:cNvPicPr/>
          <p:nvPr/>
        </p:nvPicPr>
        <p:blipFill>
          <a:blip r:embed="rId2"/>
          <a:stretch/>
        </p:blipFill>
        <p:spPr>
          <a:xfrm>
            <a:off x="4040280" y="2978280"/>
            <a:ext cx="1514520" cy="10890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3" descr=""/>
          <p:cNvPicPr/>
          <p:nvPr/>
        </p:nvPicPr>
        <p:blipFill>
          <a:blip r:embed="rId3"/>
          <a:stretch/>
        </p:blipFill>
        <p:spPr>
          <a:xfrm>
            <a:off x="2448000" y="2492280"/>
            <a:ext cx="927000" cy="6048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"/>
          <p:cNvPicPr/>
          <p:nvPr/>
        </p:nvPicPr>
        <p:blipFill>
          <a:blip r:embed="rId4"/>
          <a:stretch/>
        </p:blipFill>
        <p:spPr>
          <a:xfrm>
            <a:off x="1152360" y="3251160"/>
            <a:ext cx="755640" cy="76212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6" descr=""/>
          <p:cNvPicPr/>
          <p:nvPr/>
        </p:nvPicPr>
        <p:blipFill>
          <a:blip r:embed="rId5"/>
          <a:stretch/>
        </p:blipFill>
        <p:spPr>
          <a:xfrm>
            <a:off x="311040" y="4038480"/>
            <a:ext cx="3194280" cy="2621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3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67">
                                          <p:stCondLst>
                                            <p:cond delay="273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70">
                                          <p:stCondLst>
                                            <p:cond delay="27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39" fill="hold">
                                          <p:stCondLst>
                                            <p:cond delay="93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249" fill="hold">
                                          <p:stCondLst>
                                            <p:cond delay="96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c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3"/>
          <p:cNvSpPr/>
          <p:nvPr/>
        </p:nvSpPr>
        <p:spPr>
          <a:xfrm>
            <a:off x="104760" y="88920"/>
            <a:ext cx="45165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Море </a:t>
            </a:r>
            <a:r>
              <a:rPr b="1" i="1" lang="ru-RU" sz="3200" spc="-1" strike="noStrike">
                <a:solidFill>
                  <a:srgbClr val="0000cc"/>
                </a:solidFill>
                <a:latin typeface="바탕"/>
                <a:ea typeface="바탕"/>
              </a:rPr>
              <a:t>синее</a:t>
            </a:r>
            <a:r>
              <a:rPr b="1" i="1" lang="ru-RU" sz="2000" spc="-1" strike="noStrike">
                <a:solidFill>
                  <a:srgbClr val="0000cc"/>
                </a:solidFill>
                <a:latin typeface="바탕"/>
                <a:ea typeface="바탕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без кра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В нём живёт дельфинов с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Тёмно-синий небосвод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바탕"/>
                <a:ea typeface="바탕"/>
              </a:rPr>
              <a:t>Звёзды водят хоро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12" descr="j0197954"/>
          <p:cNvPicPr/>
          <p:nvPr/>
        </p:nvPicPr>
        <p:blipFill>
          <a:blip r:embed="rId1"/>
          <a:stretch/>
        </p:blipFill>
        <p:spPr>
          <a:xfrm>
            <a:off x="1206360" y="1785960"/>
            <a:ext cx="5213520" cy="566244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16"/>
          <p:cNvSpPr/>
          <p:nvPr/>
        </p:nvSpPr>
        <p:spPr>
          <a:xfrm>
            <a:off x="4919760" y="3008160"/>
            <a:ext cx="358560" cy="43200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2000"/>
              <a:gd name="textAreaBottom" fmla="*/ 2541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8"/>
          <p:cNvSpPr/>
          <p:nvPr/>
        </p:nvSpPr>
        <p:spPr>
          <a:xfrm>
            <a:off x="4411800" y="228924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7"/>
          <p:cNvSpPr/>
          <p:nvPr/>
        </p:nvSpPr>
        <p:spPr>
          <a:xfrm>
            <a:off x="5492880" y="2698920"/>
            <a:ext cx="358560" cy="431640"/>
          </a:xfrm>
          <a:custGeom>
            <a:avLst/>
            <a:gdLst>
              <a:gd name="textAreaLeft" fmla="*/ 147600 w 358560"/>
              <a:gd name="textAreaRight" fmla="*/ 210960 w 35856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9b6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1690560" y="333360"/>
            <a:ext cx="48974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바탕"/>
                <a:ea typeface="바탕"/>
              </a:rPr>
              <a:t>Коричневая</a:t>
            </a:r>
            <a:r>
              <a:rPr b="1" i="1" lang="ru-RU" sz="1800" spc="-1" strike="noStrike">
                <a:solidFill>
                  <a:srgbClr val="993300"/>
                </a:solidFill>
                <a:latin typeface="바탕"/>
                <a:ea typeface="바탕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шуба, коричневые у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Не боится мишка сту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Любит кушать сладкий м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바탕"/>
                <a:ea typeface="바탕"/>
              </a:rPr>
              <a:t>Мишка мед у пчел бер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18" descr=""/>
          <p:cNvPicPr/>
          <p:nvPr/>
        </p:nvPicPr>
        <p:blipFill>
          <a:blip r:embed="rId1"/>
          <a:stretch/>
        </p:blipFill>
        <p:spPr>
          <a:xfrm>
            <a:off x="4511520" y="2359080"/>
            <a:ext cx="4340520" cy="434664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19" descr=""/>
          <p:cNvPicPr/>
          <p:nvPr/>
        </p:nvPicPr>
        <p:blipFill>
          <a:blip r:embed="rId2"/>
          <a:srcRect l="109544" t="80345" r="-110300" b="-80321"/>
          <a:stretch/>
        </p:blipFill>
        <p:spPr>
          <a:xfrm>
            <a:off x="3362400" y="294336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1" descr=""/>
          <p:cNvPicPr/>
          <p:nvPr/>
        </p:nvPicPr>
        <p:blipFill>
          <a:blip r:embed="rId3"/>
          <a:stretch/>
        </p:blipFill>
        <p:spPr>
          <a:xfrm>
            <a:off x="2565360" y="3048120"/>
            <a:ext cx="1513080" cy="132876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4"/>
          <a:stretch/>
        </p:blipFill>
        <p:spPr>
          <a:xfrm>
            <a:off x="324000" y="1709640"/>
            <a:ext cx="2017440" cy="177984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3" descr=""/>
          <p:cNvPicPr/>
          <p:nvPr/>
        </p:nvPicPr>
        <p:blipFill>
          <a:blip r:embed="rId5"/>
          <a:stretch/>
        </p:blipFill>
        <p:spPr>
          <a:xfrm>
            <a:off x="406440" y="4005360"/>
            <a:ext cx="2378160" cy="2232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7037E-006 C 0.00938 0.03102 0.06598 0.02917 0.12674 -0.0037 C 0.19792 -0.04213 0.21546 -0.08379 0.22101 -0.10625 L 0.22553 -0.13379 C 0.23125 -0.15717 0.25053 -0.19976 0.33091 -0.24236 C 0.3823 -0.2706 0.44896 -0.27754 0.45782 -0.24676 C 0.46754 -0.2162 0.41598 -0.15879 0.36441 -0.13171 C 0.28438 -0.08865 0.24862 -0.10162 0.23212 -0.11203 L 0.21424 -0.12847 C 0.19809 -0.13935 0.16424 -0.15324 0.09306 -0.11481 C 0.03212 -0.08217 -0.0092 -0.03032 -4.44444E-006 -3.7037E-006 Z">
                                      <p:cBhvr>
                                        <p:cTn id="105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4.81481E-006 C -0.01684 0.04537 0.01059 0.1081 0.06111 0.14166 C 0.12031 0.18009 0.15694 0.15254 0.17465 0.13333 L 0.19618 0.10648 C 0.21458 0.0875 0.25243 0.06087 0.3191 0.10439 C 0.36215 0.13217 0.39757 0.20092 0.38038 0.24675 C 0.36354 0.29282 0.30139 0.29791 0.25851 0.27083 C 0.19167 0.22662 0.1842 0.1706 0.18385 0.13981 L 0.18663 0.1 C 0.18733 0.06921 0.18073 0.01435 0.12153 -0.02431 C 0.07135 -0.05672 0.01684 -0.04653 -0.00017 4.81481E-006 Z">
                                      <p:cBhvr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path" presetID="2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7.40741E-007 C 8.33333E-007 0.0331 0.02708 0.05995 0.06007 0.05995 C 0.09896 0.05995 0.11302 0.03009 0.11892 0.01204 L 0.125 -0.01204 C 0.13108 -0.03009 0.14601 -0.05995 0.18993 -0.05995 C 0.21805 -0.05995 0.25 -0.0331 0.25 7.40741E-007 C 0.25 0.0331 0.21805 0.05995 0.18993 0.05995 C 0.14601 0.05995 0.13108 0.03009 0.125 0.01204 L 0.11892 -0.01204 C 0.11302 -0.03009 0.09896 -0.05995 0.06007 -0.05995 C 0.02708 -0.05995 8.33333E-007 -0.0331 8.33333E-007 7.40741E-007 Z">
                                      <p:cBhvr>
                                        <p:cTn id="11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0.00625 C 0.06493 0.00903 0.06632 0.00995 0.07136 0.01134 C 0.07865 0.01366 0.08629 0.01458 0.09341 0.01782 C 0.10243 0.02176 0.09618 0.01945 0.10764 0.02292 C 0.11181 0.02407 0.11233 0.02477 0.11719 0.02546 C 0.12118 0.02593 0.12535 0.02616 0.12952 0.02662 C 0.16528 0.02477 0.15521 0.02454 0.20469 0.02662 C 0.20799 0.02685 0.21111 0.02755 0.21424 0.02801 C 0.22952 0.0294 0.23177 0.02894 0.2467 0.03056 C 0.24948 0.03079 0.25226 0.03148 0.25521 0.03171 C 0.27882 0.03403 0.28403 0.03426 0.30573 0.03565 C 0.33108 0.03889 0.29254 0.03403 0.33611 0.0382 C 0.34288 0.03866 0.34948 0.03982 0.35608 0.04074 L 0.45799 0.0382 C 0.4599 0.03796 0.46181 0.03727 0.46372 0.03681 C 0.46684 0.03611 0.46997 0.03495 0.47327 0.03426 C 0.4783 0.03333 0.48334 0.03264 0.48854 0.03171 C 0.49063 0.03125 0.49288 0.03125 0.49514 0.03056 C 0.50122 0.0287 0.50729 0.02639 0.5132 0.02407 C 0.5191 0.02176 0.51719 0.02153 0.52275 0.01782 C 0.52361 0.01713 0.52466 0.01713 0.5257 0.01644 C 0.52952 0.01412 0.53299 0.01065 0.53698 0.0088 C 0.53993 0.00764 0.54271 0.00625 0.54566 0.00509 C 0.55347 0.00208 0.55486 0.00301 0.56268 -0.00255 C 0.56858 -0.00671 0.57431 -0.01157 0.57986 -0.01643 C 0.58386 -0.02014 0.58559 -0.02083 0.58854 -0.02546 C 0.5908 -0.02917 0.59306 -0.03287 0.59514 -0.0368 C 0.59966 -0.04583 0.59966 -0.04815 0.60278 -0.05718 C 0.6033 -0.0588 0.604 -0.06065 0.60469 -0.06227 C 0.60677 -0.07338 0.60643 -0.07245 0.60938 -0.0838 C 0.6132 -0.09768 0.61129 -0.08495 0.61615 -0.11042 C 0.61702 -0.11551 0.61736 -0.1206 0.61806 -0.12569 C 0.61823 -0.12778 0.61875 -0.12986 0.61893 -0.13218 C 0.61997 -0.14236 0.61997 -0.14954 0.62084 -0.15995 C 0.6217 -0.1706 0.62292 -0.18125 0.62361 -0.19167 C 0.62795 -0.24954 0.62413 -0.21875 0.62847 -0.25023 C 0.63004 -0.27917 0.63125 -0.29491 0.62847 -0.33009 C 0.62778 -0.33773 0.62552 -0.34514 0.62275 -0.35162 C 0.61962 -0.35926 0.61597 -0.36643 0.61129 -0.37199 C 0.60608 -0.37847 0.59966 -0.3831 0.59323 -0.38727 C 0.57552 -0.39861 0.55243 -0.40532 0.5342 -0.41273 C 0.52136 -0.41782 0.50903 -0.42454 0.49618 -0.42917 C 0.46945 -0.43889 0.42066 -0.45417 0.39132 -0.45972 C 0.37552 -0.46273 0.35955 -0.46412 0.34375 -0.46597 C 0.32726 -0.46805 0.31077 -0.46968 0.29427 -0.47106 L 0.19045 -0.47986 C 0.16146 -0.47917 0.12396 -0.48125 0.09514 -0.46991 C 0.07014 -0.45972 0.04618 -0.44468 0.02188 -0.43171 C 0.01771 -0.4294 0.01337 -0.42755 0.00955 -0.42407 C -0.0026 -0.41343 -0.01389 -0.40116 -0.02569 -0.38981 C -0.03524 -0.36736 -0.04548 -0.34537 -0.05434 -0.32245 C -0.0559 -0.31829 -0.05677 -0.31343 -0.05712 -0.30856 C -0.05868 -0.29167 -0.05903 -0.27477 -0.05989 -0.25787 C -0.05937 -0.2412 -0.05989 -0.22454 -0.05816 -0.20833 C -0.05642 -0.19352 -0.05312 -0.17917 -0.04948 -0.16505 C -0.04323 -0.14028 -0.03541 -0.11597 -0.02864 -0.09143 C -0.02743 -0.08773 -0.02691 -0.0838 -0.02569 -0.08009 C -0.00191 -0.00208 -0.01597 -0.0213 -3.05556E-006 -1.48148E-006 E">
                                      <p:cBhvr>
                                        <p:cTn id="11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427 -0.0044 C 0.19531 -0.0088 0.19601 -0.01297 0.19722 -0.01713 C 0.19792 -0.01945 0.19913 -0.02153 0.2 -0.02362 C 0.20295 -0.02963 0.20451 -0.03149 0.20868 -0.03866 C 0.20937 -0.04005 0.20972 -0.04144 0.21059 -0.0426 C 0.21163 -0.04399 0.21319 -0.04491 0.21424 -0.0463 C 0.21736 -0.05 0.21997 -0.05417 0.22292 -0.05788 C 0.2283 -0.06436 0.22604 -0.06112 0.23056 -0.06551 C 0.23212 -0.06713 0.23351 -0.06899 0.23524 -0.07061 C 0.24792 -0.08125 0.23611 -0.07038 0.24392 -0.07547 C 0.2467 -0.07755 0.24931 -0.08033 0.25243 -0.08195 C 0.25521 -0.08334 0.25816 -0.08334 0.26094 -0.0845 C 0.26771 -0.08727 0.27413 -0.09098 0.2809 -0.09329 C 0.28472 -0.09468 0.28854 -0.09514 0.29236 -0.09584 C 0.29618 -0.09676 0.3 -0.09815 0.30382 -0.09838 C 0.32639 -0.1007 0.31267 -0.09954 0.34479 -0.10093 L 0.38854 -0.09329 C 0.39045 -0.09306 0.4026 -0.08913 0.40486 -0.0882 C 0.41632 -0.0838 0.42778 -0.07963 0.43906 -0.07431 C 0.44306 -0.07246 0.4467 -0.06922 0.45052 -0.06667 C 0.45399 -0.06413 0.45764 -0.06181 0.46094 -0.05903 C 0.4625 -0.05788 0.46424 -0.05672 0.4658 -0.05533 C 0.47153 -0.04954 0.47726 -0.04352 0.48281 -0.0375 C 0.48698 -0.03311 0.49253 -0.02801 0.49618 -0.02223 C 0.50104 -0.01482 0.50573 -0.00695 0.51042 0.00069 C 0.51181 0.00277 0.51337 0.00462 0.51424 0.00694 C 0.51562 0.00995 0.51667 0.01296 0.51806 0.01574 C 0.52622 0.03171 0.52274 0.02199 0.52865 0.03495 C 0.53281 0.04421 0.53733 0.05324 0.54097 0.06273 C 0.54288 0.06782 0.54497 0.07291 0.5467 0.078 C 0.55486 0.1037 0.5566 0.11157 0.56198 0.13912 C 0.56233 0.14143 0.5625 0.14421 0.56285 0.14675 C 0.56372 0.17476 0.56597 0.18888 0.55816 0.21782 C 0.55451 0.23101 0.54878 0.24305 0.54288 0.25462 C 0.53437 0.27129 0.52899 0.27268 0.51806 0.28495 C 0.51059 0.29375 0.5033 0.30254 0.49618 0.3118 C 0.43316 0.39421 0.50573 0.30949 0.40573 0.42083 C 0.3842 0.4449 0.35903 0.47476 0.33333 0.49074 C 0.29549 0.51458 0.27934 0.50902 0.23715 0.51111 L 0.18958 0.50347 C 0.18819 0.50324 0.18698 0.50254 0.18576 0.50231 C 0.1724 0.5 0.15903 0.49814 0.14583 0.49583 L 0.10955 0.48958 L 0.01806 0.47546 C -0.02639 0.44861 -0.05486 0.43171 -0.1066 0.38287 C -0.11858 0.37152 -0.12448 0.35162 -0.13333 0.33587 C -0.13368 0.3324 -0.13455 0.32916 -0.1342 0.32569 C -0.13125 0.29004 -0.12813 0.25439 -0.12378 0.21898 C -0.12326 0.21527 -0.12153 0.21203 -0.11997 0.20879 C -0.10625 0.17986 -0.0941 0.1493 -0.07813 0.12245 C -0.06892 0.1074 -0.00885 0.04837 -0.00191 0.0412 C 0.0559 -0.01899 -0.04931 0.04629 0.13247 -0.09075 C 0.14931 -0.10348 0.16493 -0.11945 0.18281 -0.12894 C 0.19861 -0.13704 0.2158 -0.13959 0.23247 -0.14283 C 0.28472 -0.15325 0.34722 -0.1588 0.4 -0.16436 C 0.42448 -0.16274 0.44931 -0.16575 0.47326 -0.1595 C 0.4934 -0.15417 0.5125 -0.14306 0.53056 -0.1301 C 0.58524 -0.09051 0.61962 -0.0507 0.65521 0.01828 C 0.67049 0.04791 0.68003 0.08194 0.69236 0.11365 C 0.69913 0.15 0.71319 0.18541 0.71233 0.22291 C 0.71111 0.28148 0.69618 0.33819 0.68663 0.3956 C 0.68576 0.40115 0.68333 0.40601 0.6809 0.41087 C 0.67187 0.42962 0.66302 0.44907 0.65243 0.46666 C 0.64236 0.4831 0.63316 0.50254 0.6191 0.51226 C 0.58698 0.53472 0.51389 0.54328 0.48003 0.5493 C 0.4191 0.54189 0.35642 0.54768 0.29722 0.52754 C 0.26806 0.51782 0.24635 0.48472 0.22187 0.46157 C 0.21597 0.45578 0.20955 0.44976 0.20573 0.4412 C 0.17882 0.38078 0.15556 0.31759 0.13056 0.25578 C 0.12326 0.1949 0.11163 0.13449 0.10868 0.07291 C 0.10642 0.02939 0.11285 -0.01413 0.11528 -0.05788 C 0.11632 -0.07524 0.1191 -0.10996 0.1191 -0.10996 E">
                                      <p:cBhvr>
                                        <p:cTn id="119" dur="2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7280" y="765000"/>
            <a:ext cx="6624720" cy="16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9200" spc="-1" strike="noStrike">
                <a:solidFill>
                  <a:srgbClr val="ff0000"/>
                </a:solidFill>
                <a:latin typeface="Gungsuh"/>
              </a:rPr>
              <a:t>К </a:t>
            </a:r>
            <a:r>
              <a:rPr b="1" lang="ru-RU" sz="9200" spc="-1" strike="noStrike">
                <a:solidFill>
                  <a:srgbClr val="33cc33"/>
                </a:solidFill>
                <a:latin typeface="Gungsuh"/>
              </a:rPr>
              <a:t>О </a:t>
            </a:r>
            <a:r>
              <a:rPr b="1" lang="ru-RU" sz="9200" spc="-1" strike="noStrike">
                <a:solidFill>
                  <a:srgbClr val="ff99cc"/>
                </a:solidFill>
                <a:latin typeface="Gungsuh"/>
              </a:rPr>
              <a:t>Н </a:t>
            </a:r>
            <a:r>
              <a:rPr b="1" lang="ru-RU" sz="9200" spc="-1" strike="noStrike">
                <a:solidFill>
                  <a:srgbClr val="0066ff"/>
                </a:solidFill>
                <a:latin typeface="Gungsuh"/>
              </a:rPr>
              <a:t>Е </a:t>
            </a:r>
            <a:r>
              <a:rPr b="1" lang="ru-RU" sz="9200" spc="-1" strike="noStrike">
                <a:solidFill>
                  <a:srgbClr val="ffff00"/>
                </a:solidFill>
                <a:latin typeface="Gungsuh"/>
              </a:rPr>
              <a:t>Ц</a:t>
            </a:r>
            <a:endParaRPr b="0" lang="en-US" sz="9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4" name="Picture 3" descr="j0432608"/>
          <p:cNvPicPr/>
          <p:nvPr/>
        </p:nvPicPr>
        <p:blipFill>
          <a:blip r:embed="rId1"/>
          <a:stretch/>
        </p:blipFill>
        <p:spPr>
          <a:xfrm>
            <a:off x="2700360" y="2852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6T22:45:13Z</dcterms:created>
  <dc:creator>Пользователь</dc:creator>
  <dc:description/>
  <dc:language>en-US</dc:language>
  <cp:lastModifiedBy>1</cp:lastModifiedBy>
  <dcterms:modified xsi:type="dcterms:W3CDTF">2017-09-26T16:25:08Z</dcterms:modified>
  <cp:revision>148</cp:revision>
  <dc:subject/>
  <dc:title>Слайд 1</dc:title>
</cp:coreProperties>
</file>