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372-753E-47B3-806D-EFECA60A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A9BE-C616-451F-8B24-B53B72BE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7DDB-E2C4-4D85-8CDA-A47CE5BB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4A1-91F8-4A56-BEF9-0CD70B62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A7F2-486A-4A7B-8C46-5D81DC1B3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82B7-6164-4DFF-9197-846F4B46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9F801-7EC4-4806-B79F-F884D5B7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0685-7792-4E72-AB87-1A904DF5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EFE8-FDF3-41ED-B992-0A4BC5A9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2F2A-BC68-4B10-B5D1-CE45E5C2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62B6-7087-4081-9976-B62CCFF0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519-BA0E-4D97-8117-2C8A735F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9FB7-8EF8-4C2C-B1CD-82DB4696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97CC8-7156-4CA6-928D-B4012DA4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44EA-F9D4-4DEC-8EA2-BD72D388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3CE7-F6E0-44A4-936F-2D0EDE4B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610-9D4F-4D36-960D-F9053AAC6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8257-28A5-49EC-9DBD-0EE6A8FD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642-A919-4E9A-B29D-731EC502C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CF4-4936-498E-B08C-0ABEB02E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B23-4194-48FD-B7A3-EEE1B129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0CB-1B34-4B01-882E-5308FBF3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68C2-F033-448E-88E4-528EF914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5052-903C-49B6-BB15-57F962BF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F822-5555-4A3B-8908-8370E8E1C52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489F-A1D5-4B82-980C-6E98FE79AFF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ГБДОУ д/с №39 общеразвивающего вида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с приоритетным осуществлением деятельности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по физическому развитию детей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Красносельского района Санкт-Петербурга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240" y="11430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ЗЕН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тем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Дидактические иг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дготовила и пров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питатель группы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ловк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лена Владими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й из важных задач воспитания детей раннего возраста является их своевременное умственное и речевое развитие. В раннем возрасте умственное развитие ребенка осуществляется в его повседневном общении с взрослыми. Но более успешно воспитательный процесс протекает тогда, когда наряду с повседневным общением проводится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пециальные поучающие (дидактические) игры и занятия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которых дети усваивают доступные им сведения и умения. Чтобы маленькие дети овладели необходимыми движениями, речью, разными жизненно необходимыми умениями, их надо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учить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дактическая игра является для маленького ребенка наиболее подходящей формой обучения и дает хороший результат лишь в том случае, если взрослые ясно представляют, какие задачи могут быть решены в процессе ее проведения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Игровая форма обучения, - ведущая на ступени ранн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b2b2b2"/>
                </a:solidFill>
                <a:latin typeface="Times New Roman"/>
              </a:rPr>
              <a:t>      </a:t>
            </a:r>
            <a:r>
              <a:rPr b="0" i="1" lang="ru-RU" sz="1200" spc="-1" strike="noStrike">
                <a:solidFill>
                  <a:srgbClr val="b2b2b2"/>
                </a:solidFill>
                <a:latin typeface="Times New Roman"/>
              </a:rPr>
              <a:t>Дидактическая игра способству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звитию сосредоточенности любознательности способности к подраж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умственному и нравственному этическому воспитан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звитию бережного отношения к игрушкам картинк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одуктивность дидактических игр зависит от: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 планомерности, повторяе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эмоциональности их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тремления детей выполнять все, что от них требуется, охотно и с удовольствие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оянного интереса детей к проведению заня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обия для дидактических игр должны име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лекательный вид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ртинки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ветные; игрушки, кирпичики, шары, кубики -ярко окрашенные. Одним 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дактических принципов, на основе которого строится методика проведения игр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применени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глядности в сочетании со словом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ы, игр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ются в действии в движении: собачка лает, из кирпичиков строится д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шина едет. Все, что показывается ребенку, должно быть подкреплено слов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Это флажок, домик, машина, кукла и т.д." Обязательно надо называть 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Беру утюг, глажу рубашку, оденем кукле пальто, шапку, шарфик." Больш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начение имеют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иветливые, веселые интонации в обращенной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ребенку ре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росл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направлять внимание детей на решение поставленной задачи-да/я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едставление о предмете. Например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наблюдении машины взрослый говор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Это машина. У машины колеса. Машина едет. В машине дядя (шофер)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рассмотрении предметов обязательно задаются вопросы: "Кто это? Что это?"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уются вопросы, подсказывающие ответ: "Это собачка?" Необходим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буждать детей называть то, что они видя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чая на вопросы: "Как кричит петушок?" или "Как лает собачка?", ребе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ьзуется звукоподражанием, что полезно для активной ре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маленькими детьми надо говорить короткими фразами, избегать лишних с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 произноси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четко, правильно, эмоцион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   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Предлагаю вашему вниманию описание нескольких необходимых практических у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1200" spc="-1" strike="noStrike" u="sng">
                <a:solidFill>
                  <a:srgbClr val="b2b2b2"/>
                </a:solidFill>
                <a:uFillTx/>
                <a:latin typeface="Times New Roman"/>
              </a:rPr>
              <a:t>Снимает кольца разного размера и нанизывает их на стержень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ирает пирамидку из двух, а потом из трех кол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кольца предварительно разложены воспитателем у стержня пирамидки, начиная от самого большого до самого маленьког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ет слова "большой", "маленький". По просьбе воспитателя можно показать "самое большое" колечко, колечко "поменьше", "самое маленькое". В настоящие время редко можно встретить одноцветной пирамидки из двух-трех, а затем из пяти колец. Ведь именно такие пирамидки позволяют сосредоточить внимание ребенка на размере   колец, их сравнении на процессе выбора "самого большого" колечка из оставшихся. А небольшое количество колечек делает сборку игрушки посильной даже для самого непосильного малы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 u="sng">
                <a:solidFill>
                  <a:srgbClr val="b2b2b2"/>
                </a:solidFill>
                <a:uFillTx/>
                <a:latin typeface="Times New Roman"/>
              </a:rPr>
              <a:t>Умеет строить   башенку из кубиков различной величин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месте с воспитателем строит башенку из двух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оцветных кубиков, значительно отличаю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разме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Может самостоятельно строить баше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имает слова: "большой маленький", "совсем маленький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            </a:t>
            </a:r>
            <a:r>
              <a:rPr b="1" i="1" lang="ru-RU" sz="1200" spc="-1" strike="noStrike">
                <a:solidFill>
                  <a:srgbClr val="b2b2b2"/>
                </a:solidFill>
                <a:latin typeface="Times New Roman"/>
              </a:rPr>
              <a:t>Настольные иг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гра мазайка «Развиваюющее лото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ит малыша группировать предметы по форме, так как состоит из элементов самых разных геометрических форм. Сначала малышу будет интересно просто рассматривать разноцветные детали-формочки, ощупывать их, класть в коробку (беря каждую деталь кончиками большого и указательного пальцев). И только после этого начнется само обу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урный восторг малыша-деятеля вызовет большой напольный строительный набор "Стена". Кубы, кирпичики, шары, брусочки четырех основных цветов как будто специально созданы для того, чтобы их перевозить в грузовике, кидать, поднимать и вновь ставить друг на друга. Ну а затем можно построить башню и гараж, которые, если их толкнуть, с грохотом рассыплются по всему полу, а потом - заняться шарами, катая их в самых разных направлениях или целясь в ворота из коробки. Помните, что чем непосредственнее будет ваше общение с ребенком, тем большее желание к игре он проявит, при этом, даже не заподозрив, что учится группировать предметы по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467480" y="3048120"/>
            <a:ext cx="533520" cy="45720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543800" y="2666880"/>
            <a:ext cx="380880" cy="3812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5410080" y="2590920"/>
            <a:ext cx="160020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2b2b2"/>
                </a:solidFill>
                <a:latin typeface="Times New Roman"/>
              </a:rPr>
              <a:t>Что я ум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от одного года до двух лет-время активного исследования ребенком окружающего мира. Действия с предметами становятся самым любимым занятием малыша. Манипулируя ими, он начинает обращать внимание на их самые разные свойства: форму, цвет, величину, фактуру, упругость, тяжесть; затем будет учиться узнавать и различать их; чуть позже сможет группировать и сортировать предметы по всем знакомым признакам. В этом и состоит сущность сенсорных упражнений, являющихся основой для формирования всей мыслительной деятельности маленького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b2b2b2"/>
                </a:solidFill>
                <a:latin typeface="Arial"/>
              </a:rPr>
              <a:t>БЛИЦ-ТЕ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b2b2b2"/>
                </a:solidFill>
                <a:latin typeface="Arial"/>
              </a:rPr>
              <a:t>определение ведущей модаль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бенок начал произноси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ые слоги с 7-8 меся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анный момент облада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льшим словарным запас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юбит поговори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му нравиться чтение                                                                                           Охотно собирает пирамид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лух больше, чем                                                                                                 картинки-пазлы, любит играть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атривание картинок.                                                                                    куб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н знает простейшие сти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песенки и любит слушать кассеты</a:t>
            </a:r>
            <a:br>
              <a:rPr sz="24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шатель                                                                   Зритель                                                                  Дея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5"/>
          <p:cNvSpPr/>
          <p:nvPr/>
        </p:nvSpPr>
        <p:spPr>
          <a:xfrm flipH="1">
            <a:off x="2057400" y="251460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6"/>
          <p:cNvSpPr/>
          <p:nvPr/>
        </p:nvSpPr>
        <p:spPr>
          <a:xfrm>
            <a:off x="5791320" y="24382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27"/>
          <p:cNvSpPr/>
          <p:nvPr/>
        </p:nvSpPr>
        <p:spPr>
          <a:xfrm>
            <a:off x="160020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8"/>
          <p:cNvSpPr/>
          <p:nvPr/>
        </p:nvSpPr>
        <p:spPr>
          <a:xfrm flipH="1">
            <a:off x="4800240" y="38862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29"/>
          <p:cNvSpPr/>
          <p:nvPr/>
        </p:nvSpPr>
        <p:spPr>
          <a:xfrm>
            <a:off x="7010280" y="388620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09-26T17:00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