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A0D-6857-4207-9BD6-2C2989C6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B55-8CE9-4EA4-BAD1-5D2D7680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863-90BB-4082-886D-932E9A55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F74-DB58-4649-B6A0-AA21A9E3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71BE-86F2-4D8C-8956-EF5C02E6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D0E0-4E3B-40ED-B3E5-2A3259ED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3693-7788-426E-AB00-17E3F6BE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A8DD-1673-4973-AD8E-B082D907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6626-6FED-4ACE-AB1F-62CF9806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4666-63E8-419B-8A77-05DF707C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4EDD-8BA3-4309-AF37-4368B4C8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86B-4DFE-48F5-AE65-7A9E1009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DBDC-FE15-4944-AEFB-F82ED00D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3E37-020B-4268-979D-CF4E76A6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2B7C-C8A6-47DA-AC49-2B545DA2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FCBC-A75C-462C-BD3A-F85946E6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4194-8C57-4DAB-B3E4-0E2EFCD8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C1B-C2FE-45FC-B753-FA04224C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D75-A841-4231-9DD2-351F758E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E71-C222-43C0-8724-FB61CAE6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545-16E8-415F-A4ED-29FD1200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60D-A46A-4C20-9093-09DECBA4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46D-F396-428B-8224-B615E9D5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3CE-5D8D-48BE-9F15-62FC965B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3D2F-125D-4CCD-842D-4603069464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B082-D309-443F-919A-78A03A5AAD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ГБДОУ д/с №39 общеразвивающего вида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с приоритетным осуществлением деятельности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по физическому развитию детей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Красносельского района Санкт-Петербурга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240" y="1143000"/>
            <a:ext cx="655308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Дидактические иг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готовила и пров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 группы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ов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ена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й из важных задач воспитания детей раннего возраста является их своевременное умственное и речевое развитие. В раннем возрасте умственное развитие ребенка осуществляется в его повседневном общении с взрослыми. Но более успешно воспитательный процесс протекает тогда, когда наряду с повседневным общением проводитс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пециальные поучающие (дидактические) игры и занятия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которых дети усваивают доступные им сведения и умения. Чтобы маленькие дети овладели необходимыми движениями, речью, разными жизненно необходимыми умениями, их над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учить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дактическая игра является для маленького ребенка наиболее подходящей формой обучения и дает хороший результат лишь в том случае, если взрослые ясно представляют, какие задачи могут быть решены в процессе ее проведения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гровая форма обучения, - ведущая на ступени ранне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b2b2b2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b2b2b2"/>
                </a:solidFill>
                <a:latin typeface="Times New Roman"/>
              </a:rPr>
              <a:t>Дидактическая игра способству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азвитию сосредоточенности любознательности способности к подражан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умственному и нравственному этическому воспитан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азвитию бережного отношения к игрушкам картинк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дуктивность дидактических игр зависит от: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 планомерности, повторя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эмоциональности их пр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тремления детей выполнять все, что от них требуется, охотно и с удовольстви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оянного интереса детей к проведению зан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я для дидактических игр должны име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влекательный вид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инки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ные; игрушки, кирпичики, шары, кубики -ярко окрашенные. Одним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дактических принципов, на основе которого строится методика проведения игр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ется применени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глядности в сочетании со словом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ы, игр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ываются в действии в движении: собачка лает, из кирпичиков строится д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шина едет. Все, что показывается ребенку, должно быть подкреплено слов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Это флажок, домик, машина, кукла и т.д." Обязательно надо называть 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Беру утюг, глажу рубашку, оденем кукле пальто, шапку, шарфик." Больш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имеют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ветливые, веселые интонации в обращенно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ребенку ре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росл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 направлять внимание детей на решение поставленной задачи-да/я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предмете. Например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аблюдении машины взрослый говор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Это машина. У машины колеса. Машина едет. В машине дядя (шофер)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рассмотрении предметов обязательно задаются вопросы: "Кто это? Что это?"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ются вопросы, подсказывающие ответ: "Это собачка?" Необходи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буждать детей называть то, что они видя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я на вопросы: "Как кричит петушок?" или "Как лает собачка?", ребе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ьзуется звукоподражанием, что полезно для активной ре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маленькими детьми надо говорить короткими фразами, избегать лишних с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а произноси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четко, правильно, эмоцион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Предлагаю вашему вниманию описание нескольких необходимых практических ум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 u="sng">
                <a:solidFill>
                  <a:srgbClr val="b2b2b2"/>
                </a:solidFill>
                <a:uFillTx/>
                <a:latin typeface="Times New Roman"/>
              </a:rPr>
              <a:t>Снимает кольца разного размера и нанизывает их на стержен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ирает пирамидку из двух, а потом из трех ко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кольца предварительно разложены воспитателем у стержня пирамидки, начиная от самого большого до самого маленьког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ет слова "большой", "маленький". По просьбе воспитателя можно показать "самое большое" колечко, колечко "поменьше", "самое маленькое". В настоящие время редко можно встретить одноцветной пирамидки из двух-трех, а затем из пяти колец. Ведь именно такие пирамидки позволяют сосредоточить внимание ребенка на размере   колец, их сравнении на процессе выбора "самого большого" колечка из оставшихся. А небольшое количество колечек делает сборку игрушки посильной даже для самого непосильного малы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 u="sng">
                <a:solidFill>
                  <a:srgbClr val="b2b2b2"/>
                </a:solidFill>
                <a:uFillTx/>
                <a:latin typeface="Times New Roman"/>
              </a:rPr>
              <a:t>Умеет строить   башенку из кубиков различной величи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месте с воспитателем строит башенку из дву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цветных кубиков, значительно отличаю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разм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ожет самостоятельно строить баше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ет слова: "большой маленький", "совсем маленьки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2b2b2"/>
                </a:solidFill>
                <a:latin typeface="Times New Roman"/>
              </a:rPr>
              <a:t>            </a:t>
            </a:r>
            <a:r>
              <a:rPr b="1" i="1" lang="ru-RU" sz="1200" spc="-1" strike="noStrike">
                <a:solidFill>
                  <a:srgbClr val="b2b2b2"/>
                </a:solidFill>
                <a:latin typeface="Times New Roman"/>
              </a:rPr>
              <a:t>Настольн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гра мазайка «Развиваюющее лото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 малыша группировать предметы по форме, так как состоит из элементов самых разных геометрических форм. Сначала малышу будет интересно просто рассматривать разноцветные детали-формочки, ощупывать их, класть в коробку (беря каждую деталь кончиками большого и указательного пальцев). И только после этого начнется само обу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рный восторг малыша-деятеля вызовет большой напольный строительный набор "Стена". Кубы, кирпичики, шары, брусочки четырех основных цветов как будто специально созданы для того, чтобы их перевозить в грузовике, кидать, поднимать и вновь ставить друг на друга. Ну а затем можно построить башню и гараж, которые, если их толкнуть, с грохотом рассыплются по всему полу, а потом - заняться шарами, катая их в самых разных направлениях или целясь в ворота из коробки. Помните, что чем непосредственнее будет ваше общение с ребенком, тем большее желание к игре он проявит, при этом, даже не заподозрив, что учится группировать предметы по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467480" y="3048120"/>
            <a:ext cx="533520" cy="457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543800" y="2666880"/>
            <a:ext cx="38088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5410080" y="2590920"/>
            <a:ext cx="16002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Times New Roman"/>
              </a:rPr>
              <a:t>Что я уме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 от одного года до двух лет-время активного исследования ребенком окружающего мира. Действия с предметами становятся самым любимым занятием малыша. Манипулируя ими, он начинает обращать внимание на их самые разные свойства: форму, цвет, величину, фактуру, упругость, тяжесть; затем будет учиться узнавать и различать их; чуть позже сможет группировать и сортировать предметы по всем знакомым признакам. В этом и состоит сущность сенсорных упражнений, являющихся основой для формирования всей мыслительной деятельности маленьк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b2b2b2"/>
                </a:solidFill>
                <a:latin typeface="Arial"/>
              </a:rPr>
              <a:t>БЛИЦ-ТЕС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b2b2b2"/>
                </a:solidFill>
                <a:latin typeface="Arial"/>
              </a:rPr>
              <a:t>определение ведущей мода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бенок начал произнос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слоги с 7-8 меся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анный момент облада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им словарным запас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бит поговори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му нравиться чтение                                                                                           Охотно собирает пирамид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лух больше, чем                                                                                                 картинки-пазлы, любит играть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атривание картинок.                                                                                    куб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знает простейшие сти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есенки и любит слушать кассеты</a:t>
            </a:r>
            <a:br>
              <a:rPr sz="2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шатель                                                                   Зритель                                                                  Дея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5"/>
          <p:cNvSpPr/>
          <p:nvPr/>
        </p:nvSpPr>
        <p:spPr>
          <a:xfrm flipH="1">
            <a:off x="2057400" y="251460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6"/>
          <p:cNvSpPr/>
          <p:nvPr/>
        </p:nvSpPr>
        <p:spPr>
          <a:xfrm>
            <a:off x="5791320" y="24382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7"/>
          <p:cNvSpPr/>
          <p:nvPr/>
        </p:nvSpPr>
        <p:spPr>
          <a:xfrm>
            <a:off x="160020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8"/>
          <p:cNvSpPr/>
          <p:nvPr/>
        </p:nvSpPr>
        <p:spPr>
          <a:xfrm flipH="1">
            <a:off x="4800240" y="38862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9"/>
          <p:cNvSpPr/>
          <p:nvPr/>
        </p:nvSpPr>
        <p:spPr>
          <a:xfrm>
            <a:off x="7010280" y="38862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7-09-26T17:00:3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