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8605-1565-420E-A193-904107935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9F57-00A6-4D09-8D40-269FA0BD6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4766-8B46-43FD-8192-9E6BC5DC1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246C-8B94-4A36-ABFE-AAA10CA76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9E6D4-26F2-47C8-ADDD-71961799C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8602E-2662-4E43-BC19-AC35146C5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89445-C7E7-4F0C-895D-710F525BD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7531A-CF2C-4CBA-BEC5-C178595AA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C3981-4DA9-4438-AEC0-A4811215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85592-66AA-4F0A-927D-91AFD1CD1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19DA2-BD66-4213-97AF-47012554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383E-DA2B-4CB5-8F7C-87C4241D5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FD2AC-2AF7-43F9-987B-68061524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C154C-76C8-44C3-B45F-1D364A7E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EEE11-C0D4-4367-B17E-9350AB77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F63A6-69F6-42D0-A56D-897B94A42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C1D54-102C-4BD7-ADFF-4709CEBD2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D358-24EA-4D8A-A505-F1E4DAB1E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1A73-3EFC-40EC-BAA8-1A83CC492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CD3F-5F36-4B34-8719-33093CBA6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2B32-799E-4B55-A717-7520FB142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0CE8-59A6-463B-A5CC-B7FE5CE5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BDB9-2ABE-4377-8057-07F805B2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86CD-6D60-4738-9076-F3650873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1645B-6581-4B02-A024-622773CCB2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56F1E-74DA-4F57-8A3E-145B8C9FD8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Модель развития сюжетно –ролевой игры в дошкольном возрасте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 примере игры «Путешествие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04920" y="990720"/>
            <a:ext cx="8540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Arial"/>
              </a:rPr>
              <a:t>Старшая группа детского сада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9900"/>
                </a:solidFill>
                <a:latin typeface="Arial"/>
              </a:rPr>
              <a:t>«Путешествие по городу»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Самостоятельная игра дете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Воспитатель следит за соблюдением правил, подводит к объединению сюжетных лини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В конце совместное обсуждение и подведение итог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01680" y="990720"/>
            <a:ext cx="8540640" cy="51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Arial"/>
              </a:rPr>
              <a:t>Подготовительная группа детского сад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Arial"/>
              </a:rPr>
              <a:t>«Путешествие по реке»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сложнение маршрутов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ейсы становятся содержательнее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ети самостоятельно ставят цель, делятся на подгруппы, объединяют сюжеты, следят за соблюдением прави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Вывод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Младший дошкольный возрас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спитатель организатор игры, выступает в главной рол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Средний дошкольный возраст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вместная деятельность в организации и проведен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Старший дошкольный возраст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амостоятельная игра, воспитатель выполняет регулирующую рол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Подготовительная группа детского сад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амостоятельная подготовка игры, организация и контрол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Цель игры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Arial"/>
              </a:rPr>
              <a:t>Младшая группа детского са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бучение детей реализации игрового замысла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Arial"/>
              </a:rPr>
              <a:t>Средняя группа детского са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звитие интереса к игре. Формирование положительных взаимоотношений. Воспитание у детей уважения к труд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Arial"/>
              </a:rPr>
              <a:t>Старшая группа детского сад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Формировать умение творчески развивать сюжет игры. Закреплять и обобщать знания о труд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Arial"/>
              </a:rPr>
              <a:t>Подготовительная группа детского сад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бучать детей реализовывать и развивать сюжет иг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Игровой материал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Arial"/>
              </a:rPr>
              <a:t>Младшая группа детского сада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строительный   - игрушки-живот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куклы                - предметы -заместите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Arial"/>
              </a:rPr>
              <a:t>Средняя группа детского сад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строительный           -кухонная посу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набор «больница»   -парикмахерск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тематические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едметы -заместите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Подготовка к игре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00"/>
                </a:solidFill>
                <a:latin typeface="Arial"/>
              </a:rPr>
              <a:t>Младшая группа детского сад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наблюд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экскурс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изготовление из строительного материала транспо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00"/>
                </a:solidFill>
                <a:latin typeface="Arial"/>
              </a:rPr>
              <a:t>Средняя группа детского сад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целевые прогулк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встреча с работник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чтение художественной литера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совместные игры со старшими деть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ручной тру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80880" y="609120"/>
            <a:ext cx="8229600" cy="43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Arial"/>
              </a:rPr>
              <a:t>Старшая группа детского сад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составление рассказов на тему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Где были? Что видели?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совместное изготовление атрибу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Arial"/>
              </a:rPr>
              <a:t>Подготовительная группа детского сад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беседа (Что? Для чего? Как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ролевые, строительные иг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Игровые рол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00"/>
                </a:solidFill>
                <a:latin typeface="Arial"/>
              </a:rPr>
              <a:t>Младшая группа детского сад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ашинист, шофер, пассажир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00"/>
                </a:solidFill>
                <a:latin typeface="Arial"/>
              </a:rPr>
              <a:t>Средняя группа детского сад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питан, матрос, рулевой, повар, врач, парикмахер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00"/>
                </a:solidFill>
                <a:latin typeface="Arial"/>
              </a:rPr>
              <a:t>Старшая группа детского сад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илиционер, начальник порта, кассир, врач, птичница, оленеводы, и т. 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00"/>
                </a:solidFill>
                <a:latin typeface="Arial"/>
              </a:rPr>
              <a:t>Подготовительная группа детского сад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питан, матросы, грузчики, пассажиры, жители города, директор завода, рабоч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Ход игры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Arial"/>
              </a:rPr>
              <a:t>Младшая группа детского сада «Поездка»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Arial"/>
              </a:rPr>
              <a:t>1 Вариан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Игровые действия воспитателя направлены на дете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Arial"/>
              </a:rPr>
              <a:t>2 Вариан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Направлены на воспитател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Arial"/>
              </a:rPr>
              <a:t>3 Вариан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Направлены на игрушк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Arial"/>
              </a:rPr>
              <a:t>4 Вариан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Приобщение детей к поряд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09480" y="99072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Arial"/>
              </a:rPr>
              <a:t>Средняя группа детского са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Arial"/>
              </a:rPr>
              <a:t>«Путешествие по рек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спитатель принимает участие в игр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дает уточняющие вопрос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могает разместить атрибут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спределяет рол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ерет на себя роль (экскурсовода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звивает сюж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12-13T14:33:1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