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E96-6194-4630-837C-5862EEA0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646-B356-4B73-9BA7-91F391E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E8-D0FC-494A-9FD9-58A0CDB8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58D-F3C3-4D7C-8B38-70B37A87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6AB6-B452-4D6A-824A-FF35F67E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B46C-3A39-4C2A-B700-BAAE86D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32C-5359-4A40-AAF1-EDEDC53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A2A-FC13-4ACA-988D-F8E63B9F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027-D654-40E7-8983-C9B71012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BC9-EF17-45F3-8D65-858E45E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E14-594B-42A8-8098-2A762E1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75B-056B-42F6-9266-DF269BD5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EBE6-CE23-4B47-94A7-FF849B9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9479-77A4-4CAE-B2C3-8E3CC3A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50D3-FD64-4A53-A720-FB5101B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2DE-F097-4849-95C0-08D9C5D1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E05-51C3-4B02-8E3F-7375694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C3A-EFA0-41F1-BF62-C9F6D3BA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AF3-D117-464F-8E3B-213546C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502-A047-4712-90BA-E3623C5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269-74BF-4BEE-AADF-2C79188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BB8-D7B0-4932-9F25-7DCA6F8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E20-6459-4CAB-B191-426E7C0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537-6C0D-43ED-A174-13C943E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F078-1D97-4FEE-97A2-5CAFCBD25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CB2B-CA8E-4D7E-9D48-F788C66A9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одель развития сюжетно –ролевой игры в дошкольном возраст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римере игры «Путешеств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городу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амостоятельная игра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спитатель следит за соблюдением правил, подводит к объединению сюжетных ли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конце совместное обсуждение и подведение ит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реке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ложнение маршру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йсы становятся содержательне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 самостоятельно ставят цель, делятся на подгруппы, объединяют сюжеты, следят за соблюдением прав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Младший дошкольный возра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тель организатор игры, выступает в главной р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Средний дошкольный возрас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местная деятельность в организации и пр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игра, воспитатель выполняет регулирующую 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подготовка игры, организация и конт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г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чение детей реализации игрового замысла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интереса к игре. Формирование положительных взаимоотношений. Воспитание у детей уважения к тру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умение творчески развивать сюжет игры. Закреплять и обобщать знания о тру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чать детей реализовывать и развивать сюжет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овой матери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троительный   - игрушки-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куклы                - предметы -замест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троительный           -кухо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бор «больница»   -парикмахер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тематические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меты -замест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одготовка к игр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наблю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экскур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изготовление из строительного материала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редня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целевые прогул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встреча с работ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чтение художественной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совместные игры со старшими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ручной 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составление рассказов на тем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Где были? Что видели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совместное изготовление атрибу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беседа (Что? Для чего? Как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ролевые, строительн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овые ро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Младш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шинист, шофер, пассажи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редня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н, матрос, рулевой, повар, врач, парикмах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лиционер, начальник порта, кассир, врач, птичница, оленеводы,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н, матросы, грузчики, пассажиры, жители города, директор завода, рабо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Ход игр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 «Поездка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1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Игровые действия воспитателя направлены на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2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Направлены на воспита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3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Направлены на игруш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4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Приобщение детей к поряд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ре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принимает участие в игр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ет уточняющие вопро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ает разместить атрибу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ределяет ро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т на себя роль (экскурсов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ет сю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3T14:33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