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82E5-DF16-4254-94B2-C4BC13D9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62AB-A28E-4EDB-8FD9-4ACECBA6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0828-4B7F-4F77-A8CE-8C1AB175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D937-B7A1-4914-9DDA-D9B663FF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A30C-4E54-41AB-B821-8D8BCD7F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EEDC-5B22-4139-823F-C62F7E48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4E6B-8D1E-4CF8-859C-2F19084F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D8D-64E8-4097-B66C-606FB1E9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CAC5-FF58-4F94-8A9D-D75BF788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E88E-6C7E-4109-8145-308EC8DD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164-1277-4FCD-B7F8-5582C573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D409-31F1-4A2A-89C2-D473F631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C7B7-7A05-47D2-A8BD-9E3FE6B0C3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1116000" y="907920"/>
            <a:ext cx="7272360" cy="532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КРЕТЫ СОЗДАНИЯ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КОЛЬНОЙ ГАЗЕТЫ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6040" y="10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«Проба пера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900000" y="1246320"/>
            <a:ext cx="7632720" cy="5432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«Творчеств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творчество1"/>
          <p:cNvPicPr/>
          <p:nvPr/>
        </p:nvPicPr>
        <p:blipFill>
          <a:blip r:embed="rId1"/>
          <a:stretch/>
        </p:blipFill>
        <p:spPr>
          <a:xfrm rot="182400">
            <a:off x="971640" y="1268280"/>
            <a:ext cx="6275160" cy="19782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74" name="Picture 8" descr="творчество6"/>
          <p:cNvPicPr/>
          <p:nvPr/>
        </p:nvPicPr>
        <p:blipFill>
          <a:blip r:embed="rId2"/>
          <a:stretch/>
        </p:blipFill>
        <p:spPr>
          <a:xfrm rot="21320400">
            <a:off x="2123640" y="3141360"/>
            <a:ext cx="6248520" cy="19969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75" name="Picture 9" descr="творчество4"/>
          <p:cNvPicPr/>
          <p:nvPr/>
        </p:nvPicPr>
        <p:blipFill>
          <a:blip r:embed="rId3"/>
          <a:stretch/>
        </p:blipFill>
        <p:spPr>
          <a:xfrm>
            <a:off x="1403280" y="4653000"/>
            <a:ext cx="6413400" cy="19051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«Будьте здоров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здоровье2"/>
          <p:cNvPicPr/>
          <p:nvPr/>
        </p:nvPicPr>
        <p:blipFill>
          <a:blip r:embed="rId1"/>
          <a:stretch/>
        </p:blipFill>
        <p:spPr>
          <a:xfrm rot="21043200">
            <a:off x="826920" y="1557360"/>
            <a:ext cx="7561440" cy="22716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78" name="Picture 5" descr="здоровье6"/>
          <p:cNvPicPr/>
          <p:nvPr/>
        </p:nvPicPr>
        <p:blipFill>
          <a:blip r:embed="rId2"/>
          <a:stretch/>
        </p:blipFill>
        <p:spPr>
          <a:xfrm rot="312600">
            <a:off x="971280" y="3357720"/>
            <a:ext cx="7308720" cy="27208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6"/>
          <p:cNvSpPr txBox="1"/>
          <p:nvPr/>
        </p:nvSpPr>
        <p:spPr>
          <a:xfrm>
            <a:off x="1403280" y="333360"/>
            <a:ext cx="626436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Impact"/>
              </a:rPr>
              <a:t>Пят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Impact"/>
              </a:rPr>
              <a:t>главных «шагов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Impact"/>
              </a:rPr>
              <a:t>по создани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Impact"/>
              </a:rPr>
              <a:t>школьной газ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Impact"/>
              <a:ea typeface="Impact"/>
            </a:endParaRPr>
          </a:p>
        </p:txBody>
      </p:sp>
      <p:pic>
        <p:nvPicPr>
          <p:cNvPr id="43" name="Picture 9" descr="j0233952"/>
          <p:cNvPicPr/>
          <p:nvPr/>
        </p:nvPicPr>
        <p:blipFill>
          <a:blip r:embed="rId1"/>
          <a:stretch/>
        </p:blipFill>
        <p:spPr>
          <a:xfrm>
            <a:off x="6877080" y="4508640"/>
            <a:ext cx="1873080" cy="1833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755640" y="189000"/>
            <a:ext cx="741672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ШАГ» № 1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РМИРОВАНИЕ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ТАТА СОТРУДНИКОВ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КОЛЬНОЙ ГАЗЕТЫ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762280" y="3511440"/>
            <a:ext cx="3406680" cy="3413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хема 1" descr=""/>
          <p:cNvPicPr/>
          <p:nvPr/>
        </p:nvPicPr>
        <p:blipFill>
          <a:blip r:embed="rId1"/>
          <a:stretch/>
        </p:blipFill>
        <p:spPr>
          <a:xfrm>
            <a:off x="341280" y="1773360"/>
            <a:ext cx="8315280" cy="4462200"/>
          </a:xfrm>
          <a:prstGeom prst="rect">
            <a:avLst/>
          </a:prstGeom>
          <a:ln w="0">
            <a:noFill/>
          </a:ln>
        </p:spPr>
      </p:pic>
      <p:sp>
        <p:nvSpPr>
          <p:cNvPr id="47" name="WordArt 34"/>
          <p:cNvSpPr txBox="1"/>
          <p:nvPr/>
        </p:nvSpPr>
        <p:spPr>
          <a:xfrm>
            <a:off x="611280" y="333360"/>
            <a:ext cx="8064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ДАКЦИОННЫЙ СОВЕТ 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ТСКОЙ ШКОЛЬНОЙ ГАЗЕТЫ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09720" y="3357720"/>
            <a:ext cx="7416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ШАГ» № 2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ОР НАЗВАНИЯ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КОЛЬНОЙ ГАЗЕТЫ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786040" y="-189000"/>
            <a:ext cx="3670200" cy="3713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ыборе читательской аудитор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жде всего, были учте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растные особенности уча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росы учащихся по интерес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ворчество, спорт, увлечения, краеведение и т.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kind1"/>
          <p:cNvPicPr/>
          <p:nvPr/>
        </p:nvPicPr>
        <p:blipFill>
          <a:blip r:embed="rId1"/>
          <a:stretch/>
        </p:blipFill>
        <p:spPr>
          <a:xfrm>
            <a:off x="184320" y="3141720"/>
            <a:ext cx="1752480" cy="136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kind2"/>
          <p:cNvPicPr/>
          <p:nvPr/>
        </p:nvPicPr>
        <p:blipFill>
          <a:blip r:embed="rId2"/>
          <a:stretch/>
        </p:blipFill>
        <p:spPr>
          <a:xfrm>
            <a:off x="7589880" y="4508640"/>
            <a:ext cx="1600200" cy="1485720"/>
          </a:xfrm>
          <a:prstGeom prst="rect">
            <a:avLst/>
          </a:prstGeom>
          <a:ln w="0">
            <a:noFill/>
          </a:ln>
        </p:spPr>
      </p:pic>
      <p:sp>
        <p:nvSpPr>
          <p:cNvPr id="53" name="WordArt 4"/>
          <p:cNvSpPr txBox="1"/>
          <p:nvPr/>
        </p:nvSpPr>
        <p:spPr>
          <a:xfrm>
            <a:off x="579600" y="345960"/>
            <a:ext cx="813744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ШАГ» № 3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ОР ЧИТАТЕЛЬСКОЙ АУДИТОРИИ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951280" y="2276640"/>
            <a:ext cx="619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до обсудить количество печатных страниц школьной газе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дакционный совет должен выбрать особый стиль издания (шрифт, нумерация страниц, оглавление, выделение заголовков, расположение материалов, подбор иллюстраций и т.п.), который выделяет нашу газету среди прочих школьных печатных из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брали эмблему и девиз газ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971640" y="333360"/>
            <a:ext cx="7416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ШАГ» № 4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РАБОТКА ДИЗАЙНА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КОЛЬНОЙ ГАЗЕТЫ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" name="Picture 7" descr="Газета_2"/>
          <p:cNvPicPr/>
          <p:nvPr/>
        </p:nvPicPr>
        <p:blipFill>
          <a:blip r:embed="rId1"/>
          <a:stretch/>
        </p:blipFill>
        <p:spPr>
          <a:xfrm rot="21132600">
            <a:off x="290520" y="2223720"/>
            <a:ext cx="2670120" cy="3774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971640" y="333360"/>
            <a:ext cx="7416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ШАГ» № 5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РАБОТКА КОНЦЕПЦИИ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КОЛЬНОЙ ГАЗЕТЫ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01480" y="2803680"/>
            <a:ext cx="3384720" cy="3585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Школьны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316560" y="5084640"/>
            <a:ext cx="2232000" cy="432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Творчеств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2411280" y="6141960"/>
            <a:ext cx="4175280" cy="432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роба пе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076720" y="3498840"/>
            <a:ext cx="3456000" cy="43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Экспресс-опро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5076720" y="2728800"/>
            <a:ext cx="3456000" cy="43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Юный гимназис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5092560" y="4255920"/>
            <a:ext cx="3456000" cy="43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Будьте здоров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468360" y="3498840"/>
            <a:ext cx="3456000" cy="43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оздравл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468360" y="4255920"/>
            <a:ext cx="3456000" cy="43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мен опыт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843120" y="5084640"/>
            <a:ext cx="1728720" cy="43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а досуг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8" descr=""/>
          <p:cNvPicPr/>
          <p:nvPr/>
        </p:nvPicPr>
        <p:blipFill>
          <a:blip r:embed="rId1"/>
          <a:stretch/>
        </p:blipFill>
        <p:spPr>
          <a:xfrm>
            <a:off x="3638520" y="4687920"/>
            <a:ext cx="2079720" cy="1352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«Экспресс-опро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опрос1"/>
          <p:cNvPicPr/>
          <p:nvPr/>
        </p:nvPicPr>
        <p:blipFill>
          <a:blip r:embed="rId1"/>
          <a:stretch/>
        </p:blipFill>
        <p:spPr>
          <a:xfrm>
            <a:off x="1692360" y="1268280"/>
            <a:ext cx="5718240" cy="51800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7:09:54Z</dcterms:created>
  <dc:creator>Елена</dc:creator>
  <dc:description/>
  <dc:language>en-US</dc:language>
  <cp:lastModifiedBy>Елена В. Храмова</cp:lastModifiedBy>
  <dcterms:modified xsi:type="dcterms:W3CDTF">2017-09-26T15:35:06Z</dcterms:modified>
  <cp:revision>95</cp:revision>
  <dc:subject/>
  <dc:title>Слайд 1</dc:title>
</cp:coreProperties>
</file>