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568A-6E25-4D0F-8C95-C6A0389D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3915-E33C-4557-8B6C-42810BDD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68DD-315B-4B5A-A251-69E63A4E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3D2-AE58-4FFB-8BE5-8ECBAC68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D655-1F92-4E28-92B1-1C514C7E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0119-B8DF-4702-8E76-519E52F4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965-612A-4609-A21B-AC808C0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2F16-1D55-4F04-B216-35F121A1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147-22D9-4D3E-AF73-330A14ED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E89-5179-4361-9901-ABCA1E07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4DBF-0910-4EBB-AE16-F7444E4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7A4E-A0B0-4C93-B545-8D7DE9A0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5BBF-C717-4871-9418-FF0543CB58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1116000" y="907920"/>
            <a:ext cx="727236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ЕКРЕТЫ СОЗДАНИЯ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ШКОЛЬНОЙ ГАЗЕТЫ</a:t>
            </a:r>
            <a:endParaRPr b="0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604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Проба пера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900000" y="1246320"/>
            <a:ext cx="7632720" cy="5432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Творчеств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творчество1"/>
          <p:cNvPicPr/>
          <p:nvPr/>
        </p:nvPicPr>
        <p:blipFill>
          <a:blip r:embed="rId1"/>
          <a:stretch/>
        </p:blipFill>
        <p:spPr>
          <a:xfrm rot="182400">
            <a:off x="971640" y="1268280"/>
            <a:ext cx="6275160" cy="1978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4" name="Picture 8" descr="творчество6"/>
          <p:cNvPicPr/>
          <p:nvPr/>
        </p:nvPicPr>
        <p:blipFill>
          <a:blip r:embed="rId2"/>
          <a:stretch/>
        </p:blipFill>
        <p:spPr>
          <a:xfrm rot="21320400">
            <a:off x="2123640" y="3141360"/>
            <a:ext cx="6248520" cy="19969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5" name="Picture 9" descr="творчество4"/>
          <p:cNvPicPr/>
          <p:nvPr/>
        </p:nvPicPr>
        <p:blipFill>
          <a:blip r:embed="rId3"/>
          <a:stretch/>
        </p:blipFill>
        <p:spPr>
          <a:xfrm>
            <a:off x="1403280" y="4653000"/>
            <a:ext cx="6413400" cy="19051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Будьте здоров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здоровье2"/>
          <p:cNvPicPr/>
          <p:nvPr/>
        </p:nvPicPr>
        <p:blipFill>
          <a:blip r:embed="rId1"/>
          <a:stretch/>
        </p:blipFill>
        <p:spPr>
          <a:xfrm rot="21043200">
            <a:off x="826920" y="1557360"/>
            <a:ext cx="7561440" cy="22716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8" name="Picture 5" descr="здоровье6"/>
          <p:cNvPicPr/>
          <p:nvPr/>
        </p:nvPicPr>
        <p:blipFill>
          <a:blip r:embed="rId2"/>
          <a:stretch/>
        </p:blipFill>
        <p:spPr>
          <a:xfrm rot="312600">
            <a:off x="971280" y="3357720"/>
            <a:ext cx="7308720" cy="27208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6"/>
          <p:cNvSpPr txBox="1"/>
          <p:nvPr/>
        </p:nvSpPr>
        <p:spPr>
          <a:xfrm>
            <a:off x="1403280" y="333360"/>
            <a:ext cx="626436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Пя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главных «шагов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по создани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latin typeface="Impact"/>
              </a:rPr>
              <a:t>школьной газе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cc"/>
              </a:solidFill>
              <a:latin typeface="Impact"/>
              <a:ea typeface="Impact"/>
            </a:endParaRPr>
          </a:p>
        </p:txBody>
      </p:sp>
      <p:pic>
        <p:nvPicPr>
          <p:cNvPr id="43" name="Picture 9" descr="j0233952"/>
          <p:cNvPicPr/>
          <p:nvPr/>
        </p:nvPicPr>
        <p:blipFill>
          <a:blip r:embed="rId1"/>
          <a:stretch/>
        </p:blipFill>
        <p:spPr>
          <a:xfrm>
            <a:off x="6877080" y="4508640"/>
            <a:ext cx="1873080" cy="183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4"/>
          <p:cNvSpPr txBox="1"/>
          <p:nvPr/>
        </p:nvSpPr>
        <p:spPr>
          <a:xfrm>
            <a:off x="755640" y="189000"/>
            <a:ext cx="741672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1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ОРМИРОВАНИЕ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ТАТА СОТРУДНИКОВ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762280" y="3511440"/>
            <a:ext cx="3406680" cy="3413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хема 1" descr=""/>
          <p:cNvPicPr/>
          <p:nvPr/>
        </p:nvPicPr>
        <p:blipFill>
          <a:blip r:embed="rId1"/>
          <a:stretch/>
        </p:blipFill>
        <p:spPr>
          <a:xfrm>
            <a:off x="341280" y="1773360"/>
            <a:ext cx="8315280" cy="4462200"/>
          </a:xfrm>
          <a:prstGeom prst="rect">
            <a:avLst/>
          </a:prstGeom>
          <a:ln w="0">
            <a:noFill/>
          </a:ln>
        </p:spPr>
      </p:pic>
      <p:sp>
        <p:nvSpPr>
          <p:cNvPr id="47" name="WordArt 34"/>
          <p:cNvSpPr txBox="1"/>
          <p:nvPr/>
        </p:nvSpPr>
        <p:spPr>
          <a:xfrm>
            <a:off x="611280" y="333360"/>
            <a:ext cx="8064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ДАКЦИОННЫЙ СОВЕТ 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ТСКОЙ 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9720" y="3357720"/>
            <a:ext cx="7416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2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 НАЗВАНИЯ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786040" y="-189000"/>
            <a:ext cx="3670200" cy="3713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выборе читательской аудитор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жде всего, были учте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ные особенности учащих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росы учащихся по интерес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ворчество, спорт, увлечения, краеведение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kind1"/>
          <p:cNvPicPr/>
          <p:nvPr/>
        </p:nvPicPr>
        <p:blipFill>
          <a:blip r:embed="rId1"/>
          <a:stretch/>
        </p:blipFill>
        <p:spPr>
          <a:xfrm>
            <a:off x="184320" y="3141720"/>
            <a:ext cx="1752480" cy="1366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kind2"/>
          <p:cNvPicPr/>
          <p:nvPr/>
        </p:nvPicPr>
        <p:blipFill>
          <a:blip r:embed="rId2"/>
          <a:stretch/>
        </p:blipFill>
        <p:spPr>
          <a:xfrm>
            <a:off x="7589880" y="4508640"/>
            <a:ext cx="1600200" cy="1485720"/>
          </a:xfrm>
          <a:prstGeom prst="rect">
            <a:avLst/>
          </a:prstGeom>
          <a:ln w="0">
            <a:noFill/>
          </a:ln>
        </p:spPr>
      </p:pic>
      <p:sp>
        <p:nvSpPr>
          <p:cNvPr id="53" name="WordArt 4"/>
          <p:cNvSpPr txBox="1"/>
          <p:nvPr/>
        </p:nvSpPr>
        <p:spPr>
          <a:xfrm>
            <a:off x="579600" y="345960"/>
            <a:ext cx="813744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3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БОР ЧИТАТЕЛЬСКОЙ АУДИТОРИ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951280" y="2276640"/>
            <a:ext cx="619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до обсудить количество печатных страниц школьной газе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Редакционный совет должен выбрать особый стиль издания (шрифт, нумерация страниц, оглавление, выделение заголовков, расположение материалов, подбор иллюстраций и т.п.), который выделяет нашу газету среди прочих школьных печатных изд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Выбрали эмблему и девиз газ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971640" y="333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4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ДИЗАЙНА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6" name="Picture 7" descr="Газета_2"/>
          <p:cNvPicPr/>
          <p:nvPr/>
        </p:nvPicPr>
        <p:blipFill>
          <a:blip r:embed="rId1"/>
          <a:stretch/>
        </p:blipFill>
        <p:spPr>
          <a:xfrm rot="21132600">
            <a:off x="290520" y="2223720"/>
            <a:ext cx="2670120" cy="37749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971640" y="333360"/>
            <a:ext cx="74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ШАГ» № 5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РАБОТКА КОНЦЕПЦИИ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99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ШКОЛЬНОЙ ГАЗЕТЫ</a:t>
            </a:r>
            <a:endParaRPr b="1" lang="en-US" sz="18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99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01480" y="2803680"/>
            <a:ext cx="3384720" cy="3585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Школьны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во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6316560" y="5084640"/>
            <a:ext cx="223200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Творчеств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411280" y="6141960"/>
            <a:ext cx="4175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роба пе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5076720" y="349884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Экспресс-опр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5076720" y="272880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Юный гимназис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5"/>
          <p:cNvSpPr/>
          <p:nvPr/>
        </p:nvSpPr>
        <p:spPr>
          <a:xfrm>
            <a:off x="5092560" y="425592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удьте здоров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6"/>
          <p:cNvSpPr/>
          <p:nvPr/>
        </p:nvSpPr>
        <p:spPr>
          <a:xfrm>
            <a:off x="468360" y="349884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здравл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7"/>
          <p:cNvSpPr/>
          <p:nvPr/>
        </p:nvSpPr>
        <p:spPr>
          <a:xfrm>
            <a:off x="468360" y="4255920"/>
            <a:ext cx="345600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Обмен опыто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8"/>
          <p:cNvSpPr/>
          <p:nvPr/>
        </p:nvSpPr>
        <p:spPr>
          <a:xfrm>
            <a:off x="843120" y="5084640"/>
            <a:ext cx="1728720" cy="43344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На досуг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8" descr=""/>
          <p:cNvPicPr/>
          <p:nvPr/>
        </p:nvPicPr>
        <p:blipFill>
          <a:blip r:embed="rId1"/>
          <a:stretch/>
        </p:blipFill>
        <p:spPr>
          <a:xfrm>
            <a:off x="3638520" y="4687920"/>
            <a:ext cx="2079720" cy="1352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Экспресс-опрос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опрос1"/>
          <p:cNvPicPr/>
          <p:nvPr/>
        </p:nvPicPr>
        <p:blipFill>
          <a:blip r:embed="rId1"/>
          <a:stretch/>
        </p:blipFill>
        <p:spPr>
          <a:xfrm>
            <a:off x="1692360" y="1268280"/>
            <a:ext cx="5718240" cy="5180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7T07:09:54Z</dcterms:created>
  <dc:creator>Елена</dc:creator>
  <dc:description/>
  <dc:language>en-US</dc:language>
  <cp:lastModifiedBy>Елена В. Храмова</cp:lastModifiedBy>
  <dcterms:modified xsi:type="dcterms:W3CDTF">2017-09-26T15:35:06Z</dcterms:modified>
  <cp:revision>95</cp:revision>
  <dc:subject/>
  <dc:title>Слайд 1</dc:title>
</cp:coreProperties>
</file>