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39B9-322F-44F9-A86A-ABA05D9F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F6DD-966A-41A0-A33B-1C139376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BA70-FF9C-4965-B3C1-188EEB49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4A3F-7BB1-4195-9CA1-96CDCC92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D7FA-0AE4-4E6B-9248-B4D82D7A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8DD2-325F-4D72-8CEB-7F632C3E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DB7C-9035-4851-85B2-F7CEAF44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0208-05C8-44EA-9FDD-9EDE8742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A80C-E637-465F-9070-F42E5546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2285-DB67-4B0D-84C9-F2004561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9073-1A30-4DC4-A8A5-30EA61E8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B2E4-29C5-4C82-AFA2-70EA710A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E494-522A-4C95-A58F-260B879C55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28.xml"/><Relationship Id="rId4" Type="http://schemas.openxmlformats.org/officeDocument/2006/relationships/slide" Target="slide20.xml"/><Relationship Id="rId5" Type="http://schemas.openxmlformats.org/officeDocument/2006/relationships/slide" Target="slide23.xml"/><Relationship Id="rId6" Type="http://schemas.openxmlformats.org/officeDocument/2006/relationships/slide" Target="slide21.xml"/><Relationship Id="rId7" Type="http://schemas.openxmlformats.org/officeDocument/2006/relationships/slide" Target="slide29.xml"/><Relationship Id="rId8" Type="http://schemas.openxmlformats.org/officeDocument/2006/relationships/slide" Target="slide25.xml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картоа России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ЕМЬ ЧУДЕС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 РОСС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6">
            <a:hlinkClick r:id="rId2" action="ppaction://hlinksldjump"/>
          </p:cNvPr>
          <p:cNvSpPr/>
          <p:nvPr/>
        </p:nvSpPr>
        <p:spPr>
          <a:xfrm>
            <a:off x="8244000" y="2637000"/>
            <a:ext cx="482400" cy="3603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>
            <a:hlinkClick r:id="rId3" action="ppaction://hlinksldjump"/>
          </p:cNvPr>
          <p:cNvSpPr/>
          <p:nvPr/>
        </p:nvSpPr>
        <p:spPr>
          <a:xfrm>
            <a:off x="1547640" y="2637000"/>
            <a:ext cx="482760" cy="3603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9">
            <a:hlinkClick r:id="rId4" action="ppaction://hlinksldjump"/>
          </p:cNvPr>
          <p:cNvSpPr/>
          <p:nvPr/>
        </p:nvSpPr>
        <p:spPr>
          <a:xfrm>
            <a:off x="1042920" y="4869000"/>
            <a:ext cx="482760" cy="3603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1">
            <a:hlinkClick r:id="rId5" action="ppaction://hlinksldjump"/>
          </p:cNvPr>
          <p:cNvSpPr/>
          <p:nvPr/>
        </p:nvSpPr>
        <p:spPr>
          <a:xfrm>
            <a:off x="2700360" y="2565360"/>
            <a:ext cx="482400" cy="3603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2">
            <a:hlinkClick r:id="rId6" action="ppaction://hlinksldjump"/>
          </p:cNvPr>
          <p:cNvSpPr/>
          <p:nvPr/>
        </p:nvSpPr>
        <p:spPr>
          <a:xfrm>
            <a:off x="1403280" y="3213000"/>
            <a:ext cx="482760" cy="3603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3">
            <a:hlinkClick r:id="rId7" action="ppaction://hlinksldjump"/>
          </p:cNvPr>
          <p:cNvSpPr/>
          <p:nvPr/>
        </p:nvSpPr>
        <p:spPr>
          <a:xfrm>
            <a:off x="1403280" y="4221000"/>
            <a:ext cx="482760" cy="3603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4">
            <a:hlinkClick r:id="rId8" action="ppaction://hlinksldjump"/>
          </p:cNvPr>
          <p:cNvSpPr/>
          <p:nvPr/>
        </p:nvSpPr>
        <p:spPr>
          <a:xfrm>
            <a:off x="5435640" y="4221000"/>
            <a:ext cx="482400" cy="3603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вые 7 чудес св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еликая китайская стена (Кита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0" y="5000760"/>
            <a:ext cx="9144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я китайская сте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собой цепь оборонительных сооружений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китайской стены по прямой, от края до края составляет 2450 км, а если учитывать все изгибы и ответвления, то, по разным оценкам, получается от 6000 до 8850 км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ительство, начатое в 210 году до н.э., с небольшими перерывами продолжалось вплоть до конца 1640-х годов. Средняя высота стены достигала 7,8 метров, а её ширина позволяла маршировать в ряд пяти пехотинцам или скакать пяти конным всадникам в шерен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&amp;Scy;&amp;ocy;&amp;vcy;&amp;rcy;&amp;iecy;&amp;mcy;&amp;iecy;&amp;ncy;&amp;ncy;&amp;ycy;&amp;iecy; &amp;scy;&amp;iecy;&amp;mcy;&amp;softcy; &amp;chcy;&amp;ucy;&amp;dcy;&amp;iecy;&amp;scy; &amp;scy;&amp;vcy;&amp;iecy;&amp;tcy;&amp;acy;"/>
          <p:cNvPicPr/>
          <p:nvPr/>
        </p:nvPicPr>
        <p:blipFill>
          <a:blip r:embed="rId1"/>
          <a:stretch/>
        </p:blipFill>
        <p:spPr>
          <a:xfrm>
            <a:off x="1643040" y="1285920"/>
            <a:ext cx="575460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лизей (Рим, Итал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0" y="500076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зей — один из самых монументальных памятников римской эпохи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фитеатр был построен за 8 лет — строительство начал император Веспасиан в 72 году и завершил в 80 году его сын Тит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ны Колизея воздвигнуты из крупных блоков травертина, скреплённых между собой стальными скобами общим весом примерно 300 тонн. Открытие Колизея ознаменовалось 100-дневными увеселительными мероприятиями. За это время в гладиаторских турнирах погибло несколько тысяч воинов и 5 тысяч хищных звер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&amp;Scy;&amp;ocy;&amp;vcy;&amp;rcy;&amp;iecy;&amp;mcy;&amp;iecy;&amp;ncy;&amp;ncy;&amp;ycy;&amp;iecy; &amp;scy;&amp;iecy;&amp;mcy;&amp;softcy; &amp;chcy;&amp;ucy;&amp;dcy;&amp;iecy;&amp;scy; &amp;scy;&amp;vcy;&amp;iecy;&amp;tcy;&amp;acy;"/>
          <p:cNvPicPr/>
          <p:nvPr/>
        </p:nvPicPr>
        <p:blipFill>
          <a:blip r:embed="rId1"/>
          <a:stretch/>
        </p:blipFill>
        <p:spPr>
          <a:xfrm>
            <a:off x="1857240" y="785880"/>
            <a:ext cx="62200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5429160" y="0"/>
            <a:ext cx="3714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чу-Пикчу (Пер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0" y="39290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ины Мачу-Пикчу — «затерянного города инков» — скрыты в зарослях джунглей высоко в Перуанских Андах. Город построен как святилище в 1438 году девятым правителем Империи Инков — Пачакутеком Юпанки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400 лет о существовании города ходили лишь легенды, и всего 100 лет назад (1911 год) оплот инков вновь «воскрес из небытия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процветал, на высоте 3000 метров его жители выращивали маис, картофель и другие овощи. Прямо в скалах инки вырубали террасы, засыпали их землёй из речной долины Урубамба и возводили массивные подпорные стены, защищавшие грядки от солнца, ветра и песчаных заносов. Около 1532 года обитатели Мачу-Пикчу по неизвестным причинам покинули город, оставив своим потомкам прекрасные архитектурные тво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&amp;Scy;&amp;ocy;&amp;vcy;&amp;rcy;&amp;iecy;&amp;mcy;&amp;iecy;&amp;ncy;&amp;ncy;&amp;ycy;&amp;iecy; &amp;scy;&amp;iecy;&amp;mcy;&amp;softcy; &amp;chcy;&amp;ucy;&amp;dcy;&amp;iecy;&amp;scy; &amp;scy;&amp;vcy;&amp;iecy;&amp;tcy;&amp;acy;"/>
          <p:cNvPicPr/>
          <p:nvPr/>
        </p:nvPicPr>
        <p:blipFill>
          <a:blip r:embed="rId1"/>
          <a:stretch/>
        </p:blipFill>
        <p:spPr>
          <a:xfrm>
            <a:off x="0" y="71280"/>
            <a:ext cx="568332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0"/>
            <a:ext cx="25002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тра (Иорд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0" y="478620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 км к югу от иорданской столицы, глубоко в песчаных горах запрятаны развалины древней Петры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ся, что храмы и дворцы Петры были вырублены в скалах за 2000 лет до Рождества Христова древнеарабским кочевым племенем набатее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род строился около 500 лет и превратился в крупный торговый центр. Петра располагалась на пересечении важных торговых путей между Красным и Средиземным морями. В Петре насчитывается более 800 достопримечательностей. Храмы и склепы, римские колоннады и амфитеатр на 3000 мест, дворцы вельмож, бани и каналы — всё это вытесано из кам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&amp;Scy;&amp;ocy;&amp;vcy;&amp;rcy;&amp;iecy;&amp;mcy;&amp;iecy;&amp;ncy;&amp;ncy;&amp;ycy;&amp;iecy; &amp;scy;&amp;iecy;&amp;mcy;&amp;softcy; &amp;chcy;&amp;ucy;&amp;dcy;&amp;iecy;&amp;scy; &amp;scy;&amp;vcy;&amp;iecy;&amp;tcy;&amp;acy;"/>
          <p:cNvPicPr/>
          <p:nvPr/>
        </p:nvPicPr>
        <p:blipFill>
          <a:blip r:embed="rId1"/>
          <a:stretch/>
        </p:blipFill>
        <p:spPr>
          <a:xfrm>
            <a:off x="2416320" y="285840"/>
            <a:ext cx="672768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дж-Махал (Агра, Инд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0" y="50720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нство историков сходятся во мнении, что усыпальницу построили в 1630-х гг. по приказу императора Великих Моголов — Шах-Джахана в память о безвременно скончавшейся супруге Мумтаз-Махал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2 долгих года продолжалось строительство. Сегодня беломраморный памятник великой любви, «жемчужина индийской архитектуры» является одной из важнейших достопримечательностей Инд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&amp;Scy;&amp;ocy;&amp;vcy;&amp;rcy;&amp;iecy;&amp;mcy;&amp;iecy;&amp;ncy;&amp;ncy;&amp;ycy;&amp;iecy; &amp;scy;&amp;iecy;&amp;mcy;&amp;softcy; &amp;chcy;&amp;ucy;&amp;dcy;&amp;iecy;&amp;scy; &amp;scy;&amp;vcy;&amp;iecy;&amp;tcy;&amp;acy;"/>
          <p:cNvPicPr/>
          <p:nvPr/>
        </p:nvPicPr>
        <p:blipFill>
          <a:blip r:embed="rId1"/>
          <a:stretch/>
        </p:blipFill>
        <p:spPr>
          <a:xfrm>
            <a:off x="1500120" y="785880"/>
            <a:ext cx="635796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атуя Христа-Искупит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Рио-де-Жанейро, Бразил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0" y="5500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гантская статуя Христа-Искупителя, венчающая 710-метровую гору Корковадо, уже 80 лет по праву считается символом Рио-де-Жанейро и всей Бразилии в целом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аяние Христа с распростёртыми руками высится над 10-миллионным городом, словно благословляя и обнимая его. Статуя достигает 38 метров в высоту и весит 1145 тонн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&amp;Scy;&amp;ocy;&amp;vcy;&amp;rcy;&amp;iecy;&amp;mcy;&amp;iecy;&amp;ncy;&amp;ncy;&amp;ycy;&amp;iecy; &amp;scy;&amp;iecy;&amp;mcy;&amp;softcy; &amp;chcy;&amp;ucy;&amp;dcy;&amp;iecy;&amp;scy; &amp;scy;&amp;vcy;&amp;iecy;&amp;tcy;&amp;acy;"/>
          <p:cNvPicPr/>
          <p:nvPr/>
        </p:nvPicPr>
        <p:blipFill>
          <a:blip r:embed="rId1"/>
          <a:stretch/>
        </p:blipFill>
        <p:spPr>
          <a:xfrm>
            <a:off x="1428840" y="1285920"/>
            <a:ext cx="63864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ичен-Ица (Юкатан, Мекси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0" y="478620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ний город майя — Чичен-Ица, расположенный в Мексике на севере полуострова Юкатан. Название древнего города Чичен-Ица переводится как «Колодец племени Ица»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возник в VII веке н. э. как религиозный центр майя, а к X веку был захвачен тольтеками, пришедшими на Юкатан из центральной Мексики, и к XI веку стал столицей тольтекского царств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1178 году индейский правитель Хунак Кеель разгромил святилище майя, превратив его в жалкую груду развалин. Город пришёл в упадок и обезлюд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&amp;Scy;&amp;ocy;&amp;vcy;&amp;rcy;&amp;iecy;&amp;mcy;&amp;iecy;&amp;ncy;&amp;ncy;&amp;ycy;&amp;iecy; &amp;scy;&amp;iecy;&amp;mcy;&amp;softcy; &amp;chcy;&amp;ucy;&amp;dcy;&amp;iecy;&amp;scy; &amp;scy;&amp;vcy;&amp;iecy;&amp;tcy;&amp;acy;"/>
          <p:cNvPicPr/>
          <p:nvPr/>
        </p:nvPicPr>
        <p:blipFill>
          <a:blip r:embed="rId1"/>
          <a:stretch/>
        </p:blipFill>
        <p:spPr>
          <a:xfrm>
            <a:off x="1500120" y="857160"/>
            <a:ext cx="60721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5"/>
          <p:cNvSpPr/>
          <p:nvPr/>
        </p:nvSpPr>
        <p:spPr>
          <a:xfrm>
            <a:off x="0" y="1197000"/>
            <a:ext cx="9144000" cy="5205240"/>
          </a:xfrm>
          <a:prstGeom prst="verticalScroll">
            <a:avLst>
              <a:gd name="adj" fmla="val 125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55640" y="1500120"/>
            <a:ext cx="7704000" cy="46260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 июня 2008 года в День России на Красной площади  подвели итоги конкурса «Семь чудес России», объявленного осенью 2007 год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2923920"/>
            <a:ext cx="748512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5280" y="3213000"/>
            <a:ext cx="8137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бедителями стали  три рукотворных и четыре природных достопримеча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гейзеры 1"/>
          <p:cNvPicPr/>
          <p:nvPr/>
        </p:nvPicPr>
        <p:blipFill>
          <a:blip r:embed="rId1"/>
          <a:stretch/>
        </p:blipFill>
        <p:spPr>
          <a:xfrm>
            <a:off x="0" y="4437000"/>
            <a:ext cx="2050920" cy="16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Picture 5" descr="мам Кург"/>
          <p:cNvPicPr/>
          <p:nvPr/>
        </p:nvPicPr>
        <p:blipFill>
          <a:blip r:embed="rId2"/>
          <a:stretch/>
        </p:blipFill>
        <p:spPr>
          <a:xfrm>
            <a:off x="6227640" y="1413000"/>
            <a:ext cx="2009880" cy="146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Picture 6" descr="петерг"/>
          <p:cNvPicPr/>
          <p:nvPr/>
        </p:nvPicPr>
        <p:blipFill>
          <a:blip r:embed="rId3"/>
          <a:stretch/>
        </p:blipFill>
        <p:spPr>
          <a:xfrm>
            <a:off x="900000" y="1484280"/>
            <a:ext cx="1990800" cy="136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Picture 10" descr="собор ВБ"/>
          <p:cNvPicPr/>
          <p:nvPr/>
        </p:nvPicPr>
        <p:blipFill>
          <a:blip r:embed="rId4"/>
          <a:stretch/>
        </p:blipFill>
        <p:spPr>
          <a:xfrm>
            <a:off x="3635280" y="1341360"/>
            <a:ext cx="2089080" cy="1573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"/>
          <p:cNvPicPr/>
          <p:nvPr/>
        </p:nvPicPr>
        <p:blipFill>
          <a:blip r:embed="rId5"/>
          <a:stretch/>
        </p:blipFill>
        <p:spPr>
          <a:xfrm>
            <a:off x="7020000" y="4437000"/>
            <a:ext cx="2124000" cy="166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"/>
          <p:cNvPicPr/>
          <p:nvPr/>
        </p:nvPicPr>
        <p:blipFill>
          <a:blip r:embed="rId6"/>
          <a:stretch/>
        </p:blipFill>
        <p:spPr>
          <a:xfrm>
            <a:off x="4643280" y="4437000"/>
            <a:ext cx="2293920" cy="1843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"/>
          <p:cNvPicPr/>
          <p:nvPr/>
        </p:nvPicPr>
        <p:blipFill>
          <a:blip r:embed="rId7"/>
          <a:stretch/>
        </p:blipFill>
        <p:spPr>
          <a:xfrm>
            <a:off x="2124000" y="4437000"/>
            <a:ext cx="2349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Долина гейзер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55893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улканическая впадина на  полуострове Камчатка  в несколько километров, в ней находятся десятки гейзеров. Температура горячих источников составляет 96-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гейзеры"/>
          <p:cNvPicPr/>
          <p:nvPr/>
        </p:nvPicPr>
        <p:blipFill>
          <a:blip r:embed="rId1"/>
          <a:stretch/>
        </p:blipFill>
        <p:spPr>
          <a:xfrm>
            <a:off x="1332000" y="836640"/>
            <a:ext cx="651672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676440" y="642960"/>
            <a:ext cx="8467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 чудес света описал в своей книг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Истории» грек Геродот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 чудесам света он причислил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Эльбру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560088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амая высокая точка России и Европы. Гора состоит из двух хребтов высотой 5642 и 5621 метр. Хребты разделены седловиной. В стороны от шапки льда, которой покрыт Эльбрус, спускаются десятки лед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C:\Documents and Settings\----------\Мои документы\Мои рисунки\Семь чудес России\Эльбрус 1.gif"/>
          <p:cNvPicPr/>
          <p:nvPr/>
        </p:nvPicPr>
        <p:blipFill>
          <a:blip r:embed="rId1"/>
          <a:stretch/>
        </p:blipFill>
        <p:spPr>
          <a:xfrm>
            <a:off x="928800" y="882720"/>
            <a:ext cx="711504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обор Василия Блаженного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560088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лавный храм Красной площади, построенный по указу Ивана Грозного. Возведение собора  было начато в связи с завоеванием Казанского хан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Vasily_Blazhenny"/>
          <p:cNvPicPr/>
          <p:nvPr/>
        </p:nvPicPr>
        <p:blipFill>
          <a:blip r:embed="rId1"/>
          <a:stretch/>
        </p:blipFill>
        <p:spPr>
          <a:xfrm>
            <a:off x="1547640" y="1052640"/>
            <a:ext cx="6553440" cy="44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71680" y="57146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семь отдельных церквей храма символизируют восемь решающих боев за Каза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ти церкви сгруппировали вокруг девятой, глав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714240" y="285840"/>
            <a:ext cx="790596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«Столбы выветривания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5734080"/>
            <a:ext cx="822960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Геологический памятник в Коми представляет собой семь столбов высотой от 30 до 42 метр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826920" y="1038240"/>
            <a:ext cx="69850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551628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толбы образовались в результате разрушения древних гор, из которых долгие тысячелетия были выветрены и вымыты все мягкие по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russia_stolby"/>
          <p:cNvPicPr/>
          <p:nvPr/>
        </p:nvPicPr>
        <p:blipFill>
          <a:blip r:embed="rId1"/>
          <a:stretch/>
        </p:blipFill>
        <p:spPr>
          <a:xfrm>
            <a:off x="1619280" y="549360"/>
            <a:ext cx="55450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Озеро Байка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486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зеро, максимальная глубина которого достигает 1637 метров (в среднем 730 метров), образовалось 25-30 млн. лет наза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619280" y="907920"/>
            <a:ext cx="5905440" cy="38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5157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одержит в себе около 22 процентов земных запасов пресной воды. В Байкал впадает 336 рек, а вытекает одна Ангар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705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544500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айкал населяют около 600 растений и более 1200 видов животных, в том числе 50 ры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имой огромное озеро замерз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1079640" y="0"/>
            <a:ext cx="6588000" cy="5307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етергоф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578808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ворцовый комплекс, основанный в начале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VIII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парке Петергофа расположены 150 фонтанов и три каска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640872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Мамаев курган и статуя Родины-мат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Documents and Settings\----------\Мои документы\Мои рисунки\Мамаев курган\f2001.jpg"/>
          <p:cNvPicPr/>
          <p:nvPr/>
        </p:nvPicPr>
        <p:blipFill>
          <a:blip r:embed="rId1"/>
          <a:stretch/>
        </p:blipFill>
        <p:spPr>
          <a:xfrm>
            <a:off x="0" y="750960"/>
            <a:ext cx="4071960" cy="610704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6"/>
          <p:cNvSpPr/>
          <p:nvPr/>
        </p:nvSpPr>
        <p:spPr>
          <a:xfrm>
            <a:off x="4071960" y="1582560"/>
            <a:ext cx="4714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амятник-ансамбль «Героям Сталинградской битвы» был воздвигнут в 1963 – 1967 г. Скульптор Е.В. Вучети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дина-мать сделана из железобетонных блоков – 5500 тонн бетона. Меч длиной 33 метра и весом в 14 тонн сделан из фторированной ст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сота статуи 85 метров вместе с мечом и 52 метра без ме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457200" y="142920"/>
            <a:ext cx="82296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ирамида Хеопса (Египет, III век до н.э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&amp;Pcy;&amp;icy;&amp;rcy;&amp;acy;&amp;mcy;&amp;icy;&amp;dcy;&amp;acy; &amp;KHcy;&amp;iecy;&amp;ocy;&amp;pcy;&amp;scy;&amp;acy;"/>
          <p:cNvPicPr/>
          <p:nvPr/>
        </p:nvPicPr>
        <p:blipFill>
          <a:blip r:embed="rId1"/>
          <a:stretch/>
        </p:blipFill>
        <p:spPr>
          <a:xfrm>
            <a:off x="2892600" y="1857240"/>
            <a:ext cx="6251400" cy="500076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0" y="1000080"/>
            <a:ext cx="28576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чудо единственное дожило до наших дней. По совместительству является крупнейшей пирамидой Египта, и исполняет роль национального достояния и места туристического паломни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5928840"/>
            <a:ext cx="914400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 подножия к верху кургана ведут 200 ступеней, символизирующие 200 дней и ночей Сталинградской бит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мамаев курган"/>
          <p:cNvPicPr/>
          <p:nvPr/>
        </p:nvPicPr>
        <p:blipFill>
          <a:blip r:embed="rId1"/>
          <a:stretch/>
        </p:blipFill>
        <p:spPr>
          <a:xfrm>
            <a:off x="1308240" y="0"/>
            <a:ext cx="71928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6000840" y="1500120"/>
            <a:ext cx="3143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ы, построенные для жены царя Навуходоносора II в Вавилоне, были разрушены наводнением, поэтому в настоящее время понять их величие можно только по созданным репродукц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&amp;Scy;&amp;acy;&amp;dcy;&amp;ycy; &amp;Scy;&amp;iecy;&amp;mcy;&amp;icy;&amp;rcy;&amp;acy;&amp;mcy;&amp;icy;&amp;dcy;&amp;ycy;"/>
          <p:cNvPicPr/>
          <p:nvPr/>
        </p:nvPicPr>
        <p:blipFill>
          <a:blip r:embed="rId1"/>
          <a:stretch/>
        </p:blipFill>
        <p:spPr>
          <a:xfrm>
            <a:off x="0" y="1500120"/>
            <a:ext cx="6051600" cy="535788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857160" y="357120"/>
            <a:ext cx="842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сячие сады Семирамиды (Вавилон,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I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век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0" y="2000160"/>
            <a:ext cx="2714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редное разрушенное чудо – статуя верховного древнегреческого божества, восседавшего в хра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&amp;Zcy;&amp;iecy;&amp;vcy;&amp;scy; &amp;vcy; &amp;Ocy;&amp;lcy;&amp;icy;&amp;mcy;&amp;pcy;&amp;icy;&amp;icy;"/>
          <p:cNvPicPr/>
          <p:nvPr/>
        </p:nvPicPr>
        <p:blipFill>
          <a:blip r:embed="rId1"/>
          <a:stretch/>
        </p:blipFill>
        <p:spPr>
          <a:xfrm>
            <a:off x="2763720" y="2286000"/>
            <a:ext cx="6380280" cy="4572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1143000" y="71424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атуя Зевса в Олимпии (Греция,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век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&amp;Ecy;&amp;fcy;&amp;iecy;&amp;scy;&amp;scy;&amp;kcy;&amp;icy;&amp;jcy; &amp;khcy;&amp;rcy;&amp;acy;&amp;mcy;"/>
          <p:cNvPicPr/>
          <p:nvPr/>
        </p:nvPicPr>
        <p:blipFill>
          <a:blip r:embed="rId1"/>
          <a:stretch/>
        </p:blipFill>
        <p:spPr>
          <a:xfrm>
            <a:off x="1571760" y="785880"/>
            <a:ext cx="6572160" cy="49370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5"/>
          <p:cNvSpPr/>
          <p:nvPr/>
        </p:nvSpPr>
        <p:spPr>
          <a:xfrm>
            <a:off x="0" y="53578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м греческой богини с трагичной историей – то его сожгли, то разграбили, то закрыли христиане. В настоящий момент остались лишь ру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1428840" y="14292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Храм Артемиды в Эфесе (Греция,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V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ек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0" y="4714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гробное сооружение, воздвигнутое во славу царя Мавсола. Было разрушено землетрясением, до наших дней остался лишь по некоторым отдельным составляющ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&amp;Gcy;&amp;acy;&amp;lcy;&amp;icy;&amp;kcy;&amp;acy;&amp;rcy;&amp;ncy;&amp;acy;&amp;scy;&amp;scy;&amp;kcy;&amp;icy;&amp;jcy; &amp;mcy;&amp;acy;&amp;vcy;&amp;zcy;&amp;ocy;&amp;lcy;&amp;iecy;&amp;jcy;"/>
          <p:cNvPicPr/>
          <p:nvPr/>
        </p:nvPicPr>
        <p:blipFill>
          <a:blip r:embed="rId1"/>
          <a:stretch/>
        </p:blipFill>
        <p:spPr>
          <a:xfrm>
            <a:off x="214200" y="928800"/>
            <a:ext cx="4667400" cy="3500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&amp;Mcy;&amp;acy;&amp;vcy;&amp;zcy;&amp;ocy;&amp;lcy;&amp;iecy;&amp;jcy; &amp;Gcy;&amp;acy;&amp;lcy;&amp;icy;&amp;kcy;&amp;acy;&amp;rcy;&amp;ncy;&amp;acy;&amp;scy;&amp;acy;"/>
          <p:cNvPicPr/>
          <p:nvPr/>
        </p:nvPicPr>
        <p:blipFill>
          <a:blip r:embed="rId2"/>
          <a:stretch/>
        </p:blipFill>
        <p:spPr>
          <a:xfrm>
            <a:off x="5000760" y="2786040"/>
            <a:ext cx="3978000" cy="264780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1375560" y="428760"/>
            <a:ext cx="69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аликарнасский мавзолей (Кария,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V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век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3"/>
          <p:cNvSpPr/>
          <p:nvPr/>
        </p:nvSpPr>
        <p:spPr>
          <a:xfrm>
            <a:off x="0" y="5429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редная гигантская разрушенная статуя, в этот раз в облике древнегреческого бога Гели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&amp;Kcy;&amp;ocy;&amp;lcy;&amp;ocy;&amp;scy;&amp;scy; &amp;chcy;&amp;ucy;&amp;dcy;&amp;ocy; "/>
          <p:cNvPicPr/>
          <p:nvPr/>
        </p:nvPicPr>
        <p:blipFill>
          <a:blip r:embed="rId1"/>
          <a:stretch/>
        </p:blipFill>
        <p:spPr>
          <a:xfrm>
            <a:off x="1071720" y="1214280"/>
            <a:ext cx="7024680" cy="468648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1220760" y="64296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лосс Родосский (остров Родос,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II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век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3"/>
          <p:cNvSpPr/>
          <p:nvPr/>
        </p:nvSpPr>
        <p:spPr>
          <a:xfrm>
            <a:off x="0" y="5857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 света в темном царстве, указывающий направление древнеегипетским судам. Также был разрушен землетряс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&amp;Mcy;&amp;acy;&amp;yacy;&amp;kcy; &amp;vcy; &amp;Acy;&amp;lcy;&amp;iecy;&amp;kcy;&amp;scy;&amp;acy;&amp;ncy;&amp;dcy;&amp;rcy;&amp;icy;&amp;icy;"/>
          <p:cNvPicPr/>
          <p:nvPr/>
        </p:nvPicPr>
        <p:blipFill>
          <a:blip r:embed="rId1"/>
          <a:stretch/>
        </p:blipFill>
        <p:spPr>
          <a:xfrm>
            <a:off x="1285920" y="1071720"/>
            <a:ext cx="6415200" cy="484164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285840" y="428760"/>
            <a:ext cx="96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як на острове Фарос (Александрия, Египет,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II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век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6:06:13Z</dcterms:created>
  <dc:creator>Елена Голованова</dc:creator>
  <dc:description/>
  <dc:language>en-US</dc:language>
  <cp:lastModifiedBy>USER</cp:lastModifiedBy>
  <dcterms:modified xsi:type="dcterms:W3CDTF">2017-01-19T16:59:04Z</dcterms:modified>
  <cp:revision>25</cp:revision>
  <dc:subject/>
  <dc:title>Семь чудес России</dc:title>
</cp:coreProperties>
</file>