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25.png" ContentType="image/png"/>
  <Override PartName="/ppt/media/image18.jpeg" ContentType="image/jpeg"/>
  <Override PartName="/ppt/media/image17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E4B1E-8DD3-45DF-9C3D-A9A82E749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6FA06-090B-41EE-8B64-DA4DDDEA8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A33E7-A2EA-4ECC-9712-A0EC8F94C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B2279-12C9-4997-BB8C-2A8DBE8FE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7F20B-5EF4-43A9-8A43-FC8099682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111D0-D310-4C9B-9DB8-778926A8E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40E56-FE57-4888-AA1B-CF28EDE3F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C87B1-1FEA-42C0-9890-A9FDB7ACE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AE1C9-D30C-4826-A73C-4B1F19F2B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936B7-4D42-4488-B0C9-89DD7F935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25862-9894-45A3-8FB3-224B7D76B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0E8B5-EFCE-4871-A0A5-C82489494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01A73-BED1-4432-ABBC-CAB28115CBD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9.xml"/><Relationship Id="rId3" Type="http://schemas.openxmlformats.org/officeDocument/2006/relationships/slide" Target="slide28.xml"/><Relationship Id="rId4" Type="http://schemas.openxmlformats.org/officeDocument/2006/relationships/slide" Target="slide20.xml"/><Relationship Id="rId5" Type="http://schemas.openxmlformats.org/officeDocument/2006/relationships/slide" Target="slide23.xml"/><Relationship Id="rId6" Type="http://schemas.openxmlformats.org/officeDocument/2006/relationships/slide" Target="slide21.xml"/><Relationship Id="rId7" Type="http://schemas.openxmlformats.org/officeDocument/2006/relationships/slide" Target="slide29.xml"/><Relationship Id="rId8" Type="http://schemas.openxmlformats.org/officeDocument/2006/relationships/slide" Target="slide25.xml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image" Target="../media/image22.jpeg"/><Relationship Id="rId7" Type="http://schemas.openxmlformats.org/officeDocument/2006/relationships/image" Target="../media/image23.jpeg"/><Relationship Id="rId8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картоа России"/>
          <p:cNvPicPr/>
          <p:nvPr/>
        </p:nvPicPr>
        <p:blipFill>
          <a:blip r:embed="rId1"/>
          <a:stretch/>
        </p:blipFill>
        <p:spPr>
          <a:xfrm>
            <a:off x="0" y="19080"/>
            <a:ext cx="9144000" cy="68389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920" y="620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СЕМЬ ЧУДЕС</a:t>
            </a:r>
            <a:br>
              <a:rPr sz="5400"/>
            </a:b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 РОССИ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AutoShape 6">
            <a:hlinkClick r:id="rId2" action="ppaction://hlinksldjump"/>
          </p:cNvPr>
          <p:cNvSpPr/>
          <p:nvPr/>
        </p:nvSpPr>
        <p:spPr>
          <a:xfrm>
            <a:off x="8244000" y="2637000"/>
            <a:ext cx="482400" cy="360360"/>
          </a:xfrm>
          <a:prstGeom prst="irregularSeal1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AutoShape 8">
            <a:hlinkClick r:id="rId3" action="ppaction://hlinksldjump"/>
          </p:cNvPr>
          <p:cNvSpPr/>
          <p:nvPr/>
        </p:nvSpPr>
        <p:spPr>
          <a:xfrm>
            <a:off x="1547640" y="2637000"/>
            <a:ext cx="482760" cy="360360"/>
          </a:xfrm>
          <a:prstGeom prst="irregularSeal1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9">
            <a:hlinkClick r:id="rId4" action="ppaction://hlinksldjump"/>
          </p:cNvPr>
          <p:cNvSpPr/>
          <p:nvPr/>
        </p:nvSpPr>
        <p:spPr>
          <a:xfrm>
            <a:off x="1042920" y="4869000"/>
            <a:ext cx="482760" cy="360360"/>
          </a:xfrm>
          <a:prstGeom prst="irregularSeal1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11">
            <a:hlinkClick r:id="rId5" action="ppaction://hlinksldjump"/>
          </p:cNvPr>
          <p:cNvSpPr/>
          <p:nvPr/>
        </p:nvSpPr>
        <p:spPr>
          <a:xfrm>
            <a:off x="2700360" y="2565360"/>
            <a:ext cx="482400" cy="360360"/>
          </a:xfrm>
          <a:prstGeom prst="irregularSeal1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12">
            <a:hlinkClick r:id="rId6" action="ppaction://hlinksldjump"/>
          </p:cNvPr>
          <p:cNvSpPr/>
          <p:nvPr/>
        </p:nvSpPr>
        <p:spPr>
          <a:xfrm>
            <a:off x="1403280" y="3213000"/>
            <a:ext cx="482760" cy="360360"/>
          </a:xfrm>
          <a:prstGeom prst="irregularSeal1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13">
            <a:hlinkClick r:id="rId7" action="ppaction://hlinksldjump"/>
          </p:cNvPr>
          <p:cNvSpPr/>
          <p:nvPr/>
        </p:nvSpPr>
        <p:spPr>
          <a:xfrm>
            <a:off x="1403280" y="4221000"/>
            <a:ext cx="482760" cy="360360"/>
          </a:xfrm>
          <a:prstGeom prst="irregularSeal1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14">
            <a:hlinkClick r:id="rId8" action="ppaction://hlinksldjump"/>
          </p:cNvPr>
          <p:cNvSpPr/>
          <p:nvPr/>
        </p:nvSpPr>
        <p:spPr>
          <a:xfrm>
            <a:off x="5435640" y="4221000"/>
            <a:ext cx="482400" cy="360360"/>
          </a:xfrm>
          <a:prstGeom prst="irregularSeal1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3"/>
          <p:cNvSpPr/>
          <p:nvPr/>
        </p:nvSpPr>
        <p:spPr>
          <a:xfrm>
            <a:off x="0" y="0"/>
            <a:ext cx="9144000" cy="645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Новые 7 чудес свет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Великая китайская стена (Китай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оугольник 4"/>
          <p:cNvSpPr/>
          <p:nvPr/>
        </p:nvSpPr>
        <p:spPr>
          <a:xfrm>
            <a:off x="0" y="5000760"/>
            <a:ext cx="9144000" cy="21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ликая китайская стен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ставляет собой цепь оборонительных сооружений,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ина китайской стены по прямой, от края до края составляет 2450 км, а если учитывать все изгибы и ответвления, то, по разным оценкам, получается от 6000 до 8850 км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троительство, начатое в 210 году до н.э., с небольшими перерывами продолжалось вплоть до конца 1640-х годов. Средняя высота стены достигала 7,8 метров, а её ширина позволяла маршировать в ряд пяти пехотинцам или скакать пяти конным всадникам в шеренг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2" descr="&amp;Scy;&amp;ocy;&amp;vcy;&amp;rcy;&amp;iecy;&amp;mcy;&amp;iecy;&amp;ncy;&amp;ncy;&amp;ycy;&amp;iecy; &amp;scy;&amp;iecy;&amp;mcy;&amp;softcy; &amp;chcy;&amp;ucy;&amp;dcy;&amp;iecy;&amp;scy; &amp;scy;&amp;vcy;&amp;iecy;&amp;tcy;&amp;acy;"/>
          <p:cNvPicPr/>
          <p:nvPr/>
        </p:nvPicPr>
        <p:blipFill>
          <a:blip r:embed="rId1"/>
          <a:stretch/>
        </p:blipFill>
        <p:spPr>
          <a:xfrm>
            <a:off x="1643040" y="1285920"/>
            <a:ext cx="5754600" cy="38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Колизей (Рим, Италия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Прямоугольник 5"/>
          <p:cNvSpPr/>
          <p:nvPr/>
        </p:nvSpPr>
        <p:spPr>
          <a:xfrm>
            <a:off x="0" y="5000760"/>
            <a:ext cx="9144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изей — один из самых монументальных памятников римской эпохи.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мфитеатр был построен за 8 лет — строительство начал император Веспасиан в 72 году и завершил в 80 году его сын Тит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тены Колизея воздвигнуты из крупных блоков травертина, скреплённых между собой стальными скобами общим весом примерно 300 тонн. Открытие Колизея ознаменовалось 100-дневными увеселительными мероприятиями. За это время в гладиаторских турнирах погибло несколько тысяч воинов и 5 тысяч хищных звер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2" descr="&amp;Scy;&amp;ocy;&amp;vcy;&amp;rcy;&amp;iecy;&amp;mcy;&amp;iecy;&amp;ncy;&amp;ncy;&amp;ycy;&amp;iecy; &amp;scy;&amp;iecy;&amp;mcy;&amp;softcy; &amp;chcy;&amp;ucy;&amp;dcy;&amp;iecy;&amp;scy; &amp;scy;&amp;vcy;&amp;iecy;&amp;tcy;&amp;acy;"/>
          <p:cNvPicPr/>
          <p:nvPr/>
        </p:nvPicPr>
        <p:blipFill>
          <a:blip r:embed="rId1"/>
          <a:stretch/>
        </p:blipFill>
        <p:spPr>
          <a:xfrm>
            <a:off x="1857240" y="785880"/>
            <a:ext cx="6220080" cy="41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3"/>
          <p:cNvSpPr/>
          <p:nvPr/>
        </p:nvSpPr>
        <p:spPr>
          <a:xfrm>
            <a:off x="5429160" y="0"/>
            <a:ext cx="37148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Мачу-Пикчу (Перу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Прямоугольник 3"/>
          <p:cNvSpPr/>
          <p:nvPr/>
        </p:nvSpPr>
        <p:spPr>
          <a:xfrm>
            <a:off x="0" y="392904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ины Мачу-Пикчу — «затерянного города инков» — скрыты в зарослях джунглей высоко в Перуанских Андах. Город построен как святилище в 1438 году девятым правителем Империи Инков — Пачакутеком Юпанки.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ее 400 лет о существовании города ходили лишь легенды, и всего 100 лет назад (1911 год) оплот инков вновь «воскрес из небытия».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род процветал, на высоте 3000 метров его жители выращивали маис, картофель и другие овощи. Прямо в скалах инки вырубали террасы, засыпали их землёй из речной долины Урубамба и возводили массивные подпорные стены, защищавшие грядки от солнца, ветра и песчаных заносов. Около 1532 года обитатели Мачу-Пикчу по неизвестным причинам покинули город, оставив своим потомкам прекрасные архитектурные твор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2" descr="&amp;Scy;&amp;ocy;&amp;vcy;&amp;rcy;&amp;iecy;&amp;mcy;&amp;iecy;&amp;ncy;&amp;ncy;&amp;ycy;&amp;iecy; &amp;scy;&amp;iecy;&amp;mcy;&amp;softcy; &amp;chcy;&amp;ucy;&amp;dcy;&amp;iecy;&amp;scy; &amp;scy;&amp;vcy;&amp;iecy;&amp;tcy;&amp;acy;"/>
          <p:cNvPicPr/>
          <p:nvPr/>
        </p:nvPicPr>
        <p:blipFill>
          <a:blip r:embed="rId1"/>
          <a:stretch/>
        </p:blipFill>
        <p:spPr>
          <a:xfrm>
            <a:off x="0" y="71280"/>
            <a:ext cx="5683320" cy="378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3"/>
          <p:cNvSpPr/>
          <p:nvPr/>
        </p:nvSpPr>
        <p:spPr>
          <a:xfrm>
            <a:off x="0" y="0"/>
            <a:ext cx="25002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етра (Иордания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Прямоугольник 3"/>
          <p:cNvSpPr/>
          <p:nvPr/>
        </p:nvSpPr>
        <p:spPr>
          <a:xfrm>
            <a:off x="0" y="4786200"/>
            <a:ext cx="9144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200 км к югу от иорданской столицы, глубоко в песчаных горах запрятаны развалины древней Петры.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читается, что храмы и дворцы Петры были вырублены в скалах за 2000 лет до Рождества Христова древнеарабским кочевым племенем набатеев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ород строился около 500 лет и превратился в крупный торговый центр. Петра располагалась на пересечении важных торговых путей между Красным и Средиземным морями. В Петре насчитывается более 800 достопримечательностей. Храмы и склепы, римские колоннады и амфитеатр на 3000 мест, дворцы вельмож, бани и каналы — всё это вытесано из камн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2" descr="&amp;Scy;&amp;ocy;&amp;vcy;&amp;rcy;&amp;iecy;&amp;mcy;&amp;iecy;&amp;ncy;&amp;ncy;&amp;ycy;&amp;iecy; &amp;scy;&amp;iecy;&amp;mcy;&amp;softcy; &amp;chcy;&amp;ucy;&amp;dcy;&amp;iecy;&amp;scy; &amp;scy;&amp;vcy;&amp;iecy;&amp;tcy;&amp;acy;"/>
          <p:cNvPicPr/>
          <p:nvPr/>
        </p:nvPicPr>
        <p:blipFill>
          <a:blip r:embed="rId1"/>
          <a:stretch/>
        </p:blipFill>
        <p:spPr>
          <a:xfrm>
            <a:off x="2416320" y="285840"/>
            <a:ext cx="6727680" cy="46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3"/>
          <p:cNvSpPr/>
          <p:nvPr/>
        </p:nvSpPr>
        <p:spPr>
          <a:xfrm>
            <a:off x="0" y="0"/>
            <a:ext cx="91440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Тадж-Махал (Агра, Индия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рямоугольник 3"/>
          <p:cNvSpPr/>
          <p:nvPr/>
        </p:nvSpPr>
        <p:spPr>
          <a:xfrm>
            <a:off x="0" y="507204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ьшинство историков сходятся во мнении, что усыпальницу построили в 1630-х гг. по приказу императора Великих Моголов — Шах-Джахана в память о безвременно скончавшейся супруге Мумтаз-Махал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2 долгих года продолжалось строительство. Сегодня беломраморный памятник великой любви, «жемчужина индийской архитектуры» является одной из важнейших достопримечательностей Инди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2" descr="&amp;Scy;&amp;ocy;&amp;vcy;&amp;rcy;&amp;iecy;&amp;mcy;&amp;iecy;&amp;ncy;&amp;ncy;&amp;ycy;&amp;iecy; &amp;scy;&amp;iecy;&amp;mcy;&amp;softcy; &amp;chcy;&amp;ucy;&amp;dcy;&amp;iecy;&amp;scy; &amp;scy;&amp;vcy;&amp;iecy;&amp;tcy;&amp;acy;"/>
          <p:cNvPicPr/>
          <p:nvPr/>
        </p:nvPicPr>
        <p:blipFill>
          <a:blip r:embed="rId1"/>
          <a:stretch/>
        </p:blipFill>
        <p:spPr>
          <a:xfrm>
            <a:off x="1500120" y="785880"/>
            <a:ext cx="6357960" cy="423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3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Статуя Христа-Искупител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(Рио-де-Жанейро, Бразилия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оугольник 3"/>
          <p:cNvSpPr/>
          <p:nvPr/>
        </p:nvSpPr>
        <p:spPr>
          <a:xfrm>
            <a:off x="0" y="55008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гантская статуя Христа-Искупителя, венчающая 710-метровую гору Корковадо, уже 80 лет по праву считается символом Рио-де-Жанейро и всей Бразилии в целом.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ваяние Христа с распростёртыми руками высится над 10-миллионным городом, словно благословляя и обнимая его. Статуя достигает 38 метров в высоту и весит 1145 тонн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2" descr="&amp;Scy;&amp;ocy;&amp;vcy;&amp;rcy;&amp;iecy;&amp;mcy;&amp;iecy;&amp;ncy;&amp;ncy;&amp;ycy;&amp;iecy; &amp;scy;&amp;iecy;&amp;mcy;&amp;softcy; &amp;chcy;&amp;ucy;&amp;dcy;&amp;iecy;&amp;scy; &amp;scy;&amp;vcy;&amp;iecy;&amp;tcy;&amp;acy;"/>
          <p:cNvPicPr/>
          <p:nvPr/>
        </p:nvPicPr>
        <p:blipFill>
          <a:blip r:embed="rId1"/>
          <a:stretch/>
        </p:blipFill>
        <p:spPr>
          <a:xfrm>
            <a:off x="1428840" y="1285920"/>
            <a:ext cx="6386400" cy="425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3"/>
          <p:cNvSpPr/>
          <p:nvPr/>
        </p:nvSpPr>
        <p:spPr>
          <a:xfrm>
            <a:off x="0" y="0"/>
            <a:ext cx="91440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Чичен-Ица (Юкатан, Мексик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оугольник 3"/>
          <p:cNvSpPr/>
          <p:nvPr/>
        </p:nvSpPr>
        <p:spPr>
          <a:xfrm>
            <a:off x="0" y="4786200"/>
            <a:ext cx="9144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евний город майя — Чичен-Ица, расположенный в Мексике на севере полуострова Юкатан. Название древнего города Чичен-Ица переводится как «Колодец племени Ица».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род возник в VII веке н. э. как религиозный центр майя, а к X веку был захвачен тольтеками, пришедшими на Юкатан из центральной Мексики, и к XI веку стал столицей тольтекского царства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1178 году индейский правитель Хунак Кеель разгромил святилище майя, превратив его в жалкую груду развалин. Город пришёл в упадок и обезлюде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2" descr="&amp;Scy;&amp;ocy;&amp;vcy;&amp;rcy;&amp;iecy;&amp;mcy;&amp;iecy;&amp;ncy;&amp;ncy;&amp;ycy;&amp;iecy; &amp;scy;&amp;iecy;&amp;mcy;&amp;softcy; &amp;chcy;&amp;ucy;&amp;dcy;&amp;iecy;&amp;scy; &amp;scy;&amp;vcy;&amp;iecy;&amp;tcy;&amp;acy;"/>
          <p:cNvPicPr/>
          <p:nvPr/>
        </p:nvPicPr>
        <p:blipFill>
          <a:blip r:embed="rId1"/>
          <a:stretch/>
        </p:blipFill>
        <p:spPr>
          <a:xfrm>
            <a:off x="1500120" y="857160"/>
            <a:ext cx="6072120" cy="404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AutoShape 5"/>
          <p:cNvSpPr/>
          <p:nvPr/>
        </p:nvSpPr>
        <p:spPr>
          <a:xfrm>
            <a:off x="0" y="1197000"/>
            <a:ext cx="9144000" cy="5205240"/>
          </a:xfrm>
          <a:prstGeom prst="verticalScroll">
            <a:avLst>
              <a:gd name="adj" fmla="val 12500"/>
            </a:avLst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755640" y="1500120"/>
            <a:ext cx="7704000" cy="462600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2 июня 2008 года в День России на Красной площади  подвели итоги конкурса «Семь чудес России», объявленного осенью 2007 года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42920" y="2923920"/>
            <a:ext cx="7485120" cy="118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395280" y="3213000"/>
            <a:ext cx="813744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Победителями стали  три рукотворных и четыре природных достопримечатель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гейзеры 1"/>
          <p:cNvPicPr/>
          <p:nvPr/>
        </p:nvPicPr>
        <p:blipFill>
          <a:blip r:embed="rId1"/>
          <a:stretch/>
        </p:blipFill>
        <p:spPr>
          <a:xfrm>
            <a:off x="0" y="4437000"/>
            <a:ext cx="2050920" cy="165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9" name="Picture 5" descr="мам Кург"/>
          <p:cNvPicPr/>
          <p:nvPr/>
        </p:nvPicPr>
        <p:blipFill>
          <a:blip r:embed="rId2"/>
          <a:stretch/>
        </p:blipFill>
        <p:spPr>
          <a:xfrm>
            <a:off x="6227640" y="1413000"/>
            <a:ext cx="2009880" cy="1463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00" name="Picture 6" descr="петерг"/>
          <p:cNvPicPr/>
          <p:nvPr/>
        </p:nvPicPr>
        <p:blipFill>
          <a:blip r:embed="rId3"/>
          <a:stretch/>
        </p:blipFill>
        <p:spPr>
          <a:xfrm>
            <a:off x="900000" y="1484280"/>
            <a:ext cx="1990800" cy="1368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01" name="Picture 10" descr="собор ВБ"/>
          <p:cNvPicPr/>
          <p:nvPr/>
        </p:nvPicPr>
        <p:blipFill>
          <a:blip r:embed="rId4"/>
          <a:stretch/>
        </p:blipFill>
        <p:spPr>
          <a:xfrm>
            <a:off x="3635280" y="1341360"/>
            <a:ext cx="2089080" cy="15732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2" descr=""/>
          <p:cNvPicPr/>
          <p:nvPr/>
        </p:nvPicPr>
        <p:blipFill>
          <a:blip r:embed="rId5"/>
          <a:stretch/>
        </p:blipFill>
        <p:spPr>
          <a:xfrm>
            <a:off x="7020000" y="4437000"/>
            <a:ext cx="2124000" cy="1663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3" descr=""/>
          <p:cNvPicPr/>
          <p:nvPr/>
        </p:nvPicPr>
        <p:blipFill>
          <a:blip r:embed="rId6"/>
          <a:stretch/>
        </p:blipFill>
        <p:spPr>
          <a:xfrm>
            <a:off x="4643280" y="4437000"/>
            <a:ext cx="2293920" cy="18432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4" descr=""/>
          <p:cNvPicPr/>
          <p:nvPr/>
        </p:nvPicPr>
        <p:blipFill>
          <a:blip r:embed="rId7"/>
          <a:stretch/>
        </p:blipFill>
        <p:spPr>
          <a:xfrm>
            <a:off x="2124000" y="4437000"/>
            <a:ext cx="234972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Долина гейзеров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1280" y="5589360"/>
            <a:ext cx="8229600" cy="89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Вулканическая впадина на  полуострове Камчатка  в несколько километров, в ней находятся десятки гейзеров. Температура горячих источников составляет 96-99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гейзеры"/>
          <p:cNvPicPr/>
          <p:nvPr/>
        </p:nvPicPr>
        <p:blipFill>
          <a:blip r:embed="rId1"/>
          <a:stretch/>
        </p:blipFill>
        <p:spPr>
          <a:xfrm>
            <a:off x="1332000" y="836640"/>
            <a:ext cx="6516720" cy="45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Box 3"/>
          <p:cNvSpPr/>
          <p:nvPr/>
        </p:nvSpPr>
        <p:spPr>
          <a:xfrm>
            <a:off x="676440" y="642960"/>
            <a:ext cx="84675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7 чудес света описал в своей книге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«Истории» грек Геродот.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К чудесам света он причислил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Эльбрус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95280" y="5600880"/>
            <a:ext cx="8229600" cy="125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Самая высокая точка России и Европы. Гора состоит из двух хребтов высотой 5642 и 5621 метр. Хребты разделены седловиной. В стороны от шапки льда, которой покрыт Эльбрус, спускаются десятки ледни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3" descr="C:\Documents and Settings\----------\Мои документы\Мои рисунки\Семь чудес России\Эльбрус 1.gif"/>
          <p:cNvPicPr/>
          <p:nvPr/>
        </p:nvPicPr>
        <p:blipFill>
          <a:blip r:embed="rId1"/>
          <a:stretch/>
        </p:blipFill>
        <p:spPr>
          <a:xfrm>
            <a:off x="928800" y="882720"/>
            <a:ext cx="7115040" cy="47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Собор Василия Блаженного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8360" y="5600880"/>
            <a:ext cx="8229600" cy="125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Главный храм Красной площади, построенный по указу Ивана Грозного. Возведение собора  было начато в связи с завоеванием Казанского ханств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6" descr="Vasily_Blazhenny"/>
          <p:cNvPicPr/>
          <p:nvPr/>
        </p:nvPicPr>
        <p:blipFill>
          <a:blip r:embed="rId1"/>
          <a:stretch/>
        </p:blipFill>
        <p:spPr>
          <a:xfrm>
            <a:off x="1547640" y="1052640"/>
            <a:ext cx="6553440" cy="44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571680" y="5714640"/>
            <a:ext cx="85723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Восемь отдельных церквей храма символизируют восемь решающих боев за Казан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Эти церкви сгруппировали вокруг девятой, главно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6" descr=""/>
          <p:cNvPicPr/>
          <p:nvPr/>
        </p:nvPicPr>
        <p:blipFill>
          <a:blip r:embed="rId1"/>
          <a:stretch/>
        </p:blipFill>
        <p:spPr>
          <a:xfrm>
            <a:off x="714240" y="285840"/>
            <a:ext cx="7905960" cy="52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«Столбы выветривания»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8360" y="5734080"/>
            <a:ext cx="8229600" cy="373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Геологический памятник в Коми представляет собой семь столбов высотой от 30 до 42 метров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5" descr=""/>
          <p:cNvPicPr/>
          <p:nvPr/>
        </p:nvPicPr>
        <p:blipFill>
          <a:blip r:embed="rId1"/>
          <a:stretch/>
        </p:blipFill>
        <p:spPr>
          <a:xfrm>
            <a:off x="826920" y="1038240"/>
            <a:ext cx="6985080" cy="445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395280" y="5516280"/>
            <a:ext cx="8229600" cy="111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Столбы образовались в результате разрушения древних гор, из которых долгие тысячелетия были выветрены и вымыты все мягкие поро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4" descr="russia_stolby"/>
          <p:cNvPicPr/>
          <p:nvPr/>
        </p:nvPicPr>
        <p:blipFill>
          <a:blip r:embed="rId1"/>
          <a:stretch/>
        </p:blipFill>
        <p:spPr>
          <a:xfrm>
            <a:off x="1619280" y="549360"/>
            <a:ext cx="55450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Озеро Байкал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39640" y="4869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Озеро, максимальная глубина которого достигает 1637 метров (в среднем 730 метров), образовалось 25-30 млн. лет назад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5" descr=""/>
          <p:cNvPicPr/>
          <p:nvPr/>
        </p:nvPicPr>
        <p:blipFill>
          <a:blip r:embed="rId1"/>
          <a:stretch/>
        </p:blipFill>
        <p:spPr>
          <a:xfrm>
            <a:off x="1619280" y="907920"/>
            <a:ext cx="5905440" cy="38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24000" y="5157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Содержит в себе около 22 процентов земных запасов пресной воды. В Байкал впадает 336 рек, а вытекает одна Ангара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6" descr=""/>
          <p:cNvPicPr/>
          <p:nvPr/>
        </p:nvPicPr>
        <p:blipFill>
          <a:blip r:embed="rId1"/>
          <a:stretch/>
        </p:blipFill>
        <p:spPr>
          <a:xfrm>
            <a:off x="1187280" y="333360"/>
            <a:ext cx="670572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68360" y="5445000"/>
            <a:ext cx="8229600" cy="118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Байкал населяют около 600 растений и более 1200 видов животных, в том числе 50 ры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Зимой огромное озеро замерза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7" descr=""/>
          <p:cNvPicPr/>
          <p:nvPr/>
        </p:nvPicPr>
        <p:blipFill>
          <a:blip r:embed="rId1"/>
          <a:stretch/>
        </p:blipFill>
        <p:spPr>
          <a:xfrm>
            <a:off x="1079640" y="0"/>
            <a:ext cx="6588000" cy="530712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Петергоф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79280" y="5788080"/>
            <a:ext cx="8229600" cy="106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  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Дворцовый комплекс, основанный в начале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XVIII 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век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В парке Петергофа расположены 150 фонтанов и три каскад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6" descr=""/>
          <p:cNvPicPr/>
          <p:nvPr/>
        </p:nvPicPr>
        <p:blipFill>
          <a:blip r:embed="rId1"/>
          <a:stretch/>
        </p:blipFill>
        <p:spPr>
          <a:xfrm>
            <a:off x="1403280" y="981000"/>
            <a:ext cx="6408720" cy="48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Мамаев курган и статуя Родины-матер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2" descr="C:\Documents and Settings\----------\Мои документы\Мои рисунки\Мамаев курган\f2001.jpg"/>
          <p:cNvPicPr/>
          <p:nvPr/>
        </p:nvPicPr>
        <p:blipFill>
          <a:blip r:embed="rId1"/>
          <a:stretch/>
        </p:blipFill>
        <p:spPr>
          <a:xfrm>
            <a:off x="0" y="750960"/>
            <a:ext cx="4071960" cy="6107040"/>
          </a:xfrm>
          <a:prstGeom prst="rect">
            <a:avLst/>
          </a:prstGeom>
          <a:ln w="0">
            <a:noFill/>
          </a:ln>
        </p:spPr>
      </p:pic>
      <p:sp>
        <p:nvSpPr>
          <p:cNvPr id="134" name="Прямоугольник 6"/>
          <p:cNvSpPr/>
          <p:nvPr/>
        </p:nvSpPr>
        <p:spPr>
          <a:xfrm>
            <a:off x="4071960" y="1582560"/>
            <a:ext cx="47149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амятник-ансамбль «Героям Сталинградской битвы» был воздвигнут в 1963 – 1967 г. Скульптор Е.В. Вучетич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Родина-мать сделана из железобетонных блоков – 5500 тонн бетона. Меч длиной 33 метра и весом в 14 тонн сделан из фторированной стал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Высота статуи 85 метров вместе с мечом и 52 метра без меч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3"/>
          <p:cNvSpPr/>
          <p:nvPr/>
        </p:nvSpPr>
        <p:spPr>
          <a:xfrm>
            <a:off x="457200" y="142920"/>
            <a:ext cx="8229600" cy="63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ирамида Хеопса (Египет, III век до н.э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&amp;Pcy;&amp;icy;&amp;rcy;&amp;acy;&amp;mcy;&amp;icy;&amp;dcy;&amp;acy; &amp;KHcy;&amp;iecy;&amp;ocy;&amp;pcy;&amp;scy;&amp;acy;"/>
          <p:cNvPicPr/>
          <p:nvPr/>
        </p:nvPicPr>
        <p:blipFill>
          <a:blip r:embed="rId1"/>
          <a:stretch/>
        </p:blipFill>
        <p:spPr>
          <a:xfrm>
            <a:off x="2892600" y="1857240"/>
            <a:ext cx="6251400" cy="5000760"/>
          </a:xfrm>
          <a:prstGeom prst="rect">
            <a:avLst/>
          </a:prstGeom>
          <a:ln w="0">
            <a:noFill/>
          </a:ln>
        </p:spPr>
      </p:pic>
      <p:sp>
        <p:nvSpPr>
          <p:cNvPr id="53" name="Прямоугольник 4"/>
          <p:cNvSpPr/>
          <p:nvPr/>
        </p:nvSpPr>
        <p:spPr>
          <a:xfrm>
            <a:off x="0" y="1000080"/>
            <a:ext cx="285768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чудо единственное дожило до наших дней. По совместительству является крупнейшей пирамидой Египта, и исполняет роль национального достояния и места туристического паломниче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0" y="5928840"/>
            <a:ext cx="9144000" cy="63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От подножия к верху кургана ведут 200 ступеней, символизирующие 200 дней и ночей Сталинградской битв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6" descr="мамаев курган"/>
          <p:cNvPicPr/>
          <p:nvPr/>
        </p:nvPicPr>
        <p:blipFill>
          <a:blip r:embed="rId1"/>
          <a:stretch/>
        </p:blipFill>
        <p:spPr>
          <a:xfrm>
            <a:off x="1308240" y="0"/>
            <a:ext cx="7192800" cy="59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3"/>
          <p:cNvSpPr/>
          <p:nvPr/>
        </p:nvSpPr>
        <p:spPr>
          <a:xfrm>
            <a:off x="6000840" y="1500120"/>
            <a:ext cx="314316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ды, построенные для жены царя Навуходоносора II в Вавилоне, были разрушены наводнением, поэтому в настоящее время понять их величие можно только по созданным репродукция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" descr="&amp;Scy;&amp;acy;&amp;dcy;&amp;ycy; &amp;Scy;&amp;iecy;&amp;mcy;&amp;icy;&amp;rcy;&amp;acy;&amp;mcy;&amp;icy;&amp;dcy;&amp;ycy;"/>
          <p:cNvPicPr/>
          <p:nvPr/>
        </p:nvPicPr>
        <p:blipFill>
          <a:blip r:embed="rId1"/>
          <a:stretch/>
        </p:blipFill>
        <p:spPr>
          <a:xfrm>
            <a:off x="0" y="1500120"/>
            <a:ext cx="6051600" cy="5357880"/>
          </a:xfrm>
          <a:prstGeom prst="rect">
            <a:avLst/>
          </a:prstGeom>
          <a:ln w="0">
            <a:noFill/>
          </a:ln>
        </p:spPr>
      </p:pic>
      <p:sp>
        <p:nvSpPr>
          <p:cNvPr id="56" name="TextBox 4"/>
          <p:cNvSpPr/>
          <p:nvPr/>
        </p:nvSpPr>
        <p:spPr>
          <a:xfrm>
            <a:off x="857160" y="357120"/>
            <a:ext cx="842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Висячие сады Семирамиды (Вавилон, </a:t>
            </a:r>
            <a:r>
              <a:rPr b="1" lang="en-US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VI</a:t>
            </a: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век до н.э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Прямоугольник 3"/>
          <p:cNvSpPr/>
          <p:nvPr/>
        </p:nvSpPr>
        <p:spPr>
          <a:xfrm>
            <a:off x="0" y="2000160"/>
            <a:ext cx="27147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чередное разрушенное чудо – статуя верховного древнегреческого божества, восседавшего в храм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" descr="&amp;Zcy;&amp;iecy;&amp;vcy;&amp;scy; &amp;vcy; &amp;Ocy;&amp;lcy;&amp;icy;&amp;mcy;&amp;pcy;&amp;icy;&amp;icy;"/>
          <p:cNvPicPr/>
          <p:nvPr/>
        </p:nvPicPr>
        <p:blipFill>
          <a:blip r:embed="rId1"/>
          <a:stretch/>
        </p:blipFill>
        <p:spPr>
          <a:xfrm>
            <a:off x="2763720" y="2286000"/>
            <a:ext cx="6380280" cy="4572000"/>
          </a:xfrm>
          <a:prstGeom prst="rect">
            <a:avLst/>
          </a:prstGeom>
          <a:ln w="0">
            <a:noFill/>
          </a:ln>
        </p:spPr>
      </p:pic>
      <p:sp>
        <p:nvSpPr>
          <p:cNvPr id="59" name="TextBox 4"/>
          <p:cNvSpPr/>
          <p:nvPr/>
        </p:nvSpPr>
        <p:spPr>
          <a:xfrm>
            <a:off x="1143000" y="714240"/>
            <a:ext cx="735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Статуя Зевса в Олимпии (Греция, </a:t>
            </a:r>
            <a:r>
              <a:rPr b="1" lang="en-US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V</a:t>
            </a: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век до н.э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&amp;Ecy;&amp;fcy;&amp;iecy;&amp;scy;&amp;scy;&amp;kcy;&amp;icy;&amp;jcy; &amp;khcy;&amp;rcy;&amp;acy;&amp;mcy;"/>
          <p:cNvPicPr/>
          <p:nvPr/>
        </p:nvPicPr>
        <p:blipFill>
          <a:blip r:embed="rId1"/>
          <a:stretch/>
        </p:blipFill>
        <p:spPr>
          <a:xfrm>
            <a:off x="1571760" y="785880"/>
            <a:ext cx="6572160" cy="4937040"/>
          </a:xfrm>
          <a:prstGeom prst="rect">
            <a:avLst/>
          </a:prstGeom>
          <a:ln w="0">
            <a:noFill/>
          </a:ln>
        </p:spPr>
      </p:pic>
      <p:sp>
        <p:nvSpPr>
          <p:cNvPr id="61" name="Прямоугольник 5"/>
          <p:cNvSpPr/>
          <p:nvPr/>
        </p:nvSpPr>
        <p:spPr>
          <a:xfrm>
            <a:off x="0" y="535788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рам греческой богини с трагичной историей – то его сожгли, то разграбили, то закрыли христиане. В настоящий момент остались лишь руи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6"/>
          <p:cNvSpPr/>
          <p:nvPr/>
        </p:nvSpPr>
        <p:spPr>
          <a:xfrm>
            <a:off x="1428840" y="142920"/>
            <a:ext cx="700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Храм Артемиды в Эфесе (Греция, </a:t>
            </a:r>
            <a:r>
              <a:rPr b="1" lang="en-US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IV </a:t>
            </a: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век до н.э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Прямоугольник 3"/>
          <p:cNvSpPr/>
          <p:nvPr/>
        </p:nvSpPr>
        <p:spPr>
          <a:xfrm>
            <a:off x="0" y="471492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дгробное сооружение, воздвигнутое во славу царя Мавсола. Было разрушено землетрясением, до наших дней остался лишь по некоторым отдельным составляющи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2" descr="&amp;Gcy;&amp;acy;&amp;lcy;&amp;icy;&amp;kcy;&amp;acy;&amp;rcy;&amp;ncy;&amp;acy;&amp;scy;&amp;scy;&amp;kcy;&amp;icy;&amp;jcy; &amp;mcy;&amp;acy;&amp;vcy;&amp;zcy;&amp;ocy;&amp;lcy;&amp;iecy;&amp;jcy;"/>
          <p:cNvPicPr/>
          <p:nvPr/>
        </p:nvPicPr>
        <p:blipFill>
          <a:blip r:embed="rId1"/>
          <a:stretch/>
        </p:blipFill>
        <p:spPr>
          <a:xfrm>
            <a:off x="214200" y="928800"/>
            <a:ext cx="4667400" cy="35002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4" descr="&amp;Mcy;&amp;acy;&amp;vcy;&amp;zcy;&amp;ocy;&amp;lcy;&amp;iecy;&amp;jcy; &amp;Gcy;&amp;acy;&amp;lcy;&amp;icy;&amp;kcy;&amp;acy;&amp;rcy;&amp;ncy;&amp;acy;&amp;scy;&amp;acy;"/>
          <p:cNvPicPr/>
          <p:nvPr/>
        </p:nvPicPr>
        <p:blipFill>
          <a:blip r:embed="rId2"/>
          <a:stretch/>
        </p:blipFill>
        <p:spPr>
          <a:xfrm>
            <a:off x="5000760" y="2786040"/>
            <a:ext cx="3978000" cy="2647800"/>
          </a:xfrm>
          <a:prstGeom prst="rect">
            <a:avLst/>
          </a:prstGeom>
          <a:ln w="0">
            <a:noFill/>
          </a:ln>
        </p:spPr>
      </p:pic>
      <p:sp>
        <p:nvSpPr>
          <p:cNvPr id="66" name="TextBox 5"/>
          <p:cNvSpPr/>
          <p:nvPr/>
        </p:nvSpPr>
        <p:spPr>
          <a:xfrm>
            <a:off x="1375560" y="428760"/>
            <a:ext cx="697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Галикарнасский мавзолей (Кария, </a:t>
            </a:r>
            <a:r>
              <a:rPr b="1" lang="en-US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IV</a:t>
            </a: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век до н.э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Прямоугольник 3"/>
          <p:cNvSpPr/>
          <p:nvPr/>
        </p:nvSpPr>
        <p:spPr>
          <a:xfrm>
            <a:off x="0" y="542916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чередная гигантская разрушенная статуя, в этот раз в облике древнегреческого бога Гелиос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2" descr="&amp;Kcy;&amp;ocy;&amp;lcy;&amp;ocy;&amp;scy;&amp;scy; &amp;chcy;&amp;ucy;&amp;dcy;&amp;ocy; "/>
          <p:cNvPicPr/>
          <p:nvPr/>
        </p:nvPicPr>
        <p:blipFill>
          <a:blip r:embed="rId1"/>
          <a:stretch/>
        </p:blipFill>
        <p:spPr>
          <a:xfrm>
            <a:off x="1071720" y="1214280"/>
            <a:ext cx="7024680" cy="4686480"/>
          </a:xfrm>
          <a:prstGeom prst="rect">
            <a:avLst/>
          </a:prstGeom>
          <a:ln w="0">
            <a:noFill/>
          </a:ln>
        </p:spPr>
      </p:pic>
      <p:sp>
        <p:nvSpPr>
          <p:cNvPr id="69" name="TextBox 5"/>
          <p:cNvSpPr/>
          <p:nvPr/>
        </p:nvSpPr>
        <p:spPr>
          <a:xfrm>
            <a:off x="1220760" y="642960"/>
            <a:ext cx="67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Колосс Родосский (остров Родос, </a:t>
            </a:r>
            <a:r>
              <a:rPr b="1" lang="en-US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III</a:t>
            </a: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век до н.э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Прямоугольник 3"/>
          <p:cNvSpPr/>
          <p:nvPr/>
        </p:nvSpPr>
        <p:spPr>
          <a:xfrm>
            <a:off x="0" y="58579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уч света в темном царстве, указывающий направление древнеегипетским судам. Также был разрушен землетрясени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2" descr="&amp;Mcy;&amp;acy;&amp;yacy;&amp;kcy; &amp;vcy; &amp;Acy;&amp;lcy;&amp;iecy;&amp;kcy;&amp;scy;&amp;acy;&amp;ncy;&amp;dcy;&amp;rcy;&amp;icy;&amp;icy;"/>
          <p:cNvPicPr/>
          <p:nvPr/>
        </p:nvPicPr>
        <p:blipFill>
          <a:blip r:embed="rId1"/>
          <a:stretch/>
        </p:blipFill>
        <p:spPr>
          <a:xfrm>
            <a:off x="1285920" y="1071720"/>
            <a:ext cx="6415200" cy="4841640"/>
          </a:xfrm>
          <a:prstGeom prst="rect">
            <a:avLst/>
          </a:prstGeom>
          <a:ln w="0">
            <a:noFill/>
          </a:ln>
        </p:spPr>
      </p:pic>
      <p:sp>
        <p:nvSpPr>
          <p:cNvPr id="72" name="TextBox 4"/>
          <p:cNvSpPr/>
          <p:nvPr/>
        </p:nvSpPr>
        <p:spPr>
          <a:xfrm>
            <a:off x="285840" y="428760"/>
            <a:ext cx="965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Маяк на острове Фарос (Александрия, Египет,</a:t>
            </a:r>
            <a:r>
              <a:rPr b="1" lang="en-US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III</a:t>
            </a: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век до н.э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6T16:06:13Z</dcterms:created>
  <dc:creator>Елена Голованова</dc:creator>
  <dc:description/>
  <dc:language>en-US</dc:language>
  <cp:lastModifiedBy>USER</cp:lastModifiedBy>
  <dcterms:modified xsi:type="dcterms:W3CDTF">2017-01-19T16:59:04Z</dcterms:modified>
  <cp:revision>25</cp:revision>
  <dc:subject/>
  <dc:title>Семь чудес России</dc:title>
</cp:coreProperties>
</file>