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578E-9F10-4825-A90F-D3808CF8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A9C3-CF8F-4D94-AE70-86CCAADC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0FF9-8967-4ED9-89F5-7F118752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7868-4154-48D6-93EC-00CABBB8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9E53-176F-44CA-9064-0901F885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5BE7-0F5F-4BE2-BBD4-75953F32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C43D-3E90-4F20-BA72-7CB2A113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D8BD-214B-4042-BF70-0B458161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2AC0-9E85-43BF-BB51-91CAECB8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9E33-1BAA-49D9-9733-862BB4C6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F8E4-5377-4889-8745-0D3A2FE8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9E8F-90D1-4DAB-9674-08187B93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3288-5E9D-4C04-A27F-CDEB7E44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6E54-40A3-4D11-B37C-282F419B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0A3D-BC73-4460-AD50-C81335B8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6F67-1A2F-4FC3-86CD-16E6997D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15A1-4611-41DA-ACEA-E32FF076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DAB8-7248-4E8A-8F30-3087C6D5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CACC-4AA5-43B7-810E-32D32CFF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40F2-230A-49AD-B89B-6C3DBE72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13D5-AEFB-448B-B6CA-E9231FD9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89CF-F7B9-4311-B2CE-E519E559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C82E-0674-4D4C-8598-462AA51A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BD0F-D5ED-4746-BD59-FC99941F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C4E9-2B42-458A-950D-698EF9C731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52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2997-0BE3-4D94-AE9B-BF0D1F6B0C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WordArt 6" descr=""/>
          <p:cNvPicPr/>
          <p:nvPr/>
        </p:nvPicPr>
        <p:blipFill>
          <a:blip r:embed="rId1"/>
          <a:stretch/>
        </p:blipFill>
        <p:spPr>
          <a:xfrm>
            <a:off x="384120" y="249120"/>
            <a:ext cx="6851880" cy="47196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boy"/>
          <p:cNvPicPr/>
          <p:nvPr/>
        </p:nvPicPr>
        <p:blipFill>
          <a:blip r:embed="rId2"/>
          <a:stretch/>
        </p:blipFill>
        <p:spPr>
          <a:xfrm>
            <a:off x="7224840" y="3500280"/>
            <a:ext cx="1488960" cy="31114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1187280" y="1500120"/>
            <a:ext cx="7670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Необходим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цветной кар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елкая с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кварельные кра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исто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Рисунок 1" descr=""/>
          <p:cNvPicPr/>
          <p:nvPr/>
        </p:nvPicPr>
        <p:blipFill>
          <a:blip r:embed="rId1"/>
          <a:stretch/>
        </p:blipFill>
        <p:spPr>
          <a:xfrm>
            <a:off x="12600" y="7920"/>
            <a:ext cx="9131400" cy="684864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 этап: нарисовать рисунок кле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 этап: засыпать рисунок со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6"/>
          <p:cNvSpPr/>
          <p:nvPr/>
        </p:nvSpPr>
        <p:spPr>
          <a:xfrm>
            <a:off x="0" y="0"/>
            <a:ext cx="9144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 этап: немного подождать и стря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ишнюю соль с рису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-144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 этап: раскрашиваем акварел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оугольник 2"/>
          <p:cNvSpPr/>
          <p:nvPr/>
        </p:nvSpPr>
        <p:spPr>
          <a:xfrm>
            <a:off x="430200" y="5589720"/>
            <a:ext cx="8282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ожно дождаться высыхания, а можно рисовать и по мокр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вет наносим «Точечно»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ль сама впитывает цветную в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5" descr="Картинка 62 из 68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8:27:54Z</dcterms:created>
  <dc:creator>user</dc:creator>
  <dc:description/>
  <dc:language>en-US</dc:language>
  <cp:lastModifiedBy>Пользователь Windows</cp:lastModifiedBy>
  <dcterms:modified xsi:type="dcterms:W3CDTF">2017-03-24T06:13:45Z</dcterms:modified>
  <cp:revision>93</cp:revision>
  <dc:subject/>
  <dc:title>Методика  организации анализа процесса воспитани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Url">
    <vt:lpwstr/>
  </property>
  <property fmtid="{D5CDD505-2E9C-101B-9397-08002B2CF9AE}" pid="3" name="_SourceUrl">
    <vt:lpwstr/>
  </property>
  <property fmtid="{D5CDD505-2E9C-101B-9397-08002B2CF9AE}" pid="4" name="display_urn:schemas-microsoft-com:office:office#Author">
    <vt:lpwstr>MRC_Buy</vt:lpwstr>
  </property>
  <property fmtid="{D5CDD505-2E9C-101B-9397-08002B2CF9AE}" pid="5" name="display_urn:schemas-microsoft-com:office:office#Editor">
    <vt:lpwstr>MRC_Buy</vt:lpwstr>
  </property>
  <property fmtid="{D5CDD505-2E9C-101B-9397-08002B2CF9AE}" pid="6" name="xd_ProgID">
    <vt:lpwstr/>
  </property>
  <property fmtid="{D5CDD505-2E9C-101B-9397-08002B2CF9AE}" pid="7" name="xd_Signature">
    <vt:lpwstr/>
  </property>
</Properties>
</file>