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D0139-F796-4B6F-B533-F3826E47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BA3D-F6D8-4DDC-89BD-EA84BC0F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16C1-E4C3-472A-80E3-4E15B7228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43431-BAA3-4444-8B03-72022C36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6B8-89B8-407D-9B95-C4A8C53B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A5D51-2918-4C91-BD36-D748BA3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D6D-E00E-4DC7-BDC5-5F02CF7C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FA82-A982-4056-A1AF-8E2346BA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1098-C0C5-4F2D-95EC-BF8C21C7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A07A-1750-4368-B23C-B52F2B6B2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A7AC-F484-4C77-B49A-1A81897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62C6-984D-48FB-8E40-5A85A443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D5A6-6823-4A64-A81E-4C57A5F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CBFB-485D-4474-AB61-84745A35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0FF5-FB86-4F58-8979-729256AE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9007-156B-4A71-A52F-8102D8F07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0658-8630-4089-BFAB-D57227A39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6DAD-AE33-441F-9EC8-4D1C276B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A1152-D2A3-4722-9123-F63F6396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BF0D6-8F29-490A-BE89-C5A32378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48D3-C1A8-499A-ADE2-156DAF84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C8F5-E6B1-4A7C-8AAC-04AF3A10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E05F2-DDD1-4BC4-90C7-84E4DE5F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F2FBE-C308-4F87-998B-0F905AC4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7FE-C2B3-4392-AD2C-C82F4289C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52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B40C-29DE-4356-A6B6-214A390538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WordArt 6" descr=""/>
          <p:cNvPicPr/>
          <p:nvPr/>
        </p:nvPicPr>
        <p:blipFill>
          <a:blip r:embed="rId1"/>
          <a:stretch/>
        </p:blipFill>
        <p:spPr>
          <a:xfrm>
            <a:off x="384120" y="249120"/>
            <a:ext cx="6851880" cy="47196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boy"/>
          <p:cNvPicPr/>
          <p:nvPr/>
        </p:nvPicPr>
        <p:blipFill>
          <a:blip r:embed="rId2"/>
          <a:stretch/>
        </p:blipFill>
        <p:spPr>
          <a:xfrm>
            <a:off x="7224840" y="3500280"/>
            <a:ext cx="1488960" cy="311148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187280" y="1500120"/>
            <a:ext cx="76708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Необходимо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цветной карт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елкая с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кварельные кра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a479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кист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1" descr=""/>
          <p:cNvPicPr/>
          <p:nvPr/>
        </p:nvPicPr>
        <p:blipFill>
          <a:blip r:embed="rId1"/>
          <a:stretch/>
        </p:blipFill>
        <p:spPr>
          <a:xfrm>
            <a:off x="12600" y="7920"/>
            <a:ext cx="9131400" cy="684864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 этап: нарисовать рисунок кле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 этап: засыпать рисунок сол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Rectangle 6"/>
          <p:cNvSpPr/>
          <p:nvPr/>
        </p:nvSpPr>
        <p:spPr>
          <a:xfrm>
            <a:off x="0" y="0"/>
            <a:ext cx="9144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 этап: немного подождать и стряхну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шнюю соль с рису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-144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 этап: раскрашиваем акварел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Прямоугольник 2"/>
          <p:cNvSpPr/>
          <p:nvPr/>
        </p:nvSpPr>
        <p:spPr>
          <a:xfrm>
            <a:off x="430200" y="5589720"/>
            <a:ext cx="82821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ожно дождаться высыхания, а можно рисовать и по мокр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вет наносим «Точечно»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оль сама впитывает цветную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5" descr="Картинка 62 из 68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18:27:54Z</dcterms:created>
  <dc:creator>user</dc:creator>
  <dc:description/>
  <dc:language>en-US</dc:language>
  <cp:lastModifiedBy>Пользователь Windows</cp:lastModifiedBy>
  <dcterms:modified xsi:type="dcterms:W3CDTF">2017-03-24T06:13:45Z</dcterms:modified>
  <cp:revision>93</cp:revision>
  <dc:subject/>
  <dc:title>Методика  организации анализа процесса воспитан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ourceUrl">
    <vt:lpwstr/>
  </property>
  <property fmtid="{D5CDD505-2E9C-101B-9397-08002B2CF9AE}" pid="4" name="display_urn:schemas-microsoft-com:office:office#Author">
    <vt:lpwstr>MRC_Buy</vt:lpwstr>
  </property>
  <property fmtid="{D5CDD505-2E9C-101B-9397-08002B2CF9AE}" pid="5" name="display_urn:schemas-microsoft-com:office:office#Editor">
    <vt:lpwstr>MRC_Buy</vt:lpwstr>
  </property>
  <property fmtid="{D5CDD505-2E9C-101B-9397-08002B2CF9AE}" pid="6" name="xd_ProgID">
    <vt:lpwstr/>
  </property>
  <property fmtid="{D5CDD505-2E9C-101B-9397-08002B2CF9AE}" pid="7" name="xd_Signature">
    <vt:lpwstr/>
  </property>
</Properties>
</file>