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29F-39BA-4D42-9E36-ECB0C82A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EFC-CE68-4C2C-9DBD-9CD8C89B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F96-3E51-4482-9853-1F96723A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51F-15D7-4B01-ABE1-C73061BF9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7441-ACA7-4453-9328-B14306A6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5D16-9F9D-4520-B628-6CCF8F4A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B094-8BE3-45F6-9DF5-8518EA8B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2F7A-61B1-4290-B859-5C6E9E95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3264-0CC2-4E0B-9F73-7DF14121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76489-6F9E-4FB7-B745-59036909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AF2E-05F0-4C6A-9188-60656377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FE46-C935-4B78-B9A9-CEEC4C26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D699-4380-45E2-A592-4E131C43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3FFFF-FE73-43CC-90E4-0CD7931A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6D65-702A-4B5C-9752-1A05C5D7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575E-9D4C-4DB1-8039-414E8975C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D050-6DA8-4F9A-AF3F-EA4F82A3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1D98-4F6E-49BD-B03D-EA90CF62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75D18-8DE3-4A95-B0BB-5CB2ABBA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5F7E-BC77-49A3-9E7B-C5E2DC9D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4CCB-70C8-439E-BFC4-BCB17179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F9086-871D-4D39-AF6D-08A4B727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91F9-B9DF-4B35-A761-E54B855E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20920-983F-4DFD-B7BB-F69B351F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EB9F-B291-434B-8FD5-BAD4041A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16AB0-4097-4E1F-AD0E-3842C77B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E998A-85B4-4FF5-9A4F-64AC68B1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C0F6F-5D94-486D-9A8F-29901E48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49979-8814-484A-A506-55488AD3F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1D9C-10EA-4100-854E-414CB6689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758B1-A30D-4481-BB6C-1113F91E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2344D-8132-4C1C-9088-80A4946A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D9E7C-A0F5-4DA8-857F-6A45F043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6988-646F-4B5F-984E-77E2906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1743C-E6B8-4CB6-8811-8C62C6AAA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93C96-62FC-4B57-97B5-A8BBF1DB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F71A5-5E44-4350-A515-8CE6BC52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58D7F-A10E-481F-8D4E-86E8D3DB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C122-55C9-4121-ABE2-D1FE31F5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667E-AC6D-42AD-A49D-8543CF54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0081D-7F97-4F49-8655-B69D57A1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86D5-A9CB-4269-94A2-674FEFAD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32A7-0317-421A-8C00-6D05995CE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FC4-065F-4022-B2D0-08B0F1DE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E9F-0AC3-40D6-9ACD-48C699BC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777-ECB7-405A-8FF0-007CC104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C82-9076-4AD3-95F6-57671A1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1A58-E2B2-477D-9892-6EE503CB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72DF-25AD-4A9A-860C-BF46DDB8839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DDE9-7674-435E-806C-11DAB5424329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E236-94D1-409B-8D76-00272496E96C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7F95A-7F9B-4A9A-A4DE-0939C5EEC00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4"/>
          <p:cNvSpPr/>
          <p:nvPr/>
        </p:nvSpPr>
        <p:spPr>
          <a:xfrm>
            <a:off x="785880" y="50004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alibri"/>
              </a:rPr>
              <a:t>Задач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"/>
          <p:cNvSpPr/>
          <p:nvPr/>
        </p:nvSpPr>
        <p:spPr>
          <a:xfrm>
            <a:off x="1071720" y="164304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onstantia"/>
              </a:rPr>
              <a:t>Найти ответ на вопрос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onstantia"/>
              </a:rPr>
              <a:t>«Как жить на земл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3" descr="http://bacenko.ru/wp-content/uploads/2016/01/Nikolay-Rubtsov.jpg"/>
          <p:cNvPicPr/>
          <p:nvPr/>
        </p:nvPicPr>
        <p:blipFill>
          <a:blip r:embed="rId2"/>
          <a:stretch/>
        </p:blipFill>
        <p:spPr>
          <a:xfrm>
            <a:off x="4786200" y="1643040"/>
            <a:ext cx="3940200" cy="4878360"/>
          </a:xfrm>
          <a:prstGeom prst="rect">
            <a:avLst/>
          </a:prstGeom>
          <a:ln w="0">
            <a:noFill/>
          </a:ln>
        </p:spPr>
      </p:pic>
      <p:sp>
        <p:nvSpPr>
          <p:cNvPr id="220" name="TextBox 4"/>
          <p:cNvSpPr/>
          <p:nvPr/>
        </p:nvSpPr>
        <p:spPr>
          <a:xfrm>
            <a:off x="642960" y="2643120"/>
            <a:ext cx="33577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До кон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До тихого кре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Пусть ду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Будет ч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onstantia"/>
              </a:rPr>
              <a:t>Николай Рубцо</a:t>
            </a:r>
            <a:r>
              <a:rPr b="0" i="1" lang="ru-RU" sz="2000" spc="-1" strike="noStrike">
                <a:solidFill>
                  <a:srgbClr val="115964"/>
                </a:solidFill>
                <a:latin typeface="Constantia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4"/>
          <p:cNvSpPr/>
          <p:nvPr/>
        </p:nvSpPr>
        <p:spPr>
          <a:xfrm>
            <a:off x="785880" y="50004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alibri"/>
              </a:rPr>
              <a:t>Задача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5"/>
          <p:cNvSpPr/>
          <p:nvPr/>
        </p:nvSpPr>
        <p:spPr>
          <a:xfrm>
            <a:off x="1071720" y="164304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onstantia"/>
              </a:rPr>
              <a:t>Найти ответ на вопрос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15964"/>
                </a:solidFill>
                <a:latin typeface="Constantia"/>
              </a:rPr>
              <a:t>«Как жить на земл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s://s.poembook.ru/theme/51/fc/42/4746a252f067634046a0122cfceed088722ee3b1.jpeg"/>
          <p:cNvPicPr/>
          <p:nvPr/>
        </p:nvPicPr>
        <p:blipFill>
          <a:blip r:embed="rId1"/>
          <a:srcRect l="7618" t="0" r="132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"/>
          <p:cNvSpPr/>
          <p:nvPr/>
        </p:nvSpPr>
        <p:spPr>
          <a:xfrm>
            <a:off x="714240" y="2071800"/>
            <a:ext cx="735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Написать сочинение –размышл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«О чем заставил меня задуматься рассказ А.И. Солженицына «Матренин дво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0080" y="548280"/>
            <a:ext cx="77724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000" spc="-1" strike="noStrike">
              <a:solidFill>
                <a:srgbClr val="01181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13840" y="1499760"/>
            <a:ext cx="7558200" cy="714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«</a:t>
            </a:r>
            <a:r>
              <a:rPr b="0" lang="ru-RU" sz="2800" spc="-1" strike="noStrike">
                <a:solidFill>
                  <a:srgbClr val="01181f"/>
                </a:solidFill>
                <a:latin typeface="Constantia"/>
              </a:rPr>
              <a:t>Не стоит село без праведника…»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0" y="2071800"/>
            <a:ext cx="692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1181f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1181f"/>
                </a:solidFill>
                <a:latin typeface="Constantia"/>
              </a:rPr>
              <a:t>(по рассказу А.И. Солженицына   «Матренин двор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s://im2-tub-ru.yandex.net/i?id=75d01957efb58cf6978ff666bea053e8-l&amp;n=13"/>
          <p:cNvPicPr/>
          <p:nvPr/>
        </p:nvPicPr>
        <p:blipFill>
          <a:blip r:embed="rId1"/>
          <a:stretch/>
        </p:blipFill>
        <p:spPr>
          <a:xfrm>
            <a:off x="5786280" y="3071880"/>
            <a:ext cx="19908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682560" y="-1908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371600" y="2143080"/>
            <a:ext cx="2914560" cy="34956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До конца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До тихого крес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Пусть душ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1181f"/>
                </a:solidFill>
                <a:latin typeface="Constantia"/>
              </a:rPr>
              <a:t>Будет чист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1181f"/>
                </a:solidFill>
                <a:latin typeface="Constantia"/>
              </a:rPr>
              <a:t>Николай Рубц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Рисунок 3" descr="http://bacenko.ru/wp-content/uploads/2016/01/Nikolay-Rubtsov.jpg"/>
          <p:cNvPicPr/>
          <p:nvPr/>
        </p:nvPicPr>
        <p:blipFill>
          <a:blip r:embed="rId2"/>
          <a:stretch/>
        </p:blipFill>
        <p:spPr>
          <a:xfrm>
            <a:off x="4786200" y="1643040"/>
            <a:ext cx="394020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115964"/>
                </a:solidFill>
                <a:latin typeface="Calibri"/>
              </a:rPr>
              <a:t>Матрена Васильевна Захаров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Содержимое 3" descr="Матренин двор"/>
          <p:cNvPicPr/>
          <p:nvPr/>
        </p:nvPicPr>
        <p:blipFill>
          <a:blip r:embed="rId1"/>
          <a:stretch/>
        </p:blipFill>
        <p:spPr>
          <a:xfrm>
            <a:off x="5643720" y="2571840"/>
            <a:ext cx="285732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6" name="Прямоугольник 4"/>
          <p:cNvSpPr/>
          <p:nvPr/>
        </p:nvSpPr>
        <p:spPr>
          <a:xfrm>
            <a:off x="357120" y="307188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В переводе с латинского 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Arial"/>
              </a:rPr>
              <a:t>«Матрена» обозначает - 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hello_html_6ac4e20b.jpg"/>
          <p:cNvPicPr/>
          <p:nvPr/>
        </p:nvPicPr>
        <p:blipFill>
          <a:blip r:embed="rId1"/>
          <a:stretch/>
        </p:blipFill>
        <p:spPr>
          <a:xfrm>
            <a:off x="642960" y="857160"/>
            <a:ext cx="800100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Прямоугольник 1"/>
          <p:cNvSpPr/>
          <p:nvPr/>
        </p:nvSpPr>
        <p:spPr>
          <a:xfrm>
            <a:off x="214200" y="357120"/>
            <a:ext cx="8572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Бескорыстие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отсутствие жадности, корысти к имуществу; нежелание пользоваться в убыток, в ущерб, в обиду други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Коры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жадность к деньгам, материальному богатству; страсть к наживе, личной выг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500040" y="285840"/>
            <a:ext cx="81439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раведник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это человек с чистой совестью и душой. (В.Даль «Толковый словарь живого великорусского язы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раведник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праведно живущий; во всем по закону Божьему поступающий, безгреш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С.Ожегов «Толковый словарь русского язык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onstantia"/>
              </a:rPr>
              <a:t>Праведник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(у верующи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- человек, который живет праведной жизнью, не имеет грех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-человек, ни в чем не погрешающий против  правил нравственности</a:t>
            </a:r>
            <a:r>
              <a:rPr b="0" lang="ru-RU" sz="1800" spc="-1" strike="noStrike">
                <a:solidFill>
                  <a:srgbClr val="00206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hello_html_dbad610.jpg"/>
          <p:cNvPicPr/>
          <p:nvPr/>
        </p:nvPicPr>
        <p:blipFill>
          <a:blip r:embed="rId1"/>
          <a:srcRect l="0" t="6885" r="0" b="0"/>
          <a:stretch/>
        </p:blipFill>
        <p:spPr>
          <a:xfrm>
            <a:off x="214200" y="1571760"/>
            <a:ext cx="2286000" cy="24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3" descr="hello_html_50a6a012.jpg"/>
          <p:cNvPicPr/>
          <p:nvPr/>
        </p:nvPicPr>
        <p:blipFill>
          <a:blip r:embed="rId2"/>
          <a:stretch/>
        </p:blipFill>
        <p:spPr>
          <a:xfrm>
            <a:off x="6643800" y="2643120"/>
            <a:ext cx="2286000" cy="385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5" descr="https://im3-tub-ru.yandex.net/i?id=d81254e6e9ab293818215a0c812376dd-l&amp;n=13"/>
          <p:cNvPicPr/>
          <p:nvPr/>
        </p:nvPicPr>
        <p:blipFill>
          <a:blip r:embed="rId3"/>
          <a:srcRect l="1879" t="0" r="5942" b="0"/>
          <a:stretch/>
        </p:blipFill>
        <p:spPr>
          <a:xfrm>
            <a:off x="2928960" y="1571760"/>
            <a:ext cx="3500280" cy="4701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4" name="Rectangle 6"/>
          <p:cNvSpPr/>
          <p:nvPr/>
        </p:nvSpPr>
        <p:spPr>
          <a:xfrm>
            <a:off x="0" y="433080"/>
            <a:ext cx="83581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  <a:ea typeface="Times New Roman"/>
              </a:rPr>
              <a:t>У тех людей всегда лица хороши, кто в ладах с совестью сво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5000" spc="-1" strike="noStrike">
                <a:solidFill>
                  <a:srgbClr val="04617b"/>
                </a:solidFill>
                <a:latin typeface="Calibri"/>
              </a:rPr>
              <a:t>Булат Ша́лвович Окуджава</a:t>
            </a:r>
            <a:r>
              <a:rPr b="0" lang="vi-VN" sz="5000" spc="-1" strike="noStrike">
                <a:solidFill>
                  <a:srgbClr val="04617b"/>
                </a:solidFill>
                <a:latin typeface="Calibri"/>
              </a:rPr>
              <a:t> 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Содержимое 3" descr="http://poem4you.ru/images/classic/photos/122/3.jpg"/>
          <p:cNvPicPr/>
          <p:nvPr/>
        </p:nvPicPr>
        <p:blipFill>
          <a:blip r:embed="rId1"/>
          <a:stretch/>
        </p:blipFill>
        <p:spPr>
          <a:xfrm>
            <a:off x="4786200" y="2000160"/>
            <a:ext cx="4160880" cy="43894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5"/>
          <p:cNvSpPr/>
          <p:nvPr/>
        </p:nvSpPr>
        <p:spPr>
          <a:xfrm>
            <a:off x="214200" y="1857240"/>
            <a:ext cx="4786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нашей жизни, прекрасной и странной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 короткой, как росчерк пера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д дымящейся свежею раной призадуматься, право, пор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изадуматься и присмотреться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оразмыслить, покуда живой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что там кроется в сумерках сердца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в самой черной его кладовой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усть твердят, что дела твои плох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о пора научиться, пора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 вымаливать жалкие крохи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илосердия, правды, добра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о пред ликом суровой эпох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что по-своему тоже права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е выжуливать жалкие крохи,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 творить,  засучив рук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6T16:46:28Z</dcterms:created>
  <dc:creator>Ирина Лоскутова</dc:creator>
  <dc:description/>
  <dc:language>en-US</dc:language>
  <cp:lastModifiedBy>Ирина Лоскутова</cp:lastModifiedBy>
  <dcterms:modified xsi:type="dcterms:W3CDTF">2017-03-20T16:54:35Z</dcterms:modified>
  <cp:revision>25</cp:revision>
  <dc:subject/>
  <dc:title>Александр Иванович Солженицын</dc:title>
</cp:coreProperties>
</file>