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14.jpeg" ContentType="image/jpeg"/>
  <Override PartName="/ppt/media/image4.jpeg" ContentType="image/jpeg"/>
  <Override PartName="/ppt/media/image2.png" ContentType="image/png"/>
  <Override PartName="/ppt/media/image3.png" ContentType="image/png"/>
  <Override PartName="/ppt/media/image6.jpeg" ContentType="image/jpeg"/>
  <Override PartName="/ppt/media/image9.jpeg" ContentType="image/jpeg"/>
  <Override PartName="/ppt/media/image11.jpeg" ContentType="image/jpeg"/>
  <Override PartName="/ppt/media/image1.jpeg" ContentType="image/jpeg"/>
  <Override PartName="/ppt/media/image7.png" ContentType="image/png"/>
  <Override PartName="/ppt/media/image13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84DC0-B80E-4521-8A67-D31F6263F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EA913-AFAF-46B7-9FDB-274A20F7F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4925E-21B9-4D86-A7D3-0F1B3ECE4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D0FC4-74F0-4FED-9DCD-FD4B7A198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D9536-F15B-4131-9BA2-EE8A47EA2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DCAFE-AFD9-4196-A6FF-C54E2CABE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D43D0-93EB-463F-B8E6-71129D6A8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D56AA-9808-4B99-8F46-83EE0EFE3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4A05C-E36E-4173-B159-C7AC1E9C3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49D46-9094-4B81-A0EB-E90653B52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064C9-0B5A-4859-9824-86D395A8B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6A9AB-C62D-4E6A-BCD0-E107B0042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CCED6-74E8-4373-9401-4065B221A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1AD27-B8AF-4326-B98B-C723B4FFA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2CD9A-2FF8-4F0A-84ED-1A54AA0E5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1590C-AAF7-4718-9B7A-7D8BDAA05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45FA0-202D-4888-81F6-8E21E33C6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8EA6BD-6499-4286-97F4-E2A5200EF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05E8FF-1695-4DA5-88D9-2F0038084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F7C237-F416-49E7-8C63-7386C029A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DE77E8-5C05-47D7-9C4E-40B63F06F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BE21BF-3810-4D51-B5EA-8F4620E45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94562-FDFC-4322-A1F1-2441E2319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A96C95-566F-4D8F-BF23-2A32AFDC6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DFB5C2-4432-4D15-A1A6-A694C565E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A19F79-7FF3-4F7B-AC4D-E501EF800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8F2460-4370-4A99-932F-81D62E5EC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AD9292-0B11-45FD-A995-68919EC66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39E8BD-3C83-4E91-B995-B5F4BCB06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569958-AB57-44EE-A548-13484A243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BDD6ED-C0DC-4EB2-852E-83729F159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3E0434-C4EE-481D-8252-F5FE3E117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4BC163-DAFA-42D2-A91B-52F3F5F51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C497F-6072-45FD-B7ED-DDDA24052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EDA560-67F3-4622-94C2-14CA4383F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3F11AB-DFDA-4AA4-80EE-139BAB4DE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F6DF90-BAEA-487B-858B-A1AE3CAA6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20B772-9ACB-4B53-91CE-FCCBA58D5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3D6141-EC0C-4DA0-A971-84C2B76B4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E7CCF3-DF33-4437-8544-D5528864C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560ED4-61F5-4784-A156-ED679A8DC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8C46C4-7FCA-4FEA-B070-CF24EB4C9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DFE6BA-F8F9-421D-810C-93721F074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BEF42-76A0-4A39-B042-E870D5F5C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17C4B-4BB0-4C1F-9048-B082FA8F4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D489D-86AA-4771-BD7E-67FBE53F5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B0740-60E6-4809-AA4A-77CB7798D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B8811-6535-4BCB-B22E-B99566E28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E10CC-6880-45AD-9A3A-0A3CC470D251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51F6A-43E5-4A29-BA78-39BA97BC070B}" type="slidenum">
              <a:rPr b="0" lang="ru-RU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67D44-F668-4BE6-9B27-B4C970D0AE8A}" type="slidenum">
              <a:rPr b="0" lang="ru-RU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F4F7A-9907-44AE-9EC1-A48C2B1FAFD5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Прямоугольник 4"/>
          <p:cNvSpPr/>
          <p:nvPr/>
        </p:nvSpPr>
        <p:spPr>
          <a:xfrm>
            <a:off x="785880" y="500040"/>
            <a:ext cx="692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15964"/>
                </a:solidFill>
                <a:latin typeface="Calibri"/>
              </a:rPr>
              <a:t>Задача уро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Box 5"/>
          <p:cNvSpPr/>
          <p:nvPr/>
        </p:nvSpPr>
        <p:spPr>
          <a:xfrm>
            <a:off x="1071720" y="1643040"/>
            <a:ext cx="7358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15964"/>
                </a:solidFill>
                <a:latin typeface="Constantia"/>
              </a:rPr>
              <a:t>Найти ответ на вопрос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15964"/>
                </a:solidFill>
                <a:latin typeface="Constantia"/>
              </a:rPr>
              <a:t>«Как жить на земле?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Заголовок 1" descr=""/>
          <p:cNvPicPr/>
          <p:nvPr/>
        </p:nvPicPr>
        <p:blipFill>
          <a:blip r:embed="rId1"/>
          <a:stretch/>
        </p:blipFill>
        <p:spPr>
          <a:xfrm>
            <a:off x="73080" y="701640"/>
            <a:ext cx="8699400" cy="1150920"/>
          </a:xfrm>
          <a:prstGeom prst="rect">
            <a:avLst/>
          </a:prstGeom>
          <a:ln w="0">
            <a:noFill/>
          </a:ln>
        </p:spPr>
      </p:pic>
      <p:pic>
        <p:nvPicPr>
          <p:cNvPr id="219" name="Рисунок 3" descr="http://bacenko.ru/wp-content/uploads/2016/01/Nikolay-Rubtsov.jpg"/>
          <p:cNvPicPr/>
          <p:nvPr/>
        </p:nvPicPr>
        <p:blipFill>
          <a:blip r:embed="rId2"/>
          <a:stretch/>
        </p:blipFill>
        <p:spPr>
          <a:xfrm>
            <a:off x="4786200" y="1643040"/>
            <a:ext cx="3940200" cy="4878360"/>
          </a:xfrm>
          <a:prstGeom prst="rect">
            <a:avLst/>
          </a:prstGeom>
          <a:ln w="0">
            <a:noFill/>
          </a:ln>
        </p:spPr>
      </p:pic>
      <p:sp>
        <p:nvSpPr>
          <p:cNvPr id="220" name="TextBox 4"/>
          <p:cNvSpPr/>
          <p:nvPr/>
        </p:nvSpPr>
        <p:spPr>
          <a:xfrm>
            <a:off x="642960" y="2643120"/>
            <a:ext cx="3357720" cy="21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onstantia"/>
              </a:rPr>
              <a:t>До конц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onstantia"/>
              </a:rPr>
              <a:t>До тихого крес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onstantia"/>
              </a:rPr>
              <a:t>Пусть душ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onstantia"/>
              </a:rPr>
              <a:t>Будет чис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2060"/>
                </a:solidFill>
                <a:latin typeface="Constantia"/>
              </a:rPr>
              <a:t>Николай Рубцо</a:t>
            </a:r>
            <a:r>
              <a:rPr b="0" i="1" lang="ru-RU" sz="2000" spc="-1" strike="noStrike">
                <a:solidFill>
                  <a:srgbClr val="115964"/>
                </a:solidFill>
                <a:latin typeface="Constantia"/>
              </a:rPr>
              <a:t>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Прямоугольник 4"/>
          <p:cNvSpPr/>
          <p:nvPr/>
        </p:nvSpPr>
        <p:spPr>
          <a:xfrm>
            <a:off x="785880" y="500040"/>
            <a:ext cx="692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15964"/>
                </a:solidFill>
                <a:latin typeface="Calibri"/>
              </a:rPr>
              <a:t>Задача уро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5"/>
          <p:cNvSpPr/>
          <p:nvPr/>
        </p:nvSpPr>
        <p:spPr>
          <a:xfrm>
            <a:off x="1071720" y="1643040"/>
            <a:ext cx="7358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15964"/>
                </a:solidFill>
                <a:latin typeface="Constantia"/>
              </a:rPr>
              <a:t>Найти ответ на вопрос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15964"/>
                </a:solidFill>
                <a:latin typeface="Constantia"/>
              </a:rPr>
              <a:t>«Как жить на земле?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2" descr="https://s.poembook.ru/theme/51/fc/42/4746a252f067634046a0122cfceed088722ee3b1.jpeg"/>
          <p:cNvPicPr/>
          <p:nvPr/>
        </p:nvPicPr>
        <p:blipFill>
          <a:blip r:embed="rId1"/>
          <a:srcRect l="7618" t="0" r="13281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Заголовок 1" descr=""/>
          <p:cNvPicPr/>
          <p:nvPr/>
        </p:nvPicPr>
        <p:blipFill>
          <a:blip r:embed="rId1"/>
          <a:stretch/>
        </p:blipFill>
        <p:spPr>
          <a:xfrm>
            <a:off x="73080" y="701640"/>
            <a:ext cx="8699400" cy="1150920"/>
          </a:xfrm>
          <a:prstGeom prst="rect">
            <a:avLst/>
          </a:prstGeom>
          <a:ln w="0">
            <a:noFill/>
          </a:ln>
        </p:spPr>
      </p:pic>
      <p:sp>
        <p:nvSpPr>
          <p:cNvPr id="225" name="TextBox 2"/>
          <p:cNvSpPr/>
          <p:nvPr/>
        </p:nvSpPr>
        <p:spPr>
          <a:xfrm>
            <a:off x="714240" y="2071800"/>
            <a:ext cx="73580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onstantia"/>
              </a:rPr>
              <a:t>Написать сочинение –размышлен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onstantia"/>
              </a:rPr>
              <a:t> </a:t>
            </a:r>
            <a:r>
              <a:rPr b="0" lang="ru-RU" sz="2800" spc="-1" strike="noStrike">
                <a:solidFill>
                  <a:srgbClr val="002060"/>
                </a:solidFill>
                <a:latin typeface="Constantia"/>
              </a:rPr>
              <a:t>«О чем заставил меня задуматься рассказ А.И. Солженицына «Матренин двор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000080" y="548280"/>
            <a:ext cx="7772400" cy="808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000" spc="-1" strike="noStrike">
              <a:solidFill>
                <a:srgbClr val="01181f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213840" y="1499760"/>
            <a:ext cx="7558200" cy="71460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1181f"/>
                </a:solidFill>
                <a:latin typeface="Constantia"/>
              </a:rPr>
              <a:t>       </a:t>
            </a:r>
            <a:r>
              <a:rPr b="0" lang="ru-RU" sz="2600" spc="-1" strike="noStrike">
                <a:solidFill>
                  <a:srgbClr val="01181f"/>
                </a:solidFill>
                <a:latin typeface="Constantia"/>
              </a:rPr>
              <a:t>«</a:t>
            </a:r>
            <a:r>
              <a:rPr b="0" lang="ru-RU" sz="2800" spc="-1" strike="noStrike">
                <a:solidFill>
                  <a:srgbClr val="01181f"/>
                </a:solidFill>
                <a:latin typeface="Constantia"/>
              </a:rPr>
              <a:t>Не стоит село без праведника…»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9" name="TextBox 3"/>
          <p:cNvSpPr/>
          <p:nvPr/>
        </p:nvSpPr>
        <p:spPr>
          <a:xfrm>
            <a:off x="0" y="2071800"/>
            <a:ext cx="692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1181f"/>
                </a:solidFill>
                <a:latin typeface="Arial"/>
              </a:rPr>
              <a:t>        </a:t>
            </a:r>
            <a:r>
              <a:rPr b="0" lang="ru-RU" sz="1800" spc="-1" strike="noStrike">
                <a:solidFill>
                  <a:srgbClr val="01181f"/>
                </a:solidFill>
                <a:latin typeface="Constantia"/>
              </a:rPr>
              <a:t>(по рассказу А.И. Солженицына   «Матренин двор»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2" descr="https://im2-tub-ru.yandex.net/i?id=75d01957efb58cf6978ff666bea053e8-l&amp;n=13"/>
          <p:cNvPicPr/>
          <p:nvPr/>
        </p:nvPicPr>
        <p:blipFill>
          <a:blip r:embed="rId1"/>
          <a:stretch/>
        </p:blipFill>
        <p:spPr>
          <a:xfrm>
            <a:off x="5786280" y="3071880"/>
            <a:ext cx="199080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Заголовок 1" descr=""/>
          <p:cNvPicPr/>
          <p:nvPr/>
        </p:nvPicPr>
        <p:blipFill>
          <a:blip r:embed="rId1"/>
          <a:stretch/>
        </p:blipFill>
        <p:spPr>
          <a:xfrm>
            <a:off x="682560" y="-19080"/>
            <a:ext cx="8229600" cy="1158840"/>
          </a:xfrm>
          <a:prstGeom prst="rect">
            <a:avLst/>
          </a:prstGeom>
          <a:ln w="0">
            <a:noFill/>
          </a:ln>
        </p:spPr>
      </p:pic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1371600" y="2143080"/>
            <a:ext cx="2914560" cy="349560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1181f"/>
                </a:solidFill>
                <a:latin typeface="Constantia"/>
              </a:rPr>
              <a:t>До конца,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1181f"/>
                </a:solidFill>
                <a:latin typeface="Constantia"/>
              </a:rPr>
              <a:t>До тихого креста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1181f"/>
                </a:solidFill>
                <a:latin typeface="Constantia"/>
              </a:rPr>
              <a:t>Пусть душа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1181f"/>
                </a:solidFill>
                <a:latin typeface="Constantia"/>
              </a:rPr>
              <a:t>Будет чиста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1181f"/>
                </a:solidFill>
                <a:latin typeface="Constantia"/>
              </a:rPr>
              <a:t>Николай Рубцов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3" name="Рисунок 3" descr="http://bacenko.ru/wp-content/uploads/2016/01/Nikolay-Rubtsov.jpg"/>
          <p:cNvPicPr/>
          <p:nvPr/>
        </p:nvPicPr>
        <p:blipFill>
          <a:blip r:embed="rId2"/>
          <a:stretch/>
        </p:blipFill>
        <p:spPr>
          <a:xfrm>
            <a:off x="4786200" y="1643040"/>
            <a:ext cx="3940200" cy="48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115964"/>
                </a:solidFill>
                <a:latin typeface="Calibri"/>
              </a:rPr>
              <a:t>Матрена Васильевна Захарова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5" name="Содержимое 3" descr="Матренин двор"/>
          <p:cNvPicPr/>
          <p:nvPr/>
        </p:nvPicPr>
        <p:blipFill>
          <a:blip r:embed="rId1"/>
          <a:stretch/>
        </p:blipFill>
        <p:spPr>
          <a:xfrm>
            <a:off x="5643720" y="2571840"/>
            <a:ext cx="2857320" cy="3686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06" name="Прямоугольник 4"/>
          <p:cNvSpPr/>
          <p:nvPr/>
        </p:nvSpPr>
        <p:spPr>
          <a:xfrm>
            <a:off x="357120" y="3071880"/>
            <a:ext cx="5072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2060"/>
                </a:solidFill>
                <a:latin typeface="Arial"/>
              </a:rPr>
              <a:t>В переводе с латинского  язык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2060"/>
                </a:solidFill>
                <a:latin typeface="Arial"/>
              </a:rPr>
              <a:t>«Матрена» обозначает - ма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TextBox 1"/>
          <p:cNvSpPr/>
          <p:nvPr/>
        </p:nvSpPr>
        <p:spPr>
          <a:xfrm>
            <a:off x="0" y="0"/>
            <a:ext cx="9144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3" descr="hello_html_6ac4e20b.jpg"/>
          <p:cNvPicPr/>
          <p:nvPr/>
        </p:nvPicPr>
        <p:blipFill>
          <a:blip r:embed="rId1"/>
          <a:stretch/>
        </p:blipFill>
        <p:spPr>
          <a:xfrm>
            <a:off x="642960" y="857160"/>
            <a:ext cx="8001000" cy="564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Прямоугольник 1"/>
          <p:cNvSpPr/>
          <p:nvPr/>
        </p:nvSpPr>
        <p:spPr>
          <a:xfrm>
            <a:off x="214200" y="357120"/>
            <a:ext cx="8572680" cy="551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Бескорыстие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4000" spc="-1" strike="noStrike">
                <a:solidFill>
                  <a:srgbClr val="002060"/>
                </a:solidFill>
                <a:latin typeface="Arial"/>
              </a:rPr>
              <a:t>– </a:t>
            </a:r>
            <a:r>
              <a:rPr b="0" lang="ru-RU" sz="2800" spc="-1" strike="noStrike">
                <a:solidFill>
                  <a:srgbClr val="002060"/>
                </a:solidFill>
                <a:latin typeface="Constantia"/>
              </a:rPr>
              <a:t>отсутствие жадности, корысти к имуществу; нежелание пользоваться в убыток, в ущерб, в обиду други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Корысть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- </a:t>
            </a:r>
            <a:r>
              <a:rPr b="0" lang="ru-RU" sz="2800" spc="-1" strike="noStrike">
                <a:solidFill>
                  <a:srgbClr val="002060"/>
                </a:solidFill>
                <a:latin typeface="Constantia"/>
              </a:rPr>
              <a:t>жадность к деньгам, материальному богатству; страсть к наживе, личной выгод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Прямоугольник 1"/>
          <p:cNvSpPr/>
          <p:nvPr/>
        </p:nvSpPr>
        <p:spPr>
          <a:xfrm>
            <a:off x="500040" y="285840"/>
            <a:ext cx="8143920" cy="48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Calibri"/>
              </a:rPr>
              <a:t>Праведник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400" spc="-1" strike="noStrike">
                <a:solidFill>
                  <a:srgbClr val="002060"/>
                </a:solidFill>
                <a:latin typeface="Constantia"/>
              </a:rPr>
              <a:t>это человек с чистой совестью и душой. (В.Даль «Толковый словарь живого великорусского языка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Calibri"/>
              </a:rPr>
              <a:t>Праведник</a:t>
            </a: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– </a:t>
            </a:r>
            <a:r>
              <a:rPr b="0" lang="ru-RU" sz="2400" spc="-1" strike="noStrike">
                <a:solidFill>
                  <a:srgbClr val="002060"/>
                </a:solidFill>
                <a:latin typeface="Constantia"/>
              </a:rPr>
              <a:t>праведно живущий; во всем по закону Божьему поступающий, безгрешн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onstantia"/>
              </a:rPr>
              <a:t>(С.Ожегов «Толковый словарь русского языка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Constantia"/>
              </a:rPr>
              <a:t>Праведник </a:t>
            </a:r>
            <a:r>
              <a:rPr b="0" lang="ru-RU" sz="2400" spc="-1" strike="noStrike">
                <a:solidFill>
                  <a:srgbClr val="002060"/>
                </a:solidFill>
                <a:latin typeface="Constantia"/>
              </a:rPr>
              <a:t>(у верующих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onstantia"/>
              </a:rPr>
              <a:t>  </a:t>
            </a:r>
            <a:r>
              <a:rPr b="0" lang="ru-RU" sz="2400" spc="-1" strike="noStrike">
                <a:solidFill>
                  <a:srgbClr val="002060"/>
                </a:solidFill>
                <a:latin typeface="Constantia"/>
              </a:rPr>
              <a:t>- человек, который живет праведной жизнью, не имеет грех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onstantia"/>
              </a:rPr>
              <a:t>  </a:t>
            </a:r>
            <a:r>
              <a:rPr b="0" lang="ru-RU" sz="2400" spc="-1" strike="noStrike">
                <a:solidFill>
                  <a:srgbClr val="002060"/>
                </a:solidFill>
                <a:latin typeface="Constantia"/>
              </a:rPr>
              <a:t>-человек, ни в чем не погрешающий против  правил нравственности</a:t>
            </a:r>
            <a:r>
              <a:rPr b="0" lang="ru-RU" sz="1800" spc="-1" strike="noStrike">
                <a:solidFill>
                  <a:srgbClr val="002060"/>
                </a:solidFill>
                <a:latin typeface="Constant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2" descr="hello_html_dbad610.jpg"/>
          <p:cNvPicPr/>
          <p:nvPr/>
        </p:nvPicPr>
        <p:blipFill>
          <a:blip r:embed="rId1"/>
          <a:srcRect l="0" t="6885" r="0" b="0"/>
          <a:stretch/>
        </p:blipFill>
        <p:spPr>
          <a:xfrm>
            <a:off x="214200" y="1571760"/>
            <a:ext cx="2286000" cy="2471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12" name="Picture 3" descr="hello_html_50a6a012.jpg"/>
          <p:cNvPicPr/>
          <p:nvPr/>
        </p:nvPicPr>
        <p:blipFill>
          <a:blip r:embed="rId2"/>
          <a:stretch/>
        </p:blipFill>
        <p:spPr>
          <a:xfrm>
            <a:off x="6643800" y="2643120"/>
            <a:ext cx="2286000" cy="3857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13" name="Picture 5" descr="https://im3-tub-ru.yandex.net/i?id=d81254e6e9ab293818215a0c812376dd-l&amp;n=13"/>
          <p:cNvPicPr/>
          <p:nvPr/>
        </p:nvPicPr>
        <p:blipFill>
          <a:blip r:embed="rId3"/>
          <a:srcRect l="1879" t="0" r="5942" b="0"/>
          <a:stretch/>
        </p:blipFill>
        <p:spPr>
          <a:xfrm>
            <a:off x="2928960" y="1571760"/>
            <a:ext cx="3500280" cy="4701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14" name="Rectangle 6"/>
          <p:cNvSpPr/>
          <p:nvPr/>
        </p:nvSpPr>
        <p:spPr>
          <a:xfrm>
            <a:off x="0" y="433080"/>
            <a:ext cx="835812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Calibri"/>
                <a:ea typeface="Times New Roman"/>
              </a:rPr>
              <a:t>У тех людей всегда лица хороши, кто в ладах с совестью сво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5000" spc="-1" strike="noStrike">
                <a:solidFill>
                  <a:srgbClr val="04617b"/>
                </a:solidFill>
                <a:latin typeface="Calibri"/>
              </a:rPr>
              <a:t>Булат Ша́лвович Окуджава</a:t>
            </a:r>
            <a:r>
              <a:rPr b="0" lang="vi-VN" sz="5000" spc="-1" strike="noStrike">
                <a:solidFill>
                  <a:srgbClr val="04617b"/>
                </a:solidFill>
                <a:latin typeface="Calibri"/>
              </a:rPr>
              <a:t> 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6" name="Содержимое 3" descr="http://poem4you.ru/images/classic/photos/122/3.jpg"/>
          <p:cNvPicPr/>
          <p:nvPr/>
        </p:nvPicPr>
        <p:blipFill>
          <a:blip r:embed="rId1"/>
          <a:stretch/>
        </p:blipFill>
        <p:spPr>
          <a:xfrm>
            <a:off x="4786200" y="2000160"/>
            <a:ext cx="4160880" cy="4389480"/>
          </a:xfrm>
          <a:prstGeom prst="rect">
            <a:avLst/>
          </a:prstGeom>
          <a:ln w="0">
            <a:noFill/>
          </a:ln>
        </p:spPr>
      </p:pic>
      <p:sp>
        <p:nvSpPr>
          <p:cNvPr id="217" name="TextBox 5"/>
          <p:cNvSpPr/>
          <p:nvPr/>
        </p:nvSpPr>
        <p:spPr>
          <a:xfrm>
            <a:off x="214200" y="1857240"/>
            <a:ext cx="47865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В нашей жизни, прекрасной и странной,</a:t>
            </a:r>
            <a:br>
              <a:rPr sz="1800"/>
            </a:b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и короткой, как росчерк пера,</a:t>
            </a:r>
            <a:br>
              <a:rPr sz="1800"/>
            </a:b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над дымящейся свежею раной призадуматься, право, пора.</a:t>
            </a:r>
            <a:br>
              <a:rPr sz="1800"/>
            </a:b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Призадуматься и присмотреться,</a:t>
            </a:r>
            <a:br>
              <a:rPr sz="1800"/>
            </a:b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поразмыслить, покуда живой,</a:t>
            </a:r>
            <a:br>
              <a:rPr sz="1800"/>
            </a:b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что там кроется в сумерках сердца,</a:t>
            </a:r>
            <a:br>
              <a:rPr sz="1800"/>
            </a:b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в самой черной его кладовой.</a:t>
            </a:r>
            <a:br>
              <a:rPr sz="1800"/>
            </a:b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Пусть твердят, что дела твои плохи,</a:t>
            </a:r>
            <a:br>
              <a:rPr sz="1800"/>
            </a:b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но пора научиться, пора</a:t>
            </a:r>
            <a:br>
              <a:rPr sz="1800"/>
            </a:b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не вымаливать жалкие крохи</a:t>
            </a:r>
            <a:br>
              <a:rPr sz="1800"/>
            </a:b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милосердия, правды, добра.</a:t>
            </a:r>
            <a:br>
              <a:rPr sz="1800"/>
            </a:b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Но пред ликом суровой эпохи,</a:t>
            </a:r>
            <a:br>
              <a:rPr sz="1800"/>
            </a:b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что по-своему тоже права,</a:t>
            </a:r>
            <a:br>
              <a:rPr sz="1800"/>
            </a:b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не выжуливать жалкие крохи,</a:t>
            </a:r>
            <a:br>
              <a:rPr sz="1800"/>
            </a:b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а творить,  засучив рука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3-06T16:46:28Z</dcterms:created>
  <dc:creator>Ирина Лоскутова</dc:creator>
  <dc:description/>
  <dc:language>en-US</dc:language>
  <cp:lastModifiedBy>Ирина Лоскутова</cp:lastModifiedBy>
  <dcterms:modified xsi:type="dcterms:W3CDTF">2017-03-20T16:54:35Z</dcterms:modified>
  <cp:revision>25</cp:revision>
  <dc:subject/>
  <dc:title>Александр Иванович Солженицын</dc:title>
</cp:coreProperties>
</file>