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C5B-08FB-4AB8-AA98-FC475853E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E50-5449-4899-ACD2-DD42C3B5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BE3-8672-4735-B1F5-C6ACAA35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642A-13B2-4EF5-871B-3507BA322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A9BC-C4F2-474C-912D-3132161A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3066-24D7-467B-AED9-14B24491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311-EC25-4CBC-95EE-63EE40ED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0A39-24F9-457F-A7C0-B666BCC0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B4D4-0FFB-4261-876E-BB58D155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B899-1B74-4614-BBA8-696793E3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8CF3-21FA-4718-BD13-9E36E595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3F0-B4E6-4568-AB6A-223E4E42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5A64-974B-44E5-8CDF-B9107432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52480" y="1295280"/>
            <a:ext cx="571500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Mother`s Day In 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Great Britain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724280" y="5943600"/>
            <a:ext cx="406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автор:Гармаш И.А.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3520" y="398520"/>
            <a:ext cx="82296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477120" y="41911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21207600">
            <a:off x="6840" y="2151000"/>
            <a:ext cx="91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нь матери в Великобритании празднуется ровно за три недели до Пасх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м году он приходится на 10 марта. Этот праздник похож на 8 Марта 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Англии король Генрих III (1216 – 1239) впервые провозгласи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теринский день в третье воскресенье мар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этот день запрещено было работа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ужно было обязательно посетить родителе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 в довольно раннем возрасте начинали работ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услужении в богатых семьях вдали от дома, а заработанные ими день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ли в семейный бюджет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 rot="721800">
            <a:off x="227880" y="3353400"/>
            <a:ext cx="7712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щаясь в родительский дом на 1 де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приносили матерям и бабушкам небольшие подарки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кетики цветов, свежие яйца...Но особенно праздничную атмосф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му дню придавал специальный торт, называем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"материнским тортом" или "симнель торт" (simnel cake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шенный 12 шариками марцип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диция украшать торт 12 шариками началась ещ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христианские времена, шарики символизируют 12 знаков зодиа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вание этого торта связано с латинским названием м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нкого помола (simila). Торт приносился в обмен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нское благослов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419720" y="228600"/>
            <a:ext cx="4314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13320" y="380880"/>
            <a:ext cx="6450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ти дарят цветы, открытки и другие подарки мам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здравить свою маму надо обязательн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в какой бы части света ни находились в этот д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чери и сыновья, они позвонят своим матеря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правят им открытку, письмо или электронное посла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60962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681200" y="3600"/>
            <a:ext cx="125982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 Марта в Англии не отмечают, разве что в интернациональных бра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 за три недели до Пасхи в Англии принято праздновать Mother’s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праздник своими традициями напоминает 8 М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о корни уходят в викторианскую эпоху, когда д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ранних лет трудились вдали от отчего дома, а средст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ботанные ими, пересылались в сем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один день в году детям позволялось провести под семейным кро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родителями. По традиции они вручали матерям и бабуш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ольшие подарки – букетики цветов или свежие яй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британские дети в этот день преподносят матерям цв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ыполняют за них работу по д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амом начале 17 столетия в Англии в четвертое воскресенье пос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чане стали отмечать Воскресенье матери (Mothering Sunday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был праздник всех матерей Англ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ере распространения христианства в Европ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воскресенье стало праздником Матери Церкви – духовной сил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ющей жизнь и защищающей ото з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 временем церковный праздник слился воедино с праздником светск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это было время богатых аристократов и огромных особняк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ая часть прислуги работала и жила в домах своих хозя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оскресенье матери все слуги получали выходн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и возвращались в свои семьи, чтобы провести этот день со своими матер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праздничному столу обязательно подавали в этот день традиционный тор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мый «материнский торт». В этот день навещали мате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иносили им в подарок такой торт в обмен на материнское благослов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в Англии День матери проходит достаточно тих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глийские дамы по заведенной традиции отдыхают, а их мужчины занимаются домашней работой и готовят уж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бычаю в этот день продают тот самый торт симнель (simnel cake), украшенный 12 шариками марцип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мужья дарят своим женам в этот день поход в ресто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вручают цветы, открытки и подарки мамам и бабушкам. Все как в других странах 8 мар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79320" y="235800"/>
            <a:ext cx="7785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Матери (Mother’s Day) отмечается во многих стран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чем выпадает совершенно на разные да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, в США эт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ое воскресенье ма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орвегии – второе воскресенье феврал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России – последнее воскресенье ноябр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еликобритании и Ирландии День Матери традицион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зднуется в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вертое воскресенье Великого по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есть приходится на самую его середину. В этом году это 15 мар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читается, что современная традиция Дня Матери зародилась в С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шлом году этот ставший общенациональ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Америке праздник официально отметил свое 100-ле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ако в Британии День Матери имеет свою особ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более древнюю историю. Изначально он был связ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ак называемым Материнским воскресень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Mothering Sunday) – серединой Великого пос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было принято посещать свою «материнскую» церков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ще всего ближайший к месту жительства крупный со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частую это делалось вместе с матерью и другими членами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ботникам и прислуге, особенно из числа молодеж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от день давался выходной, и для них это был о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немногих шансов в году воссоединиться со своей семь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3840" y="720"/>
            <a:ext cx="8235000" cy="283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ие рестораны и кафе предлагают специальные мен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этот день, поскольку дети часто приглашают мам на праздничный об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им из непременных атрибутов Дня Мате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единенном Королевстве до сих пор явля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рципановый торт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simnel cak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Обычно он состоит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х коржей с цукатами, покрыт марципановой глазур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крашен двенадцатью марципановыми шариками, которы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 считается, символизируют двенадцать апосто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6096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7T12:57:30Z</dcterms:created>
  <dc:creator>саня</dc:creator>
  <dc:description/>
  <dc:language>en-US</dc:language>
  <cp:lastModifiedBy>саня</cp:lastModifiedBy>
  <dcterms:modified xsi:type="dcterms:W3CDTF">2017-09-27T13:04:4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