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1F8-98F1-4483-B8A2-C80CD1E1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A86-673A-443B-9746-1CF85C6E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8F5-BEFF-4BCD-87D0-6D3A8D83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54F-B621-4661-87AD-5CD91EFB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D18-0786-434A-AC2E-699029E7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647-8D48-4CE5-A12D-31F0651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892-2246-4A69-A5BF-D6B0FA77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766-298A-4901-B1C3-F848315C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0C3-EF43-4994-8B47-560309BE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0E1-2EC7-4449-B7E1-7B902963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226-E215-499E-B2EA-079518A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F11-A990-47CE-86CB-4E88FEAE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D954-C362-4552-B23B-44779B1E8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295280"/>
            <a:ext cx="57150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Mother`s Day In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Great Britain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724280" y="5943600"/>
            <a:ext cx="406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автор:Гармаш И.А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98520"/>
            <a:ext cx="82296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21207600">
            <a:off x="6840" y="2151000"/>
            <a:ext cx="91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ь матери в Великобритании празднуется ровно за три недели до Пас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м году он приходится на 10 марта. Этот праздник похож на 8 Марта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нглии король Генрих III (1216 – 1239) впервые провозглас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нский день в третье воскресенье ма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т день запрещено было работ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ужно было обязательно посетить родите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в довольно раннем возрасте начинали 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услужении в богатых семьях вдали от дома, а заработанные ими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ли в семейный бюдже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721800">
            <a:off x="227880" y="3353400"/>
            <a:ext cx="7712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щаясь в родительский дом на 1 де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приносили матерям и бабушкам небольшие подарки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етики цветов, свежие яйца...Но особенно праздничную атмосф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му дню придавал специальный торт, называе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материнским тортом" или "симнель торт" (simnel cak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енный 12 шариками марцип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я украшать торт 12 шариками началась ещ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христианские времена, шарики символизируют 12 знаков зоди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этого торта связано с латинским названием м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ого помола (simila). Торт приносился в обмен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нское благослов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3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3320" y="380880"/>
            <a:ext cx="645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дарят цветы, открытки и другие подарки мам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дравить свою маму надо обязатель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 какой бы части света ни находились в этот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чери и сыновья, они позвонят своим матеря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правят им открытку, письмо или электронное посл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681200" y="3600"/>
            <a:ext cx="125982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Марта в Англии не отмечают, разве что в интернациональных бра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за три недели до Пасхи в Англии принято праздновать Mother’s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своими традициями напоминает 8 М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корни уходят в викторианскую эпоху, когда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нних лет трудились вдали от отчего дома, а сред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анные ими, пересылались в сем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один день в году детям позволялось провести под семейным кр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родителями. По традиции они вручали матерям и бабу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ольшие подарки – букетики цветов или свежие яй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британские дети в этот день преподносят матерям цв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яют за них работу по д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мом начале 17 столетия в Англии в четвертое воскресенье по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чане стали отмечать Воскресенье матери (Mothering Sunda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был праздник всех матерей Анг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ре распространения христианства в Европ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оскресенье стало праздником Матери Церкви – духовной си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ющей жизнь и защищающей ото з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временем церковный праздник слился воедино с праздником светск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это было время богатых аристократов и огромных особня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часть прислуги работала и жила в домах своих хозя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скресенье матери все слуги получали выход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возвращались в свои семьи, чтобы провести этот день со своими матер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раздничному столу обязательно подавали в этот день традиционный тор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мый «материнский торт». В этот день навещали мат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иносили им в подарок такой торт в обмен на материнское благослов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в Англии День матери проходит достаточно тих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ие дамы по заведенной традиции отдыхают, а их мужчины занимаются домашней работой и готовят уж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бычаю в этот день продают тот самый торт симнель (simnel cake), украшенный 12 шариками марцип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мужья дарят своим женам в этот день поход в ресто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вручают цветы, открытки и подарки мамам и бабушкам. Все как в других странах 8 м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79320" y="235800"/>
            <a:ext cx="7785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Матери (Mother’s Day) отмечается во многих стран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ем выпадает совершенно на разные д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в США э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е воскресенье м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орвегии – второе воскресенье февра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России – последнее воскресенье нояб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еликобритании и Ирландии День Матери традицио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уется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вертое воскресенье Великого п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есть приходится на самую его середину. В этом году это 15 мар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ся, что современная традиция Дня Матери зародилась в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шлом году этот ставший общенациональ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мерике праздник официально отметил свое 100-ле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в Британии День Матери имеет свою особ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олее древнюю историю. Изначально он был связ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ак называемым Материнским воскресен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Mothering Sunday) – серединой Великого п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было принято посещать свою «материнскую»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е всего ближайший к месту жительства крупны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астую это делалось вместе с матерью и другими членами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кам и прислуге, особенно из числа молод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от день давался выходной, и для них это был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емногих шансов в году воссоединиться со своей сем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3840" y="720"/>
            <a:ext cx="8235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рестораны и кафе предлагают специальные мен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от день, поскольку дети часто приглашают мам на праздничный об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непременных атрибутов Дня Мате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единенном Королевстве до сих пор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ципановый тор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imnel cak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Обычно он состоит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х коржей с цукатами, покрыт марципановой глазур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крашен двенадцатью марципановыми шариками, котор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читается, символизируют двенадцать апост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12:57:30Z</dcterms:created>
  <dc:creator>саня</dc:creator>
  <dc:description/>
  <dc:language>en-US</dc:language>
  <cp:lastModifiedBy>саня</cp:lastModifiedBy>
  <dcterms:modified xsi:type="dcterms:W3CDTF">2017-09-27T13:04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