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A73-A1B4-483C-A60D-AD631088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B2F-CCDE-4CA6-8259-3EF4BE22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DE9-02B5-4C30-BDEE-612289D6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58D-809C-4531-B17B-604A06B1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3B1-FD2B-4E62-93EA-46DE65C6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A76-CDCC-4B84-88AE-B5A64BE3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252-F1A9-4E81-A4DC-0D8747D4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29F-9BEB-4860-977C-99B0E4EC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A1F-0089-44B3-B4D1-E3648AE7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280-1C1A-46B5-A686-2D042A4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C5B-6141-4E46-B3E9-7092C053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568-3747-4A6B-9329-9A0DAF76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47B4-43C9-4E54-A1B4-518D9C1776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-176040" y="560520"/>
            <a:ext cx="9685080" cy="4213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000080" y="4071960"/>
            <a:ext cx="714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214200" y="357120"/>
            <a:ext cx="500076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988 год – принятие Христианства на Рус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необходимость в распространении кни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владимир.jpg"/>
          <p:cNvPicPr/>
          <p:nvPr/>
        </p:nvPicPr>
        <p:blipFill>
          <a:blip r:embed="rId1"/>
          <a:stretch/>
        </p:blipFill>
        <p:spPr>
          <a:xfrm>
            <a:off x="5500800" y="428760"/>
            <a:ext cx="3071880" cy="450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5715000" y="521496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нязь киевский Владимир Свято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2214720" y="0"/>
            <a:ext cx="5715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Рукописные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19"/>
          <p:cNvPicPr/>
          <p:nvPr/>
        </p:nvPicPr>
        <p:blipFill>
          <a:blip r:embed="rId1"/>
          <a:stretch/>
        </p:blipFill>
        <p:spPr>
          <a:xfrm>
            <a:off x="4929120" y="857160"/>
            <a:ext cx="4038840" cy="2898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1785960" y="8571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исали на пергам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елали деревянные переплеты, обтянутые ко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Книги стоили очень д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Хранились в монастыр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апостол.jpg"/>
          <p:cNvPicPr/>
          <p:nvPr/>
        </p:nvPicPr>
        <p:blipFill>
          <a:blip r:embed="rId2"/>
          <a:stretch/>
        </p:blipFill>
        <p:spPr>
          <a:xfrm>
            <a:off x="6500880" y="4071960"/>
            <a:ext cx="2346120" cy="2500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апост.jpg"/>
          <p:cNvPicPr/>
          <p:nvPr/>
        </p:nvPicPr>
        <p:blipFill>
          <a:blip r:embed="rId3"/>
          <a:stretch/>
        </p:blipFill>
        <p:spPr>
          <a:xfrm>
            <a:off x="428760" y="2571840"/>
            <a:ext cx="3500280" cy="4000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рук.jpg"/>
          <p:cNvPicPr/>
          <p:nvPr/>
        </p:nvPicPr>
        <p:blipFill>
          <a:blip r:embed="rId4"/>
          <a:stretch/>
        </p:blipFill>
        <p:spPr>
          <a:xfrm>
            <a:off x="214200" y="214200"/>
            <a:ext cx="150048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рук2.jpg"/>
          <p:cNvPicPr/>
          <p:nvPr/>
        </p:nvPicPr>
        <p:blipFill>
          <a:blip r:embed="rId5"/>
          <a:stretch/>
        </p:blipFill>
        <p:spPr>
          <a:xfrm>
            <a:off x="4143240" y="3929040"/>
            <a:ext cx="2143440" cy="257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хема 1" descr=""/>
          <p:cNvPicPr/>
          <p:nvPr/>
        </p:nvPicPr>
        <p:blipFill>
          <a:blip r:embed="rId1"/>
          <a:stretch/>
        </p:blipFill>
        <p:spPr>
          <a:xfrm>
            <a:off x="255600" y="-171360"/>
            <a:ext cx="8723160" cy="4157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book_1.gif"/>
          <p:cNvPicPr/>
          <p:nvPr/>
        </p:nvPicPr>
        <p:blipFill>
          <a:blip r:embed="rId2"/>
          <a:stretch/>
        </p:blipFill>
        <p:spPr>
          <a:xfrm>
            <a:off x="539640" y="3860640"/>
            <a:ext cx="3619440" cy="2505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печ2.bmp"/>
          <p:cNvPicPr/>
          <p:nvPr/>
        </p:nvPicPr>
        <p:blipFill>
          <a:blip r:embed="rId3"/>
          <a:stretch/>
        </p:blipFill>
        <p:spPr>
          <a:xfrm>
            <a:off x="4572000" y="4000680"/>
            <a:ext cx="39290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85840" y="428760"/>
            <a:ext cx="84294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Calibri"/>
              </a:rPr>
              <a:t>Жанры древнерусской литературы</a:t>
            </a:r>
            <a:r>
              <a:rPr b="0" lang="ru-RU" sz="6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ет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хожд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сла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-390600"/>
            <a:ext cx="8089920" cy="2133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14200" y="1500120"/>
            <a:ext cx="8572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середин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I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к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овествование в них велось по годам в хронологической последова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«лето»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обозначало не только сезон года, но и сам г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«В лето…»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начало каждой новой записи в летопис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нестор.jpg"/>
          <p:cNvPicPr/>
          <p:nvPr/>
        </p:nvPicPr>
        <p:blipFill>
          <a:blip r:embed="rId2"/>
          <a:stretch/>
        </p:blipFill>
        <p:spPr>
          <a:xfrm>
            <a:off x="285840" y="142920"/>
            <a:ext cx="4214880" cy="5429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пвл2.jpg"/>
          <p:cNvPicPr/>
          <p:nvPr/>
        </p:nvPicPr>
        <p:blipFill>
          <a:blip r:embed="rId3"/>
          <a:stretch/>
        </p:blipFill>
        <p:spPr>
          <a:xfrm>
            <a:off x="4714920" y="2357280"/>
            <a:ext cx="4000320" cy="4214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00040" y="56437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начало </a:t>
            </a: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XII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монах Нес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643280" y="428760"/>
            <a:ext cx="42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Calibri"/>
              </a:rPr>
              <a:t>«Повесть временных ле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695160" y="281160"/>
            <a:ext cx="796140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5143680" y="1428840"/>
            <a:ext cx="3786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отивы «Повести…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дения о происхождении слав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исание территории Русской земли, о населявших её  в древности племенах и их обыча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каз об основании Киева и первых русских князь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вование о принятии Христианства на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каз о коварстве Святополка (сына Владимира) и о мудром княжении Ярослава Муд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357120" y="5500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«Се Повесть временных лет, откуда есть пошла Русская земля, кто в Киеве начал первый княжити, и откуда Русская земля стала ест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5" descr="5f4ccebe47b4.jpg"/>
          <p:cNvPicPr/>
          <p:nvPr/>
        </p:nvPicPr>
        <p:blipFill>
          <a:blip r:embed="rId3"/>
          <a:stretch/>
        </p:blipFill>
        <p:spPr>
          <a:xfrm>
            <a:off x="785880" y="1500120"/>
            <a:ext cx="3429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7:48:14Z</dcterms:created>
  <dc:creator>елена</dc:creator>
  <dc:description/>
  <dc:language>en-US</dc:language>
  <cp:lastModifiedBy>шш</cp:lastModifiedBy>
  <dcterms:modified xsi:type="dcterms:W3CDTF">2017-09-26T07:20:47Z</dcterms:modified>
  <cp:revision>19</cp:revision>
  <dc:subject/>
  <dc:title>Слайд 1</dc:title>
</cp:coreProperties>
</file>