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FBC-D652-4ADC-A2A6-D6BFFF52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5E93-4E02-44C2-856B-B777BD8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0BD-CF64-4A95-8F5B-A1FE6B13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A36-5E33-4587-9558-2822F65C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DDB-5AD0-4C23-AAEB-CDFF38B0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133B-5117-43B5-BA3F-C1BFB907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98B-F3C9-4043-9209-98908D930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CC46-71EE-44B1-8831-D4D8D959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75D-FA3C-41CB-94CC-52AA5766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F975-9D59-41FB-83C5-B131A1B0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78F-ABC2-439E-BBBC-DB03380D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58B9-FCA9-435C-AE7E-FD4987ED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1A05-3285-408F-8F44-9F38429293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-176040" y="560520"/>
            <a:ext cx="9685080" cy="4213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000080" y="407196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214200" y="357120"/>
            <a:ext cx="500076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988 год – принятие Христианства на Рус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alibri"/>
              </a:rPr>
              <a:t>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необходимость в распространении кни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владимир.jpg"/>
          <p:cNvPicPr/>
          <p:nvPr/>
        </p:nvPicPr>
        <p:blipFill>
          <a:blip r:embed="rId1"/>
          <a:stretch/>
        </p:blipFill>
        <p:spPr>
          <a:xfrm>
            <a:off x="5500800" y="428760"/>
            <a:ext cx="3071880" cy="450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5715000" y="5214960"/>
            <a:ext cx="278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нязь киевский Владимир Святослав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2214720" y="0"/>
            <a:ext cx="57150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Рукописные книг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19"/>
          <p:cNvPicPr/>
          <p:nvPr/>
        </p:nvPicPr>
        <p:blipFill>
          <a:blip r:embed="rId1"/>
          <a:stretch/>
        </p:blipFill>
        <p:spPr>
          <a:xfrm>
            <a:off x="4929120" y="857160"/>
            <a:ext cx="4038840" cy="28987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3"/>
          <p:cNvSpPr/>
          <p:nvPr/>
        </p:nvSpPr>
        <p:spPr>
          <a:xfrm>
            <a:off x="1785960" y="857160"/>
            <a:ext cx="32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Писали на пергамен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елали деревянные переплеты, обтянутые кож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Книги стоили очень до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Хранились в монастыр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апостол.jpg"/>
          <p:cNvPicPr/>
          <p:nvPr/>
        </p:nvPicPr>
        <p:blipFill>
          <a:blip r:embed="rId2"/>
          <a:stretch/>
        </p:blipFill>
        <p:spPr>
          <a:xfrm>
            <a:off x="6500880" y="4071960"/>
            <a:ext cx="2346120" cy="25002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апост.jpg"/>
          <p:cNvPicPr/>
          <p:nvPr/>
        </p:nvPicPr>
        <p:blipFill>
          <a:blip r:embed="rId3"/>
          <a:stretch/>
        </p:blipFill>
        <p:spPr>
          <a:xfrm>
            <a:off x="428760" y="2571840"/>
            <a:ext cx="3500280" cy="40003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рук.jpg"/>
          <p:cNvPicPr/>
          <p:nvPr/>
        </p:nvPicPr>
        <p:blipFill>
          <a:blip r:embed="rId4"/>
          <a:stretch/>
        </p:blipFill>
        <p:spPr>
          <a:xfrm>
            <a:off x="214200" y="214200"/>
            <a:ext cx="1500480" cy="20718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7" descr="рук2.jpg"/>
          <p:cNvPicPr/>
          <p:nvPr/>
        </p:nvPicPr>
        <p:blipFill>
          <a:blip r:embed="rId5"/>
          <a:stretch/>
        </p:blipFill>
        <p:spPr>
          <a:xfrm>
            <a:off x="4143240" y="3929040"/>
            <a:ext cx="2143440" cy="2571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хема 1" descr=""/>
          <p:cNvPicPr/>
          <p:nvPr/>
        </p:nvPicPr>
        <p:blipFill>
          <a:blip r:embed="rId1"/>
          <a:stretch/>
        </p:blipFill>
        <p:spPr>
          <a:xfrm>
            <a:off x="255600" y="-171360"/>
            <a:ext cx="8723160" cy="4157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book_1.gif"/>
          <p:cNvPicPr/>
          <p:nvPr/>
        </p:nvPicPr>
        <p:blipFill>
          <a:blip r:embed="rId2"/>
          <a:stretch/>
        </p:blipFill>
        <p:spPr>
          <a:xfrm>
            <a:off x="539640" y="3860640"/>
            <a:ext cx="3619440" cy="250524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печ2.bmp"/>
          <p:cNvPicPr/>
          <p:nvPr/>
        </p:nvPicPr>
        <p:blipFill>
          <a:blip r:embed="rId3"/>
          <a:stretch/>
        </p:blipFill>
        <p:spPr>
          <a:xfrm>
            <a:off x="4572000" y="4000680"/>
            <a:ext cx="392904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1"/>
          <p:cNvSpPr/>
          <p:nvPr/>
        </p:nvSpPr>
        <p:spPr>
          <a:xfrm>
            <a:off x="285840" y="428760"/>
            <a:ext cx="84294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3300"/>
                </a:solidFill>
                <a:latin typeface="Calibri"/>
              </a:rPr>
              <a:t>Жанры древнерусской литературы</a:t>
            </a:r>
            <a:r>
              <a:rPr b="0" lang="ru-RU" sz="6000" spc="-1" strike="noStrike">
                <a:solidFill>
                  <a:srgbClr val="ff33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лет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хожд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уч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послани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Прямоугольник 1" descr=""/>
          <p:cNvPicPr/>
          <p:nvPr/>
        </p:nvPicPr>
        <p:blipFill>
          <a:blip r:embed="rId1"/>
          <a:stretch/>
        </p:blipFill>
        <p:spPr>
          <a:xfrm>
            <a:off x="633240" y="-390600"/>
            <a:ext cx="8089920" cy="2133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214200" y="1500120"/>
            <a:ext cx="8572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середина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I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повествование в них велось по годам в хронологической последова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лето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обозначало не только сезон года, но и сам г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Calibri"/>
              </a:rPr>
              <a:t>«В лето…»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начало каждой новой записи в летопис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нестор.jpg"/>
          <p:cNvPicPr/>
          <p:nvPr/>
        </p:nvPicPr>
        <p:blipFill>
          <a:blip r:embed="rId2"/>
          <a:stretch/>
        </p:blipFill>
        <p:spPr>
          <a:xfrm>
            <a:off x="285840" y="142920"/>
            <a:ext cx="4214880" cy="54291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пвл2.jpg"/>
          <p:cNvPicPr/>
          <p:nvPr/>
        </p:nvPicPr>
        <p:blipFill>
          <a:blip r:embed="rId3"/>
          <a:stretch/>
        </p:blipFill>
        <p:spPr>
          <a:xfrm>
            <a:off x="4714920" y="2357280"/>
            <a:ext cx="4000320" cy="4214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500040" y="5643720"/>
            <a:ext cx="371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начало </a:t>
            </a: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XII </a:t>
            </a: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Calibri"/>
              </a:rPr>
              <a:t>монах Нес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4643280" y="428760"/>
            <a:ext cx="428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Calibri"/>
              </a:rPr>
              <a:t>«Повесть временных ле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3" descr=""/>
          <p:cNvPicPr/>
          <p:nvPr/>
        </p:nvPicPr>
        <p:blipFill>
          <a:blip r:embed="rId2"/>
          <a:stretch/>
        </p:blipFill>
        <p:spPr>
          <a:xfrm>
            <a:off x="695160" y="281160"/>
            <a:ext cx="7961400" cy="1150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143680" y="1428840"/>
            <a:ext cx="37861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отивы «Повести…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дения о происхождении славя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исание территории Русской земли, о населявших её  в древности племенах и их обыча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каз об основании Киева и первых русских князь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ествование о принятии Христианства на Ру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ссказ о коварстве Святополка (сына Владимира) и о мудром княжении Ярослава Мудр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357120" y="5500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«Се Повесть временных лет, откуда есть пошла Русская земля, кто в Киеве начал первый княжити, и откуда Русская земля стала есть…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5" descr="5f4ccebe47b4.jpg"/>
          <p:cNvPicPr/>
          <p:nvPr/>
        </p:nvPicPr>
        <p:blipFill>
          <a:blip r:embed="rId3"/>
          <a:stretch/>
        </p:blipFill>
        <p:spPr>
          <a:xfrm>
            <a:off x="785880" y="1500120"/>
            <a:ext cx="34290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07:48:14Z</dcterms:created>
  <dc:creator>елена</dc:creator>
  <dc:description/>
  <dc:language>en-US</dc:language>
  <cp:lastModifiedBy>шш</cp:lastModifiedBy>
  <dcterms:modified xsi:type="dcterms:W3CDTF">2017-09-26T07:20:47Z</dcterms:modified>
  <cp:revision>19</cp:revision>
  <dc:subject/>
  <dc:title>Слайд 1</dc:title>
</cp:coreProperties>
</file>