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056D-6B60-420A-B4F0-4E8CC3888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592-0A48-49F1-8404-E72C47EB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1DD5-49F4-4907-A06A-4F19C9FE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8CF-22ED-40C3-B2C1-41A864AC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2E4D2-7520-4DFB-B1D9-3DF9930E0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9A84-AD69-437C-8FE7-3F631498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F6B7-8312-4F4B-9426-8CF58C72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486A9-BFFA-4A32-B3EF-0D1A2E3B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F555-8A56-455A-BB84-983D1B67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CD1A-80A9-409A-A4D2-A64C8D9E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BC93-332E-423A-A1A4-C2AFAF45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3A69-3757-4D22-897D-BFBEE996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FA07-C224-4860-986E-B7C735A0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F256-A118-456A-8414-52EAD624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DAFE-C332-4228-A6C5-EC63B127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759F-BD01-4F73-B273-E6EA443BF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8C0C-7209-4EB4-8367-A67F0DC7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8E5-82B4-46FD-B348-40CB2C52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8D4-7B08-4CD2-B3A8-E80BFA33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42B-85A2-4359-9ABA-3CB13D12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57D2-9B36-4A1F-A29E-F3891BC7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04E-3092-4085-86F4-8B1CBBF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279-F656-433F-9F61-C21C0190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F93B-0B85-44F3-97CB-3132B664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589D-55FB-4C79-B6D6-9DE4B2ABDB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3FB6-887B-4253-B464-47D3237179A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b9efee"/>
                </a:solidFill>
                <a:latin typeface="Garamond"/>
              </a:rPr>
              <a:t>THE OLYMPICS GAMES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греция1"/>
          <p:cNvPicPr/>
          <p:nvPr/>
        </p:nvPicPr>
        <p:blipFill>
          <a:blip r:embed="rId1"/>
          <a:stretch/>
        </p:blipFill>
        <p:spPr>
          <a:xfrm>
            <a:off x="990720" y="2133720"/>
            <a:ext cx="7153200" cy="4294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In the beginning of the 19</a:t>
            </a:r>
            <a:r>
              <a:rPr b="1" lang="en-US" sz="3600" spc="-1" strike="noStrike" baseline="30000">
                <a:solidFill>
                  <a:srgbClr val="b9efee"/>
                </a:solidFill>
                <a:latin typeface="Garamond"/>
              </a:rPr>
              <a:t>th</a:t>
            </a:r>
            <a:r>
              <a:rPr b="1" lang="en-US" sz="3600" spc="-1" strike="noStrike">
                <a:solidFill>
                  <a:srgbClr val="b9efee"/>
                </a:solidFill>
                <a:latin typeface="Garamond"/>
              </a:rPr>
              <a:t> century (776) BC the Greeks began to hold large sporting.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8" name="Picture 5" descr="греция"/>
          <p:cNvPicPr/>
          <p:nvPr/>
        </p:nvPicPr>
        <p:blipFill>
          <a:blip r:embed="rId1"/>
          <a:stretch/>
        </p:blipFill>
        <p:spPr>
          <a:xfrm>
            <a:off x="1523880" y="2438280"/>
            <a:ext cx="6172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y are called the Olympic Games or the Olympic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0" name="Picture 5" descr="греция6"/>
          <p:cNvPicPr/>
          <p:nvPr/>
        </p:nvPicPr>
        <p:blipFill>
          <a:blip r:embed="rId1"/>
          <a:stretch/>
        </p:blipFill>
        <p:spPr>
          <a:xfrm>
            <a:off x="990720" y="2286000"/>
            <a:ext cx="708660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cording to the legend Heracles founded the Olympics Games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Picture 5" descr="uthfrk"/>
          <p:cNvPicPr/>
          <p:nvPr/>
        </p:nvPicPr>
        <p:blipFill>
          <a:blip r:embed="rId1"/>
          <a:stretch/>
        </p:blipFill>
        <p:spPr>
          <a:xfrm>
            <a:off x="1447920" y="2590920"/>
            <a:ext cx="609588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During the Olympic Games in Greece was declared a sacred truce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4" name="Picture 5" descr=",fl;gmd"/>
          <p:cNvPicPr/>
          <p:nvPr/>
        </p:nvPicPr>
        <p:blipFill>
          <a:blip r:embed="rId1"/>
          <a:stretch/>
        </p:blipFill>
        <p:spPr>
          <a:xfrm>
            <a:off x="1523880" y="1752480"/>
            <a:ext cx="6013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Participants of Olympic Games competed in 15 sports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6" name="Picture 5" descr="греция3"/>
          <p:cNvPicPr/>
          <p:nvPr/>
        </p:nvPicPr>
        <p:blipFill>
          <a:blip r:embed="rId1"/>
          <a:stretch/>
        </p:blipFill>
        <p:spPr>
          <a:xfrm>
            <a:off x="1600200" y="1752480"/>
            <a:ext cx="624852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first winner was Koreb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8" name="Picture 5" descr="kfkjdf"/>
          <p:cNvPicPr/>
          <p:nvPr/>
        </p:nvPicPr>
        <p:blipFill>
          <a:blip r:embed="rId1"/>
          <a:stretch/>
        </p:blipFill>
        <p:spPr>
          <a:xfrm>
            <a:off x="2743200" y="1523880"/>
            <a:ext cx="3844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The winning athletes were crowned with an olive branch or a Laurel wreath.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0" name="Picture 5" descr="греция10"/>
          <p:cNvPicPr/>
          <p:nvPr/>
        </p:nvPicPr>
        <p:blipFill>
          <a:blip r:embed="rId1"/>
          <a:stretch/>
        </p:blipFill>
        <p:spPr>
          <a:xfrm>
            <a:off x="1828800" y="2133720"/>
            <a:ext cx="5410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END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17-09-27T06:41:31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