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744-F70C-43BA-8B3C-AEB3F18A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FB2-5912-427C-906D-73F0E763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006-5324-4BBE-872F-1A9B0484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146-78DD-4C85-82A5-725B2CC5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E3D5-8DCB-495D-A9DD-14B4305C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65A3-C036-4EAC-BB90-6C6617DB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7D4D-5D32-4F70-90DF-F65666F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ED63-AE16-4D1A-AD9A-93BEC43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25F6-0CDE-45C7-BB56-47F634C3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1A4D-FC36-4E84-A131-961B9D8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FAA5-248F-425B-9B3B-897416A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604-467E-4833-9E74-3F45AAB6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B876-E126-4258-B74A-05ED2C28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011E-8BAB-491A-A603-C832B16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0FDD-8C90-4298-B77C-7985EE3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FA4E-01D4-4CCF-BB69-09F79491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E8A-A7DA-4EC2-B7D1-0304A3BB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1C1-22EF-4DD0-90DF-D47F848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055-C05C-4624-8404-460F2548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58D-C1C5-4319-ABA2-33BE0D92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DE8-4782-4D85-B32B-01CB5427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354-9E88-4D2E-9601-84E9E63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437-3A8D-41EE-B49C-88D44794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2A0-A359-4237-8E2F-29CA905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869-BE59-4875-9838-115FB7BDA2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B71E-7775-4B3F-A3DB-F587905A62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9efee"/>
                </a:solidFill>
                <a:latin typeface="Garamond"/>
              </a:rPr>
              <a:t>THE OLYMPICS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греция1"/>
          <p:cNvPicPr/>
          <p:nvPr/>
        </p:nvPicPr>
        <p:blipFill>
          <a:blip r:embed="rId1"/>
          <a:stretch/>
        </p:blipFill>
        <p:spPr>
          <a:xfrm>
            <a:off x="990720" y="2133720"/>
            <a:ext cx="7153200" cy="429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n the beginning of the 19</a:t>
            </a:r>
            <a:r>
              <a:rPr b="1" lang="en-US" sz="3600" spc="-1" strike="noStrike" baseline="30000">
                <a:solidFill>
                  <a:srgbClr val="b9efee"/>
                </a:solidFill>
                <a:latin typeface="Garamond"/>
              </a:rPr>
              <a:t>th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century (776) BC the Greeks began to hold large sporting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Picture 5" descr="греция"/>
          <p:cNvPicPr/>
          <p:nvPr/>
        </p:nvPicPr>
        <p:blipFill>
          <a:blip r:embed="rId1"/>
          <a:stretch/>
        </p:blipFill>
        <p:spPr>
          <a:xfrm>
            <a:off x="1523880" y="2438280"/>
            <a:ext cx="6172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y are called the Olympic Games or the Olympic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0" name="Picture 5" descr="греция6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cording to the legend Heracles founded the Olympics Games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5" descr="uthfrk"/>
          <p:cNvPicPr/>
          <p:nvPr/>
        </p:nvPicPr>
        <p:blipFill>
          <a:blip r:embed="rId1"/>
          <a:stretch/>
        </p:blipFill>
        <p:spPr>
          <a:xfrm>
            <a:off x="1447920" y="2590920"/>
            <a:ext cx="60958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uring the Olympic Games in Greece was declared a sacred truce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Picture 5" descr=",fl;gmd"/>
          <p:cNvPicPr/>
          <p:nvPr/>
        </p:nvPicPr>
        <p:blipFill>
          <a:blip r:embed="rId1"/>
          <a:stretch/>
        </p:blipFill>
        <p:spPr>
          <a:xfrm>
            <a:off x="1523880" y="1752480"/>
            <a:ext cx="6013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rticipants of Olympic Games competed in 15 sport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Picture 5" descr="греция3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first winner was Koreb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5" descr="kfkjdf"/>
          <p:cNvPicPr/>
          <p:nvPr/>
        </p:nvPicPr>
        <p:blipFill>
          <a:blip r:embed="rId1"/>
          <a:stretch/>
        </p:blipFill>
        <p:spPr>
          <a:xfrm>
            <a:off x="2743200" y="1523880"/>
            <a:ext cx="384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e winning athletes were crowned with an olive branch or a Laurel wreath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Picture 5" descr="греция10"/>
          <p:cNvPicPr/>
          <p:nvPr/>
        </p:nvPicPr>
        <p:blipFill>
          <a:blip r:embed="rId1"/>
          <a:stretch/>
        </p:blipFill>
        <p:spPr>
          <a:xfrm>
            <a:off x="1828800" y="2133720"/>
            <a:ext cx="5410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EN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9-27T06:41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