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.jpeg" ContentType="image/jpeg"/>
  <Override PartName="/ppt/media/image14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42FCD-DCCB-4B3E-8664-6DF99331F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71DE-93F7-4754-99ED-09826794D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5A4-C685-4F5E-AD22-9427A5040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A10-D3F0-4E17-BDE6-091A5F0C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2202-CC37-4E3B-A5C5-0D2281FF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2B0-8D44-41B3-91E9-BB167186B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5769-7949-4861-BF78-09D16C7C9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B066-78C9-4E4D-B14C-81CE3317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4F6B-FD83-44B4-B7A8-4247423D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5A3A-97B3-41F2-89AD-EC4E43BC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376A-B9AA-427D-9961-FF959A42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ED52-D7DB-4A77-A8E9-9B08344A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9694-CD79-4501-A66B-251505B9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AD61-A8DB-4EA0-B6DD-4BE0C2FA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4D158-8EC6-4643-8F3B-05B8C140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5BD0-3C24-490B-8631-EE6F1A00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1FA5-BE91-48BA-BB1E-5006D25B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2881-B55C-4851-9152-947D54DA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2303-EB17-440A-AB15-DECE7860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D7E-80B7-46FD-BA6F-4D3CC634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9ADE-B981-4865-BFBC-8822AFFBB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8F80-6AE3-4408-A4EE-B3B7715A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21A9-2240-4456-9198-8C20FF2C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7B3-81C5-44DE-8F66-B150CC2B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050-1C69-48FA-BBBF-75654E68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8B86-645E-4238-9DEB-6B51B06B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0CD8-7486-4A4B-804B-CC6153EEF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63A6-C76D-4B63-BF56-A173516F9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14320" y="1339560"/>
            <a:ext cx="74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ahoma"/>
              </a:rPr>
              <a:t>Главные и второстепенные члены предложения.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009960" y="2889360"/>
            <a:ext cx="524808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рок русского языка в третьем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537160" y="4927680"/>
            <a:ext cx="3301920" cy="12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дготовила: учитель начальных классов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РКОВА РУЗАЛИЯ РАФИКОВНА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Tahoma"/>
              </a:rPr>
              <a:t>Остановка «Лесная»</a:t>
            </a:r>
            <a:endParaRPr b="1" lang="en-US" sz="44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63560" y="145908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1.Ежи шуршал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 лесу весёлые ежи шуршали сухими листь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1.Что в них общего? Чем они различ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ленов предложени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ы узна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о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их ежах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дёт речь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м они шурш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ое из этих предложений можно назвать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распространённ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какое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пространённы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27280" y="584280"/>
            <a:ext cx="70358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Остановка  «ВНИМАНИЕ»!!!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Чтобы определить второстепенные члены предложения, надо: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65080" y="166212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мматическую основ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едло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 которому можн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подлежаще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лово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 которому можн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опрос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сказуем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Sun_alley-we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807240" y="4457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52122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0640" y="1519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Остановка «Книжная»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Уч. стр. 27 –рассмотри схему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268360" y="1171440"/>
            <a:ext cx="5150160" cy="520092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2"/>
          <a:stretch/>
        </p:blipFill>
        <p:spPr>
          <a:xfrm>
            <a:off x="1776240" y="547560"/>
            <a:ext cx="6232680" cy="4897440"/>
          </a:xfrm>
          <a:prstGeom prst="rect">
            <a:avLst/>
          </a:prstGeom>
          <a:ln w="28440">
            <a:solidFill>
              <a:srgbClr val="990000"/>
            </a:solidFill>
            <a:miter/>
          </a:ln>
        </p:spPr>
      </p:pic>
    </p:spTree>
  </p:cSld>
  <p:transition>
    <p:fade thruBlk="true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Продолжи фразу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Сегодня на уроке я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Сегодня на уроке мне понравилось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Сегодня на уроке был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1111-1_1"/>
          <p:cNvPicPr/>
          <p:nvPr/>
        </p:nvPicPr>
        <p:blipFill>
          <a:blip r:embed="rId1"/>
          <a:stretch/>
        </p:blipFill>
        <p:spPr>
          <a:xfrm>
            <a:off x="3835440" y="3314880"/>
            <a:ext cx="2679840" cy="2679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2"/>
          <p:cNvSpPr txBox="1"/>
          <p:nvPr/>
        </p:nvSpPr>
        <p:spPr>
          <a:xfrm>
            <a:off x="1763640" y="404640"/>
            <a:ext cx="5472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есенка знаний</a:t>
            </a:r>
            <a:endParaRPr b="0" i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5653080" y="429264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7667640" y="3284640"/>
            <a:ext cx="1476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6661080" y="3789360"/>
            <a:ext cx="1008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V="1">
            <a:off x="5653080" y="429264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6661080" y="378936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7669080" y="3284640"/>
            <a:ext cx="0" cy="503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5796000" y="3573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6732720" y="29973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8028000" y="249228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657440" y="2039760"/>
            <a:ext cx="47941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Ничего не понятно  на уроке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660680" y="3586320"/>
            <a:ext cx="51498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– Всё понятно. Трудностей не испытываю.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1682640" y="5538960"/>
            <a:ext cx="516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Хочу знать больше!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5" descr="876е"/>
          <p:cNvPicPr/>
          <p:nvPr/>
        </p:nvPicPr>
        <p:blipFill>
          <a:blip r:embed="rId1"/>
          <a:stretch/>
        </p:blipFill>
        <p:spPr>
          <a:xfrm>
            <a:off x="6443640" y="4365720"/>
            <a:ext cx="2443320" cy="175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Sun_alley-we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6807240" y="4457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252122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ВСТАВЬ ПРОПУЩЕННЫЕ БУКВЫ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240" y="1496880"/>
            <a:ext cx="8255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т..яли  ненас?ные ..сенние дни. Тучи плотно з..крыли  со?нце. С раннего утра до поз?него вечера льёт х..лодный до….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193840" y="1577880"/>
            <a:ext cx="5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051520" y="1628640"/>
            <a:ext cx="420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Arial"/>
              </a:rPr>
              <a:t>т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6626160" y="1616040"/>
            <a:ext cx="76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664320" y="2227320"/>
            <a:ext cx="38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а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2308320" y="2862360"/>
            <a:ext cx="36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л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2612880" y="3484440"/>
            <a:ext cx="797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cc"/>
                </a:solidFill>
                <a:latin typeface="Arial"/>
              </a:rPr>
              <a:t>д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2016000" y="4003560"/>
            <a:ext cx="6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4987800" y="4094280"/>
            <a:ext cx="11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cc"/>
                </a:solidFill>
                <a:latin typeface="Arial"/>
              </a:rPr>
              <a:t>жд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26920" y="849240"/>
            <a:ext cx="7010280" cy="53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1. Уж небо осенью дыш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2. С чего начинается Род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3. Что же ты, солов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песен не поеш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4. Любите родную приро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5. В лес грибной тебя зо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Тихим  утром ос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Arial"/>
              </a:rPr>
              <a:t>6. Берегите наши ле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Tahoma"/>
              </a:rPr>
              <a:t>Найди лишнее слово</a:t>
            </a:r>
            <a:endParaRPr b="1" lang="en-US" sz="40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98320" y="1407960"/>
            <a:ext cx="72644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рилагательное, существительное, глагол,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подлежащее, местоимение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 flipV="1">
            <a:off x="4229280" y="3441600"/>
            <a:ext cx="3708360" cy="38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4368960" y="3416400"/>
            <a:ext cx="3695400" cy="8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ahoma"/>
              </a:rPr>
              <a:t>ГЛАВНЫЕ ЧЛЕНЫ ПРЕДЛОЖЕНИЯ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67" name="Line 4"/>
          <p:cNvSpPr/>
          <p:nvPr/>
        </p:nvSpPr>
        <p:spPr>
          <a:xfrm flipH="1">
            <a:off x="2882520" y="1092240"/>
            <a:ext cx="965160" cy="1447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"/>
          <p:cNvSpPr/>
          <p:nvPr/>
        </p:nvSpPr>
        <p:spPr>
          <a:xfrm>
            <a:off x="5334120" y="1028880"/>
            <a:ext cx="1193760" cy="1511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>
            <a:off x="2679840" y="3429000"/>
            <a:ext cx="12600" cy="749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6286680" y="3390840"/>
            <a:ext cx="37800" cy="77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1914480" y="2033640"/>
            <a:ext cx="6927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1) ПОДЛЕЖАЩЕЕ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2016000" y="3676680"/>
            <a:ext cx="5486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2) СКАЗУЕМОЕ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ahoma"/>
              </a:rPr>
              <a:t>ВТОРОСТЕПЕННЫЕ ЧЛЕНЫ ПРЕДЛОЖЕНИЯ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52480" y="1967040"/>
            <a:ext cx="701064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1) ОБСТОЯТЕЛЬ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2) 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3) ДОПОЛ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52480" y="1335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26920" y="824040"/>
            <a:ext cx="7010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Наступила скучная осе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адают на землю жёлтые листоч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Часто льют дожд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Ласточки и соловьи улетели на ю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5356080" y="121140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835520" y="1224000"/>
            <a:ext cx="2222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~~~~~~~~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4"/>
          <p:cNvSpPr/>
          <p:nvPr/>
        </p:nvSpPr>
        <p:spPr>
          <a:xfrm>
            <a:off x="2082960" y="1503360"/>
            <a:ext cx="2282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216400" y="126216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7134120" y="116064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6730920" y="138924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4"/>
          <p:cNvSpPr/>
          <p:nvPr/>
        </p:nvSpPr>
        <p:spPr>
          <a:xfrm flipV="1">
            <a:off x="2057400" y="1350720"/>
            <a:ext cx="2384280" cy="12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4"/>
          <p:cNvSpPr/>
          <p:nvPr/>
        </p:nvSpPr>
        <p:spPr>
          <a:xfrm flipV="1">
            <a:off x="2197080" y="2798640"/>
            <a:ext cx="2028960" cy="38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4"/>
          <p:cNvSpPr/>
          <p:nvPr/>
        </p:nvSpPr>
        <p:spPr>
          <a:xfrm>
            <a:off x="2184480" y="2214720"/>
            <a:ext cx="173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4"/>
          <p:cNvSpPr/>
          <p:nvPr/>
        </p:nvSpPr>
        <p:spPr>
          <a:xfrm>
            <a:off x="2158920" y="2328840"/>
            <a:ext cx="173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6423120" y="2138400"/>
            <a:ext cx="189216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~~~~~~~~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4"/>
          <p:cNvSpPr/>
          <p:nvPr/>
        </p:nvSpPr>
        <p:spPr>
          <a:xfrm>
            <a:off x="4622760" y="22780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4"/>
          <p:cNvSpPr/>
          <p:nvPr/>
        </p:nvSpPr>
        <p:spPr>
          <a:xfrm>
            <a:off x="5003640" y="3649680"/>
            <a:ext cx="136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4"/>
          <p:cNvSpPr/>
          <p:nvPr/>
        </p:nvSpPr>
        <p:spPr>
          <a:xfrm>
            <a:off x="3441600" y="3586320"/>
            <a:ext cx="139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3403440" y="3687840"/>
            <a:ext cx="139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4"/>
          <p:cNvSpPr/>
          <p:nvPr/>
        </p:nvSpPr>
        <p:spPr>
          <a:xfrm>
            <a:off x="2082960" y="357336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4"/>
          <p:cNvSpPr/>
          <p:nvPr/>
        </p:nvSpPr>
        <p:spPr>
          <a:xfrm>
            <a:off x="2197080" y="4398840"/>
            <a:ext cx="4467240" cy="50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4"/>
          <p:cNvSpPr/>
          <p:nvPr/>
        </p:nvSpPr>
        <p:spPr>
          <a:xfrm>
            <a:off x="2273400" y="5021280"/>
            <a:ext cx="15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"/>
          <p:cNvSpPr/>
          <p:nvPr/>
        </p:nvSpPr>
        <p:spPr>
          <a:xfrm>
            <a:off x="2222640" y="5135400"/>
            <a:ext cx="155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"/>
          <p:cNvSpPr/>
          <p:nvPr/>
        </p:nvSpPr>
        <p:spPr>
          <a:xfrm>
            <a:off x="4076640" y="5021280"/>
            <a:ext cx="1368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74640" y="1471680"/>
            <a:ext cx="7569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С деревьев облетают последние лист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Солнце светит ред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Arial"/>
              </a:rPr>
              <a:t>Умолкают птичьи голо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1133-2_3"/>
          <p:cNvPicPr/>
          <p:nvPr/>
        </p:nvPicPr>
        <p:blipFill>
          <a:blip r:embed="rId1"/>
          <a:stretch/>
        </p:blipFill>
        <p:spPr>
          <a:xfrm>
            <a:off x="6502320" y="5283360"/>
            <a:ext cx="1613160" cy="1320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52480" y="88560"/>
            <a:ext cx="70106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46040" y="569520"/>
            <a:ext cx="7645680" cy="53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с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Пришла _____. По небу плывет большая ___________. Часто льет ___________ дождь. Дует  сильный __________. Ребята ждут ___________ снега. Скоро наступит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одсказки: туча, осень, проливной, ветер, пушистого, зи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289400" y="486900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4619520" y="1262160"/>
            <a:ext cx="1843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959280" y="1149480"/>
            <a:ext cx="2025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сень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5584680" y="1555920"/>
            <a:ext cx="1629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туч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4581360" y="1949400"/>
            <a:ext cx="24256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проливной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5051520" y="2292480"/>
            <a:ext cx="2079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ветер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4937040" y="2776680"/>
            <a:ext cx="27291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пушистого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5457960" y="3143160"/>
            <a:ext cx="11606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зима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646200"/>
            <a:ext cx="701064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1) в, Берёзы, уборе, стоят, золот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Берёзы стоят в золотом убор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2) солнце, за, Низкое, скрылось, деревь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Низкое солнце скрылось за деревья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9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5280" y="140796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Со  словом   </a:t>
            </a: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жёлтые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составить и записать предложение по схем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когда?)  (с чего?)  (что делают?) (какие?) (что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Осенью    с деревьев    опадают     желтые     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5" descr="1133-3_3"/>
          <p:cNvPicPr/>
          <p:nvPr/>
        </p:nvPicPr>
        <p:blipFill>
          <a:blip r:embed="rId1"/>
          <a:stretch/>
        </p:blipFill>
        <p:spPr>
          <a:xfrm>
            <a:off x="1727280" y="392436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50093"/>
          <p:cNvPicPr/>
          <p:nvPr/>
        </p:nvPicPr>
        <p:blipFill>
          <a:blip r:embed="rId2"/>
          <a:stretch/>
        </p:blipFill>
        <p:spPr>
          <a:xfrm>
            <a:off x="4102200" y="0"/>
            <a:ext cx="50418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863960" y="2918880"/>
            <a:ext cx="3835440" cy="33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бавь последнюю стро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опа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опад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нится тропи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736560" y="202680"/>
            <a:ext cx="3581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Творческое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задание.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218" name="Picture 7" descr="1133-4_3"/>
          <p:cNvPicPr/>
          <p:nvPr/>
        </p:nvPicPr>
        <p:blipFill>
          <a:blip r:embed="rId3"/>
          <a:stretch/>
        </p:blipFill>
        <p:spPr>
          <a:xfrm>
            <a:off x="1854360" y="165096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27280" y="762120"/>
            <a:ext cx="703584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Tahoma"/>
              </a:rPr>
              <a:t>Тема урока:</a:t>
            </a:r>
            <a:br>
              <a:rPr sz="2800"/>
            </a:b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34600" y="1217520"/>
            <a:ext cx="7302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Главные и второстепен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574640" y="2451240"/>
            <a:ext cx="703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Цель урока:</a:t>
            </a:r>
            <a:br>
              <a:rPr sz="2800"/>
            </a:b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549440" y="2882880"/>
            <a:ext cx="703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Развивать умение распознавать в предложении главные и второстепенные члены предложения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Sun_alley-we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Значение слова осень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12680" y="975960"/>
            <a:ext cx="6484680" cy="25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Осень –  время года между летом и  зимой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autumnleaves"/>
          <p:cNvPicPr/>
          <p:nvPr/>
        </p:nvPicPr>
        <p:blipFill>
          <a:blip r:embed="rId1"/>
          <a:stretch/>
        </p:blipFill>
        <p:spPr>
          <a:xfrm>
            <a:off x="2593800" y="2776680"/>
            <a:ext cx="5241960" cy="3624120"/>
          </a:xfrm>
          <a:prstGeom prst="rect">
            <a:avLst/>
          </a:prstGeom>
          <a:ln w="38160">
            <a:solidFill>
              <a:srgbClr val="990000"/>
            </a:solidFill>
            <a:miter/>
          </a:ln>
        </p:spPr>
      </p:pic>
    </p:spTree>
  </p:cSld>
  <p:transition spd="med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Остановка «Словарная»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Вставьте пропущенные буквы.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30400" y="1749240"/>
            <a:ext cx="7797600" cy="20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..рковь       ..гурец    п..мид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ябл..ко        г..р..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1211-4_2"/>
          <p:cNvPicPr/>
          <p:nvPr/>
        </p:nvPicPr>
        <p:blipFill>
          <a:blip r:embed="rId1"/>
          <a:stretch/>
        </p:blipFill>
        <p:spPr>
          <a:xfrm>
            <a:off x="1409760" y="271764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1222-9_2"/>
          <p:cNvPicPr/>
          <p:nvPr/>
        </p:nvPicPr>
        <p:blipFill>
          <a:blip r:embed="rId2"/>
          <a:stretch/>
        </p:blipFill>
        <p:spPr>
          <a:xfrm>
            <a:off x="6946920" y="314964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1122-2_1"/>
          <p:cNvPicPr/>
          <p:nvPr/>
        </p:nvPicPr>
        <p:blipFill>
          <a:blip r:embed="rId3"/>
          <a:stretch/>
        </p:blipFill>
        <p:spPr>
          <a:xfrm>
            <a:off x="5410080" y="3708360"/>
            <a:ext cx="1625760" cy="1701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1211-5_2"/>
          <p:cNvPicPr/>
          <p:nvPr/>
        </p:nvPicPr>
        <p:blipFill>
          <a:blip r:embed="rId4"/>
          <a:stretch/>
        </p:blipFill>
        <p:spPr>
          <a:xfrm>
            <a:off x="4216320" y="497844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1222-6_2"/>
          <p:cNvPicPr/>
          <p:nvPr/>
        </p:nvPicPr>
        <p:blipFill>
          <a:blip r:embed="rId5"/>
          <a:stretch/>
        </p:blipFill>
        <p:spPr>
          <a:xfrm>
            <a:off x="6781680" y="497844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1222-7_2"/>
          <p:cNvPicPr/>
          <p:nvPr/>
        </p:nvPicPr>
        <p:blipFill>
          <a:blip r:embed="rId6"/>
          <a:stretch/>
        </p:blipFill>
        <p:spPr>
          <a:xfrm>
            <a:off x="184140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2115-0_2"/>
          <p:cNvPicPr/>
          <p:nvPr/>
        </p:nvPicPr>
        <p:blipFill>
          <a:blip r:embed="rId7"/>
          <a:stretch/>
        </p:blipFill>
        <p:spPr>
          <a:xfrm>
            <a:off x="2577960" y="3479760"/>
            <a:ext cx="2616480" cy="1308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Остановка «Словарная»</a:t>
            </a: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Вставьте пропущенные буквы.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14" name="Picture 5" descr="1211-4_2"/>
          <p:cNvPicPr/>
          <p:nvPr/>
        </p:nvPicPr>
        <p:blipFill>
          <a:blip r:embed="rId2"/>
          <a:stretch/>
        </p:blipFill>
        <p:spPr>
          <a:xfrm>
            <a:off x="1663560" y="3594240"/>
            <a:ext cx="851040" cy="1130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1222-9_2"/>
          <p:cNvPicPr/>
          <p:nvPr/>
        </p:nvPicPr>
        <p:blipFill>
          <a:blip r:embed="rId3"/>
          <a:stretch/>
        </p:blipFill>
        <p:spPr>
          <a:xfrm>
            <a:off x="7188120" y="345456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1122-2_1"/>
          <p:cNvPicPr/>
          <p:nvPr/>
        </p:nvPicPr>
        <p:blipFill>
          <a:blip r:embed="rId4"/>
          <a:stretch/>
        </p:blipFill>
        <p:spPr>
          <a:xfrm>
            <a:off x="5410080" y="3708360"/>
            <a:ext cx="1625760" cy="1701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1211-5_2"/>
          <p:cNvPicPr/>
          <p:nvPr/>
        </p:nvPicPr>
        <p:blipFill>
          <a:blip r:embed="rId5"/>
          <a:stretch/>
        </p:blipFill>
        <p:spPr>
          <a:xfrm>
            <a:off x="4241880" y="4927680"/>
            <a:ext cx="1676160" cy="1676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1222-6_2"/>
          <p:cNvPicPr/>
          <p:nvPr/>
        </p:nvPicPr>
        <p:blipFill>
          <a:blip r:embed="rId6"/>
          <a:stretch/>
        </p:blipFill>
        <p:spPr>
          <a:xfrm>
            <a:off x="6832440" y="497844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1222-7_2"/>
          <p:cNvPicPr/>
          <p:nvPr/>
        </p:nvPicPr>
        <p:blipFill>
          <a:blip r:embed="rId7"/>
          <a:stretch/>
        </p:blipFill>
        <p:spPr>
          <a:xfrm>
            <a:off x="1841400" y="4952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2115-0_2"/>
          <p:cNvPicPr/>
          <p:nvPr/>
        </p:nvPicPr>
        <p:blipFill>
          <a:blip r:embed="rId8"/>
          <a:stretch/>
        </p:blipFill>
        <p:spPr>
          <a:xfrm>
            <a:off x="2577960" y="3479760"/>
            <a:ext cx="2616480" cy="13082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1765440" y="1217520"/>
            <a:ext cx="603252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ковь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г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рец п</a:t>
            </a: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дор 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ябл</a:t>
            </a: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4000" spc="-1" strike="noStrike">
                <a:solidFill>
                  <a:srgbClr val="ff33cc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ahoma"/>
              </a:rPr>
              <a:t>МИНУТКА ЧИСТОПИСАНИЯ 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pic>
        <p:nvPicPr>
          <p:cNvPr id="123" name="Picture 4" descr="ж"/>
          <p:cNvPicPr/>
          <p:nvPr/>
        </p:nvPicPr>
        <p:blipFill>
          <a:blip r:embed="rId1"/>
          <a:stretch/>
        </p:blipFill>
        <p:spPr>
          <a:xfrm>
            <a:off x="1446120" y="1303200"/>
            <a:ext cx="6607440" cy="4494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то такое подлежаще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Что такое сказуемо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5:57:26Z</dcterms:created>
  <dc:creator>User</dc:creator>
  <dc:description/>
  <cp:keywords/>
  <dc:language>en-US</dc:language>
  <cp:lastModifiedBy>1</cp:lastModifiedBy>
  <dcterms:modified xsi:type="dcterms:W3CDTF">2016-09-15T05:43:42Z</dcterms:modified>
  <cp:revision>90</cp:revision>
  <dc:subject/>
  <dc:title>Classroom Expec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89511033</vt:lpwstr>
  </property>
</Properties>
</file>