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D759-A915-468E-AAB2-58D62C826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26C5-C30E-4B1D-931C-3293ECA7C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C8C-63CD-444A-8814-284BF294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CD3-38AC-47CB-ADEF-78B1FDF7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191-2028-425C-9F61-AD77CAA1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682-2909-4290-B408-C5074D00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B2D7-63CE-449E-A3F0-69C61963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54C0-FEA0-4916-A08E-60D56019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0E0A-219E-4F6C-A099-09E6A58B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9DDA-FA61-46AE-B8EA-7BA0C322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9416-BAD5-41E4-8488-D017F752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87BF-ED40-4CE2-97CB-13289687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DD4D-1E2A-48B3-9A3F-E2033841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FDE-F551-4060-A631-5E8569CF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8813-30F7-42DD-8FBD-04CE6088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69EA-9CEF-483B-995F-3594AF82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000-528F-4C0B-9BF4-0A33B4A7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0437-D75B-485C-9CDA-3F409D26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145F-E97D-4BDB-9FCC-225989D4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0ED-2166-4535-A38B-0AC218D1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748-FD50-43BA-94B9-DDF94D8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B89-F484-402B-943E-9456F499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9FC-78B1-431D-BE88-B7D0499A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AAE-0BFC-4E0D-A1C1-3BF258C1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164-696A-4D43-8E3C-9F9F11E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354-903E-4AAA-9473-000B1AA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DA81-2408-48CE-9D7B-35EDA559E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1C36-6460-458F-9B11-43AE08748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ahoma"/>
              </a:rPr>
              <a:t>Главные и второстепенные члены предложения.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09960" y="2889360"/>
            <a:ext cx="524808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ок русского языка в третье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537160" y="4927680"/>
            <a:ext cx="330192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готовила: учитель начальных классо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РКОВА РУЗАЛИЯ РАФИКОВН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ahoma"/>
              </a:rPr>
              <a:t>Остановка «Лесная»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63560" y="14590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1.Ежи шурша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 лесу весёлые ежи шуршали сухими листь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Что в них общего? Чем они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ленов предлож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узна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х ежа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ёт речь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они шурш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из этих предложений можно назв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распространён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какое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ён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27280" y="584280"/>
            <a:ext cx="7035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Остановка  «ВНИМАНИЕ»!!!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Чтобы определить второстепенные члены предложения, надо: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5080" y="16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мматическую основ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 которому можн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подлежаще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 которому можн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сказуе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Sun_alley-we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7240" y="44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5212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0640" y="1519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Остановка «Книжная»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Уч. стр. 27 –рассмотри схему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68360" y="1171440"/>
            <a:ext cx="5150160" cy="52009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776240" y="547560"/>
            <a:ext cx="6232680" cy="48974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Продолжи фразу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мне понрав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бы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1111-1_1"/>
          <p:cNvPicPr/>
          <p:nvPr/>
        </p:nvPicPr>
        <p:blipFill>
          <a:blip r:embed="rId1"/>
          <a:stretch/>
        </p:blipFill>
        <p:spPr>
          <a:xfrm>
            <a:off x="3835440" y="3314880"/>
            <a:ext cx="2679840" cy="267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1763640" y="404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сенка знаний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7667640" y="3284640"/>
            <a:ext cx="14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796000" y="3573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657440" y="2039760"/>
            <a:ext cx="4794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Ничего не понятно  на уроке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660680" y="3586320"/>
            <a:ext cx="51498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Всё понятно. Трудностей не испытываю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682640" y="5538960"/>
            <a:ext cx="51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Хочу знать больше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5" descr="876е"/>
          <p:cNvPicPr/>
          <p:nvPr/>
        </p:nvPicPr>
        <p:blipFill>
          <a:blip r:embed="rId1"/>
          <a:stretch/>
        </p:blipFill>
        <p:spPr>
          <a:xfrm>
            <a:off x="6443640" y="4365720"/>
            <a:ext cx="2443320" cy="175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un_alley-we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07240" y="44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5212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ВСТАВЬ ПРОПУЩЕННЫЕ БУКВЫ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49688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..яли  ненас?ные ..сенние дни. Тучи плотно з..крыли  со?нце. С раннего утра до поз?него вечера льёт х..лодный до….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193840" y="157788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051520" y="1628640"/>
            <a:ext cx="42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626160" y="1616040"/>
            <a:ext cx="7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664320" y="22273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308320" y="286236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л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612880" y="3484440"/>
            <a:ext cx="797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д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016000" y="400356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987800" y="409428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жд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26920" y="849240"/>
            <a:ext cx="70102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1. Уж небо осенью дыш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2. С чего начинается Род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3. Что же ты, солов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есен не по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4. Любите родную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5. В лес грибной тебя з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Тихим  утром ос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6. Берегите наши л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ahoma"/>
              </a:rPr>
              <a:t>Найди лишнее слово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98320" y="1407960"/>
            <a:ext cx="726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илагательное, существительное, глагол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одлежащее, местоим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V="1">
            <a:off x="4229280" y="3441600"/>
            <a:ext cx="37083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368960" y="3416400"/>
            <a:ext cx="3695400" cy="8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ГЛАВНЫЕ ЧЛЕНЫ ПРЕДЛОЖЕНИЯ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7" name="Line 4"/>
          <p:cNvSpPr/>
          <p:nvPr/>
        </p:nvSpPr>
        <p:spPr>
          <a:xfrm flipH="1">
            <a:off x="2882520" y="1092240"/>
            <a:ext cx="96516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5334120" y="1028880"/>
            <a:ext cx="119376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679840" y="3429000"/>
            <a:ext cx="1260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6286680" y="3390840"/>
            <a:ext cx="37800" cy="77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1914480" y="2033640"/>
            <a:ext cx="6927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1) ПОДЛЕЖАЩЕ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2016000" y="3676680"/>
            <a:ext cx="5486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2) СКАЗУЕМО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ВТОРОСТЕПЕННЫЕ ЧЛЕНЫ ПРЕДЛОЖЕНИЯ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480" y="1967040"/>
            <a:ext cx="70106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1) ОБСТОЯ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) 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3) 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1335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26920" y="82404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ступила скучная о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адают на землю жёлтые листоч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асто льют дож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асточки и соловьи улетели на ю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356080" y="12114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835520" y="1224000"/>
            <a:ext cx="2222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2082960" y="1503360"/>
            <a:ext cx="2282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21640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7134120" y="11606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730920" y="13892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 flipV="1">
            <a:off x="2057400" y="1350720"/>
            <a:ext cx="23842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4"/>
          <p:cNvSpPr/>
          <p:nvPr/>
        </p:nvSpPr>
        <p:spPr>
          <a:xfrm flipV="1">
            <a:off x="2197080" y="2798640"/>
            <a:ext cx="2028960" cy="3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4"/>
          <p:cNvSpPr/>
          <p:nvPr/>
        </p:nvSpPr>
        <p:spPr>
          <a:xfrm>
            <a:off x="2184480" y="221472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2158920" y="232884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6423120" y="2138400"/>
            <a:ext cx="189216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>
            <a:off x="4622760" y="2278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5003640" y="364968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>
            <a:off x="3441600" y="358632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3403440" y="368784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>
            <a:off x="2082960" y="35733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4"/>
          <p:cNvSpPr/>
          <p:nvPr/>
        </p:nvSpPr>
        <p:spPr>
          <a:xfrm>
            <a:off x="2197080" y="4398840"/>
            <a:ext cx="4467240" cy="5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2273400" y="502128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"/>
          <p:cNvSpPr/>
          <p:nvPr/>
        </p:nvSpPr>
        <p:spPr>
          <a:xfrm>
            <a:off x="2222640" y="513540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4076640" y="50212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74640" y="1471680"/>
            <a:ext cx="7569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 деревьев облетают последние лист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олнце светит ред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Умолкают птичьи голо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1133-2_3"/>
          <p:cNvPicPr/>
          <p:nvPr/>
        </p:nvPicPr>
        <p:blipFill>
          <a:blip r:embed="rId1"/>
          <a:stretch/>
        </p:blipFill>
        <p:spPr>
          <a:xfrm>
            <a:off x="6502320" y="5283360"/>
            <a:ext cx="1613160" cy="1320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885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46040" y="569520"/>
            <a:ext cx="76456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ришла _____. По небу плывет большая ___________. Часто льет ___________ дождь. Дует  сильный __________. Ребята ждут ___________ снега. Скоро наступит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одсказки: туча, осень, проливной, ветер, пушистого,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289400" y="48690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61952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959280" y="1149480"/>
            <a:ext cx="2025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сен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5584680" y="1555920"/>
            <a:ext cx="1629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уч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581360" y="1949400"/>
            <a:ext cx="2425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проливн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051520" y="2292480"/>
            <a:ext cx="2079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вете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937040" y="2776680"/>
            <a:ext cx="2729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ушистого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5457960" y="3143160"/>
            <a:ext cx="1160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им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646200"/>
            <a:ext cx="70106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) в, Берёзы, уборе, стоят, золо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ерёзы стоят в золотом уб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2) солнце, за, Низкое, скрылось,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Низкое солнце скрылось за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140796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о  словом   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жёлты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составить и записать предложение по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огда?)  (с чего?)  (что делают?) (какие?)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ю    с деревьев    опадают     желтые     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1133-3_3"/>
          <p:cNvPicPr/>
          <p:nvPr/>
        </p:nvPicPr>
        <p:blipFill>
          <a:blip r:embed="rId1"/>
          <a:stretch/>
        </p:blipFill>
        <p:spPr>
          <a:xfrm>
            <a:off x="1727280" y="392436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50093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63960" y="2918880"/>
            <a:ext cx="383544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авь последнюю стр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нится троп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736560" y="202680"/>
            <a:ext cx="3581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ворческ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задание.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8" name="Picture 7" descr="1133-4_3"/>
          <p:cNvPicPr/>
          <p:nvPr/>
        </p:nvPicPr>
        <p:blipFill>
          <a:blip r:embed="rId3"/>
          <a:stretch/>
        </p:blipFill>
        <p:spPr>
          <a:xfrm>
            <a:off x="1854360" y="165096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27280" y="762120"/>
            <a:ext cx="70358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Тема урока:</a:t>
            </a:r>
            <a:br>
              <a:rPr sz="2800"/>
            </a:b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600" y="1217520"/>
            <a:ext cx="730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574640" y="2451240"/>
            <a:ext cx="703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Цель урока: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549440" y="2882880"/>
            <a:ext cx="703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азвивать умение распознавать в предложении главные и второстепенные члены предложени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Sun_alley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Значение слова осень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12680" y="975960"/>
            <a:ext cx="648468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Осень –  время года между летом и  зимо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utumnleaves"/>
          <p:cNvPicPr/>
          <p:nvPr/>
        </p:nvPicPr>
        <p:blipFill>
          <a:blip r:embed="rId1"/>
          <a:stretch/>
        </p:blipFill>
        <p:spPr>
          <a:xfrm>
            <a:off x="2593800" y="2776680"/>
            <a:ext cx="5241960" cy="3624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Остановка «Словарная»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Вставьте пропущенные буквы.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0400" y="1749240"/>
            <a:ext cx="779760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..рковь       ..гурец    п..ми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ябл..ко        г..р..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1211-4_2"/>
          <p:cNvPicPr/>
          <p:nvPr/>
        </p:nvPicPr>
        <p:blipFill>
          <a:blip r:embed="rId1"/>
          <a:stretch/>
        </p:blipFill>
        <p:spPr>
          <a:xfrm>
            <a:off x="1409760" y="271764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1222-9_2"/>
          <p:cNvPicPr/>
          <p:nvPr/>
        </p:nvPicPr>
        <p:blipFill>
          <a:blip r:embed="rId2"/>
          <a:stretch/>
        </p:blipFill>
        <p:spPr>
          <a:xfrm>
            <a:off x="6946920" y="31496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1122-2_1"/>
          <p:cNvPicPr/>
          <p:nvPr/>
        </p:nvPicPr>
        <p:blipFill>
          <a:blip r:embed="rId3"/>
          <a:stretch/>
        </p:blipFill>
        <p:spPr>
          <a:xfrm>
            <a:off x="5410080" y="3708360"/>
            <a:ext cx="1625760" cy="170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1211-5_2"/>
          <p:cNvPicPr/>
          <p:nvPr/>
        </p:nvPicPr>
        <p:blipFill>
          <a:blip r:embed="rId4"/>
          <a:stretch/>
        </p:blipFill>
        <p:spPr>
          <a:xfrm>
            <a:off x="4216320" y="49784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222-6_2"/>
          <p:cNvPicPr/>
          <p:nvPr/>
        </p:nvPicPr>
        <p:blipFill>
          <a:blip r:embed="rId5"/>
          <a:stretch/>
        </p:blipFill>
        <p:spPr>
          <a:xfrm>
            <a:off x="6781680" y="49784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222-7_2"/>
          <p:cNvPicPr/>
          <p:nvPr/>
        </p:nvPicPr>
        <p:blipFill>
          <a:blip r:embed="rId6"/>
          <a:stretch/>
        </p:blipFill>
        <p:spPr>
          <a:xfrm>
            <a:off x="184140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2115-0_2"/>
          <p:cNvPicPr/>
          <p:nvPr/>
        </p:nvPicPr>
        <p:blipFill>
          <a:blip r:embed="rId7"/>
          <a:stretch/>
        </p:blipFill>
        <p:spPr>
          <a:xfrm>
            <a:off x="2577960" y="3479760"/>
            <a:ext cx="2616480" cy="130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Остановка «Словарная»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Вставьте пропущенные буквы.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14" name="Picture 5" descr="1211-4_2"/>
          <p:cNvPicPr/>
          <p:nvPr/>
        </p:nvPicPr>
        <p:blipFill>
          <a:blip r:embed="rId2"/>
          <a:stretch/>
        </p:blipFill>
        <p:spPr>
          <a:xfrm>
            <a:off x="1663560" y="3594240"/>
            <a:ext cx="851040" cy="113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1222-9_2"/>
          <p:cNvPicPr/>
          <p:nvPr/>
        </p:nvPicPr>
        <p:blipFill>
          <a:blip r:embed="rId3"/>
          <a:stretch/>
        </p:blipFill>
        <p:spPr>
          <a:xfrm>
            <a:off x="7188120" y="345456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122-2_1"/>
          <p:cNvPicPr/>
          <p:nvPr/>
        </p:nvPicPr>
        <p:blipFill>
          <a:blip r:embed="rId4"/>
          <a:stretch/>
        </p:blipFill>
        <p:spPr>
          <a:xfrm>
            <a:off x="5410080" y="3708360"/>
            <a:ext cx="1625760" cy="1701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11-5_2"/>
          <p:cNvPicPr/>
          <p:nvPr/>
        </p:nvPicPr>
        <p:blipFill>
          <a:blip r:embed="rId5"/>
          <a:stretch/>
        </p:blipFill>
        <p:spPr>
          <a:xfrm>
            <a:off x="4241880" y="492768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1222-6_2"/>
          <p:cNvPicPr/>
          <p:nvPr/>
        </p:nvPicPr>
        <p:blipFill>
          <a:blip r:embed="rId6"/>
          <a:stretch/>
        </p:blipFill>
        <p:spPr>
          <a:xfrm>
            <a:off x="6832440" y="49784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1222-7_2"/>
          <p:cNvPicPr/>
          <p:nvPr/>
        </p:nvPicPr>
        <p:blipFill>
          <a:blip r:embed="rId7"/>
          <a:stretch/>
        </p:blipFill>
        <p:spPr>
          <a:xfrm>
            <a:off x="184140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2115-0_2"/>
          <p:cNvPicPr/>
          <p:nvPr/>
        </p:nvPicPr>
        <p:blipFill>
          <a:blip r:embed="rId8"/>
          <a:stretch/>
        </p:blipFill>
        <p:spPr>
          <a:xfrm>
            <a:off x="2577960" y="3479760"/>
            <a:ext cx="2616480" cy="13082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765440" y="1217520"/>
            <a:ext cx="60325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ковь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ец п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дор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бл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МИНУТКА ЧИСТОПИСАНИЯ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23" name="Picture 4" descr="ж"/>
          <p:cNvPicPr/>
          <p:nvPr/>
        </p:nvPicPr>
        <p:blipFill>
          <a:blip r:embed="rId1"/>
          <a:stretch/>
        </p:blipFill>
        <p:spPr>
          <a:xfrm>
            <a:off x="1446120" y="1303200"/>
            <a:ext cx="6607440" cy="449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такое подлежаще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такое сказуемо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5:57:26Z</dcterms:created>
  <dc:creator>User</dc:creator>
  <dc:description/>
  <cp:keywords/>
  <dc:language>en-US</dc:language>
  <cp:lastModifiedBy>1</cp:lastModifiedBy>
  <dcterms:modified xsi:type="dcterms:W3CDTF">2016-09-15T05:43:42Z</dcterms:modified>
  <cp:revision>9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