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A91D-1DCD-42D3-A1E3-E73EC6FD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347E-1869-4993-942C-6D30AE6B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DDC8-3F49-45E5-AAEA-A87395A3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CFC-7564-4508-AB25-E4DB6877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4B7A-2CCB-4C18-8381-39EC91B7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36D-4E99-493D-AF74-5D6BC23E7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210D-6C51-4568-BA7D-593FA09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20B-3B1E-4E74-8E97-23A095F4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BF9-5BF7-45A9-8EDF-847A11A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C85-B22E-4046-9F65-804268A0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406-235A-48B1-A1DA-9F1B5532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53EE-FEDE-463E-BA60-1A96E487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A523-8D55-4825-9BF9-31E67065F9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s://encrypted-tbn3.google.com/images?q=tbn:ANd9GcRW-i-0bVbpvdR7mHqej0I15A87QUlNmb425qGZLZBMmjzhAQtl"/>
          <p:cNvPicPr/>
          <p:nvPr/>
        </p:nvPicPr>
        <p:blipFill>
          <a:blip r:embed="rId1"/>
          <a:stretch/>
        </p:blipFill>
        <p:spPr>
          <a:xfrm>
            <a:off x="357120" y="571680"/>
            <a:ext cx="7310520" cy="548316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1"/>
          <p:cNvSpPr/>
          <p:nvPr/>
        </p:nvSpPr>
        <p:spPr>
          <a:xfrm>
            <a:off x="3924360" y="5661000"/>
            <a:ext cx="5219640" cy="11970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 Хартия Зем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одготовил ученик 8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АОУ «Демиховский лице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узнецов Е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НОВНЫЕ ПОЛОЖЕНИЯ ХАРТИИ ЗЕМЛ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357440" y="1356840"/>
            <a:ext cx="43290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I. Уважение и забота о сообществе жиз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. Уважать Землю и всё живое во всём его многообраз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. Заботиться о живом сообществе с чувством понимания, сострадания и любв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Создавать справедливые, открытые для участия, устойчивые и мирные демократические со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. Сохранять богатство и красоту Земли для настоящего и будущих покол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ях претворения в жизнь этих четырёх убеждений необходим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2.bp.blogspot.com/-8UgoT5A8h0U/T5G8GJUt6FI/AAAAAAAADtM/jWIyrdMmD6w/s1600/4027+(4981).JPG"/>
          <p:cNvPicPr/>
          <p:nvPr/>
        </p:nvPicPr>
        <p:blipFill>
          <a:blip r:embed="rId1"/>
          <a:stretch/>
        </p:blipFill>
        <p:spPr>
          <a:xfrm>
            <a:off x="285840" y="2000160"/>
            <a:ext cx="39812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I. Экологическая целостн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85760" y="928800"/>
            <a:ext cx="507204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Защищать и сохранять единство экосистем Земли, придавая особое значение биологическому разнообразию и природным процессам поддержания жизн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Предотвращать нанесение вреда окружающей среде в качестве способа экологической защиты, а также выбирать путь осмотрительности в случае ограниченности знаний или недостаточной информ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Применять такие модели производства, потребления и воспроизводства, которые сохраняют регенеративные возможности Земли, права человека и благополучие сообщест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Способствовать изучению экологической стабильности и развивать открытый обмен полученными знаниями и их повсеместное приме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2.bp.blogspot.com/-jplUY57YGkU/T5G8WgcZixI/AAAAAAAADtU/MGp2Khb7Iac/s200/4027+(4982).jpg"/>
          <p:cNvPicPr/>
          <p:nvPr/>
        </p:nvPicPr>
        <p:blipFill>
          <a:blip r:embed="rId1"/>
          <a:stretch/>
        </p:blipFill>
        <p:spPr>
          <a:xfrm>
            <a:off x="142920" y="1714680"/>
            <a:ext cx="35002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II. Социальная и экономическая справедлив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3571560"/>
            <a:ext cx="403848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Искоренять нищету как этический, социальный и экологический императи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Следить за тем, чтобы экономическая деятельность и экономические институты на всех уровнях способствовали развитию человека в равной и устойчивой мане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1. Обеспечивать право на равенство полов как предпосылку устойчивого развития, а также на всеобщий доступ к образованию, здравоохранению и экономическим возможност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2. Поддерживать право каждого человека без исключения на жизнь в такой природной и социальной среде, которая обеспечивала бы поддержку их достоинства, здоровья и духовного благополучия, уделяя особое внимание правам коренных и малочисленных народ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В Ульяновской области начался &amp;quot;диалог культур&amp;quot; - UlyanovskCity.Ru"/>
          <p:cNvPicPr/>
          <p:nvPr/>
        </p:nvPicPr>
        <p:blipFill>
          <a:blip r:embed="rId1"/>
          <a:stretch/>
        </p:blipFill>
        <p:spPr>
          <a:xfrm>
            <a:off x="642960" y="1071720"/>
            <a:ext cx="35352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IV. Демократия, ненасилие и ми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000160" y="1785960"/>
            <a:ext cx="668664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3. Усиливать демократические институты на всех уровнях, обеспечивать доступ к информации, участию в процессе принятия решений, правосудию, а также сделать все процессы прозрачными и доступными для контроля и отчёт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4. Вводить в курс государственного образования, а также в процессы познания, происходящие в течение всей жизни каждого человека, знания, ценности и навыки, необходимые для устойчивого развит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15. Относиться ко всем живым существам с уважением и вниманием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16. Создавать Культуру Толерантности, Ненасилия и Ми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4.bp.blogspot.com/-Od1NTy9-e_g/T3QQnHAQ-1I/AAAAAAAADgM/nhbuoxGlWRU/s200/4027+(4874).jpg"/>
          <p:cNvPicPr/>
          <p:nvPr/>
        </p:nvPicPr>
        <p:blipFill>
          <a:blip r:embed="rId1"/>
          <a:stretch/>
        </p:blipFill>
        <p:spPr>
          <a:xfrm>
            <a:off x="285840" y="1214280"/>
            <a:ext cx="19317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Равнодушие"/>
          <p:cNvPicPr/>
          <p:nvPr/>
        </p:nvPicPr>
        <p:blipFill>
          <a:blip r:embed="rId1"/>
          <a:stretch/>
        </p:blipFill>
        <p:spPr>
          <a:xfrm>
            <a:off x="3571920" y="164304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s://encrypted-tbn3.google.com/images?q=tbn:ANd9GcTCDjKqjcwP1ls4nr36S-d7cEM_3LPdA8p0n8dPz0CLBAf19vXQsg"/>
          <p:cNvPicPr/>
          <p:nvPr/>
        </p:nvPicPr>
        <p:blipFill>
          <a:blip r:embed="rId2"/>
          <a:stretch/>
        </p:blipFill>
        <p:spPr>
          <a:xfrm>
            <a:off x="500040" y="1571760"/>
            <a:ext cx="1495440" cy="3057480"/>
          </a:xfrm>
          <a:prstGeom prst="rect">
            <a:avLst/>
          </a:prstGeom>
          <a:ln w="0">
            <a:noFill/>
          </a:ln>
        </p:spPr>
      </p:pic>
      <p:sp>
        <p:nvSpPr>
          <p:cNvPr id="58" name="Двойная стрелка влево/вправо 7"/>
          <p:cNvSpPr/>
          <p:nvPr/>
        </p:nvSpPr>
        <p:spPr>
          <a:xfrm>
            <a:off x="2000160" y="3071880"/>
            <a:ext cx="1500120" cy="428400"/>
          </a:xfrm>
          <a:prstGeom prst="leftRightArrow">
            <a:avLst>
              <a:gd name="adj1" fmla="val 50000"/>
              <a:gd name="adj2" fmla="val 50029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alibri"/>
              </a:rPr>
              <a:t>Диалог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 всех людей возникает всё больше общих интересов, главный из которых  сохранить на Земле человечество. Моисеев Н.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900igr.net/datai/ekologija/Atmosfera-1/0001-001-Ekologicheskie-problemy-Zagrjaznenie-atmosfery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8620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Наша жизнь в наших руках!!! Берегите природу!! Ведь мы полностью зависим от неё ?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ндр Аверьянов</cp:lastModifiedBy>
  <dcterms:modified xsi:type="dcterms:W3CDTF">2017-09-27T18:09:19Z</dcterms:modified>
  <cp:revision>9</cp:revision>
  <dc:subject/>
  <dc:title>Слайд 1</dc:title>
</cp:coreProperties>
</file>