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626F-E49D-4F42-8DFD-B03A7658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0706-D3F1-4523-8EC9-2D6FA449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F9AC-69E3-4123-96EC-2455E271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0358-AFF9-4942-9CA9-6EB1B23B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C77E-E573-41D1-848C-F5B7900A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2D0-646D-4502-BF0E-BBAD4D00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7805-6ACB-47F2-8767-BF2279F2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357E-6A9B-4E0E-ABB4-917CBF10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3F75-F5BD-4BCA-A0AD-B9F6A80F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4C54-0422-4CA1-A302-FB3A53B4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C3B4-5E94-409D-9686-2DD29B17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610C-9212-485B-A392-DA903F34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EFDB-F88F-4C40-B198-63A8308F59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0080"/>
                </a:solidFill>
                <a:latin typeface="Times New Roman"/>
              </a:rPr>
              <a:t>Мир сказок</a:t>
            </a:r>
            <a:br>
              <a:rPr sz="6600"/>
            </a:br>
            <a:r>
              <a:rPr b="0" lang="en-US" sz="6600" spc="-1" strike="noStrike">
                <a:solidFill>
                  <a:srgbClr val="800080"/>
                </a:solidFill>
                <a:latin typeface="Times New Roman"/>
              </a:rPr>
              <a:t> А. С. Пушкин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Подберите слова противоположные по смыслу. Какое отношение эти слова имеют к сказкам А. С. Пушкин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0388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ДОБ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ТРУДОЛЮБ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ЧЕС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ОТВЕТСТВ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СМЕЛ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ОТЗЫВЧ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ДРУЖЕЛЮБ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2880" y="1904760"/>
            <a:ext cx="37339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РАВНОДУШ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ЛЖ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БЕЗДЕЛЬЕ, 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ГЛУП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ВРАЖ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З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ТРУС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БЕЗЗАБО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6600" spc="-1" strike="noStrike">
                <a:solidFill>
                  <a:srgbClr val="0000cc"/>
                </a:solidFill>
                <a:latin typeface="Times New Roman"/>
              </a:rPr>
              <a:t>Собер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cc"/>
                </a:solidFill>
                <a:latin typeface="Times New Roman"/>
              </a:rPr>
              <a:t>               </a:t>
            </a:r>
            <a:r>
              <a:rPr b="0" lang="ru-RU" sz="6600" spc="-1" strike="noStrike">
                <a:solidFill>
                  <a:srgbClr val="0000cc"/>
                </a:solidFill>
                <a:latin typeface="Times New Roman"/>
              </a:rPr>
              <a:t>и назов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cc"/>
                </a:solidFill>
                <a:latin typeface="Times New Roman"/>
              </a:rPr>
              <a:t>                        </a:t>
            </a:r>
            <a:r>
              <a:rPr b="0" lang="ru-RU" sz="6600" spc="-1" strike="noStrike">
                <a:solidFill>
                  <a:srgbClr val="0000cc"/>
                </a:solidFill>
                <a:latin typeface="Times New Roman"/>
              </a:rPr>
              <a:t>сказку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6 июня празднуется</a:t>
            </a: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Пушкинский  День или День русского языка - это Российский и международный праздник, посвященный русскому язы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685764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353196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DSC_0370"/>
          <p:cNvPicPr/>
          <p:nvPr/>
        </p:nvPicPr>
        <p:blipFill>
          <a:blip r:embed="rId1"/>
          <a:stretch/>
        </p:blipFill>
        <p:spPr>
          <a:xfrm>
            <a:off x="2438280" y="1676520"/>
            <a:ext cx="4191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Times New Roman"/>
              </a:rPr>
              <a:t>Выво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1.Каждый из нас знаком с раннего детства со сказками А. С. Пушк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2.В каждой сказке поэт остается на стороне придуманных добрых геро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3. В каждой сказке он высмеивает лень, трусость, глупость и прославляет смелость, трудолюбие, находчивость</a:t>
            </a: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Times New Roman"/>
              </a:rPr>
              <a:t>Данная презентация может быть использована на уроках литературного чтения, русского языка, ИЗО, на уроках техноло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Times New Roman"/>
              </a:rPr>
              <a:t>Я хочу подарить вам мини-раскраску из моих любимых сказ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800" spc="-1" strike="noStrike">
                <a:solidFill>
                  <a:srgbClr val="0000cc"/>
                </a:solidFill>
                <a:latin typeface="Times New Roman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Цель –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развить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интерес к чтению произведений А.С Пушки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1.вспомнить содержание сказок А.С. Пушк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2.выделить лучшие человеческие качества на примере героев сказ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А.С.Пушкин – великий русский поэт.</a:t>
            </a:r>
            <a:br>
              <a:rPr sz="2800"/>
            </a:b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Родился в 1799 году в Моск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Самый близкий дру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рина Родио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Arina_Rodionovna"/>
          <p:cNvPicPr/>
          <p:nvPr/>
        </p:nvPicPr>
        <p:blipFill>
          <a:blip r:embed="rId1"/>
          <a:stretch/>
        </p:blipFill>
        <p:spPr>
          <a:xfrm>
            <a:off x="1219320" y="1981080"/>
            <a:ext cx="2666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В чём особенность сказок А. С. Пушкина? Для кого писал сказки А. С. Пушки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4" marL="2016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У лукоморья дуб зелёный;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Златая цепь на дубе том: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И днём и ночью кот учёный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Всё ходит по цепи кругом;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Идёт направо - песнь заводит,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Налево - сказку говорит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«Лучший знаток Пушкинской сказ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601200" y="1523880"/>
            <a:ext cx="914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Весёлая 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1.Кто из героев Пушкина носил золотую цепь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2. Кто из героев Пушкина никогда не спи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3. Чудесный предмет, который всегда говорил только правд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4. В каком необычном транспорте путешествовали два пушкинских героя? 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Times New Roman"/>
              </a:rPr>
              <a:t>5. Какого острова нет на кар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Times New Roman"/>
              </a:rPr>
              <a:t>6. Жилище старика со старухо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Times New Roman"/>
              </a:rPr>
              <a:t>7. Как звали находчивого, трудолюбивого работника в одной из сказок А. С. Пушкин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Times New Roman"/>
              </a:rPr>
              <a:t>8. Сказочный персонаж, исполняющий жел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9.  Насекомое, в которое превратился князь Гвидон в третий раз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10. «Любимая» вещь старухи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11 Сколько раз закидывал старик невод в мор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12. Имя царя в «Сказке о золотом петушке»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Подбери словечк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1. «Ой вы, гости-госпо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Долго ль ехали? Ку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Ладно ль за морем иль худ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И какое в свет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2. «А сидит в нем князь Гвидо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                                      </a:t>
            </a: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Он прислал теб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3. «Коли красная деви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Будь нам милая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4. «Нужен мне работни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                                       </a:t>
            </a: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Повар, конюх и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Из какой сказки отрыво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1. В синем небе звёзды блещ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В синем море волны хлещ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Туча по небу идё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Бочка по морю плыв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Times New Roman"/>
              </a:rPr>
              <a:t>2. Вдруг шатё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800080"/>
                </a:solidFill>
                <a:latin typeface="Times New Roman"/>
              </a:rPr>
              <a:t>Распахнулся... и девиц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800080"/>
                </a:solidFill>
                <a:latin typeface="Times New Roman"/>
              </a:rPr>
              <a:t>Шамаханская цариц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800080"/>
                </a:solidFill>
                <a:latin typeface="Times New Roman"/>
              </a:rPr>
              <a:t>Вся сияя как зар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800080"/>
                </a:solidFill>
                <a:latin typeface="Times New Roman"/>
              </a:rPr>
              <a:t>Тихо встретила царя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3.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Жил-был поп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Толоконный ло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ошел поп по база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осмотреть кой-какого това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Навстречу ему Бал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Идет, сам не зная куд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4.Жил старик со своею старух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У самого синего мор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Они жили в ветхой землян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Ровно тридцать лет и три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5.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Месяц, месяц, мой друж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Позолоченный рожок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Ты встаёшь во тьме глубок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Круглолицый, светлоо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И, обычай твой люб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  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Звёзды смотрят на т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Аль откажешь мне в отв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Не видал ли где на св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Ты царевны молодой? 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04-27T18:00:54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