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7017-E59E-4D63-B5A7-2BD0B892E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2795-2DD4-4BE9-B835-05D64BCF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67C2-1271-4D7A-829B-1E07D522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AEE-71AD-4846-BA81-1C95E260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21B-A8F3-4731-BA90-AD60EA94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29D-48FB-4665-A7C8-E6906D95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29A-F0C6-4CD1-A4C0-C8733349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219D-3BAC-4C67-83AC-97876A9B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338-093F-4002-92EF-1B60E7C5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CE77-254A-4175-B8D6-9D8D79D9D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68D-467A-4B50-95F7-D2D2B0EA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6131-65F7-486E-AEE2-AB6DBC62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EEE0-9F1E-4E30-A7C6-F9F98EAF0A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800080"/>
                </a:solidFill>
                <a:latin typeface="Times New Roman"/>
              </a:rPr>
              <a:t>Мир сказок</a:t>
            </a:r>
            <a:br>
              <a:rPr sz="6600"/>
            </a:br>
            <a:r>
              <a:rPr b="0" lang="en-US" sz="6600" spc="-1" strike="noStrike">
                <a:solidFill>
                  <a:srgbClr val="800080"/>
                </a:solidFill>
                <a:latin typeface="Times New Roman"/>
              </a:rPr>
              <a:t> А. С. Пушк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</a:rPr>
              <a:t>Подберите слова противоположные по смыслу. Какое отношение эти слова имеют к сказкам А. С. Пушкин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40388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ОБ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ТРУДО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ЧЕС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ОТВЕТСТВЕН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СМЕ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ОТЗЫВЧ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РУЖЕЛЮБ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2880" y="1904760"/>
            <a:ext cx="37339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ЛЖ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БЕЗДЕЛЬЕ, 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ГЛУП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ВРАЖ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З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ТРУС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БЕЗЗАБО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обер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          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и назов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                        </a:t>
            </a:r>
            <a:r>
              <a:rPr b="0" lang="ru-RU" sz="6600" spc="-1" strike="noStrike">
                <a:solidFill>
                  <a:srgbClr val="0000cc"/>
                </a:solidFill>
                <a:latin typeface="Times New Roman"/>
              </a:rPr>
              <a:t>сказку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6 июня празднуется</a:t>
            </a: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Пушкинский  День или День русского языка - это Российский и международный праздник, посвященный русскому язы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685764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353196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DSC_0370"/>
          <p:cNvPicPr/>
          <p:nvPr/>
        </p:nvPicPr>
        <p:blipFill>
          <a:blip r:embed="rId1"/>
          <a:stretch/>
        </p:blipFill>
        <p:spPr>
          <a:xfrm>
            <a:off x="2438280" y="1676520"/>
            <a:ext cx="4191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imes New Roman"/>
              </a:rPr>
              <a:t>Вывод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1.Каждый из нас знаком с раннего детства со сказками А. С. Пушк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2.В каждой сказке поэт остается на стороне придуманных добрых геро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3. В каждой сказке он высмеивает лень, трусость, глупость и прославляет смелость, трудолюбие, находчивость</a:t>
            </a:r>
            <a:r>
              <a:rPr b="0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Данная презентация может быть использована на уроках литературного чтения, русского языка, ИЗО, на уроках техноло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Я хочу подарить вам мини-раскраску из моих любимых сказ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800" spc="-1" strike="noStrike">
                <a:solidFill>
                  <a:srgbClr val="0000cc"/>
                </a:solidFill>
                <a:latin typeface="Times New Roman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84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Цель –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развить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интерес к чтению произведений А.С Пушки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1.вспомнить содержание сказок А.С. Пушк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2.выделить лучшие человеческие качества на примере героев сказ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А.С.Пушкин – великий русский поэт.</a:t>
            </a:r>
            <a:br>
              <a:rPr sz="2800"/>
            </a:b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Родился в 1799 году в Моск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Самый близкий дру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рина Родио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rina_Rodionovna"/>
          <p:cNvPicPr/>
          <p:nvPr/>
        </p:nvPicPr>
        <p:blipFill>
          <a:blip r:embed="rId1"/>
          <a:stretch/>
        </p:blipFill>
        <p:spPr>
          <a:xfrm>
            <a:off x="1219320" y="1981080"/>
            <a:ext cx="2666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В чём особенность сказок А. С. Пушкина? Для кого писал сказки А. С. Пушк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4" marL="2016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У лукоморья дуб зелёный;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Златая цепь на дубе том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 днём и ночью кот учёный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Всё ходит по цепи кругом;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Идёт направо - песнь заводит,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Налево - сказку говорит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Arial"/>
              </a:rPr>
              <a:t>«Лучший знаток Пушкинской сказ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601200" y="1523880"/>
            <a:ext cx="91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есёл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.Кто из героев Пушкина носил золотую цеп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2. Кто из героев Пушкина никогда не спи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3. Чудесный предмет, который всегда говорил только правд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4. В каком необычном транспорте путешествовали два пушкинских героя? 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5. Какого острова нет на карт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6. Жилище старика со старухо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7. Как звали находчивого, трудолюбивого работника в одной из сказок А. С. Пушкин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80"/>
                </a:solidFill>
                <a:latin typeface="Times New Roman"/>
              </a:rPr>
              <a:t>8. Сказочный персонаж, исполняющий жел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9.  Насекомое, в которое превратился князь Гвидон в третий раз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0. «Любимая» вещь старухи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1 Сколько раз закидывал старик невод в мор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Times New Roman"/>
              </a:rPr>
              <a:t>12. Имя царя в «Сказке о золотом петушке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Подбери словеч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1. «Ой вы, гости-госпо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Долго ль ехали? Ку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Ладно ль за морем иль худ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И какое в свет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2. «А сидит в нем князь Гвидо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Он прислал теб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3. «Коли красная девиц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Будь нам мила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4. «Нужен мне работни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Times New Roman"/>
              </a:rPr>
              <a:t>Повар, конюх и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Из какой сказки отрыво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1. В синем небе звёзды блещ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В синем море волны хлещу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уча по небу ид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Бочка по морю плыв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2. Вдруг шатё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Распахнулся... и дев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Шамаханская цар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Вся сияя как за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800080"/>
                </a:solidFill>
                <a:latin typeface="Times New Roman"/>
              </a:rPr>
              <a:t>Тихо встретила царя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Жил-был поп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Толоконный ло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шел поп по база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Посмотреть кой-какого това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Навстречу ему Бал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Times New Roman"/>
              </a:rPr>
              <a:t>Идет, сам не зная куд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4.Жил старик со своею старух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У самого синего мор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Они жили в ветхой землян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800080"/>
                </a:solidFill>
                <a:latin typeface="Times New Roman"/>
              </a:rPr>
              <a:t>Ровно тридцать лет и три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Times New Roman"/>
              </a:rPr>
              <a:t>5.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Месяц, месяц, мой друж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Позолоченный рожок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Ты встаёшь во тьме глубок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Круглолицый, светлоо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И, обычай твой люб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 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Звёзды смотрят на т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Аль откажешь мне в отв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Не видал ли где на св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Ты царевны молодой? 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4-27T18:00:5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