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3EC2-06E4-4315-8105-CB5855707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DCBF-D7D7-4130-851A-B34054E5C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B77-FCE7-427E-9D27-9A720CCEF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6F9-5753-401A-971D-B849BBD9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54886-2989-41E0-A669-C2CB59E0E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440A-776D-4CA0-9414-EE3BA4B0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61155-82F1-4652-8787-B0149078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B96D-A245-41AA-95AC-0356B332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F268-153A-432E-8BA1-1D122740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5AD0-CA5B-4E29-A84A-B618F143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5107B-729C-4A3F-B3EC-288974C1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840-5FE9-41AE-8C51-AF7E4D76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FBA23-33D1-4FB9-9D50-9839559D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0415-D470-439D-B0A3-4F69F0D4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52D9-3C56-4289-8803-9D575B01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1451-9829-46EA-A4C9-DE6ECF18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01C93-B7C3-4AFD-A89C-0B1F6471F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754F5-634A-4C4C-A9AA-12893B5E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497FE-4138-41E2-B221-CEFA69D3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5DBB5-2ED5-4FBA-A20C-94F3A647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8382A-0BD5-4C5D-9295-8085CEA0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F7E80-245C-4EEC-B6E4-7BE4A151F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2F36-F0AF-484E-AC38-1115129F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0FE2E-96DF-4B31-8742-BF5C72CF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2E844-CCAA-46FF-AA3B-C6C3D118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040C1-31F1-45C2-ADEC-F6634945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40766-07D0-4D7A-9886-D1033D29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8A706-20BF-4ABE-8657-1F6D99761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2EAF2-AAD3-4F35-9F2B-55EDEC0C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22982-4930-4AD1-ABB5-0852F1CE9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7ACF2-3548-4634-B5CF-B55AF0F0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A66CB-B67D-435F-BB8B-E8830C61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51300-7462-46EE-8BDF-547512DA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6D34-B6C2-4A1D-B957-F247DCB4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7B243-C2D8-4F11-9D11-22B43476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04AE2-9F89-4318-B234-B8A27BC6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88FB5-87F9-4B9A-8C11-B0C087DA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7C12B-954E-446E-AB78-4233F517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14BC2-E4E5-4FCE-8A36-93F27FB1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B70DA-FC11-4361-8B65-878215D4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213AF-7956-4428-9C71-85E7EAD7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0682E-593A-4953-B02B-E5854EF8C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55039-E05C-4104-A94F-06A7A844C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94B8-66D5-4656-BC04-2DCFB966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E9A3-C014-41A5-A752-4ADE8788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596F-F731-46C3-B226-D4801B7B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C3E-4A98-4FD9-8BC5-AF2000BA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D20-6C73-41B1-B945-9113117E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30C8-385B-4CED-8406-A634135EC3C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C186-FBBF-439F-BE27-D1F3CBAB12E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C81F-39A2-478C-AE95-E7D0D6FC759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3A80-C587-4D5C-B9EF-40F49D23889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82520"/>
            <a:ext cx="7864560" cy="1073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1341360"/>
            <a:ext cx="7854840" cy="5112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Ezhova Viktoria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3" descr="C:\Users\Сергей\Pictures\Комната Паши\IMG_2437.JPG"/>
          <p:cNvPicPr/>
          <p:nvPr/>
        </p:nvPicPr>
        <p:blipFill>
          <a:blip r:embed="rId2"/>
          <a:stretch/>
        </p:blipFill>
        <p:spPr>
          <a:xfrm>
            <a:off x="1619280" y="2205000"/>
            <a:ext cx="5761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96840" y="103320"/>
            <a:ext cx="8424720" cy="1676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116000" y="2204640"/>
            <a:ext cx="669600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Picture 3" descr="C:\Users\Сергей\Pictures\Комната Паши\IMG_2440.JPG"/>
          <p:cNvPicPr/>
          <p:nvPr/>
        </p:nvPicPr>
        <p:blipFill>
          <a:blip r:embed="rId2"/>
          <a:stretch/>
        </p:blipFill>
        <p:spPr>
          <a:xfrm>
            <a:off x="1116000" y="2205000"/>
            <a:ext cx="6696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676440" y="328680"/>
            <a:ext cx="8010360" cy="18111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042560" y="2491920"/>
            <a:ext cx="69138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3" name="Picture 2" descr="C:\Users\Сергей\Pictures\Комната Паши\IMG_2441.JPG"/>
          <p:cNvPicPr/>
          <p:nvPr/>
        </p:nvPicPr>
        <p:blipFill>
          <a:blip r:embed="rId2"/>
          <a:stretch/>
        </p:blipFill>
        <p:spPr>
          <a:xfrm>
            <a:off x="1476360" y="2565360"/>
            <a:ext cx="61563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517680" y="182520"/>
            <a:ext cx="7900920" cy="20304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4000" y="2424240"/>
            <a:ext cx="7761240" cy="42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Picture 2" descr="C:\Users\Сергей\Pictures\Комната Паши\IMG_2439.JPG"/>
          <p:cNvPicPr/>
          <p:nvPr/>
        </p:nvPicPr>
        <p:blipFill>
          <a:blip r:embed="rId2"/>
          <a:stretch/>
        </p:blipFill>
        <p:spPr>
          <a:xfrm>
            <a:off x="1692360" y="2781360"/>
            <a:ext cx="5904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530280" y="255600"/>
            <a:ext cx="7864560" cy="196380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33160" y="2491920"/>
            <a:ext cx="785484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9" name="Picture 2" descr="C:\Users\Сергей\Pictures\Комната Паши\IMG_2442.JPG"/>
          <p:cNvPicPr/>
          <p:nvPr/>
        </p:nvPicPr>
        <p:blipFill>
          <a:blip r:embed="rId2"/>
          <a:stretch/>
        </p:blipFill>
        <p:spPr>
          <a:xfrm>
            <a:off x="1547640" y="2565360"/>
            <a:ext cx="54007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2T15:23:20Z</dcterms:created>
  <dc:creator>Сергей</dc:creator>
  <dc:description/>
  <dc:language>en-US</dc:language>
  <cp:lastModifiedBy>катерюшка</cp:lastModifiedBy>
  <dcterms:modified xsi:type="dcterms:W3CDTF">2017-09-27T16:44:06Z</dcterms:modified>
  <cp:revision>10</cp:revision>
  <dc:subject/>
  <dc:title>My bedroom</dc:title>
</cp:coreProperties>
</file>