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13C-F42B-4DFB-84EE-FE8474D5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136-CEE6-4EC0-8EAD-691653C9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E8F4-B38E-40DD-82BF-061555EA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0783-DA38-4EAE-8E6A-D38726CA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CE88-0006-420F-AE79-8C3501FF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B4C8-1E5B-4A65-93E0-056233CC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A90C-F0BA-4B35-AF6E-D629A373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604E-F569-47BA-AFB7-9CCE5F17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F80E-195A-4CCB-984B-4F5C5E35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B7BA-7F2A-46F9-9DEB-10B61C1D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515E-41C1-4172-99A3-ED1E3E2C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A42F-14F3-4603-8BA4-904173F2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A7A7-5B25-4B7A-A332-D9F17AA0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41B2-20F5-418D-8E67-5141EB2A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4BE0-CCE3-4686-897E-8FA2D513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8B40-A368-4704-8F30-18C08ACB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1842-2602-4AB4-942B-F6F7C8B5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A1E9D-0CD8-4B0B-8766-A439E03C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8C273-FFC8-4C98-AB0F-F8150F22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D90EA-04AD-401F-AD96-11B5D740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FC141-E087-4677-A941-A3D55629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E306E-A829-4B24-9603-255813A0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1FE-DF26-4BFE-BD5C-4EC7909F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53ACF-E332-4661-80A7-90B97F76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3F69A-47A1-42B0-86B2-004C3D47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7D2FB-B334-4496-A6EA-D7CB6AC8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BAEF1-89E3-4683-A1AC-C2A7D451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49364-8FC1-4C70-9050-B3FBA04D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6F35D-C383-42FC-B49E-4454707A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F4DC-A5F8-45DF-AA2A-507592E8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C186C-3A7C-4FFB-B845-D7D20F67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FDBBA-6F15-45ED-B1F2-E82BD8D7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5F582-F633-4DB7-9180-DBEC62A2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28B-6033-40CF-90F8-C3CD0741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2E729-7A02-4005-85B0-74534FCA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BEB75-572A-46A1-966C-7B15A95F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3D838-AD4F-40E5-9BDD-689238D6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BAA4A-5070-40EA-BD5B-424EC9A2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55611-2859-4861-BDF0-A4296EF8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77B5B-906C-4E30-B9DE-7F7825B0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0C44B-F804-4FB5-9768-25B859F6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AE4E5-1C75-4BF5-BAFD-D4461390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86B16-139A-4A71-A2C7-7FE4F96C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5A9-07B3-44E9-B047-E81CE9A4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7352-A1C2-4465-B297-E1FE0C8C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052D-C7D2-42E8-BFD4-8D98944F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664-527B-4485-BFE1-1687AEF1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C898-D527-4A32-BE51-F4372B8E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8B34-EF2F-46D8-857B-251EACA4C42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60EF-D610-40BD-97DC-F4939930ACE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2BB8-2ADE-4F15-9FA0-C8F6863BA5C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AF63-5955-453A-A89B-92CB4E0AAE2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82520"/>
            <a:ext cx="7864560" cy="1073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1341360"/>
            <a:ext cx="7854840" cy="511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Ezhova Viktoria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3" descr="C:\Users\Сергей\Pictures\Комната Паши\IMG_2437.JPG"/>
          <p:cNvPicPr/>
          <p:nvPr/>
        </p:nvPicPr>
        <p:blipFill>
          <a:blip r:embed="rId2"/>
          <a:stretch/>
        </p:blipFill>
        <p:spPr>
          <a:xfrm>
            <a:off x="1619280" y="2205000"/>
            <a:ext cx="5761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96840" y="103320"/>
            <a:ext cx="8424720" cy="16761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116000" y="2204640"/>
            <a:ext cx="669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Picture 3" descr="C:\Users\Сергей\Pictures\Комната Паши\IMG_2440.JPG"/>
          <p:cNvPicPr/>
          <p:nvPr/>
        </p:nvPicPr>
        <p:blipFill>
          <a:blip r:embed="rId2"/>
          <a:stretch/>
        </p:blipFill>
        <p:spPr>
          <a:xfrm>
            <a:off x="1116000" y="2205000"/>
            <a:ext cx="6696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676440" y="328680"/>
            <a:ext cx="8010360" cy="18111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042560" y="2491920"/>
            <a:ext cx="69138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Picture 2" descr="C:\Users\Сергей\Pictures\Комната Паши\IMG_2441.JPG"/>
          <p:cNvPicPr/>
          <p:nvPr/>
        </p:nvPicPr>
        <p:blipFill>
          <a:blip r:embed="rId2"/>
          <a:stretch/>
        </p:blipFill>
        <p:spPr>
          <a:xfrm>
            <a:off x="1476360" y="2565360"/>
            <a:ext cx="61563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517680" y="182520"/>
            <a:ext cx="7900920" cy="20304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4000" y="2424240"/>
            <a:ext cx="7761240" cy="42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Picture 2" descr="C:\Users\Сергей\Pictures\Комната Паши\IMG_2439.JPG"/>
          <p:cNvPicPr/>
          <p:nvPr/>
        </p:nvPicPr>
        <p:blipFill>
          <a:blip r:embed="rId2"/>
          <a:stretch/>
        </p:blipFill>
        <p:spPr>
          <a:xfrm>
            <a:off x="1692360" y="2781360"/>
            <a:ext cx="590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530280" y="255600"/>
            <a:ext cx="7864560" cy="19638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33160" y="2491920"/>
            <a:ext cx="78548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Picture 2" descr="C:\Users\Сергей\Pictures\Комната Паши\IMG_2442.JPG"/>
          <p:cNvPicPr/>
          <p:nvPr/>
        </p:nvPicPr>
        <p:blipFill>
          <a:blip r:embed="rId2"/>
          <a:stretch/>
        </p:blipFill>
        <p:spPr>
          <a:xfrm>
            <a:off x="1547640" y="2565360"/>
            <a:ext cx="5400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2T15:23:20Z</dcterms:created>
  <dc:creator>Сергей</dc:creator>
  <dc:description/>
  <dc:language>en-US</dc:language>
  <cp:lastModifiedBy>катерюшка</cp:lastModifiedBy>
  <dcterms:modified xsi:type="dcterms:W3CDTF">2017-09-27T16:44:06Z</dcterms:modified>
  <cp:revision>10</cp:revision>
  <dc:subject/>
  <dc:title>My bedroom</dc:title>
</cp:coreProperties>
</file>