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gif" ContentType="image/gif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5666-39D4-4AEC-ABE4-D84B62343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8C46-B3BD-45D3-BBDE-C62A5AA3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012A-F281-4770-B4D3-CBD0536BE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78AF-752C-4EC6-9AE2-121F07A3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59A-E7EF-4B65-872D-81F6F6B3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9D52-F404-4443-8F4F-0A130145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5076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60640" y="210132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088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5076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60640" y="4587480"/>
            <a:ext cx="277092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A8FD-17B0-4A36-A0BC-5FD97D19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6C3-D11A-417B-8CC2-B542A97A8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555120"/>
            <a:ext cx="86058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9DB-662D-4BF2-B236-ADCFFC37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D87-46E7-4850-ADB2-83EA4A61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58748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167-54A7-478B-A133-17E90573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088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2101320"/>
            <a:ext cx="4199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0880" y="4587480"/>
            <a:ext cx="860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A7C-B068-415F-8D71-B889687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300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3000" cy="498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78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0000" cy="5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E316C-361C-41E0-AE0F-B3B95C4EB8B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6456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7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9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9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jpeg"/><Relationship Id="rId3" Type="http://schemas.openxmlformats.org/officeDocument/2006/relationships/image" Target="../media/image16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6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jpeg"/><Relationship Id="rId3" Type="http://schemas.openxmlformats.org/officeDocument/2006/relationships/image" Target="../media/image23.jpeg"/><Relationship Id="rId4" Type="http://schemas.openxmlformats.org/officeDocument/2006/relationships/image" Target="../media/image25.jpeg"/><Relationship Id="rId5" Type="http://schemas.openxmlformats.org/officeDocument/2006/relationships/image" Target="../media/image18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image" Target="../media/image7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Дидактическая игра как средство обучения татарскому языку в детском саду</a:t>
            </a:r>
            <a:endParaRPr b="1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5694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Дидактик</a:t>
            </a:r>
            <a:r>
              <a:rPr b="1" lang="ru-RU" sz="9600" spc="-1" strike="noStrike">
                <a:solidFill>
                  <a:srgbClr val="333333"/>
                </a:solidFill>
                <a:latin typeface="Bookman Old Style"/>
              </a:rPr>
              <a:t> </a:t>
            </a:r>
            <a:r>
              <a:rPr b="1" lang="ru-RU" sz="9600" spc="-1" strike="noStrike">
                <a:solidFill>
                  <a:srgbClr val="ff0000"/>
                </a:solidFill>
                <a:latin typeface="Bookman Old Style"/>
              </a:rPr>
              <a:t>уены</a:t>
            </a:r>
            <a:endParaRPr b="1" lang="en-US" sz="9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36720" y="3924360"/>
            <a:ext cx="8137440" cy="24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7200" spc="-1" strike="noStrike">
                <a:solidFill>
                  <a:srgbClr val="7030a0"/>
                </a:solidFill>
                <a:latin typeface="Constantia"/>
              </a:rPr>
              <a:t>«Кем нәрсә ярата?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86920" y="-503640"/>
            <a:ext cx="755964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Аю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1"/>
          <a:stretch/>
        </p:blipFill>
        <p:spPr>
          <a:xfrm>
            <a:off x="360360" y="3060720"/>
            <a:ext cx="5040360" cy="5759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2"/>
          <a:stretch/>
        </p:blipFill>
        <p:spPr>
          <a:xfrm>
            <a:off x="1146240" y="1440000"/>
            <a:ext cx="11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"/>
          <p:cNvPicPr/>
          <p:nvPr/>
        </p:nvPicPr>
        <p:blipFill>
          <a:blip r:embed="rId3"/>
          <a:stretch/>
        </p:blipFill>
        <p:spPr>
          <a:xfrm>
            <a:off x="4386240" y="1449360"/>
            <a:ext cx="11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4"/>
          <a:stretch/>
        </p:blipFill>
        <p:spPr>
          <a:xfrm>
            <a:off x="6983280" y="1871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"/>
          <p:cNvPicPr/>
          <p:nvPr/>
        </p:nvPicPr>
        <p:blipFill>
          <a:blip r:embed="rId5"/>
          <a:stretch/>
        </p:blipFill>
        <p:spPr>
          <a:xfrm>
            <a:off x="7559640" y="410364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"/>
          <p:cNvPicPr/>
          <p:nvPr/>
        </p:nvPicPr>
        <p:blipFill>
          <a:blip r:embed="rId6"/>
          <a:stretch/>
        </p:blipFill>
        <p:spPr>
          <a:xfrm>
            <a:off x="5908680" y="5832360"/>
            <a:ext cx="165096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AutoShape 2"/>
          <p:cNvSpPr/>
          <p:nvPr/>
        </p:nvSpPr>
        <p:spPr>
          <a:xfrm>
            <a:off x="179280" y="270036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4859280" y="179280"/>
            <a:ext cx="2879640" cy="2700360"/>
          </a:xfrm>
          <a:custGeom>
            <a:avLst/>
            <a:gdLst>
              <a:gd name="textAreaLeft" fmla="*/ 676800 w 2879640"/>
              <a:gd name="textAreaRight" fmla="*/ 2201040 w 287964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2879640" y="2700360"/>
            <a:ext cx="5040360" cy="5759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1008000" y="3033720"/>
            <a:ext cx="11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3"/>
          <a:stretch/>
        </p:blipFill>
        <p:spPr>
          <a:xfrm>
            <a:off x="5759280" y="576360"/>
            <a:ext cx="1157400" cy="1143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"/>
          <p:cNvPicPr/>
          <p:nvPr/>
        </p:nvPicPr>
        <p:blipFill>
          <a:blip r:embed="rId4"/>
          <a:stretch/>
        </p:blipFill>
        <p:spPr>
          <a:xfrm>
            <a:off x="7775640" y="4834080"/>
            <a:ext cx="12031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360360" y="3060720"/>
            <a:ext cx="4140360" cy="43196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Куян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Oval 3"/>
          <p:cNvSpPr/>
          <p:nvPr/>
        </p:nvSpPr>
        <p:spPr>
          <a:xfrm flipH="1">
            <a:off x="-2809080" y="1141560"/>
            <a:ext cx="144360" cy="4572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4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6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7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2"/>
          <a:stretch/>
        </p:blipFill>
        <p:spPr>
          <a:xfrm>
            <a:off x="-4824360" y="-1136520"/>
            <a:ext cx="647640" cy="430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3"/>
          <a:stretch/>
        </p:blipFill>
        <p:spPr>
          <a:xfrm>
            <a:off x="4248000" y="13683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"/>
          <p:cNvPicPr/>
          <p:nvPr/>
        </p:nvPicPr>
        <p:blipFill>
          <a:blip r:embed="rId4"/>
          <a:stretch/>
        </p:blipFill>
        <p:spPr>
          <a:xfrm>
            <a:off x="7056360" y="1871640"/>
            <a:ext cx="1295640" cy="1368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5"/>
          <a:stretch/>
        </p:blipFill>
        <p:spPr>
          <a:xfrm>
            <a:off x="7848720" y="3959280"/>
            <a:ext cx="1224000" cy="161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"/>
          <p:cNvPicPr/>
          <p:nvPr/>
        </p:nvPicPr>
        <p:blipFill>
          <a:blip r:embed="rId6"/>
          <a:stretch/>
        </p:blipFill>
        <p:spPr>
          <a:xfrm>
            <a:off x="5832360" y="5904000"/>
            <a:ext cx="179064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879640" y="1800360"/>
            <a:ext cx="4140360" cy="431928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3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6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1295280" y="107964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3"/>
          <a:stretch/>
        </p:blipFill>
        <p:spPr>
          <a:xfrm>
            <a:off x="946080" y="425772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4"/>
          <a:stretch/>
        </p:blipFill>
        <p:spPr>
          <a:xfrm>
            <a:off x="7704000" y="4824360"/>
            <a:ext cx="1079640" cy="151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Төлке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tretch/>
        </p:blipFill>
        <p:spPr>
          <a:xfrm>
            <a:off x="900000" y="3060720"/>
            <a:ext cx="3780000" cy="3959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2"/>
          <a:stretch/>
        </p:blipFill>
        <p:spPr>
          <a:xfrm>
            <a:off x="4176720" y="1440000"/>
            <a:ext cx="1506600" cy="1079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3"/>
          <a:stretch/>
        </p:blipFill>
        <p:spPr>
          <a:xfrm>
            <a:off x="5832360" y="5904000"/>
            <a:ext cx="179064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4"/>
          <a:stretch/>
        </p:blipFill>
        <p:spPr>
          <a:xfrm>
            <a:off x="6983280" y="187164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"/>
          <p:cNvPicPr/>
          <p:nvPr/>
        </p:nvPicPr>
        <p:blipFill>
          <a:blip r:embed="rId5"/>
          <a:stretch/>
        </p:blipFill>
        <p:spPr>
          <a:xfrm>
            <a:off x="1057320" y="1368360"/>
            <a:ext cx="1535040" cy="1224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"/>
          <p:cNvPicPr/>
          <p:nvPr/>
        </p:nvPicPr>
        <p:blipFill>
          <a:blip r:embed="rId6"/>
          <a:stretch/>
        </p:blipFill>
        <p:spPr>
          <a:xfrm>
            <a:off x="7596360" y="4103640"/>
            <a:ext cx="1618920" cy="12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6480000" y="1079640"/>
            <a:ext cx="3240360" cy="2519280"/>
          </a:xfrm>
          <a:custGeom>
            <a:avLst/>
            <a:gdLst>
              <a:gd name="textAreaLeft" fmla="*/ 761400 w 3240360"/>
              <a:gd name="textAreaRight" fmla="*/ 2476800 w 3240360"/>
              <a:gd name="textAreaTop" fmla="*/ 295920 h 2519280"/>
              <a:gd name="textAreaBottom" fmla="*/ 1580400 h 25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"/>
          <p:cNvPicPr/>
          <p:nvPr/>
        </p:nvPicPr>
        <p:blipFill>
          <a:blip r:embed="rId1"/>
          <a:stretch/>
        </p:blipFill>
        <p:spPr>
          <a:xfrm>
            <a:off x="3060720" y="3060720"/>
            <a:ext cx="3779640" cy="395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"/>
          <p:cNvPicPr/>
          <p:nvPr/>
        </p:nvPicPr>
        <p:blipFill>
          <a:blip r:embed="rId2"/>
          <a:stretch/>
        </p:blipFill>
        <p:spPr>
          <a:xfrm>
            <a:off x="833400" y="4319640"/>
            <a:ext cx="1506600" cy="1079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"/>
          <p:cNvPicPr/>
          <p:nvPr/>
        </p:nvPicPr>
        <p:blipFill>
          <a:blip r:embed="rId3"/>
          <a:stretch/>
        </p:blipFill>
        <p:spPr>
          <a:xfrm>
            <a:off x="7353360" y="4824360"/>
            <a:ext cx="1790640" cy="1143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"/>
          <p:cNvPicPr/>
          <p:nvPr/>
        </p:nvPicPr>
        <p:blipFill>
          <a:blip r:embed="rId4"/>
          <a:stretch/>
        </p:blipFill>
        <p:spPr>
          <a:xfrm>
            <a:off x="7343640" y="1440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"/>
          <p:cNvPicPr/>
          <p:nvPr/>
        </p:nvPicPr>
        <p:blipFill>
          <a:blip r:embed="rId5"/>
          <a:stretch/>
        </p:blipFill>
        <p:spPr>
          <a:xfrm>
            <a:off x="1224000" y="1079640"/>
            <a:ext cx="153504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Бүре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360360" y="2879640"/>
            <a:ext cx="4500720" cy="3780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"/>
          <p:cNvPicPr/>
          <p:nvPr/>
        </p:nvPicPr>
        <p:blipFill>
          <a:blip r:embed="rId2"/>
          <a:stretch/>
        </p:blipFill>
        <p:spPr>
          <a:xfrm>
            <a:off x="1012680" y="1440000"/>
            <a:ext cx="1506600" cy="1079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7497720" y="4184640"/>
            <a:ext cx="179064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4"/>
          <a:stretch/>
        </p:blipFill>
        <p:spPr>
          <a:xfrm>
            <a:off x="6912000" y="1944720"/>
            <a:ext cx="1655640" cy="1295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5"/>
          <a:stretch/>
        </p:blipFill>
        <p:spPr>
          <a:xfrm>
            <a:off x="4176720" y="129528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6"/>
          <a:stretch/>
        </p:blipFill>
        <p:spPr>
          <a:xfrm>
            <a:off x="5902200" y="5832360"/>
            <a:ext cx="165744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AutoShape 2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3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480000" y="1079640"/>
            <a:ext cx="3240360" cy="2519280"/>
          </a:xfrm>
          <a:custGeom>
            <a:avLst/>
            <a:gdLst>
              <a:gd name="textAreaLeft" fmla="*/ 761400 w 3240360"/>
              <a:gd name="textAreaRight" fmla="*/ 2476800 w 3240360"/>
              <a:gd name="textAreaTop" fmla="*/ 295920 h 2519280"/>
              <a:gd name="textAreaBottom" fmla="*/ 1580400 h 25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2700360" y="2519280"/>
            <a:ext cx="4500720" cy="3780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1012680" y="4319640"/>
            <a:ext cx="1506600" cy="1079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1224000" y="93672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4"/>
          <a:stretch/>
        </p:blipFill>
        <p:spPr>
          <a:xfrm>
            <a:off x="7343640" y="1368360"/>
            <a:ext cx="1656000" cy="129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"/>
          <p:cNvPicPr/>
          <p:nvPr/>
        </p:nvPicPr>
        <p:blipFill>
          <a:blip r:embed="rId5"/>
          <a:stretch/>
        </p:blipFill>
        <p:spPr>
          <a:xfrm>
            <a:off x="7353360" y="4751280"/>
            <a:ext cx="179064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Тычкан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933480" y="1440000"/>
            <a:ext cx="1585800" cy="1079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"/>
          <p:cNvPicPr/>
          <p:nvPr/>
        </p:nvPicPr>
        <p:blipFill>
          <a:blip r:embed="rId2"/>
          <a:stretch/>
        </p:blipFill>
        <p:spPr>
          <a:xfrm>
            <a:off x="720720" y="3240000"/>
            <a:ext cx="4319640" cy="3600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9" descr=""/>
          <p:cNvPicPr/>
          <p:nvPr/>
        </p:nvPicPr>
        <p:blipFill>
          <a:blip r:embed="rId3"/>
          <a:stretch/>
        </p:blipFill>
        <p:spPr>
          <a:xfrm>
            <a:off x="6865920" y="1995480"/>
            <a:ext cx="1774800" cy="1243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"/>
          <p:cNvPicPr/>
          <p:nvPr/>
        </p:nvPicPr>
        <p:blipFill>
          <a:blip r:embed="rId4"/>
          <a:stretch/>
        </p:blipFill>
        <p:spPr>
          <a:xfrm>
            <a:off x="4140360" y="1440000"/>
            <a:ext cx="1439640" cy="126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5"/>
          <a:stretch/>
        </p:blipFill>
        <p:spPr>
          <a:xfrm>
            <a:off x="7559640" y="4211640"/>
            <a:ext cx="1619280" cy="1260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2" descr=""/>
          <p:cNvPicPr/>
          <p:nvPr/>
        </p:nvPicPr>
        <p:blipFill>
          <a:blip r:embed="rId6"/>
          <a:stretch/>
        </p:blipFill>
        <p:spPr>
          <a:xfrm>
            <a:off x="5904000" y="5832360"/>
            <a:ext cx="1655640" cy="12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Игр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62626"/>
                </a:solidFill>
                <a:latin typeface="Arial"/>
              </a:rPr>
              <a:t>– это наиболее доступный для детей вид деятельности, способ переработки из окружающего мира полученных впечатлений. </a:t>
            </a:r>
            <a:endParaRPr b="1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" name="Содержимое 3" descr="1"/>
          <p:cNvPicPr/>
          <p:nvPr/>
        </p:nvPicPr>
        <p:blipFill>
          <a:blip r:embed="rId1"/>
          <a:stretch/>
        </p:blipFill>
        <p:spPr>
          <a:xfrm>
            <a:off x="503280" y="2411280"/>
            <a:ext cx="9145440" cy="460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3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4"/>
          <p:cNvSpPr/>
          <p:nvPr/>
        </p:nvSpPr>
        <p:spPr>
          <a:xfrm>
            <a:off x="6480000" y="1079640"/>
            <a:ext cx="3240360" cy="2519280"/>
          </a:xfrm>
          <a:custGeom>
            <a:avLst/>
            <a:gdLst>
              <a:gd name="textAreaLeft" fmla="*/ 761400 w 3240360"/>
              <a:gd name="textAreaRight" fmla="*/ 2476800 w 3240360"/>
              <a:gd name="textAreaTop" fmla="*/ 295920 h 2519280"/>
              <a:gd name="textAreaBottom" fmla="*/ 1580400 h 25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5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1"/>
          <a:stretch/>
        </p:blipFill>
        <p:spPr>
          <a:xfrm>
            <a:off x="1260360" y="1079640"/>
            <a:ext cx="1586160" cy="1079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2"/>
          <a:stretch/>
        </p:blipFill>
        <p:spPr>
          <a:xfrm>
            <a:off x="2879640" y="2700360"/>
            <a:ext cx="4319640" cy="3600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"/>
          <p:cNvPicPr/>
          <p:nvPr/>
        </p:nvPicPr>
        <p:blipFill>
          <a:blip r:embed="rId3"/>
          <a:stretch/>
        </p:blipFill>
        <p:spPr>
          <a:xfrm>
            <a:off x="7380360" y="1440000"/>
            <a:ext cx="1439640" cy="12603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"/>
          <p:cNvPicPr/>
          <p:nvPr/>
        </p:nvPicPr>
        <p:blipFill>
          <a:blip r:embed="rId4"/>
          <a:stretch/>
        </p:blipFill>
        <p:spPr>
          <a:xfrm>
            <a:off x="7380360" y="4859280"/>
            <a:ext cx="1774800" cy="1243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5"/>
          <a:stretch/>
        </p:blipFill>
        <p:spPr>
          <a:xfrm>
            <a:off x="792000" y="4282920"/>
            <a:ext cx="1619280" cy="12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0000" y="178920"/>
            <a:ext cx="7559640" cy="90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94006b"/>
                </a:solidFill>
                <a:latin typeface="Arial"/>
              </a:rPr>
              <a:t>Тиен нәрсә ярата?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Oval 2"/>
          <p:cNvSpPr/>
          <p:nvPr/>
        </p:nvSpPr>
        <p:spPr>
          <a:xfrm>
            <a:off x="539640" y="1079640"/>
            <a:ext cx="251964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Oval 3"/>
          <p:cNvSpPr/>
          <p:nvPr/>
        </p:nvSpPr>
        <p:spPr>
          <a:xfrm>
            <a:off x="3600360" y="1079640"/>
            <a:ext cx="2519280" cy="180000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6300720" y="1619280"/>
            <a:ext cx="2700360" cy="197964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5"/>
          <p:cNvSpPr/>
          <p:nvPr/>
        </p:nvSpPr>
        <p:spPr>
          <a:xfrm>
            <a:off x="7020000" y="3780000"/>
            <a:ext cx="2700360" cy="197928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5400720" y="5580000"/>
            <a:ext cx="2700360" cy="1800360"/>
          </a:xfrm>
          <a:prstGeom prst="ellipse">
            <a:avLst/>
          </a:prstGeom>
          <a:solidFill>
            <a:srgbClr val="99cc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1"/>
          <a:stretch/>
        </p:blipFill>
        <p:spPr>
          <a:xfrm>
            <a:off x="720720" y="3240000"/>
            <a:ext cx="3780000" cy="360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2"/>
          <a:stretch/>
        </p:blipFill>
        <p:spPr>
          <a:xfrm>
            <a:off x="6840360" y="1979640"/>
            <a:ext cx="1619280" cy="12603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9" descr=""/>
          <p:cNvPicPr/>
          <p:nvPr/>
        </p:nvPicPr>
        <p:blipFill>
          <a:blip r:embed="rId3"/>
          <a:stretch/>
        </p:blipFill>
        <p:spPr>
          <a:xfrm>
            <a:off x="933480" y="1440000"/>
            <a:ext cx="1585800" cy="1079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"/>
          <p:cNvPicPr/>
          <p:nvPr/>
        </p:nvPicPr>
        <p:blipFill>
          <a:blip r:embed="rId4"/>
          <a:stretch/>
        </p:blipFill>
        <p:spPr>
          <a:xfrm>
            <a:off x="7440480" y="4157640"/>
            <a:ext cx="1774800" cy="12430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1" descr=""/>
          <p:cNvPicPr/>
          <p:nvPr/>
        </p:nvPicPr>
        <p:blipFill>
          <a:blip r:embed="rId5"/>
          <a:stretch/>
        </p:blipFill>
        <p:spPr>
          <a:xfrm>
            <a:off x="4110120" y="1441440"/>
            <a:ext cx="1506600" cy="10796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2" descr=""/>
          <p:cNvPicPr/>
          <p:nvPr/>
        </p:nvPicPr>
        <p:blipFill>
          <a:blip r:embed="rId6"/>
          <a:stretch/>
        </p:blipFill>
        <p:spPr>
          <a:xfrm>
            <a:off x="6119640" y="5759280"/>
            <a:ext cx="1295640" cy="13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0720" y="267840"/>
            <a:ext cx="860904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AutoShape 2"/>
          <p:cNvSpPr/>
          <p:nvPr/>
        </p:nvSpPr>
        <p:spPr>
          <a:xfrm>
            <a:off x="179280" y="395928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539640" y="72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>
            <a:off x="6480000" y="1079640"/>
            <a:ext cx="3240360" cy="2519280"/>
          </a:xfrm>
          <a:custGeom>
            <a:avLst/>
            <a:gdLst>
              <a:gd name="textAreaLeft" fmla="*/ 761400 w 3240360"/>
              <a:gd name="textAreaRight" fmla="*/ 2476800 w 3240360"/>
              <a:gd name="textAreaTop" fmla="*/ 295920 h 2519280"/>
              <a:gd name="textAreaBottom" fmla="*/ 1580400 h 25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6840360" y="4500720"/>
            <a:ext cx="2880000" cy="2700360"/>
          </a:xfrm>
          <a:custGeom>
            <a:avLst/>
            <a:gdLst>
              <a:gd name="textAreaLeft" fmla="*/ 676800 w 2880000"/>
              <a:gd name="textAreaRight" fmla="*/ 2201400 w 2880000"/>
              <a:gd name="textAreaTop" fmla="*/ 317520 h 2700360"/>
              <a:gd name="textAreaBottom" fmla="*/ 1693800 h 27003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9" y="5766"/>
                  <a:pt x="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lnTo>
                  <a:pt x="10800" y="21599"/>
                </a:lnTo>
                <a:close/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6" descr=""/>
          <p:cNvPicPr/>
          <p:nvPr/>
        </p:nvPicPr>
        <p:blipFill>
          <a:blip r:embed="rId1"/>
          <a:stretch/>
        </p:blipFill>
        <p:spPr>
          <a:xfrm>
            <a:off x="3060720" y="2879640"/>
            <a:ext cx="3779640" cy="36003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"/>
          <p:cNvPicPr/>
          <p:nvPr/>
        </p:nvPicPr>
        <p:blipFill>
          <a:blip r:embed="rId2"/>
          <a:stretch/>
        </p:blipFill>
        <p:spPr>
          <a:xfrm>
            <a:off x="1152360" y="1079640"/>
            <a:ext cx="1694160" cy="1152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"/>
          <p:cNvPicPr/>
          <p:nvPr/>
        </p:nvPicPr>
        <p:blipFill>
          <a:blip r:embed="rId3"/>
          <a:stretch/>
        </p:blipFill>
        <p:spPr>
          <a:xfrm>
            <a:off x="7559640" y="4859280"/>
            <a:ext cx="1619280" cy="1260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4"/>
          <a:stretch/>
        </p:blipFill>
        <p:spPr>
          <a:xfrm>
            <a:off x="7415280" y="144000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"/>
          <p:cNvPicPr/>
          <p:nvPr/>
        </p:nvPicPr>
        <p:blipFill>
          <a:blip r:embed="rId5"/>
          <a:stretch/>
        </p:blipFill>
        <p:spPr>
          <a:xfrm>
            <a:off x="792000" y="4229280"/>
            <a:ext cx="1775160" cy="12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8000"/>
            </a:br>
            <a:br>
              <a:rPr sz="8000"/>
            </a:br>
            <a:br>
              <a:rPr sz="8000"/>
            </a:br>
            <a:br>
              <a:rPr sz="8000"/>
            </a:b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Спасибо за внимание!</a:t>
            </a:r>
            <a:endParaRPr b="1" lang="en-US" sz="8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6600" spc="-1" strike="noStrike">
                <a:solidFill>
                  <a:srgbClr val="ff0000"/>
                </a:solidFill>
                <a:latin typeface="Arial"/>
              </a:rPr>
              <a:t>Дидактические игры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— </a:t>
            </a:r>
            <a:r>
              <a:rPr b="0" lang="ru-RU" sz="4000" spc="-1" strike="noStrike">
                <a:solidFill>
                  <a:srgbClr val="333333"/>
                </a:solidFill>
                <a:latin typeface="Arial"/>
              </a:rPr>
              <a:t>это разновидность игр с правилами, специально создаваемых педагогикой в целях обучения и воспитания детей.</a:t>
            </a:r>
            <a:endParaRPr b="1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идактические игры с детьми младшего дошкольного возраст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  «Мой дом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Пальчиковые игры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«Позови домо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на тему «Продукты»: «Назови правильн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 на тему «Игрушки»: игра «Что, какой?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/и  на тему «Счет до 5»  «Сколько ябл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" descr="http://planetadetstva.net/wp-content/uploads/2014/06/didakticheskie-igry-po-obucheniyu-tatarskomu-yazyku19.png"/>
          <p:cNvPicPr/>
          <p:nvPr/>
        </p:nvPicPr>
        <p:blipFill>
          <a:blip r:embed="rId1"/>
          <a:stretch/>
        </p:blipFill>
        <p:spPr>
          <a:xfrm>
            <a:off x="576360" y="395280"/>
            <a:ext cx="921708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идактические игры с детьми старшего дошкольного возраста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40880" y="2101320"/>
            <a:ext cx="860580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«Учимся игр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Магазин одеж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В огород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Кто что делает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Подбери мебе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Назови правиль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Кто на горк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Что в портфел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/и «Какой шарик ты подариш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лог между детьми «Куда ты идеш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http://planetadetstva.net/wp-content/uploads/2014/06/didakticheskie-igry-po-obucheniyu-tatarskomu-yazyku22.png"/>
          <p:cNvPicPr/>
          <p:nvPr/>
        </p:nvPicPr>
        <p:blipFill>
          <a:blip r:embed="rId1"/>
          <a:stretch/>
        </p:blipFill>
        <p:spPr>
          <a:xfrm>
            <a:off x="360360" y="539640"/>
            <a:ext cx="92883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http://planetadetstva.net/wp-content/uploads/2014/06/didakticheskie-igry-po-obucheniyu-tatarskomu-yazyku31.png"/>
          <p:cNvPicPr/>
          <p:nvPr/>
        </p:nvPicPr>
        <p:blipFill>
          <a:blip r:embed="rId1"/>
          <a:stretch/>
        </p:blipFill>
        <p:spPr>
          <a:xfrm>
            <a:off x="431640" y="755640"/>
            <a:ext cx="921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580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 u="sng">
                <a:solidFill>
                  <a:srgbClr val="002060"/>
                </a:solidFill>
                <a:uFillTx/>
                <a:latin typeface="Arial"/>
              </a:rPr>
              <a:t>Дидактическая игра «Помоги маме»</a:t>
            </a:r>
            <a:endParaRPr b="1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5" name="Содержимое 3" descr="http://planetadetstva.net/wp-content/uploads/2014/06/didakticheskie-igry-po-obucheniyu-tatarskomu-yazyku63.png"/>
          <p:cNvPicPr/>
          <p:nvPr/>
        </p:nvPicPr>
        <p:blipFill>
          <a:blip r:embed="rId1"/>
          <a:stretch/>
        </p:blipFill>
        <p:spPr>
          <a:xfrm>
            <a:off x="1727280" y="2266920"/>
            <a:ext cx="7200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5:02:56Z</dcterms:created>
  <dc:creator/>
  <dc:description/>
  <dc:language>en-US</dc:language>
  <cp:lastModifiedBy>Роза</cp:lastModifiedBy>
  <dcterms:modified xsi:type="dcterms:W3CDTF">2015-12-11T09:25:54Z</dcterms:modified>
  <cp:revision>17</cp:revision>
  <dc:subject/>
  <dc:title>      Дидактическая игра как средство обучения татарскому языку в детском саду</dc:title>
</cp:coreProperties>
</file>