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gif" ContentType="image/gif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A2A1-378E-4DC5-A73A-5E1FE844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FBC-2447-4172-9784-4AA42B46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D35-C8B9-4A9C-80D6-1F270034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0DC-FE6B-4058-8745-C5603C42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0A2-3DDB-4207-8A17-4DBB9EC1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D49-A69C-4AC4-B65F-10688292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D4E-AA00-4E86-AFC6-B8B17FC6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870-80C0-46A1-825B-9A6458AF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015-FB97-4313-8233-F20CF546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49F-5340-4EDC-9F52-F42281DE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E2C-497C-419D-998E-4C48B821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8E8-E3EA-4E64-85D1-C96AF818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82B36-2199-4FF8-B6A4-92A948DFC32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6456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7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9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6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0.jpeg"/><Relationship Id="rId3" Type="http://schemas.openxmlformats.org/officeDocument/2006/relationships/image" Target="../media/image23.jpeg"/><Relationship Id="rId4" Type="http://schemas.openxmlformats.org/officeDocument/2006/relationships/image" Target="../media/image25.jpeg"/><Relationship Id="rId5" Type="http://schemas.openxmlformats.org/officeDocument/2006/relationships/image" Target="../media/image18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image" Target="../media/image7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Дидактическая игра как средство обучения татарскому языку в детском саду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5694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Дидактик</a:t>
            </a:r>
            <a:r>
              <a:rPr b="1" lang="ru-RU" sz="96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уены</a:t>
            </a:r>
            <a:endParaRPr b="1" lang="en-US" sz="9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36720" y="3924360"/>
            <a:ext cx="813744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Constantia"/>
              </a:rPr>
              <a:t>«Кем нәрсә ярата?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6920" y="-503640"/>
            <a:ext cx="755964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4006b"/>
                </a:solidFill>
                <a:latin typeface="Arial"/>
              </a:rPr>
              <a:t>Аю нәрсә ярата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Oval 2"/>
          <p:cNvSpPr/>
          <p:nvPr/>
        </p:nvSpPr>
        <p:spPr>
          <a:xfrm>
            <a:off x="539640" y="1079640"/>
            <a:ext cx="251964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3600360" y="1079640"/>
            <a:ext cx="251928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00720" y="1619280"/>
            <a:ext cx="2700360" cy="19796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7020000" y="3780000"/>
            <a:ext cx="2700360" cy="197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5400720" y="5580000"/>
            <a:ext cx="2700360" cy="180036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360360" y="3060720"/>
            <a:ext cx="5040360" cy="5759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2"/>
          <a:stretch/>
        </p:blipFill>
        <p:spPr>
          <a:xfrm>
            <a:off x="1146240" y="1440000"/>
            <a:ext cx="11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3"/>
          <a:stretch/>
        </p:blipFill>
        <p:spPr>
          <a:xfrm>
            <a:off x="4386240" y="1449360"/>
            <a:ext cx="11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4"/>
          <a:stretch/>
        </p:blipFill>
        <p:spPr>
          <a:xfrm>
            <a:off x="6983280" y="1871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5"/>
          <a:stretch/>
        </p:blipFill>
        <p:spPr>
          <a:xfrm>
            <a:off x="7559640" y="4103640"/>
            <a:ext cx="1655640" cy="1295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6"/>
          <a:stretch/>
        </p:blipFill>
        <p:spPr>
          <a:xfrm>
            <a:off x="5908680" y="5832360"/>
            <a:ext cx="165096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0720" y="2678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AutoShape 2"/>
          <p:cNvSpPr/>
          <p:nvPr/>
        </p:nvSpPr>
        <p:spPr>
          <a:xfrm>
            <a:off x="179280" y="270036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4859280" y="179280"/>
            <a:ext cx="2879640" cy="2700360"/>
          </a:xfrm>
          <a:custGeom>
            <a:avLst/>
            <a:gdLst>
              <a:gd name="textAreaLeft" fmla="*/ 676800 w 2879640"/>
              <a:gd name="textAreaRight" fmla="*/ 2201040 w 287964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6840360" y="450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2879640" y="2700360"/>
            <a:ext cx="5040360" cy="5759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1008000" y="3033720"/>
            <a:ext cx="11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3"/>
          <a:stretch/>
        </p:blipFill>
        <p:spPr>
          <a:xfrm>
            <a:off x="5759280" y="576360"/>
            <a:ext cx="11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4"/>
          <a:stretch/>
        </p:blipFill>
        <p:spPr>
          <a:xfrm>
            <a:off x="7775640" y="4834080"/>
            <a:ext cx="12031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60360" y="3060720"/>
            <a:ext cx="4140360" cy="4319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755964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4006b"/>
                </a:solidFill>
                <a:latin typeface="Arial"/>
              </a:rPr>
              <a:t>Куян нәрсә ярата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Oval 3"/>
          <p:cNvSpPr/>
          <p:nvPr/>
        </p:nvSpPr>
        <p:spPr>
          <a:xfrm flipH="1">
            <a:off x="-2809080" y="1141560"/>
            <a:ext cx="144360" cy="4572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3600360" y="1079640"/>
            <a:ext cx="251928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6300720" y="1619280"/>
            <a:ext cx="2700360" cy="19796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7020000" y="3780000"/>
            <a:ext cx="2700360" cy="197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5400720" y="5580000"/>
            <a:ext cx="2700360" cy="180036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2"/>
          <a:stretch/>
        </p:blipFill>
        <p:spPr>
          <a:xfrm>
            <a:off x="-4824360" y="-1136520"/>
            <a:ext cx="647640" cy="430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3"/>
          <a:stretch/>
        </p:blipFill>
        <p:spPr>
          <a:xfrm>
            <a:off x="4248000" y="13683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"/>
          <p:cNvPicPr/>
          <p:nvPr/>
        </p:nvPicPr>
        <p:blipFill>
          <a:blip r:embed="rId4"/>
          <a:stretch/>
        </p:blipFill>
        <p:spPr>
          <a:xfrm>
            <a:off x="7056360" y="1871640"/>
            <a:ext cx="1295640" cy="1368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5"/>
          <a:stretch/>
        </p:blipFill>
        <p:spPr>
          <a:xfrm>
            <a:off x="7848720" y="3959280"/>
            <a:ext cx="1224000" cy="1619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"/>
          <p:cNvPicPr/>
          <p:nvPr/>
        </p:nvPicPr>
        <p:blipFill>
          <a:blip r:embed="rId6"/>
          <a:stretch/>
        </p:blipFill>
        <p:spPr>
          <a:xfrm>
            <a:off x="5832360" y="5904000"/>
            <a:ext cx="179064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0720" y="2678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879640" y="1800360"/>
            <a:ext cx="4140360" cy="431928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3"/>
          <p:cNvSpPr/>
          <p:nvPr/>
        </p:nvSpPr>
        <p:spPr>
          <a:xfrm>
            <a:off x="179280" y="395928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539640" y="72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6840360" y="450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1295280" y="107964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3"/>
          <a:stretch/>
        </p:blipFill>
        <p:spPr>
          <a:xfrm>
            <a:off x="946080" y="42577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4"/>
          <a:stretch/>
        </p:blipFill>
        <p:spPr>
          <a:xfrm>
            <a:off x="7704000" y="4824360"/>
            <a:ext cx="107964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755964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4006b"/>
                </a:solidFill>
                <a:latin typeface="Arial"/>
              </a:rPr>
              <a:t>Төлке нәрсә ярата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Oval 2"/>
          <p:cNvSpPr/>
          <p:nvPr/>
        </p:nvSpPr>
        <p:spPr>
          <a:xfrm>
            <a:off x="539640" y="1079640"/>
            <a:ext cx="251964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3"/>
          <p:cNvSpPr/>
          <p:nvPr/>
        </p:nvSpPr>
        <p:spPr>
          <a:xfrm>
            <a:off x="3600360" y="1079640"/>
            <a:ext cx="251928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6300720" y="1619280"/>
            <a:ext cx="2700360" cy="19796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5"/>
          <p:cNvSpPr/>
          <p:nvPr/>
        </p:nvSpPr>
        <p:spPr>
          <a:xfrm>
            <a:off x="7020000" y="3780000"/>
            <a:ext cx="2700360" cy="197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5400720" y="5580000"/>
            <a:ext cx="2700360" cy="180036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900000" y="3060720"/>
            <a:ext cx="3780000" cy="3959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"/>
          <p:cNvPicPr/>
          <p:nvPr/>
        </p:nvPicPr>
        <p:blipFill>
          <a:blip r:embed="rId2"/>
          <a:stretch/>
        </p:blipFill>
        <p:spPr>
          <a:xfrm>
            <a:off x="4176720" y="1440000"/>
            <a:ext cx="1506600" cy="1079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3"/>
          <a:stretch/>
        </p:blipFill>
        <p:spPr>
          <a:xfrm>
            <a:off x="5832360" y="5904000"/>
            <a:ext cx="179064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4"/>
          <a:stretch/>
        </p:blipFill>
        <p:spPr>
          <a:xfrm>
            <a:off x="6983280" y="1871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"/>
          <p:cNvPicPr/>
          <p:nvPr/>
        </p:nvPicPr>
        <p:blipFill>
          <a:blip r:embed="rId5"/>
          <a:stretch/>
        </p:blipFill>
        <p:spPr>
          <a:xfrm>
            <a:off x="1057320" y="1368360"/>
            <a:ext cx="1535040" cy="1224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6"/>
          <a:stretch/>
        </p:blipFill>
        <p:spPr>
          <a:xfrm>
            <a:off x="7596360" y="4103640"/>
            <a:ext cx="161892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0720" y="2678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AutoShape 2"/>
          <p:cNvSpPr/>
          <p:nvPr/>
        </p:nvSpPr>
        <p:spPr>
          <a:xfrm>
            <a:off x="179280" y="395928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539640" y="72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6480000" y="1079640"/>
            <a:ext cx="3240360" cy="2519280"/>
          </a:xfrm>
          <a:custGeom>
            <a:avLst/>
            <a:gdLst>
              <a:gd name="textAreaLeft" fmla="*/ 761400 w 3240360"/>
              <a:gd name="textAreaRight" fmla="*/ 2476800 w 3240360"/>
              <a:gd name="textAreaTop" fmla="*/ 295920 h 2519280"/>
              <a:gd name="textAreaBottom" fmla="*/ 1580400 h 25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6840360" y="450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3060720" y="3060720"/>
            <a:ext cx="3779640" cy="395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2"/>
          <a:stretch/>
        </p:blipFill>
        <p:spPr>
          <a:xfrm>
            <a:off x="833400" y="4319640"/>
            <a:ext cx="1506600" cy="1079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3"/>
          <a:stretch/>
        </p:blipFill>
        <p:spPr>
          <a:xfrm>
            <a:off x="7353360" y="4824360"/>
            <a:ext cx="1790640" cy="1143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"/>
          <p:cNvPicPr/>
          <p:nvPr/>
        </p:nvPicPr>
        <p:blipFill>
          <a:blip r:embed="rId4"/>
          <a:stretch/>
        </p:blipFill>
        <p:spPr>
          <a:xfrm>
            <a:off x="7343640" y="1440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"/>
          <p:cNvPicPr/>
          <p:nvPr/>
        </p:nvPicPr>
        <p:blipFill>
          <a:blip r:embed="rId5"/>
          <a:stretch/>
        </p:blipFill>
        <p:spPr>
          <a:xfrm>
            <a:off x="1224000" y="1079640"/>
            <a:ext cx="15350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755964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4006b"/>
                </a:solidFill>
                <a:latin typeface="Arial"/>
              </a:rPr>
              <a:t>Бүре нәрсә ярата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Oval 2"/>
          <p:cNvSpPr/>
          <p:nvPr/>
        </p:nvSpPr>
        <p:spPr>
          <a:xfrm>
            <a:off x="539640" y="1079640"/>
            <a:ext cx="251964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3"/>
          <p:cNvSpPr/>
          <p:nvPr/>
        </p:nvSpPr>
        <p:spPr>
          <a:xfrm>
            <a:off x="3600360" y="1079640"/>
            <a:ext cx="251928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4"/>
          <p:cNvSpPr/>
          <p:nvPr/>
        </p:nvSpPr>
        <p:spPr>
          <a:xfrm>
            <a:off x="6300720" y="1619280"/>
            <a:ext cx="2700360" cy="19796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7020000" y="3780000"/>
            <a:ext cx="2700360" cy="197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6"/>
          <p:cNvSpPr/>
          <p:nvPr/>
        </p:nvSpPr>
        <p:spPr>
          <a:xfrm>
            <a:off x="5400720" y="5580000"/>
            <a:ext cx="2700360" cy="180036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360360" y="2879640"/>
            <a:ext cx="4500720" cy="3780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2"/>
          <a:stretch/>
        </p:blipFill>
        <p:spPr>
          <a:xfrm>
            <a:off x="1012680" y="1440000"/>
            <a:ext cx="1506600" cy="1079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3"/>
          <a:stretch/>
        </p:blipFill>
        <p:spPr>
          <a:xfrm>
            <a:off x="7497720" y="4184640"/>
            <a:ext cx="179064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4"/>
          <a:stretch/>
        </p:blipFill>
        <p:spPr>
          <a:xfrm>
            <a:off x="6912000" y="1944720"/>
            <a:ext cx="1655640" cy="1295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5"/>
          <a:stretch/>
        </p:blipFill>
        <p:spPr>
          <a:xfrm>
            <a:off x="4176720" y="12952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/>
          <p:cNvPicPr/>
          <p:nvPr/>
        </p:nvPicPr>
        <p:blipFill>
          <a:blip r:embed="rId6"/>
          <a:stretch/>
        </p:blipFill>
        <p:spPr>
          <a:xfrm>
            <a:off x="5902200" y="5832360"/>
            <a:ext cx="16574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0720" y="2678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AutoShape 2"/>
          <p:cNvSpPr/>
          <p:nvPr/>
        </p:nvSpPr>
        <p:spPr>
          <a:xfrm>
            <a:off x="179280" y="395928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539640" y="72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480000" y="1079640"/>
            <a:ext cx="3240360" cy="2519280"/>
          </a:xfrm>
          <a:custGeom>
            <a:avLst/>
            <a:gdLst>
              <a:gd name="textAreaLeft" fmla="*/ 761400 w 3240360"/>
              <a:gd name="textAreaRight" fmla="*/ 2476800 w 3240360"/>
              <a:gd name="textAreaTop" fmla="*/ 295920 h 2519280"/>
              <a:gd name="textAreaBottom" fmla="*/ 1580400 h 25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6840360" y="450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2700360" y="2519280"/>
            <a:ext cx="4500720" cy="3780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1012680" y="4319640"/>
            <a:ext cx="1506600" cy="1079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3"/>
          <a:stretch/>
        </p:blipFill>
        <p:spPr>
          <a:xfrm>
            <a:off x="1224000" y="93672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"/>
          <p:cNvPicPr/>
          <p:nvPr/>
        </p:nvPicPr>
        <p:blipFill>
          <a:blip r:embed="rId4"/>
          <a:stretch/>
        </p:blipFill>
        <p:spPr>
          <a:xfrm>
            <a:off x="7343640" y="1368360"/>
            <a:ext cx="1656000" cy="1295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"/>
          <p:cNvPicPr/>
          <p:nvPr/>
        </p:nvPicPr>
        <p:blipFill>
          <a:blip r:embed="rId5"/>
          <a:stretch/>
        </p:blipFill>
        <p:spPr>
          <a:xfrm>
            <a:off x="7353360" y="4751280"/>
            <a:ext cx="17906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755964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4006b"/>
                </a:solidFill>
                <a:latin typeface="Arial"/>
              </a:rPr>
              <a:t>Тычкан нәрсә ярата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Oval 2"/>
          <p:cNvSpPr/>
          <p:nvPr/>
        </p:nvSpPr>
        <p:spPr>
          <a:xfrm>
            <a:off x="539640" y="1079640"/>
            <a:ext cx="251964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3600360" y="1079640"/>
            <a:ext cx="251928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6300720" y="1619280"/>
            <a:ext cx="2700360" cy="19796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7020000" y="3780000"/>
            <a:ext cx="2700360" cy="197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6"/>
          <p:cNvSpPr/>
          <p:nvPr/>
        </p:nvSpPr>
        <p:spPr>
          <a:xfrm>
            <a:off x="5400720" y="5580000"/>
            <a:ext cx="2700360" cy="180036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933480" y="1440000"/>
            <a:ext cx="1585800" cy="1079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"/>
          <p:cNvPicPr/>
          <p:nvPr/>
        </p:nvPicPr>
        <p:blipFill>
          <a:blip r:embed="rId2"/>
          <a:stretch/>
        </p:blipFill>
        <p:spPr>
          <a:xfrm>
            <a:off x="720720" y="3240000"/>
            <a:ext cx="4319640" cy="360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"/>
          <p:cNvPicPr/>
          <p:nvPr/>
        </p:nvPicPr>
        <p:blipFill>
          <a:blip r:embed="rId3"/>
          <a:stretch/>
        </p:blipFill>
        <p:spPr>
          <a:xfrm>
            <a:off x="6865920" y="1995480"/>
            <a:ext cx="1774800" cy="1243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"/>
          <p:cNvPicPr/>
          <p:nvPr/>
        </p:nvPicPr>
        <p:blipFill>
          <a:blip r:embed="rId4"/>
          <a:stretch/>
        </p:blipFill>
        <p:spPr>
          <a:xfrm>
            <a:off x="4140360" y="1440000"/>
            <a:ext cx="1439640" cy="126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"/>
          <p:cNvPicPr/>
          <p:nvPr/>
        </p:nvPicPr>
        <p:blipFill>
          <a:blip r:embed="rId5"/>
          <a:stretch/>
        </p:blipFill>
        <p:spPr>
          <a:xfrm>
            <a:off x="7559640" y="4211640"/>
            <a:ext cx="1619280" cy="1260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"/>
          <p:cNvPicPr/>
          <p:nvPr/>
        </p:nvPicPr>
        <p:blipFill>
          <a:blip r:embed="rId6"/>
          <a:stretch/>
        </p:blipFill>
        <p:spPr>
          <a:xfrm>
            <a:off x="5904000" y="5832360"/>
            <a:ext cx="165564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– это наиболее доступный для детей вид деятельности, способ переработки из окружающего мира полученных впечатлений. 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" name="Содержимое 3" descr="1"/>
          <p:cNvPicPr/>
          <p:nvPr/>
        </p:nvPicPr>
        <p:blipFill>
          <a:blip r:embed="rId1"/>
          <a:stretch/>
        </p:blipFill>
        <p:spPr>
          <a:xfrm>
            <a:off x="503280" y="2411280"/>
            <a:ext cx="9145440" cy="460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0720" y="2678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AutoShape 2"/>
          <p:cNvSpPr/>
          <p:nvPr/>
        </p:nvSpPr>
        <p:spPr>
          <a:xfrm>
            <a:off x="179280" y="395928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3"/>
          <p:cNvSpPr/>
          <p:nvPr/>
        </p:nvSpPr>
        <p:spPr>
          <a:xfrm>
            <a:off x="539640" y="72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6480000" y="1079640"/>
            <a:ext cx="3240360" cy="2519280"/>
          </a:xfrm>
          <a:custGeom>
            <a:avLst/>
            <a:gdLst>
              <a:gd name="textAreaLeft" fmla="*/ 761400 w 3240360"/>
              <a:gd name="textAreaRight" fmla="*/ 2476800 w 3240360"/>
              <a:gd name="textAreaTop" fmla="*/ 295920 h 2519280"/>
              <a:gd name="textAreaBottom" fmla="*/ 1580400 h 25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6840360" y="450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1260360" y="1079640"/>
            <a:ext cx="1586160" cy="1079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2"/>
          <a:stretch/>
        </p:blipFill>
        <p:spPr>
          <a:xfrm>
            <a:off x="2879640" y="2700360"/>
            <a:ext cx="4319640" cy="3600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"/>
          <p:cNvPicPr/>
          <p:nvPr/>
        </p:nvPicPr>
        <p:blipFill>
          <a:blip r:embed="rId3"/>
          <a:stretch/>
        </p:blipFill>
        <p:spPr>
          <a:xfrm>
            <a:off x="7380360" y="1440000"/>
            <a:ext cx="1439640" cy="1260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"/>
          <p:cNvPicPr/>
          <p:nvPr/>
        </p:nvPicPr>
        <p:blipFill>
          <a:blip r:embed="rId4"/>
          <a:stretch/>
        </p:blipFill>
        <p:spPr>
          <a:xfrm>
            <a:off x="7380360" y="4859280"/>
            <a:ext cx="1774800" cy="1243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"/>
          <p:cNvPicPr/>
          <p:nvPr/>
        </p:nvPicPr>
        <p:blipFill>
          <a:blip r:embed="rId5"/>
          <a:stretch/>
        </p:blipFill>
        <p:spPr>
          <a:xfrm>
            <a:off x="792000" y="4282920"/>
            <a:ext cx="1619280" cy="12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755964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4006b"/>
                </a:solidFill>
                <a:latin typeface="Arial"/>
              </a:rPr>
              <a:t>Тиен нәрсә ярата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Oval 2"/>
          <p:cNvSpPr/>
          <p:nvPr/>
        </p:nvSpPr>
        <p:spPr>
          <a:xfrm>
            <a:off x="539640" y="1079640"/>
            <a:ext cx="251964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"/>
          <p:cNvSpPr/>
          <p:nvPr/>
        </p:nvSpPr>
        <p:spPr>
          <a:xfrm>
            <a:off x="3600360" y="1079640"/>
            <a:ext cx="251928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6300720" y="1619280"/>
            <a:ext cx="2700360" cy="19796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5"/>
          <p:cNvSpPr/>
          <p:nvPr/>
        </p:nvSpPr>
        <p:spPr>
          <a:xfrm>
            <a:off x="7020000" y="3780000"/>
            <a:ext cx="2700360" cy="197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5400720" y="5580000"/>
            <a:ext cx="2700360" cy="180036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1"/>
          <a:stretch/>
        </p:blipFill>
        <p:spPr>
          <a:xfrm>
            <a:off x="720720" y="3240000"/>
            <a:ext cx="3780000" cy="360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2"/>
          <a:stretch/>
        </p:blipFill>
        <p:spPr>
          <a:xfrm>
            <a:off x="6840360" y="1979640"/>
            <a:ext cx="1619280" cy="1260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3"/>
          <a:stretch/>
        </p:blipFill>
        <p:spPr>
          <a:xfrm>
            <a:off x="933480" y="1440000"/>
            <a:ext cx="1585800" cy="1079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"/>
          <p:cNvPicPr/>
          <p:nvPr/>
        </p:nvPicPr>
        <p:blipFill>
          <a:blip r:embed="rId4"/>
          <a:stretch/>
        </p:blipFill>
        <p:spPr>
          <a:xfrm>
            <a:off x="7440480" y="4157640"/>
            <a:ext cx="1774800" cy="1243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"/>
          <p:cNvPicPr/>
          <p:nvPr/>
        </p:nvPicPr>
        <p:blipFill>
          <a:blip r:embed="rId5"/>
          <a:stretch/>
        </p:blipFill>
        <p:spPr>
          <a:xfrm>
            <a:off x="4110120" y="1441440"/>
            <a:ext cx="1506600" cy="1079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2" descr=""/>
          <p:cNvPicPr/>
          <p:nvPr/>
        </p:nvPicPr>
        <p:blipFill>
          <a:blip r:embed="rId6"/>
          <a:stretch/>
        </p:blipFill>
        <p:spPr>
          <a:xfrm>
            <a:off x="6119640" y="5759280"/>
            <a:ext cx="1295640" cy="13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0720" y="2678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179280" y="395928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539640" y="72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480000" y="1079640"/>
            <a:ext cx="3240360" cy="2519280"/>
          </a:xfrm>
          <a:custGeom>
            <a:avLst/>
            <a:gdLst>
              <a:gd name="textAreaLeft" fmla="*/ 761400 w 3240360"/>
              <a:gd name="textAreaRight" fmla="*/ 2476800 w 3240360"/>
              <a:gd name="textAreaTop" fmla="*/ 295920 h 2519280"/>
              <a:gd name="textAreaBottom" fmla="*/ 1580400 h 25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6840360" y="450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tretch/>
        </p:blipFill>
        <p:spPr>
          <a:xfrm>
            <a:off x="3060720" y="2879640"/>
            <a:ext cx="3779640" cy="3600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2"/>
          <a:stretch/>
        </p:blipFill>
        <p:spPr>
          <a:xfrm>
            <a:off x="1152360" y="1079640"/>
            <a:ext cx="1694160" cy="1152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"/>
          <p:cNvPicPr/>
          <p:nvPr/>
        </p:nvPicPr>
        <p:blipFill>
          <a:blip r:embed="rId3"/>
          <a:stretch/>
        </p:blipFill>
        <p:spPr>
          <a:xfrm>
            <a:off x="7559640" y="4859280"/>
            <a:ext cx="1619280" cy="1260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"/>
          <p:cNvPicPr/>
          <p:nvPr/>
        </p:nvPicPr>
        <p:blipFill>
          <a:blip r:embed="rId4"/>
          <a:stretch/>
        </p:blipFill>
        <p:spPr>
          <a:xfrm>
            <a:off x="7415280" y="144000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"/>
          <p:cNvPicPr/>
          <p:nvPr/>
        </p:nvPicPr>
        <p:blipFill>
          <a:blip r:embed="rId5"/>
          <a:stretch/>
        </p:blipFill>
        <p:spPr>
          <a:xfrm>
            <a:off x="792000" y="4229280"/>
            <a:ext cx="1775160" cy="12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1" lang="en-US" sz="8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Дидактические игры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— </a:t>
            </a:r>
            <a:r>
              <a:rPr b="0" lang="ru-RU" sz="4000" spc="-1" strike="noStrike">
                <a:solidFill>
                  <a:srgbClr val="333333"/>
                </a:solidFill>
                <a:latin typeface="Arial"/>
              </a:rPr>
              <a:t>это разновидность игр с правилами, специально создаваемых педагогикой в целях обучения и воспитания детей.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идактические игры с детьми младшего дошкольного возраст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/и   «Мой д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Пальчиковые игры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/и «Позови домо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/и на тему «Продукты»: «Назови правильн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/и  на тему «Игрушки»: игра «Что, какой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/и  на тему «Счет до 5»  «Сколько ябл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http://planetadetstva.net/wp-content/uploads/2014/06/didakticheskie-igry-po-obucheniyu-tatarskomu-yazyku19.png"/>
          <p:cNvPicPr/>
          <p:nvPr/>
        </p:nvPicPr>
        <p:blipFill>
          <a:blip r:embed="rId1"/>
          <a:stretch/>
        </p:blipFill>
        <p:spPr>
          <a:xfrm>
            <a:off x="576360" y="395280"/>
            <a:ext cx="921708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идактические игры с детьми старшего дошкольного возраст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«Учимся игр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 «Магазин одеж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 «В огород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 «Кто что делает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 «Подбери меб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 «Назови правиль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 «Кто на гор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 «Что в портфел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 «Какой шарик ты подариш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лог между детьми «Куда ты идеш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http://planetadetstva.net/wp-content/uploads/2014/06/didakticheskie-igry-po-obucheniyu-tatarskomu-yazyku22.png"/>
          <p:cNvPicPr/>
          <p:nvPr/>
        </p:nvPicPr>
        <p:blipFill>
          <a:blip r:embed="rId1"/>
          <a:stretch/>
        </p:blipFill>
        <p:spPr>
          <a:xfrm>
            <a:off x="360360" y="539640"/>
            <a:ext cx="9288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http://planetadetstva.net/wp-content/uploads/2014/06/didakticheskie-igry-po-obucheniyu-tatarskomu-yazyku31.png"/>
          <p:cNvPicPr/>
          <p:nvPr/>
        </p:nvPicPr>
        <p:blipFill>
          <a:blip r:embed="rId1"/>
          <a:stretch/>
        </p:blipFill>
        <p:spPr>
          <a:xfrm>
            <a:off x="431640" y="755640"/>
            <a:ext cx="9217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Дидактическая игра «Помоги маме»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Содержимое 3" descr="http://planetadetstva.net/wp-content/uploads/2014/06/didakticheskie-igry-po-obucheniyu-tatarskomu-yazyku63.png"/>
          <p:cNvPicPr/>
          <p:nvPr/>
        </p:nvPicPr>
        <p:blipFill>
          <a:blip r:embed="rId1"/>
          <a:stretch/>
        </p:blipFill>
        <p:spPr>
          <a:xfrm>
            <a:off x="1727280" y="226692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15:02:56Z</dcterms:created>
  <dc:creator/>
  <dc:description/>
  <dc:language>en-US</dc:language>
  <cp:lastModifiedBy>Роза</cp:lastModifiedBy>
  <dcterms:modified xsi:type="dcterms:W3CDTF">2015-12-11T09:25:54Z</dcterms:modified>
  <cp:revision>17</cp:revision>
  <dc:subject/>
  <dc:title>      Дидактическая игра как средство обучения татарскому языку в детском саду</dc:title>
</cp:coreProperties>
</file>