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FC2-D8FE-4730-B1DD-BF157F93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BD72-62A0-4271-8F62-A8439F66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29A-EDC3-401D-AE69-0EBC41C5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3EA-4D8E-4F51-AF6E-19B25F55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B962-3BF1-453C-9305-AE4ABB9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4C6B-BA7C-4841-A0B7-28B4BFC2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99FD-DEB4-453D-9DEF-5A9F97D6F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7C8C-2EBF-48FB-829F-AFC7BAB7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40A6-26C7-45BC-8720-4C80355E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F51A-C80F-4B15-82CF-876BB2A4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58F85-9B1D-4E23-BB06-1FCC378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DD58-FF54-4AA8-A1EA-369A7601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C69-4145-405C-B592-825FA827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49C46-AEDA-45E3-BCA2-01415438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156A-BF2D-41FF-A65B-18EE415A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56AB-7C78-40FB-9010-1C1509B0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9333-6F15-4C8F-A966-68B75B6C5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4398A-F6A5-42CB-A16A-7D98E6CF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84425-56FE-42CC-8C94-FEE26085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ED2C6-0FAC-4E40-8788-26EEBC07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DDFF4-8BEB-4ACC-98A6-7B1CE1F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CC3E-510B-4EF3-997E-3DC20658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5A2-36C1-469A-A0F6-8AB90E8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BCA3-F205-41D9-80B1-D020ED0C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0A0AC-A9B8-4900-8D7F-2E775207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8F17E-DEA9-4919-93DD-AFA49E5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FD735-EF8D-4B92-A1EC-D2E24ACC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0808A-8A93-415E-AA79-CC24C644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9039F-23C7-4177-B708-04891A0F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AFFA-FA2B-48C2-AEAB-5956C9FB1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3D6E-4F4B-48D2-9E7E-9849027F3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E8A6D-8208-4C32-98CE-6F4458D78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04B0A-3944-4B7A-8C45-CCD1DABF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9886-D676-4430-8B8E-5793C93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7DBFB-B6E0-4A2B-83D5-C415174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993B9-F1EB-445B-9CB4-D5C3E62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8425E-C63B-4A6F-B0FA-5C2FF515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55E8F-5F58-44C2-8E09-061125B92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5249C-1DB6-45E1-B520-C5434D27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C594F-24C4-454C-B27D-1832A32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F3CE9-3263-45C9-81D8-82A0E1627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202D-1045-4869-B7BF-C9D3CDA9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22A94-3A08-4750-A1AE-5069E77A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4BE3B-7C0B-4028-BC6B-9C2E2DB7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42D7-A505-4ABE-8B25-7B5E4015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458B2-D60A-41EE-A999-5E465DC7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422F8-F8B4-48E7-871C-A49224EA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ED640-49D7-48AE-B9F9-D94DB767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382E9-7556-42DA-88B8-670B1351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CD153C-3084-472E-B078-6EEB4D9F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7D6DE-49C8-4AC1-8617-C9941CB5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EEEB-DCC3-4BEA-A8EF-FB307E7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E3A25-2253-4C50-933B-2945EF29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F04C2-BF9D-47DE-95DE-3D199563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522E9-5B3E-49EF-907A-5D655F1D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DB67-3E07-4C5B-9265-57CA113C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DF686-E376-4F49-87E8-CB5B74FA3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2A8F-8341-47E4-AC4C-CE3B178F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CE1E4-08A3-4A68-8F6F-339F2550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63C9B-2DCA-4A46-B325-BB0B189A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AA59E-2216-4CEF-8421-5BA447E1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4830D-10D9-41D4-81DA-338BED14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3DA6-9A24-4D2F-B196-86B61A45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0003-9BA9-4634-ACF9-99C8A864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0CC5E-9BA3-4564-81F8-50212337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459CD-D688-4F3D-AFB2-C69EC72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29D-C786-48FB-8307-E2EB01B2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8C96A-8EBE-4501-9B1A-9D49E98D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3572-9710-4CB1-A1B7-BBC28BCF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68B0D-E64E-4D42-93C3-9C65D2B8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CE8A-09D5-4CD0-A3BE-DFC0233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033-7F4C-4E43-9009-B0B87B4C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B12C-3107-43ED-8F75-23BE79D0028F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4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200F-E9DC-4CAE-B9FB-44720350D0D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Прямая соединительная линия 7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9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Прямая соединительная линия 8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92" name="Прямая соединительная линия 8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49A-081D-4EE3-81ED-F33D8D597285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3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41FD-8DF5-4621-84C3-91F82D2FBD4C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Прямая соединительная линия 6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381B4-DF0E-4BDC-905A-2DBEA2837EA0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Прямая соединительная линия 6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2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E6390-3312-4546-BA03-45EB108D39C3}" type="slidenum">
              <a:rPr b="0" lang="ru-RU" sz="1200" spc="-1" strike="noStrike">
                <a:solidFill>
                  <a:srgbClr val="d38e2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Прямоугольник 1" descr=""/>
          <p:cNvPicPr/>
          <p:nvPr/>
        </p:nvPicPr>
        <p:blipFill>
          <a:blip r:embed="rId1"/>
          <a:stretch/>
        </p:blipFill>
        <p:spPr>
          <a:xfrm>
            <a:off x="328680" y="628560"/>
            <a:ext cx="7608960" cy="29797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http://s015.radikal.ru/i333/1105/62/6a0c843d896f.jpg"/>
          <p:cNvPicPr/>
          <p:nvPr/>
        </p:nvPicPr>
        <p:blipFill>
          <a:blip r:embed="rId2"/>
          <a:stretch/>
        </p:blipFill>
        <p:spPr>
          <a:xfrm>
            <a:off x="5643720" y="1285920"/>
            <a:ext cx="3286080" cy="486720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Прямоугольник 1" descr=""/>
          <p:cNvPicPr/>
          <p:nvPr/>
        </p:nvPicPr>
        <p:blipFill>
          <a:blip r:embed="rId1"/>
          <a:stretch/>
        </p:blipFill>
        <p:spPr>
          <a:xfrm>
            <a:off x="-171360" y="695160"/>
            <a:ext cx="9254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http://www.pravda-tv.ru/wp-content/uploads/2012/04/1151.jpg"/>
          <p:cNvPicPr/>
          <p:nvPr/>
        </p:nvPicPr>
        <p:blipFill>
          <a:blip r:embed="rId1"/>
          <a:stretch/>
        </p:blipFill>
        <p:spPr>
          <a:xfrm>
            <a:off x="214200" y="285840"/>
            <a:ext cx="5619960" cy="316224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2" descr=""/>
          <p:cNvPicPr/>
          <p:nvPr/>
        </p:nvPicPr>
        <p:blipFill>
          <a:blip r:embed="rId2"/>
          <a:stretch/>
        </p:blipFill>
        <p:spPr>
          <a:xfrm>
            <a:off x="73080" y="3651120"/>
            <a:ext cx="8412120" cy="17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http://lvvius39.narod.ru/GROUP/2004_039.jpg"/>
          <p:cNvPicPr/>
          <p:nvPr/>
        </p:nvPicPr>
        <p:blipFill>
          <a:blip r:embed="rId1"/>
          <a:srcRect l="0" t="0" r="0" b="13254"/>
          <a:stretch/>
        </p:blipFill>
        <p:spPr>
          <a:xfrm>
            <a:off x="285840" y="357120"/>
            <a:ext cx="5929200" cy="385776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pic>
        <p:nvPicPr>
          <p:cNvPr id="273" name="Прямоугольник 4" descr=""/>
          <p:cNvPicPr/>
          <p:nvPr/>
        </p:nvPicPr>
        <p:blipFill>
          <a:blip r:embed="rId2"/>
          <a:stretch/>
        </p:blipFill>
        <p:spPr>
          <a:xfrm>
            <a:off x="401760" y="4206960"/>
            <a:ext cx="6578640" cy="15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http://img706.imageshack.us/img706/636/r00801.jpg"/>
          <p:cNvPicPr/>
          <p:nvPr/>
        </p:nvPicPr>
        <p:blipFill>
          <a:blip r:embed="rId1"/>
          <a:stretch/>
        </p:blipFill>
        <p:spPr>
          <a:xfrm>
            <a:off x="285840" y="357120"/>
            <a:ext cx="3929040" cy="2724120"/>
          </a:xfrm>
          <a:prstGeom prst="rect">
            <a:avLst/>
          </a:prstGeom>
          <a:ln w="9360">
            <a:solidFill>
              <a:srgbClr val="f0a22e"/>
            </a:solidFill>
            <a:miter/>
          </a:ln>
        </p:spPr>
      </p:pic>
      <p:sp>
        <p:nvSpPr>
          <p:cNvPr id="275" name="TextBox 2"/>
          <p:cNvSpPr/>
          <p:nvPr/>
        </p:nvSpPr>
        <p:spPr>
          <a:xfrm>
            <a:off x="1214280" y="3571920"/>
            <a:ext cx="657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Держись, мой мальчик: на све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Два раза не умир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Ничто нас в жизни не мо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23227"/>
                </a:solidFill>
                <a:latin typeface="Times New Roman"/>
                <a:ea typeface="Times New Roman"/>
              </a:rPr>
              <a:t>Вышибить из сед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1:15:03Z</dcterms:created>
  <dc:creator>Oleg</dc:creator>
  <dc:description/>
  <dc:language>en-US</dc:language>
  <cp:lastModifiedBy>Admin</cp:lastModifiedBy>
  <dcterms:modified xsi:type="dcterms:W3CDTF">2014-04-16T17:23:35Z</dcterms:modified>
  <cp:revision>26</cp:revision>
  <dc:subject/>
  <dc:title>И в мирное время есть место подвигу</dc:title>
</cp:coreProperties>
</file>