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09D-3EAB-4B98-956C-F4F27E85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298-2A1F-4FD5-991C-CDBF01C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FE0-D4D1-4BE2-B78D-D845F708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02E-621B-46AC-BC37-4294AD4B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6AD3-EEF6-4F24-BDA4-F347ACC5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8DC3-E106-439E-BD0C-21C37A2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A1EC-7B70-4281-8D11-5CB2F348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19CC-4CA3-4A86-8947-F790DD22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10BD-FC6B-4FC8-A67C-7CAA7A2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C89-6116-4B30-A162-FDC3E30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4438-2B1C-4A98-B9A8-5FAC3A7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5D1-827B-418D-9E8F-4FE860B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71D5-E345-415E-A7B5-6AA0271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671A-83C5-4EE3-BF30-7AC8B5A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F16-55F2-4829-8600-5992BC30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ED6-21A2-41E9-BBE3-06DD7A5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46F-406C-4677-B2AE-B4FA64D6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5584-E71D-4B69-986E-DA08790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0250-A5AC-4800-BE9C-C677B6D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87DD-7B25-4F93-A592-C209FF1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3DE9-5F86-4606-8B35-5AA8DC0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476E-F773-472C-9FE2-94F7CEE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C3E-BEB9-4DF3-A808-63601A8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A199-B4D3-4373-AE40-00128C8C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D8F5-EE23-4C07-82E1-B2A144B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038E-DAD6-443D-9BDB-9FBD0E8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DAEF-0B4D-42EC-BA9D-B94B7DA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545D-0594-4C65-8051-0DC0A29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0AE5-4014-4F8B-AD87-5FAD4724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5CD9-2B4F-4982-9AEE-74AB8DD8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1B24-4F7D-4878-87D4-35142956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8585-AC51-4D7E-B71E-E99F1825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BE16-40EE-48F8-9844-513DA68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1BF-1884-48B1-B445-AC0F8EB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E93F-F414-4812-9D60-62E5BBB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A912-FFC9-49AF-B98A-01DEA5B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2E04-A477-48EE-B9BA-176ADEE1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A583-60D6-4159-BDB8-5735E28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451D-DD0C-45D0-9A11-8BE40C8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1EB8-86AB-4497-BDE3-1C1BA79C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CD3E-A7AB-4547-B537-6AEF577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A8E2-F7C9-4ECE-9C3D-A3CE505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54E3-9428-40CB-BC87-88B309E7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945E-4689-4C98-9D8F-5550A20E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EAD-52A9-4D54-9A85-13531E4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2238-2D63-4ECD-9730-D61150F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6DFC-F023-4054-A9B4-1A26B980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D9F3-7E6E-4C1E-8BD5-02B6024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D942-C28C-4766-981A-7E7BF07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70BD6-C917-4E08-A108-A08E319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8598-71D1-403E-A7B2-79BFB581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ACF9-2897-465B-BA73-AE75080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AFB0-F333-4F5B-8914-C01404B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2B9E-71E5-4AAE-B80D-B390B0AA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D720-5027-48A2-853F-84A8F6FE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D96-7F66-4A71-8E2E-21DFC84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7A8C-55FA-4F77-A3C4-16FE8A4D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DC07-CEF8-4EB4-ACAF-B068A16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FE83-C27D-47EF-B60A-4195FC79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C645-44F1-4E7E-9F47-B4DAE86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E235-A251-45D5-B852-AAD4E02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D191-1797-4FDD-8D8F-33CAC971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522A2-54BF-4E1B-AC70-86CA79E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71D6-14E4-460F-95C7-3B0E8D6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2D74-0777-4072-AB38-7F928BD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319A-34FC-4FA6-94C7-83B1192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844-5D75-4CAC-BA3E-63B4695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47FD-62D7-417D-BA79-76A498E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4D02-00A5-42EF-B7AA-A0190E2C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140F-FF1C-4CC4-B3D2-A8F2D641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B08-B09C-4DE3-88DA-9CE7D2B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AA1-9785-49D2-AD09-CDAE13E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9B52-DF60-4CDD-8F94-B7A005FCED4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34D4-A80B-42C8-9A11-16303EAC569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9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2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A287-4FDA-41A0-962D-A2BD336FF62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86F-9B17-46DE-85B1-9CAB9510CDA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A11-8ED4-4566-9562-1C6F701B8DB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42B-3435-401E-B51E-58643A45B9E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628560"/>
            <a:ext cx="7608960" cy="2979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s015.radikal.ru/i333/1105/62/6a0c843d896f.jpg"/>
          <p:cNvPicPr/>
          <p:nvPr/>
        </p:nvPicPr>
        <p:blipFill>
          <a:blip r:embed="rId2"/>
          <a:stretch/>
        </p:blipFill>
        <p:spPr>
          <a:xfrm>
            <a:off x="5643720" y="1285920"/>
            <a:ext cx="3286080" cy="486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695160"/>
            <a:ext cx="9254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www.pravda-tv.ru/wp-content/uploads/2012/04/1151.jpg"/>
          <p:cNvPicPr/>
          <p:nvPr/>
        </p:nvPicPr>
        <p:blipFill>
          <a:blip r:embed="rId1"/>
          <a:stretch/>
        </p:blipFill>
        <p:spPr>
          <a:xfrm>
            <a:off x="214200" y="285840"/>
            <a:ext cx="5619960" cy="31622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2"/>
          <a:stretch/>
        </p:blipFill>
        <p:spPr>
          <a:xfrm>
            <a:off x="73080" y="3651120"/>
            <a:ext cx="84121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lvvius39.narod.ru/GROUP/2004_039.jpg"/>
          <p:cNvPicPr/>
          <p:nvPr/>
        </p:nvPicPr>
        <p:blipFill>
          <a:blip r:embed="rId1"/>
          <a:srcRect l="0" t="0" r="0" b="13254"/>
          <a:stretch/>
        </p:blipFill>
        <p:spPr>
          <a:xfrm>
            <a:off x="285840" y="357120"/>
            <a:ext cx="5929200" cy="385776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401760" y="4206960"/>
            <a:ext cx="65786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img706.imageshack.us/img706/636/r00801.jpg"/>
          <p:cNvPicPr/>
          <p:nvPr/>
        </p:nvPicPr>
        <p:blipFill>
          <a:blip r:embed="rId1"/>
          <a:stretch/>
        </p:blipFill>
        <p:spPr>
          <a:xfrm>
            <a:off x="285840" y="357120"/>
            <a:ext cx="3929040" cy="2724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sp>
        <p:nvSpPr>
          <p:cNvPr id="275" name="TextBox 2"/>
          <p:cNvSpPr/>
          <p:nvPr/>
        </p:nvSpPr>
        <p:spPr>
          <a:xfrm>
            <a:off x="1214280" y="3571920"/>
            <a:ext cx="65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Держись, мой мальчик: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Два раза не уми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ичто нас в жизни н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ышибить из сед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1:15:03Z</dcterms:created>
  <dc:creator>Oleg</dc:creator>
  <dc:description/>
  <dc:language>en-US</dc:language>
  <cp:lastModifiedBy>Admin</cp:lastModifiedBy>
  <dcterms:modified xsi:type="dcterms:W3CDTF">2014-04-16T17:23:35Z</dcterms:modified>
  <cp:revision>26</cp:revision>
  <dc:subject/>
  <dc:title>И в мирное время есть место подвигу</dc:title>
</cp:coreProperties>
</file>