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dt" idx="1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1739F2-A36A-4BE8-9E13-BDE09842F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8A11FCA-B4F6-4549-85AA-C3CE472A2DAF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3628CE0-2F99-4165-80F0-7BD223BE737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2924-BE71-45FE-88BF-8FE382926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9963-B8F3-4DC2-B342-7A3DED1E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3EE0-3EDB-414D-8B14-75643E132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C86A-B93D-4CA4-B436-FAC145859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2B58-3B70-44F7-A86D-3A172DFAC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4D2B-1174-41A4-85A7-921FCE01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9003-70D6-4B83-A9C4-CA619189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D46F-50F6-4EC5-A8CD-F3DDA5D1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B50D5-477C-4ED2-898B-A1C44532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D0AB-295F-49FE-B6A3-2A78598C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D60D4-BC2F-40FB-9EFB-E8C040AE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53A4-9351-4B58-9468-9CCE19A0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8293-1F84-4BE1-B03B-96390B0F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D0FC-2F68-422A-8638-69416E5E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F7E5B-F37A-4A9A-88B3-F47FD937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F732-A687-42DE-AE65-CD431F871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3F18-305B-4387-B111-8B1FB97BD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FEBCF-C156-4689-8543-F4289499C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FD238-B5AB-42A8-AEA8-48D45618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A8C53-A030-47C7-84FC-F01DAA43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33966-4CAB-4177-B3E4-5A06ED3C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E2F27-91C9-4C27-A373-1D06E3D3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DB58-3C64-4388-828D-EF5AB532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B3F3F-748B-4D80-8CCD-4CD98F3A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63EE6-162D-48A5-B349-BA364500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77F7A-D91B-4374-AF98-41ED178C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554F2-1D4C-4880-A045-3A1105DE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18B90-E4BA-435A-935B-AE4CF9BB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CF3A6-839D-4B9F-8AD8-E6B6AFC91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D37B8-5504-4F7F-9720-F28140715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1A311-9CA2-4B4E-87FE-5B664CD36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47075-3EE9-4D33-8834-EDEF944B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A1280-D0C3-4E91-8882-73C8201B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E7F1-C6B1-49B2-8B16-8B17A8F5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DA639-C9E7-424B-982C-0081A915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841C1-CC6A-4B40-85D5-E4756809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86022-30FE-47EE-80F5-1FB13ADE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C5693-64C3-448D-AB29-EE23F8E2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35940-0CF4-4181-B6B4-E3495703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6386D-32ED-45B8-88A5-2B246C9E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F0F07-0BF4-4FF9-82E3-A43D0883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2FE3A-BDE1-4215-A900-EA84DD9F4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91220-290A-42FA-AF25-6D8AB77E0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4085A-274A-431D-9338-FB6F98114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58E8-5AC1-4508-B86B-CCC63304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C80EE-0F12-4E39-BC92-1DE33F8C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A5B26-5A89-4BDB-85B7-1B7371B0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3682B-4F86-45FF-B6C7-C8CE7700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EDFA1-2C6A-4545-AC86-6422895C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A6791-E542-4F9B-8AF4-A0F86A2F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BA87B-F3AA-4A2E-B08B-8AB9DEB3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BDB0C-38D2-4B75-A493-684AE0E8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1A762-089E-4B16-A645-390FE986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E84B6-5A87-4BDF-B619-5F8F3F8C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5EEF4-C859-46D3-BEBD-DC101C690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2160" y="4406760"/>
            <a:ext cx="7772040" cy="63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CD30-7FE9-49AE-9120-149D865D8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5016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77800" y="290664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722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5016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77800" y="3690360"/>
            <a:ext cx="250236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1AC81-E72C-4E91-A850-74596EE02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AAE9-3CD3-4A3B-AF8F-ED02CC9A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14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4840" y="369036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88E2-5172-45C7-BECA-E73EA8DE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4840" y="2906640"/>
            <a:ext cx="379260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2160" y="3690360"/>
            <a:ext cx="7772040" cy="71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40D2-CDF6-4ECF-BA77-8459DED2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05675F-D31B-40AA-909C-43C52E052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76320" y="533520"/>
            <a:ext cx="4800240" cy="2819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0099cc"/>
                </a:solidFill>
                <a:latin typeface="Hemi Head 426"/>
              </a:rPr>
              <a:t>Образец заголов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7162560" cy="609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5d7e"/>
                </a:solidFill>
                <a:latin typeface="Hemi Head 426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480" y="1143000"/>
            <a:ext cx="7162560" cy="434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бразец текст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Второй уровень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Третий уровень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Четвертый уровень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1600" spc="-1" strike="noStrike">
                <a:solidFill>
                  <a:srgbClr val="000000"/>
                </a:solidFill>
                <a:latin typeface="Arial Black"/>
              </a:rPr>
              <a:t>Пятый уровень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E3B71CA-434F-4288-9AEE-1D26C157C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40080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723888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3EB67E-360A-44F2-837B-EFCA4CF06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 cap="all">
                <a:solidFill>
                  <a:srgbClr val="005d7e"/>
                </a:solidFill>
                <a:latin typeface="Hemi Head 426"/>
              </a:rPr>
              <a:t>Образец заголов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Образец текста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0080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3888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FA8B927-C3B5-44D8-A800-F57DFE8A1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040" cy="566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5d7e"/>
                </a:solidFill>
                <a:latin typeface="Hemi Head 426"/>
              </a:rPr>
              <a:t>Образец заголов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792440" y="61272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тавка рисунка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body"/>
          </p:nvPr>
        </p:nvSpPr>
        <p:spPr>
          <a:xfrm>
            <a:off x="1792440" y="5367240"/>
            <a:ext cx="5486040" cy="8046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Образец текста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dt" idx="13"/>
          </p:nvPr>
        </p:nvSpPr>
        <p:spPr>
          <a:xfrm>
            <a:off x="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4"/>
          </p:nvPr>
        </p:nvSpPr>
        <p:spPr>
          <a:xfrm>
            <a:off x="3124080" y="640080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15"/>
          </p:nvPr>
        </p:nvSpPr>
        <p:spPr>
          <a:xfrm>
            <a:off x="7238880" y="6400800"/>
            <a:ext cx="19047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9C46336-7FD1-4FA9-80B2-AD393871C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Z:\newtek\_backgrounds_1.02\Tim\_powerpoint templates\mad_scientist\molecule.png"/>
          <p:cNvPicPr/>
          <p:nvPr/>
        </p:nvPicPr>
        <p:blipFill>
          <a:blip r:embed="rId1"/>
          <a:stretch/>
        </p:blipFill>
        <p:spPr>
          <a:xfrm>
            <a:off x="6000840" y="5014800"/>
            <a:ext cx="3142800" cy="184284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640" y="839520"/>
            <a:ext cx="8748000" cy="417492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5d7e"/>
            </a:outerShdw>
          </a:effectLst>
        </p:spPr>
        <p:txBody>
          <a:bodyPr numCol="1" spcCol="0" anchor="ctr">
            <a:noAutofit/>
          </a:bodyPr>
          <a:p>
            <a:pPr indent="0" algn="ctr">
              <a:lnSpc>
                <a:spcPct val="115000"/>
              </a:lnSpc>
              <a:buNone/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Исследовательская работа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«</a:t>
            </a:r>
            <a:r>
              <a:rPr b="1" lang="ru-RU" sz="3600" spc="-1" strike="noStrike">
                <a:solidFill>
                  <a:srgbClr val="ffffff"/>
                </a:solidFill>
                <a:latin typeface="Arial Black"/>
                <a:ea typeface="Calibri"/>
              </a:rPr>
              <a:t>Действует ли магнит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Arial Black"/>
                <a:ea typeface="Calibri"/>
              </a:rPr>
              <a:t>через другие материалы?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251640" y="5014800"/>
            <a:ext cx="5256360" cy="1654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Arial Black"/>
                <a:ea typeface="Calibri"/>
              </a:rPr>
              <a:t>Автор: </a:t>
            </a:r>
            <a:r>
              <a:rPr b="0" lang="ru-RU" sz="2000" spc="-1" strike="noStrike">
                <a:solidFill>
                  <a:srgbClr val="0d0d0d"/>
                </a:solidFill>
                <a:latin typeface="Arial Black"/>
                <a:ea typeface="Calibri"/>
              </a:rPr>
              <a:t>Гайнуллин Роберт,                                                                   обучающийся 1-Я клас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Arial Black"/>
                <a:ea typeface="Calibri"/>
              </a:rPr>
              <a:t>МБОУ «Якушкинская СОШ»</a:t>
            </a:r>
            <a:r>
              <a:rPr b="1" lang="ru-RU" sz="2000" spc="-1" strike="noStrike">
                <a:solidFill>
                  <a:srgbClr val="0d0d0d"/>
                </a:solidFill>
                <a:latin typeface="Arial Black"/>
                <a:ea typeface="Calibri"/>
              </a:rPr>
              <a:t>                                                                                  Руководитель:</a:t>
            </a:r>
            <a:r>
              <a:rPr b="0" lang="ru-RU" sz="2000" spc="-1" strike="noStrike">
                <a:solidFill>
                  <a:srgbClr val="0d0d0d"/>
                </a:solidFill>
                <a:latin typeface="Arial Black"/>
                <a:ea typeface="Calibri"/>
              </a:rPr>
              <a:t> Ермошкина Ю.А., 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5257800" y="685800"/>
            <a:ext cx="295236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4283640" cy="5328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сделал вывод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скрепка следует за движением магнита и поднимается до тех пор, пока не приблизится к поверхности воды, значит, магнитная сила действует и сквозь стекло, и сквозь воду. Если бы стенка кувшина была железной, скрепка все равно бы передвигалась, но слабее, потому что часть магнитной силы поглотила бы стенка кувшин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стол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магнит, стеклянный кувшин, скрепка, вода.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1981080" y="765000"/>
            <a:ext cx="7162560" cy="863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пыт 2: «Сквозь стекло и воду»                                                        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Прямоугольник 33"/>
          <p:cNvSpPr/>
          <p:nvPr/>
        </p:nvSpPr>
        <p:spPr>
          <a:xfrm>
            <a:off x="2286000" y="2828880"/>
            <a:ext cx="4571640" cy="22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algn="just">
              <a:lnSpc>
                <a:spcPct val="15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5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5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5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Рисунок 34" descr="C:\Users\valentina\AppData\Local\Microsoft\Windows\INetCache\Content.Word\DSC_0935.jpg"/>
          <p:cNvPicPr/>
          <p:nvPr/>
        </p:nvPicPr>
        <p:blipFill>
          <a:blip r:embed="rId1"/>
          <a:stretch/>
        </p:blipFill>
        <p:spPr>
          <a:xfrm rot="5400000">
            <a:off x="5101200" y="1501920"/>
            <a:ext cx="2479680" cy="2250360"/>
          </a:xfrm>
          <a:prstGeom prst="rect">
            <a:avLst/>
          </a:prstGeom>
          <a:ln w="9525">
            <a:noFill/>
          </a:ln>
        </p:spPr>
      </p:pic>
      <p:pic>
        <p:nvPicPr>
          <p:cNvPr id="246" name="Рисунок 35" descr="C:\Users\valentina\AppData\Local\Microsoft\Windows\INetCache\Content.Word\DSC_0941.jpg"/>
          <p:cNvPicPr/>
          <p:nvPr/>
        </p:nvPicPr>
        <p:blipFill>
          <a:blip r:embed="rId2"/>
          <a:stretch/>
        </p:blipFill>
        <p:spPr>
          <a:xfrm rot="5400000">
            <a:off x="4098600" y="3753360"/>
            <a:ext cx="2531160" cy="2304000"/>
          </a:xfrm>
          <a:prstGeom prst="rect">
            <a:avLst/>
          </a:prstGeom>
          <a:ln w="9525">
            <a:noFill/>
          </a:ln>
        </p:spPr>
      </p:pic>
      <p:pic>
        <p:nvPicPr>
          <p:cNvPr id="247" name="Рисунок 36" descr="C:\Users\valentina\AppData\Local\Microsoft\Windows\INetCache\Content.Word\DSC_0939.jpg"/>
          <p:cNvPicPr/>
          <p:nvPr/>
        </p:nvPicPr>
        <p:blipFill>
          <a:blip r:embed="rId3"/>
          <a:stretch/>
        </p:blipFill>
        <p:spPr>
          <a:xfrm rot="5400000">
            <a:off x="6652440" y="3789360"/>
            <a:ext cx="2531160" cy="2232000"/>
          </a:xfrm>
          <a:prstGeom prst="rect">
            <a:avLst/>
          </a:prstGeom>
          <a:ln w="9525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915640" y="1124640"/>
            <a:ext cx="3456000" cy="3168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сделал вывод:</a:t>
            </a:r>
            <a:br>
              <a:rPr sz="2400"/>
            </a:br>
            <a:r>
              <a:rPr b="1" lang="ru-RU" sz="1600" spc="-1" strike="noStrike" cap="all">
                <a:solidFill>
                  <a:srgbClr val="ff0000"/>
                </a:solidFill>
                <a:latin typeface="Times New Roman"/>
                <a:ea typeface="Calibri"/>
              </a:rPr>
              <a:t>автомобиль двигается по трассе, повторяя движения магнита, который мы двигали под картоном, значит</a:t>
            </a:r>
            <a:br>
              <a:rPr sz="1200"/>
            </a:br>
            <a:r>
              <a:rPr b="1" lang="ru-RU" sz="1600" spc="-1" strike="noStrike" cap="all">
                <a:solidFill>
                  <a:srgbClr val="ff0000"/>
                </a:solidFill>
                <a:latin typeface="Times New Roman"/>
                <a:ea typeface="Calibri"/>
              </a:rPr>
              <a:t>  магнитная сила магнита проходит через картон.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 cap="all">
                <a:solidFill>
                  <a:srgbClr val="000000"/>
                </a:solidFill>
                <a:latin typeface="Times New Roman"/>
                <a:ea typeface="Calibri"/>
              </a:rPr>
              <a:t>(На столе кусок картона, ножницы, скотч, палочка, стальная гайка, четыре стакана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1640" y="260640"/>
            <a:ext cx="7772040" cy="93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 cap="all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пыт 3: «Действие магнита через картон»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и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50" name="Рисунок 6" descr="C:\Users\valentina\AppData\Local\Microsoft\Windows\INetCache\Content.Word\DSC_0918.jpg"/>
          <p:cNvPicPr/>
          <p:nvPr/>
        </p:nvPicPr>
        <p:blipFill>
          <a:blip r:embed="rId1"/>
          <a:stretch/>
        </p:blipFill>
        <p:spPr>
          <a:xfrm>
            <a:off x="179640" y="1196640"/>
            <a:ext cx="2592000" cy="2458440"/>
          </a:xfrm>
          <a:prstGeom prst="rect">
            <a:avLst/>
          </a:prstGeom>
          <a:ln w="9525">
            <a:noFill/>
          </a:ln>
        </p:spPr>
      </p:pic>
      <p:pic>
        <p:nvPicPr>
          <p:cNvPr id="251" name="Рисунок 8" descr="C:\Users\valentina\AppData\Local\Microsoft\Windows\INetCache\Content.Word\DSC_0930.jpg"/>
          <p:cNvPicPr/>
          <p:nvPr/>
        </p:nvPicPr>
        <p:blipFill>
          <a:blip r:embed="rId2"/>
          <a:stretch/>
        </p:blipFill>
        <p:spPr>
          <a:xfrm>
            <a:off x="179640" y="4235760"/>
            <a:ext cx="2592000" cy="2217240"/>
          </a:xfrm>
          <a:prstGeom prst="rect">
            <a:avLst/>
          </a:prstGeom>
          <a:ln w="9525">
            <a:noFill/>
          </a:ln>
        </p:spPr>
      </p:pic>
      <p:pic>
        <p:nvPicPr>
          <p:cNvPr id="252" name="Рисунок 9" descr="C:\Users\valentina\AppData\Local\Microsoft\Windows\INetCache\Content.Word\DSC_0919.jpg"/>
          <p:cNvPicPr/>
          <p:nvPr/>
        </p:nvPicPr>
        <p:blipFill>
          <a:blip r:embed="rId3"/>
          <a:stretch/>
        </p:blipFill>
        <p:spPr>
          <a:xfrm>
            <a:off x="6588360" y="1196640"/>
            <a:ext cx="2376000" cy="2458440"/>
          </a:xfrm>
          <a:prstGeom prst="rect">
            <a:avLst/>
          </a:prstGeom>
          <a:ln w="9525">
            <a:noFill/>
          </a:ln>
        </p:spPr>
      </p:pic>
      <p:pic>
        <p:nvPicPr>
          <p:cNvPr id="253" name="Рисунок 10" descr="C:\Users\valentina\AppData\Local\Microsoft\Windows\INetCache\Content.Word\DSC_0921.jpg"/>
          <p:cNvPicPr/>
          <p:nvPr/>
        </p:nvPicPr>
        <p:blipFill>
          <a:blip r:embed="rId4"/>
          <a:stretch/>
        </p:blipFill>
        <p:spPr>
          <a:xfrm>
            <a:off x="6588360" y="4199040"/>
            <a:ext cx="2376000" cy="2268720"/>
          </a:xfrm>
          <a:prstGeom prst="rect">
            <a:avLst/>
          </a:prstGeom>
          <a:ln w="9525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99640" y="620640"/>
            <a:ext cx="8015400" cy="863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пыт 4: «Действие магнита через дерево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и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284000" y="1143000"/>
            <a:ext cx="4176000" cy="434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сделал вывод: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сила притяжения магнита зависит от размера (объема) магнита и от толщины изоляции материала. Магнит  притягивает предмет через тонкий слой материала, но перестает притягивать, когда слой материала достигает определенной толщины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56" name="Рисунок 5" descr="C:\Users\valentina\AppData\Local\Microsoft\Windows\INetCache\Content.Word\DSC_0932.jpg"/>
          <p:cNvPicPr/>
          <p:nvPr/>
        </p:nvPicPr>
        <p:blipFill>
          <a:blip r:embed="rId1"/>
          <a:stretch/>
        </p:blipFill>
        <p:spPr>
          <a:xfrm rot="20866200">
            <a:off x="293040" y="1546560"/>
            <a:ext cx="4150080" cy="3139920"/>
          </a:xfrm>
          <a:prstGeom prst="rect">
            <a:avLst/>
          </a:prstGeom>
          <a:ln w="9525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7632360" cy="2880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ru-RU" sz="4000" spc="-1" strike="noStrike">
                <a:solidFill>
                  <a:srgbClr val="005d7e"/>
                </a:solidFill>
                <a:latin typeface="Hemi Head 426"/>
              </a:rPr>
              <a:t>       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Hemi Head 426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 Black"/>
              </a:rPr>
              <a:t>Я убедился,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 Black"/>
              </a:rPr>
              <a:t>что магниты действуют через другие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 Black"/>
              </a:rPr>
              <a:t> материалы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51640" y="4365000"/>
            <a:ext cx="8640720" cy="180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5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Calibri"/>
              </a:rPr>
              <a:t>Проводя свои опыты, я изучил способности магнита: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5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- магнитная сила может проходить через предметы или вещества;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5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- форма и размер магнита влияет на его силу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63640" y="476640"/>
            <a:ext cx="7162560" cy="609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42960" y="571320"/>
            <a:ext cx="8272080" cy="4914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Black"/>
              </a:rPr>
              <a:t>        </a:t>
            </a:r>
            <a:r>
              <a:rPr b="1" lang="ru-RU" sz="4000" spc="-1" strike="noStrike">
                <a:solidFill>
                  <a:srgbClr val="ff0000"/>
                </a:solidFill>
                <a:latin typeface="Arial Black"/>
              </a:rPr>
              <a:t>Шаг третий:</a:t>
            </a:r>
            <a:br>
              <a:rPr sz="4800"/>
            </a:b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 Я узнал,   где используется магнит?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61" name="Рисунок 3" descr="DSC00233.JPG"/>
          <p:cNvPicPr/>
          <p:nvPr/>
        </p:nvPicPr>
        <p:blipFill>
          <a:blip r:embed="rId1"/>
          <a:stretch/>
        </p:blipFill>
        <p:spPr>
          <a:xfrm>
            <a:off x="5643360" y="1785960"/>
            <a:ext cx="1791360" cy="114264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sp>
        <p:nvSpPr>
          <p:cNvPr id="262" name="Прямоугольник 4"/>
          <p:cNvSpPr/>
          <p:nvPr/>
        </p:nvSpPr>
        <p:spPr>
          <a:xfrm>
            <a:off x="0" y="2071800"/>
            <a:ext cx="5643360" cy="52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В магнитофонных колонках – динамика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в холодильника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в компас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крепим записки на холоди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магниты могут использоваться для производства ювелирных изделий, в медицине, в строительстве, в бы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Рисунок 5" descr="http://im6-tub-ru.yandex.net/i?id=669790476-24-72&amp;n=21"/>
          <p:cNvPicPr/>
          <p:nvPr/>
        </p:nvPicPr>
        <p:blipFill>
          <a:blip r:embed="rId2"/>
          <a:stretch/>
        </p:blipFill>
        <p:spPr>
          <a:xfrm>
            <a:off x="2821680" y="2840040"/>
            <a:ext cx="1999800" cy="164484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pic>
        <p:nvPicPr>
          <p:cNvPr id="264" name="Рисунок 6" descr="DSC00236.JPG"/>
          <p:cNvPicPr/>
          <p:nvPr/>
        </p:nvPicPr>
        <p:blipFill>
          <a:blip r:embed="rId3"/>
          <a:stretch/>
        </p:blipFill>
        <p:spPr>
          <a:xfrm>
            <a:off x="6572160" y="3286080"/>
            <a:ext cx="2191680" cy="1428480"/>
          </a:xfrm>
          <a:prstGeom prst="rect">
            <a:avLst/>
          </a:prstGeom>
          <a:ln cap="sq" w="1905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265" name="Содержимое 3" descr="DSC00235.JPG"/>
          <p:cNvPicPr/>
          <p:nvPr/>
        </p:nvPicPr>
        <p:blipFill>
          <a:blip r:embed="rId4"/>
          <a:stretch/>
        </p:blipFill>
        <p:spPr>
          <a:xfrm>
            <a:off x="5868000" y="4929120"/>
            <a:ext cx="2291760" cy="1642680"/>
          </a:xfrm>
          <a:prstGeom prst="rect">
            <a:avLst/>
          </a:prstGeom>
          <a:ln cap="sq" w="101600">
            <a:solidFill>
              <a:srgbClr val="fdfdfd"/>
            </a:solidFill>
            <a:miter/>
          </a:ln>
          <a:effectLst>
            <a:outerShdw algn="tl" blurRad="57240" dir="7559207" dist="37372" kx="110000" ky="200000" rotWithShape="0" sy="98000">
              <a:srgbClr val="000000">
                <a:alpha val="20000"/>
              </a:srgbClr>
            </a:outerShdw>
          </a:effectLst>
          <a:scene3d>
            <a:camera prst="perspectiveRelaxed">
              <a:rot lat="18960000" lon="0" rev="0"/>
            </a:camera>
            <a:lightRig dir="t" rig="twoPt">
              <a:rot lat="0" lon="0" rev="7200000"/>
            </a:lightRig>
          </a:scene3d>
          <a:sp3d prstMaterial="matte">
            <a:bevelT w="22860" h="12700"/>
            <a:contourClr>
              <a:srgbClr val="ffffff"/>
            </a:contourClr>
          </a:sp3d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-571680"/>
            <a:ext cx="9143640" cy="357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ff0000"/>
                </a:solidFill>
                <a:latin typeface="Arial Black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Шаг четвертый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:                                 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Я исследователь - коллекционер.</a:t>
            </a:r>
            <a:br>
              <a:rPr sz="3200"/>
            </a:br>
            <a:r>
              <a:rPr b="1" lang="ru-RU" sz="4000" spc="-1" strike="noStrike">
                <a:solidFill>
                  <a:srgbClr val="005d7e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14200" y="1571760"/>
            <a:ext cx="8929440" cy="398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есь этот интерес к магнитам натолкнул меня на идею коллекционирования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Я собираю магниты городов и дельфинов и храню или выставляю их н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холодильнике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, украшая, этим самым,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интерьер нашей кухни;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 помощь них я 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прикрепляю свои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                        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рисунки,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записки и поздравления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своим родителям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68" name="Picture 3" descr="C:\Users\Юлия\Desktop\DSC_0972.JPG"/>
          <p:cNvPicPr/>
          <p:nvPr/>
        </p:nvPicPr>
        <p:blipFill>
          <a:blip r:embed="rId1"/>
          <a:stretch/>
        </p:blipFill>
        <p:spPr>
          <a:xfrm>
            <a:off x="7179120" y="2853000"/>
            <a:ext cx="1629720" cy="2160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C:\Users\Юлия\Desktop\DSC_0973.JPG"/>
          <p:cNvPicPr/>
          <p:nvPr/>
        </p:nvPicPr>
        <p:blipFill>
          <a:blip r:embed="rId2"/>
          <a:stretch/>
        </p:blipFill>
        <p:spPr>
          <a:xfrm>
            <a:off x="683640" y="4077000"/>
            <a:ext cx="1779120" cy="2556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486280" cy="1499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Теперь я точно знаю, что магниты  волшебники 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14200" y="2071800"/>
            <a:ext cx="8643600" cy="4428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Все игры – опыты    очень просты и не нуждаются в описании, стоит только посмотреть на фотографии, можно с легкостью догадаться как их проводить, </a:t>
            </a: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	</a:t>
            </a:r>
            <a:r>
              <a:rPr b="0" lang="ru-RU" sz="2400" spc="-1" strike="noStrike">
                <a:solidFill>
                  <a:srgbClr val="c00000"/>
                </a:solidFill>
                <a:latin typeface="Arial Black"/>
              </a:rPr>
              <a:t>и вы  убедитесь сами, что это очень интересно, увлекательно и познавательно!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22160" y="2709000"/>
            <a:ext cx="7772040" cy="3059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 cap="all">
                <a:solidFill>
                  <a:srgbClr val="005d7e"/>
                </a:solidFill>
                <a:latin typeface="Arial Black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7162560" cy="609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3640" y="332640"/>
            <a:ext cx="7992360" cy="5688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just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indent="0" algn="just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нашей семье есть традиция покупать магниты разных городов и хранить их на холодильнике.  Способность  магнитов притягивать к себе предметы с раннего детства вызывало у меня огромное удивление. Мне захотелось узнать, действует ли магнит через другие материалы.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8" name="Picture 4" descr="Z:\newtek\_backgrounds_1.02\Tim\_powerpoint templates\mad_scientist\molecule.png"/>
          <p:cNvPicPr/>
          <p:nvPr/>
        </p:nvPicPr>
        <p:blipFill>
          <a:blip r:embed="rId1"/>
          <a:stretch/>
        </p:blipFill>
        <p:spPr>
          <a:xfrm>
            <a:off x="6000840" y="5014800"/>
            <a:ext cx="3142800" cy="1842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Oval 7"/>
          <p:cNvSpPr/>
          <p:nvPr/>
        </p:nvSpPr>
        <p:spPr>
          <a:xfrm>
            <a:off x="19080" y="533520"/>
            <a:ext cx="1828440" cy="1828440"/>
          </a:xfrm>
          <a:prstGeom prst="ellipse">
            <a:avLst/>
          </a:prstGeom>
          <a:solidFill>
            <a:schemeClr val="bg1"/>
          </a:solidFill>
          <a:ln w="76200">
            <a:solidFill>
              <a:srgbClr val="a8e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7640" y="457200"/>
            <a:ext cx="8523720" cy="66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1" lang="ru-RU" sz="4400" spc="-1" strike="noStrike">
                <a:solidFill>
                  <a:srgbClr val="005d7e"/>
                </a:solidFill>
                <a:latin typeface="Hemi Head 426"/>
              </a:rPr>
              <a:t>Итак, цель моего проект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1785960"/>
            <a:ext cx="8272080" cy="2004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 Black"/>
                <a:ea typeface="Calibri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ить, действует ли магнит через другие материалы.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2" name="Picture 10" descr="Z:\newtek\_backgrounds_1.02\Tim\_powerpoint templates\mad_scientist\molecule.png"/>
          <p:cNvPicPr/>
          <p:nvPr/>
        </p:nvPicPr>
        <p:blipFill>
          <a:blip r:embed="rId1"/>
          <a:stretch/>
        </p:blipFill>
        <p:spPr>
          <a:xfrm>
            <a:off x="6553080" y="5362560"/>
            <a:ext cx="2437920" cy="1371240"/>
          </a:xfrm>
          <a:prstGeom prst="rect">
            <a:avLst/>
          </a:prstGeom>
          <a:ln w="0">
            <a:noFill/>
          </a:ln>
        </p:spPr>
      </p:pic>
      <p:sp>
        <p:nvSpPr>
          <p:cNvPr id="223" name="Прямоугольник 6"/>
          <p:cNvSpPr/>
          <p:nvPr/>
        </p:nvSpPr>
        <p:spPr>
          <a:xfrm>
            <a:off x="4071960" y="1785960"/>
            <a:ext cx="50716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0" descr="Z:\newtek\_backgrounds_1.02\Tim\_powerpoint templates\mad_scientist\molecule.png"/>
          <p:cNvPicPr/>
          <p:nvPr/>
        </p:nvPicPr>
        <p:blipFill>
          <a:blip r:embed="rId2"/>
          <a:stretch/>
        </p:blipFill>
        <p:spPr>
          <a:xfrm>
            <a:off x="5724000" y="5013000"/>
            <a:ext cx="3143160" cy="1844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C:\Users\Юлия\Pictures\роберт.jpg"/>
          <p:cNvPicPr/>
          <p:nvPr/>
        </p:nvPicPr>
        <p:blipFill>
          <a:blip r:embed="rId3"/>
          <a:stretch/>
        </p:blipFill>
        <p:spPr>
          <a:xfrm>
            <a:off x="539640" y="3414600"/>
            <a:ext cx="3168000" cy="3196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7162560" cy="609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50000"/>
              </a:lnSpc>
              <a:spcBef>
                <a:spcPts val="879"/>
              </a:spcBef>
              <a:buNone/>
            </a:pPr>
            <a:r>
              <a:rPr b="1" lang="ru-RU" sz="4400" spc="-1" strike="noStrike">
                <a:solidFill>
                  <a:srgbClr val="005d7e"/>
                </a:solidFill>
                <a:latin typeface="Arial Black"/>
                <a:ea typeface="Calibri"/>
              </a:rPr>
              <a:t>      </a:t>
            </a:r>
            <a:r>
              <a:rPr b="1" lang="ru-RU" sz="4400" spc="-1" strike="noStrike">
                <a:solidFill>
                  <a:srgbClr val="005d7e"/>
                </a:solidFill>
                <a:latin typeface="Arial Black"/>
                <a:ea typeface="Calibri"/>
              </a:rPr>
              <a:t>Задачи:</a:t>
            </a:r>
            <a:r>
              <a:rPr b="1" lang="ru-RU" sz="4400" spc="-1" strike="noStrike">
                <a:solidFill>
                  <a:srgbClr val="005d7e"/>
                </a:solidFill>
                <a:latin typeface="Times New Roman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7640" y="1412640"/>
            <a:ext cx="8424720" cy="4055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5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яснить, что такое магнит и магнитная сила;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 algn="just">
              <a:lnSpc>
                <a:spcPct val="15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учить свойства магнита притягивать через другие материалы;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 algn="just">
              <a:lnSpc>
                <a:spcPct val="15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узнать, каким образом люди применяют магнит в жизни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 algn="just">
              <a:lnSpc>
                <a:spcPct val="15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  <a:ea typeface="Calibri"/>
              </a:rPr>
              <a:t>         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  <a:ea typeface="Calibri"/>
              </a:rPr>
              <a:t>Объект исследования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  <a:ea typeface="Calibri"/>
              </a:rPr>
              <a:t>:</a:t>
            </a:r>
            <a:r>
              <a:rPr b="0" lang="ru-RU" sz="2800" spc="-1" strike="noStrike">
                <a:solidFill>
                  <a:srgbClr val="005d7e"/>
                </a:solidFill>
                <a:latin typeface="Arial Black"/>
                <a:ea typeface="Calibri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  <a:ea typeface="Calibri"/>
              </a:rPr>
              <a:t>магнит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7162560" cy="1642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3200" spc="-1" strike="noStrike">
                <a:solidFill>
                  <a:srgbClr val="005d7e"/>
                </a:solidFill>
                <a:latin typeface="Arial Black"/>
              </a:rPr>
              <a:t>Гипотеза:</a:t>
            </a:r>
            <a:br>
              <a:rPr sz="1800"/>
            </a:br>
            <a:r>
              <a:rPr b="1" lang="ru-RU" sz="3600" spc="-1" strike="noStrike">
                <a:solidFill>
                  <a:srgbClr val="005d7e"/>
                </a:solidFill>
                <a:latin typeface="Times New Roman"/>
                <a:ea typeface="Calibri"/>
              </a:rPr>
              <a:t>предположим, что магнитная сила проходит сквозь разные материал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2" descr="C:\Users\Юлия\Desktop\i.jpg"/>
          <p:cNvPicPr/>
          <p:nvPr/>
        </p:nvPicPr>
        <p:blipFill>
          <a:blip r:embed="rId1"/>
          <a:stretch/>
        </p:blipFill>
        <p:spPr>
          <a:xfrm>
            <a:off x="3348000" y="3213000"/>
            <a:ext cx="3449520" cy="2335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3640" y="764640"/>
            <a:ext cx="8820000" cy="1656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5d7e"/>
                </a:solidFill>
                <a:latin typeface="Hemi Head 426"/>
              </a:rPr>
              <a:t>Для того , чтобы найти ответы на эти вопросы           </a:t>
            </a:r>
            <a:r>
              <a:rPr b="1" lang="ru-RU" sz="4400" spc="-1" strike="noStrike">
                <a:solidFill>
                  <a:srgbClr val="005d7e"/>
                </a:solidFill>
                <a:latin typeface="Hemi Head 426"/>
              </a:rPr>
              <a:t>я: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85840" y="1845000"/>
            <a:ext cx="8629200" cy="3641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Font typeface="Wingdings" charset="2"/>
              <a:buChar char=""/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самостоятельно думал;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спрашивал у других людей (родственников, родителей и т.д );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Font typeface="Wingdings" charset="2"/>
              <a:buChar char=""/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ходил в библиотеку;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  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проводил эксперименты - опыты;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  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получал информацию с помощью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компьютера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32" name="Picture 4" descr="Z:\newtek\_backgrounds_1.02\Tim\_powerpoint templates\mad_scientist\molecule.png"/>
          <p:cNvPicPr/>
          <p:nvPr/>
        </p:nvPicPr>
        <p:blipFill>
          <a:blip r:embed="rId1"/>
          <a:stretch/>
        </p:blipFill>
        <p:spPr>
          <a:xfrm>
            <a:off x="6000840" y="5014800"/>
            <a:ext cx="3142800" cy="1842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7162560" cy="609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5d7e"/>
              </a:solidFill>
              <a:latin typeface="Hemi Head 426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85840" y="500040"/>
            <a:ext cx="8857800" cy="505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О самом интересном, из того, что я узнал, хочу поделиться с вами!!!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Шаг первый: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 Black"/>
              </a:rPr>
              <a:t>Поход в библиотеку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В словаре  русского языка С.И. Ожегова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я прочитал. Что:   Магнит - кусок железной руды, обладающий свойством притягивать железные или стальные предметы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57120" y="642960"/>
            <a:ext cx="8557920" cy="4843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                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Из рассказа для детей «Магнит» Льва Толстого, я узнал, что впервые его обнаружил пастух по имени   Магнис, это было за много веков до нашей эры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36" name="Содержимое 4" descr="DSC00315.JPG"/>
          <p:cNvPicPr/>
          <p:nvPr/>
        </p:nvPicPr>
        <p:blipFill>
          <a:blip r:embed="rId1"/>
          <a:stretch/>
        </p:blipFill>
        <p:spPr>
          <a:xfrm>
            <a:off x="2370600" y="2853000"/>
            <a:ext cx="3714480" cy="257148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0" y="357120"/>
            <a:ext cx="8915040" cy="5128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        </a:t>
            </a: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Шаг второй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 Black"/>
              </a:rPr>
              <a:t>Чтобы убедиться в  свойствах магнита,  я  провел практические эксперименты- опыты: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Опыт 1: «Притянет, не притянет?»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Прямоугольник 5"/>
          <p:cNvSpPr/>
          <p:nvPr/>
        </p:nvSpPr>
        <p:spPr>
          <a:xfrm>
            <a:off x="3000240" y="3000240"/>
            <a:ext cx="3285720" cy="30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сделал выв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магнит притягивает сквозь пшеничную крупу, если бы скрепки находились глубже, то магнит притягивал бы слаб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6"/>
          <p:cNvSpPr/>
          <p:nvPr/>
        </p:nvSpPr>
        <p:spPr>
          <a:xfrm>
            <a:off x="571320" y="5600880"/>
            <a:ext cx="8320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стол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релка, крупа пшеничная , магнит, скрепки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Рисунок 7" descr="C:\Users\valentina\AppData\Local\Microsoft\Windows\INetCache\Content.Word\DSC_0913.jpg"/>
          <p:cNvPicPr/>
          <p:nvPr/>
        </p:nvPicPr>
        <p:blipFill>
          <a:blip r:embed="rId1"/>
          <a:stretch/>
        </p:blipFill>
        <p:spPr>
          <a:xfrm rot="20968800">
            <a:off x="181440" y="3156840"/>
            <a:ext cx="2810520" cy="2431440"/>
          </a:xfrm>
          <a:prstGeom prst="rect">
            <a:avLst/>
          </a:prstGeom>
          <a:ln w="9525">
            <a:noFill/>
          </a:ln>
        </p:spPr>
      </p:pic>
      <p:pic>
        <p:nvPicPr>
          <p:cNvPr id="241" name="Рисунок 8" descr="C:\Users\valentina\AppData\Local\Microsoft\Windows\INetCache\Content.Word\DSC_0915.jpg"/>
          <p:cNvPicPr/>
          <p:nvPr/>
        </p:nvPicPr>
        <p:blipFill>
          <a:blip r:embed="rId2"/>
          <a:stretch/>
        </p:blipFill>
        <p:spPr>
          <a:xfrm rot="615000">
            <a:off x="6286320" y="3140640"/>
            <a:ext cx="2677680" cy="2265480"/>
          </a:xfrm>
          <a:prstGeom prst="rect">
            <a:avLst/>
          </a:prstGeom>
          <a:ln w="9525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mad_scientist">
  <a:themeElements>
    <a:clrScheme name="Тема Office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ad_scientist">
  <a:themeElements>
    <a:clrScheme name="Тема Office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mad_scientist">
  <a:themeElements>
    <a:clrScheme name="Тема Office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mad_scientist">
  <a:themeElements>
    <a:clrScheme name="Тема Office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mad_scientist">
  <a:themeElements>
    <a:clrScheme name="Тема Office 2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0000"/>
      </a:accent4>
      <a:accent5>
        <a:srgbClr val="aae2ca"/>
      </a:accent5>
      <a:accent6>
        <a:srgbClr val="2d2db9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mad_scientist</Template>
  <TotalTime>1925</TotalTime>
  <Application>LibreOffice/7.4.7.2$Linux_X86_64 LibreOffice_project/40$Build-2</Application>
  <AppVersion>15.0000</AppVersion>
  <Words>430</Words>
  <Paragraphs>8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8T06:54:50Z</dcterms:created>
  <dc:creator>maniak79</dc:creator>
  <dc:description/>
  <dc:language>en-US</dc:language>
  <cp:lastModifiedBy>Юлия</cp:lastModifiedBy>
  <dcterms:modified xsi:type="dcterms:W3CDTF">2017-03-20T06:58:09Z</dcterms:modified>
  <cp:revision>18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Экран (4:3)</vt:lpwstr>
  </property>
  <property fmtid="{D5CDD505-2E9C-101B-9397-08002B2CF9AE}" pid="4" name="Slides">
    <vt:r8>17</vt:r8>
  </property>
</Properties>
</file>