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F1C8A8-6E99-40D8-ACC1-7D4DF545A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960406-1BB3-4D77-AFCB-A1E654F4795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4573FE-3EB1-44A4-B9CB-60172C8087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854-4023-4B7C-9F03-8E3F80CA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6C5-56A2-4317-A544-3C2E276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FBC-8862-423A-A8E4-3E6F9085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F4F-7DE8-41F3-96DF-305E91A6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BEE2-3D71-431D-A389-F073FC6B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8466-DF80-475D-B48A-7E1F034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90D0-8AE6-4B05-95BA-6AC5FB71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832B-2397-42DB-847B-FC0B8E6F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82FA-2E4A-49B1-9374-78D77122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27C6-075F-491D-99A5-80104750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72D2-42B8-4A73-BE61-1D3BDA5F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308-B1C6-4655-9B3B-245CDBCE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8DBF-21BD-47BA-8A70-4072EAE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D4D8-960D-4F2D-A70C-EE89A24D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2EB9-F232-4D53-A32D-DE675673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B9B4-E899-41E8-9E95-6893F789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0661-29C5-43ED-8370-A8C6FFB0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749A-33E1-4404-BD23-856A3382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559B-225F-4068-97C0-190CB884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9515-8831-4662-B3A0-D973EAF4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617D-BD27-4120-8166-193B0942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1CA8-1C53-41D8-BF49-8CD3120C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90D-D12D-4CF7-9D0F-B8685D1D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D147-B28E-42FF-86FC-1DF46AB7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9729-CD42-44DD-81F4-1629A3C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EAEA-C886-4A03-BD50-609341BF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885D-3349-4252-8A8F-1A0DC9F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AFBF-341C-46EF-AC37-BC8B4F75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176E-3CEF-44F7-9C61-A4A546C9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BA4F-2BD5-47A6-B0C3-9536E2B4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975E-74D6-4E45-9AF5-08C5E8E4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8376-14FC-468B-AE7C-2E3C9C23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5054-2192-4453-9B31-EDF09F98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B53-A7A9-4838-99A6-051AF4DE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337E0-DCE8-4C94-9F19-FD83FF57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98195-3B9A-42B1-870D-04245EA1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52AC-5AEC-4EDA-BA17-CB4BB71C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8C7E5-FD59-4DFF-8FB4-B31288B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0EC3-78B2-4D5F-9037-1E36AD9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2C11-6851-4847-AB34-0BBBBA5E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1241-2F64-4D5F-8EC3-8635D11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BD6A-3951-4A20-AF8F-B29F9EF9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5B026-84CF-4879-9F34-8A52316B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8BFC7-A431-4B77-AE6B-183385DF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5A1-4471-470D-A5BC-D6E630B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16F50-A89D-4692-AA91-EC8AF73C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8519A-F64F-4041-AA2C-5C4CE60E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7E8C7-DB8F-4B4E-A316-DB427DE7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41FA-00D1-4689-9F7E-6EAD285F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3BFAB-2590-418D-9302-FC497AF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159F9-A513-4C63-8179-F29DF1BF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F6278-B911-4571-94A9-ED360AFA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E726C-DBCC-40A7-9314-94827B7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AFAD3-AC35-4E88-9E66-55CFE52A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91796-9E82-4E4A-A226-96D6BCF6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AAB-8A0F-436A-AFB4-E26D5A5E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7188-6256-47AE-B8A4-AC12AC85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556-D5DD-4594-BDA1-37C1773E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A6F-4B04-4909-88E5-2E8A5ACA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4EE-26FB-4B21-8FE5-BD8B1095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D20A96-C2BF-462F-A155-B8C76E272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6320" y="533520"/>
            <a:ext cx="4800240" cy="2819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99cc"/>
                </a:solidFill>
                <a:latin typeface="Hemi Head 426"/>
              </a:rPr>
              <a:t>Образец заголов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5d7e"/>
                </a:solidFill>
                <a:latin typeface="Hemi Head 426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716256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AAF144-B149-4BAE-84C1-90F99D8B3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972B88-55F2-4472-A656-D1514BCA5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5d7e"/>
                </a:solidFill>
                <a:latin typeface="Hemi Head 426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разец текст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961FC9-DB28-4C7D-AE90-EE00ABC74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5d7e"/>
                </a:solidFill>
                <a:latin typeface="Hemi Head 426"/>
              </a:rPr>
              <a:t>Образец загол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авка рисун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бразец текст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98A475-5335-428D-9A21-23D37F8A6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6000840" y="5014800"/>
            <a:ext cx="3142800" cy="1842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640" y="839520"/>
            <a:ext cx="8748000" cy="417492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5d7e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15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Исследовательская работ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Calibri"/>
              </a:rPr>
              <a:t>Действует ли магнит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Calibri"/>
              </a:rPr>
              <a:t>через другие материалы?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51640" y="5014800"/>
            <a:ext cx="5256360" cy="1654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Автор: </a:t>
            </a:r>
            <a:r>
              <a:rPr b="0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Гайнуллин Роберт,                                                                   обучающийся 1-Я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МБОУ «Якушкинская СОШ»</a:t>
            </a:r>
            <a:r>
              <a:rPr b="1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                                                                                  Руководитель:</a:t>
            </a:r>
            <a:r>
              <a:rPr b="0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 Ермошкина Ю.А.,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5257800" y="685800"/>
            <a:ext cx="295236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283640" cy="532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делал вывод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крепка следует за движением магнита и поднимается до тех пор, пока не приблизится к поверхности воды, значит, магнитная сила действует и сквозь стекло, и сквозь воду. Если бы стенка кувшина была железной, скрепка все равно бы передвигалась, но слабее, потому что часть магнитной силы поглотила бы стенка кувшин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тол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агнит, стеклянный кувшин, скрепка, вода.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981080" y="765000"/>
            <a:ext cx="716256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ыт 2: «Сквозь стекло и воду»                                                        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33"/>
          <p:cNvSpPr/>
          <p:nvPr/>
        </p:nvSpPr>
        <p:spPr>
          <a:xfrm>
            <a:off x="2286000" y="2828880"/>
            <a:ext cx="457164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algn="just">
              <a:lnSpc>
                <a:spcPct val="15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5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5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5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34" descr="C:\Users\valentina\AppData\Local\Microsoft\Windows\INetCache\Content.Word\DSC_0935.jpg"/>
          <p:cNvPicPr/>
          <p:nvPr/>
        </p:nvPicPr>
        <p:blipFill>
          <a:blip r:embed="rId1"/>
          <a:stretch/>
        </p:blipFill>
        <p:spPr>
          <a:xfrm rot="5400000">
            <a:off x="5101200" y="1501920"/>
            <a:ext cx="2479680" cy="2250360"/>
          </a:xfrm>
          <a:prstGeom prst="rect">
            <a:avLst/>
          </a:prstGeom>
          <a:ln w="9525">
            <a:noFill/>
          </a:ln>
        </p:spPr>
      </p:pic>
      <p:pic>
        <p:nvPicPr>
          <p:cNvPr id="246" name="Рисунок 35" descr="C:\Users\valentina\AppData\Local\Microsoft\Windows\INetCache\Content.Word\DSC_0941.jpg"/>
          <p:cNvPicPr/>
          <p:nvPr/>
        </p:nvPicPr>
        <p:blipFill>
          <a:blip r:embed="rId2"/>
          <a:stretch/>
        </p:blipFill>
        <p:spPr>
          <a:xfrm rot="5400000">
            <a:off x="4098600" y="3753360"/>
            <a:ext cx="2531160" cy="2304000"/>
          </a:xfrm>
          <a:prstGeom prst="rect">
            <a:avLst/>
          </a:prstGeom>
          <a:ln w="9525">
            <a:noFill/>
          </a:ln>
        </p:spPr>
      </p:pic>
      <p:pic>
        <p:nvPicPr>
          <p:cNvPr id="247" name="Рисунок 36" descr="C:\Users\valentina\AppData\Local\Microsoft\Windows\INetCache\Content.Word\DSC_0939.jpg"/>
          <p:cNvPicPr/>
          <p:nvPr/>
        </p:nvPicPr>
        <p:blipFill>
          <a:blip r:embed="rId3"/>
          <a:stretch/>
        </p:blipFill>
        <p:spPr>
          <a:xfrm rot="5400000">
            <a:off x="6652440" y="3789360"/>
            <a:ext cx="2531160" cy="223200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15640" y="1124640"/>
            <a:ext cx="3456000" cy="316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делал вывод:</a:t>
            </a:r>
            <a:br>
              <a:rPr sz="2400"/>
            </a:br>
            <a:r>
              <a:rPr b="1" lang="ru-RU" sz="1600" spc="-1" strike="noStrike" cap="all">
                <a:solidFill>
                  <a:srgbClr val="ff0000"/>
                </a:solidFill>
                <a:latin typeface="Times New Roman"/>
                <a:ea typeface="Calibri"/>
              </a:rPr>
              <a:t>автомобиль двигается по трассе, повторяя движения магнита, который мы двигали под картоном, значит</a:t>
            </a:r>
            <a:br>
              <a:rPr sz="1200"/>
            </a:br>
            <a:r>
              <a:rPr b="1" lang="ru-RU" sz="1600" spc="-1" strike="noStrike" cap="all">
                <a:solidFill>
                  <a:srgbClr val="ff0000"/>
                </a:solidFill>
                <a:latin typeface="Times New Roman"/>
                <a:ea typeface="Calibri"/>
              </a:rPr>
              <a:t>  магнитная сила магнита проходит через картон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Times New Roman"/>
                <a:ea typeface="Calibri"/>
              </a:rPr>
              <a:t>(На столе кусок картона, ножницы, скотч, палочка, стальная гайка, четыре стакан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640" y="260640"/>
            <a:ext cx="7772040" cy="93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cap="all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ыт 3: «Действие магнита через картон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0" name="Рисунок 6" descr="C:\Users\valentina\AppData\Local\Microsoft\Windows\INetCache\Content.Word\DSC_0918.jpg"/>
          <p:cNvPicPr/>
          <p:nvPr/>
        </p:nvPicPr>
        <p:blipFill>
          <a:blip r:embed="rId1"/>
          <a:stretch/>
        </p:blipFill>
        <p:spPr>
          <a:xfrm>
            <a:off x="179640" y="1196640"/>
            <a:ext cx="2592000" cy="2458440"/>
          </a:xfrm>
          <a:prstGeom prst="rect">
            <a:avLst/>
          </a:prstGeom>
          <a:ln w="9525">
            <a:noFill/>
          </a:ln>
        </p:spPr>
      </p:pic>
      <p:pic>
        <p:nvPicPr>
          <p:cNvPr id="251" name="Рисунок 8" descr="C:\Users\valentina\AppData\Local\Microsoft\Windows\INetCache\Content.Word\DSC_0930.jpg"/>
          <p:cNvPicPr/>
          <p:nvPr/>
        </p:nvPicPr>
        <p:blipFill>
          <a:blip r:embed="rId2"/>
          <a:stretch/>
        </p:blipFill>
        <p:spPr>
          <a:xfrm>
            <a:off x="179640" y="4235760"/>
            <a:ext cx="2592000" cy="2217240"/>
          </a:xfrm>
          <a:prstGeom prst="rect">
            <a:avLst/>
          </a:prstGeom>
          <a:ln w="9525">
            <a:noFill/>
          </a:ln>
        </p:spPr>
      </p:pic>
      <p:pic>
        <p:nvPicPr>
          <p:cNvPr id="252" name="Рисунок 9" descr="C:\Users\valentina\AppData\Local\Microsoft\Windows\INetCache\Content.Word\DSC_0919.jpg"/>
          <p:cNvPicPr/>
          <p:nvPr/>
        </p:nvPicPr>
        <p:blipFill>
          <a:blip r:embed="rId3"/>
          <a:stretch/>
        </p:blipFill>
        <p:spPr>
          <a:xfrm>
            <a:off x="6588360" y="1196640"/>
            <a:ext cx="2376000" cy="2458440"/>
          </a:xfrm>
          <a:prstGeom prst="rect">
            <a:avLst/>
          </a:prstGeom>
          <a:ln w="9525">
            <a:noFill/>
          </a:ln>
        </p:spPr>
      </p:pic>
      <p:pic>
        <p:nvPicPr>
          <p:cNvPr id="253" name="Рисунок 10" descr="C:\Users\valentina\AppData\Local\Microsoft\Windows\INetCache\Content.Word\DSC_0921.jpg"/>
          <p:cNvPicPr/>
          <p:nvPr/>
        </p:nvPicPr>
        <p:blipFill>
          <a:blip r:embed="rId4"/>
          <a:stretch/>
        </p:blipFill>
        <p:spPr>
          <a:xfrm>
            <a:off x="6588360" y="4199040"/>
            <a:ext cx="2376000" cy="226872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15400" cy="86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ыт 4: «Действие магнита через дерево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84000" y="1143000"/>
            <a:ext cx="417600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делал вывод: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притяжения магнита зависит от размера (объема) магнита и от толщины изоляции материала. Магнит  притягивает предмет через тонкий слой материала, но перестает притягивать, когда слой материала достигает определенной толщины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6" name="Рисунок 5" descr="C:\Users\valentina\AppData\Local\Microsoft\Windows\INetCache\Content.Word\DSC_0932.jpg"/>
          <p:cNvPicPr/>
          <p:nvPr/>
        </p:nvPicPr>
        <p:blipFill>
          <a:blip r:embed="rId1"/>
          <a:stretch/>
        </p:blipFill>
        <p:spPr>
          <a:xfrm rot="20866200">
            <a:off x="293040" y="1546560"/>
            <a:ext cx="4150080" cy="313992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32360" cy="288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>
                <a:solidFill>
                  <a:srgbClr val="005d7e"/>
                </a:solidFill>
                <a:latin typeface="Hemi Head 426"/>
              </a:rPr>
              <a:t>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Hemi Head 426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Я убедился,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что магниты действуют через другие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материал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640" y="4365000"/>
            <a:ext cx="8640720" cy="180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Проводя свои опыты, я изучил способности магнита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магнитная сила может проходить через предметы или вещества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форма и размер магнита влияет на его сил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47664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42960" y="571320"/>
            <a:ext cx="8272080" cy="491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      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Шаг третий:</a:t>
            </a:r>
            <a:br>
              <a:rPr sz="4800"/>
            </a:b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Я узнал,   где используется магнит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Рисунок 3" descr="DSC00233.JPG"/>
          <p:cNvPicPr/>
          <p:nvPr/>
        </p:nvPicPr>
        <p:blipFill>
          <a:blip r:embed="rId1"/>
          <a:stretch/>
        </p:blipFill>
        <p:spPr>
          <a:xfrm>
            <a:off x="5643360" y="1785960"/>
            <a:ext cx="1791360" cy="11426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262" name="Прямоугольник 4"/>
          <p:cNvSpPr/>
          <p:nvPr/>
        </p:nvSpPr>
        <p:spPr>
          <a:xfrm>
            <a:off x="0" y="2071800"/>
            <a:ext cx="564336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магнитофонных колонках – динамик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холодильник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компас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репим записки на холоди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агниты могут использоваться для производства ювелирных изделий, в медицине, в строительстве, в б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5" descr="http://im6-tub-ru.yandex.net/i?id=669790476-24-72&amp;n=21"/>
          <p:cNvPicPr/>
          <p:nvPr/>
        </p:nvPicPr>
        <p:blipFill>
          <a:blip r:embed="rId2"/>
          <a:stretch/>
        </p:blipFill>
        <p:spPr>
          <a:xfrm>
            <a:off x="2821680" y="2840040"/>
            <a:ext cx="1999800" cy="16448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64" name="Рисунок 6" descr="DSC00236.JPG"/>
          <p:cNvPicPr/>
          <p:nvPr/>
        </p:nvPicPr>
        <p:blipFill>
          <a:blip r:embed="rId3"/>
          <a:stretch/>
        </p:blipFill>
        <p:spPr>
          <a:xfrm>
            <a:off x="6572160" y="3286080"/>
            <a:ext cx="2191680" cy="14284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5" name="Содержимое 3" descr="DSC00235.JPG"/>
          <p:cNvPicPr/>
          <p:nvPr/>
        </p:nvPicPr>
        <p:blipFill>
          <a:blip r:embed="rId4"/>
          <a:stretch/>
        </p:blipFill>
        <p:spPr>
          <a:xfrm>
            <a:off x="5868000" y="4929120"/>
            <a:ext cx="2291760" cy="1642680"/>
          </a:xfrm>
          <a:prstGeom prst="rect">
            <a:avLst/>
          </a:prstGeom>
          <a:ln cap="sq" w="101600">
            <a:solidFill>
              <a:srgbClr val="fdfdfd"/>
            </a:solidFill>
            <a:miter/>
          </a:ln>
          <a:effectLst>
            <a:outerShdw algn="tl" blurRad="57240" dir="7559207" dist="37372" kx="110000" ky="200000" rotWithShape="0" sy="98000">
              <a:srgbClr val="000000">
                <a:alpha val="20000"/>
              </a:srgbClr>
            </a:outerShdw>
          </a:effectLst>
          <a:scene3d>
            <a:camera prst="perspectiveRelaxed">
              <a:rot lat="18960000" lon="0" rev="0"/>
            </a:camera>
            <a:lightRig dir="t" rig="twoPt">
              <a:rot lat="0" lon="0" rev="7200000"/>
            </a:lightRig>
          </a:scene3d>
          <a:sp3d prstMaterial="matte">
            <a:bevelT w="22860" h="12700"/>
            <a:contourClr>
              <a:srgbClr val="ffffff"/>
            </a:contourClr>
          </a:sp3d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571680"/>
            <a:ext cx="9143640" cy="357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Шаг четвертый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Я исследователь - коллекционер.</a:t>
            </a:r>
            <a:br>
              <a:rPr sz="3200"/>
            </a:br>
            <a:r>
              <a:rPr b="1" lang="ru-RU" sz="4000" spc="-1" strike="noStrike">
                <a:solidFill>
                  <a:srgbClr val="005d7e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8929440" cy="39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есь этот интерес к магнитам натолкнул меня на идею коллекционирования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Я собираю магниты городов и дельфинов и храню или выставляю их н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холодильнике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, украшая, этим самым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терьер нашей кухни;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 помощь них я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крепляю сво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рисунки,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записки и поздравления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воим родителям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8" name="Picture 3" descr="C:\Users\Юлия\Desktop\DSC_0972.JPG"/>
          <p:cNvPicPr/>
          <p:nvPr/>
        </p:nvPicPr>
        <p:blipFill>
          <a:blip r:embed="rId1"/>
          <a:stretch/>
        </p:blipFill>
        <p:spPr>
          <a:xfrm>
            <a:off x="7179120" y="2853000"/>
            <a:ext cx="1629720" cy="216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Users\Юлия\Desktop\DSC_0973.JPG"/>
          <p:cNvPicPr/>
          <p:nvPr/>
        </p:nvPicPr>
        <p:blipFill>
          <a:blip r:embed="rId2"/>
          <a:stretch/>
        </p:blipFill>
        <p:spPr>
          <a:xfrm>
            <a:off x="683640" y="4077000"/>
            <a:ext cx="1779120" cy="255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486280" cy="149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Теперь я точно знаю, что магниты  волшебники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14200" y="2071800"/>
            <a:ext cx="8643600" cy="4428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се игры – опыты    очень просты и не нуждаются в описании, стоит только посмотреть на фотографии, можно с легкостью догадаться как их проводить, 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и вы  убедитесь сами, что это очень интересно, увлекательно и познавательно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2709000"/>
            <a:ext cx="7772040" cy="305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5d7e"/>
                </a:solidFill>
                <a:latin typeface="Arial Black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3640" y="332640"/>
            <a:ext cx="7992360" cy="568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шей семье есть традиция покупать магниты разных городов и хранить их на холодильнике.  Способность  магнитов притягивать к себе предметы с раннего детства вызывало у меня огромное удивление. Мне захотелось узнать, действует ли магнит через другие материалы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8" name="Picture 4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6000840" y="5014800"/>
            <a:ext cx="3142800" cy="184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7"/>
          <p:cNvSpPr/>
          <p:nvPr/>
        </p:nvSpPr>
        <p:spPr>
          <a:xfrm>
            <a:off x="19080" y="533520"/>
            <a:ext cx="1828440" cy="1828440"/>
          </a:xfrm>
          <a:prstGeom prst="ellipse">
            <a:avLst/>
          </a:prstGeom>
          <a:solidFill>
            <a:schemeClr val="bg1"/>
          </a:solidFill>
          <a:ln w="76200">
            <a:solidFill>
              <a:srgbClr val="a8e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7640" y="457200"/>
            <a:ext cx="8523720" cy="66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5d7e"/>
                </a:solidFill>
                <a:latin typeface="Hemi Head 426"/>
              </a:rPr>
              <a:t>Итак, цель моего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1785960"/>
            <a:ext cx="8272080" cy="2004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  <a:ea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, действует ли магнит через другие материалы.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Picture 10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6553080" y="5362560"/>
            <a:ext cx="2437920" cy="137124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6"/>
          <p:cNvSpPr/>
          <p:nvPr/>
        </p:nvSpPr>
        <p:spPr>
          <a:xfrm>
            <a:off x="4071960" y="1785960"/>
            <a:ext cx="5071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Z:\newtek\_backgrounds_1.02\Tim\_powerpoint templates\mad_scientist\molecule.png"/>
          <p:cNvPicPr/>
          <p:nvPr/>
        </p:nvPicPr>
        <p:blipFill>
          <a:blip r:embed="rId2"/>
          <a:stretch/>
        </p:blipFill>
        <p:spPr>
          <a:xfrm>
            <a:off x="5724000" y="5013000"/>
            <a:ext cx="3143160" cy="1844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Users\Юлия\Pictures\роберт.jpg"/>
          <p:cNvPicPr/>
          <p:nvPr/>
        </p:nvPicPr>
        <p:blipFill>
          <a:blip r:embed="rId3"/>
          <a:stretch/>
        </p:blipFill>
        <p:spPr>
          <a:xfrm>
            <a:off x="539640" y="3414600"/>
            <a:ext cx="3168000" cy="3196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50000"/>
              </a:lnSpc>
              <a:spcBef>
                <a:spcPts val="879"/>
              </a:spcBef>
              <a:buNone/>
            </a:pPr>
            <a:r>
              <a:rPr b="1" lang="ru-RU" sz="4400" spc="-1" strike="noStrike">
                <a:solidFill>
                  <a:srgbClr val="005d7e"/>
                </a:solidFill>
                <a:latin typeface="Arial Black"/>
                <a:ea typeface="Calibri"/>
              </a:rPr>
              <a:t>      </a:t>
            </a:r>
            <a:r>
              <a:rPr b="1" lang="ru-RU" sz="4400" spc="-1" strike="noStrike">
                <a:solidFill>
                  <a:srgbClr val="005d7e"/>
                </a:solidFill>
                <a:latin typeface="Arial Black"/>
                <a:ea typeface="Calibri"/>
              </a:rPr>
              <a:t>Задачи:</a:t>
            </a:r>
            <a:r>
              <a:rPr b="1" lang="ru-RU" sz="4400" spc="-1" strike="noStrike">
                <a:solidFill>
                  <a:srgbClr val="005d7e"/>
                </a:solidFill>
                <a:latin typeface="Times New Roman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7640" y="1412640"/>
            <a:ext cx="8424720" cy="405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снить, что такое магнит и магнитная сила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ить свойства магнита притягивать через другие материалы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ть, каким образом люди применяют магнит в жизни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Calibri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Calibri"/>
              </a:rPr>
              <a:t>Объек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Calibri"/>
              </a:rPr>
              <a:t>:</a:t>
            </a:r>
            <a:r>
              <a:rPr b="0" lang="ru-RU" sz="2800" spc="-1" strike="noStrike">
                <a:solidFill>
                  <a:srgbClr val="005d7e"/>
                </a:solidFill>
                <a:latin typeface="Arial Black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Calibri"/>
              </a:rPr>
              <a:t>магнит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162560" cy="164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5d7e"/>
                </a:solidFill>
                <a:latin typeface="Arial Black"/>
              </a:rPr>
              <a:t>Гипотеза:</a:t>
            </a:r>
            <a:br>
              <a:rPr sz="1800"/>
            </a:br>
            <a:r>
              <a:rPr b="1" lang="ru-RU" sz="3600" spc="-1" strike="noStrike">
                <a:solidFill>
                  <a:srgbClr val="005d7e"/>
                </a:solidFill>
                <a:latin typeface="Times New Roman"/>
                <a:ea typeface="Calibri"/>
              </a:rPr>
              <a:t>предположим, что магнитная сила проходит сквозь разные материа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C:\Users\Юлия\Desktop\i.jpg"/>
          <p:cNvPicPr/>
          <p:nvPr/>
        </p:nvPicPr>
        <p:blipFill>
          <a:blip r:embed="rId1"/>
          <a:stretch/>
        </p:blipFill>
        <p:spPr>
          <a:xfrm>
            <a:off x="3348000" y="3213000"/>
            <a:ext cx="3449520" cy="233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820000" cy="165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5d7e"/>
                </a:solidFill>
                <a:latin typeface="Hemi Head 426"/>
              </a:rPr>
              <a:t>Для того , чтобы найти ответы на эти вопросы           </a:t>
            </a:r>
            <a:r>
              <a:rPr b="1" lang="ru-RU" sz="4400" spc="-1" strike="noStrike">
                <a:solidFill>
                  <a:srgbClr val="005d7e"/>
                </a:solidFill>
                <a:latin typeface="Hemi Head 426"/>
              </a:rPr>
              <a:t>я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5840" y="1845000"/>
            <a:ext cx="8629200" cy="36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амостоятельно думал;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прашивал у других людей (родственников, родителей и т.д )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ходил в библиотеку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оводил эксперименты - опыты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лучал информацию с помощью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компьютер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2" name="Picture 4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6000840" y="5014800"/>
            <a:ext cx="3142800" cy="184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500040"/>
            <a:ext cx="8857800" cy="505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 самом интересном, из того, что я узнал, хочу поделиться с вами!!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Шаг первый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ход в библиотеку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 словаре  русского языка С.И. Ожегова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я прочитал. Что:   Магнит - кусок железной руды, обладающий свойством притягивать железные или стальные предметы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557920" cy="484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 рассказа для детей «Магнит» Льва Толстого, я узнал, что впервые его обнаружил пастух по имени   Магнис, это было за много веков до нашей эры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6" name="Содержимое 4" descr="DSC00315.JPG"/>
          <p:cNvPicPr/>
          <p:nvPr/>
        </p:nvPicPr>
        <p:blipFill>
          <a:blip r:embed="rId1"/>
          <a:stretch/>
        </p:blipFill>
        <p:spPr>
          <a:xfrm>
            <a:off x="2370600" y="2853000"/>
            <a:ext cx="3714480" cy="257148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8915040" cy="5128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Шаг второй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Чтобы убедиться в  свойствах магнита,  я  провел практические эксперименты- опыты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ыт 1: «Притянет, не притянет?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3000240" y="3000240"/>
            <a:ext cx="3285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делал 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магнит притягивает сквозь пшеничную крупу, если бы скрепки находились глубже, то магнит притягивал бы слаб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571320" y="5600880"/>
            <a:ext cx="8320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тол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релка, крупа пшеничная , магнит, скрепки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7" descr="C:\Users\valentina\AppData\Local\Microsoft\Windows\INetCache\Content.Word\DSC_0913.jpg"/>
          <p:cNvPicPr/>
          <p:nvPr/>
        </p:nvPicPr>
        <p:blipFill>
          <a:blip r:embed="rId1"/>
          <a:stretch/>
        </p:blipFill>
        <p:spPr>
          <a:xfrm rot="20968800">
            <a:off x="181440" y="3156840"/>
            <a:ext cx="2810520" cy="2431440"/>
          </a:xfrm>
          <a:prstGeom prst="rect">
            <a:avLst/>
          </a:prstGeom>
          <a:ln w="9525">
            <a:noFill/>
          </a:ln>
        </p:spPr>
      </p:pic>
      <p:pic>
        <p:nvPicPr>
          <p:cNvPr id="241" name="Рисунок 8" descr="C:\Users\valentina\AppData\Local\Microsoft\Windows\INetCache\Content.Word\DSC_0915.jpg"/>
          <p:cNvPicPr/>
          <p:nvPr/>
        </p:nvPicPr>
        <p:blipFill>
          <a:blip r:embed="rId2"/>
          <a:stretch/>
        </p:blipFill>
        <p:spPr>
          <a:xfrm rot="615000">
            <a:off x="6286320" y="3140640"/>
            <a:ext cx="2677680" cy="226548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d_scientist</Template>
  <TotalTime>1925</TotalTime>
  <Application>LibreOffice/7.4.7.2$Linux_X86_64 LibreOffice_project/40$Build-2</Application>
  <AppVersion>15.0000</AppVersion>
  <Words>430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06:54:50Z</dcterms:created>
  <dc:creator>maniak79</dc:creator>
  <dc:description/>
  <dc:language>en-US</dc:language>
  <cp:lastModifiedBy>Юлия</cp:lastModifiedBy>
  <dcterms:modified xsi:type="dcterms:W3CDTF">2017-03-20T06:58:09Z</dcterms:modified>
  <cp:revision>18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