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FB23B-C4A5-425C-BA9D-84F4A7150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B2194-17AD-44FC-A48F-62EB81C38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6EAA6-07A5-4504-9A22-9CAE930A6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78942-F05F-48E1-A89B-0869534F4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D9686-7C0C-4C9D-8B74-9DBBD13BC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C4F9E-3801-46A0-B745-A50DBA34A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199DB-95ED-47FE-A6EC-155F059B8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D972C-7DC6-4431-803A-B046823F8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CF245-3D4C-43F1-B64E-3703BB725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8D97F-8307-4BEB-A56C-B639A8915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74F97-26F0-4E61-9F11-9223ABF74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FB0EE-FE17-4A55-B591-03DCCFCF3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8911F-E5AB-49C8-B396-0781CB0268D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015"/>
          <p:cNvPicPr/>
          <p:nvPr/>
        </p:nvPicPr>
        <p:blipFill>
          <a:blip r:embed="rId1"/>
          <a:stretch/>
        </p:blipFill>
        <p:spPr>
          <a:xfrm>
            <a:off x="0" y="-2232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9280" y="764640"/>
            <a:ext cx="8280360" cy="403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Традиционные и инновационные подходы к анализу современного уро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234000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полнил учитель истории МБОУ «Благодарновская сош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ережная Н.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015"/>
          <p:cNvPicPr/>
          <p:nvPr/>
        </p:nvPicPr>
        <p:blipFill>
          <a:blip r:embed="rId1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Оценивание учащихся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788000" y="1628280"/>
            <a:ext cx="403848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Традиционный урок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читель осуществляет оценивание учащихся за работу на урок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755640" y="1484280"/>
            <a:ext cx="4316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рок современного тип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читель ставит перед учащимися  задачу оценивания свой деятельност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015"/>
          <p:cNvPicPr/>
          <p:nvPr/>
        </p:nvPicPr>
        <p:blipFill>
          <a:blip r:embed="rId1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Итог уро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788000" y="1628280"/>
            <a:ext cx="403848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радиционный урок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итель выясняет у учащихся, что они запомни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39640" y="1484280"/>
            <a:ext cx="4316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рок современного тип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водится рефлексия. Учитель формирует у ученика установку на улучшение результатов своей деятельности, учащиеся анализируют изменения в учебной деятельности на основе сравнения предшествующих и последующих достижений, анализа  причин неудач и выделения недостающих операций и условий, которые обеспечили бы в дальнейшем успешное выполнение учебной задач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015"/>
          <p:cNvPicPr/>
          <p:nvPr/>
        </p:nvPicPr>
        <p:blipFill>
          <a:blip r:embed="rId1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Домашнее задание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788000" y="1628280"/>
            <a:ext cx="403848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Традиционный урок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читель объявляет и комментирует (чаще – задание одно для всех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39640" y="1484280"/>
            <a:ext cx="4316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рок современного тип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чащиеся могут выбирать задание из предложенных учителем с учётом индивидуальных возможносте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015"/>
          <p:cNvPicPr/>
          <p:nvPr/>
        </p:nvPicPr>
        <p:blipFill>
          <a:blip r:embed="rId1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Анализ современного урока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БЩАЯ ИНФОРМАЦИ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ИП, СТРУКТУРА УРОКА, ЕГО МЕСТО В СИСТЕМЕ УРОКОВ ПО ТЕМЕ, ЦЕЛИ УРОКА 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СИХОЛОГИЧЕСКИЕ ТРЕБОВАНИЯ К УРОКУ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РГАНИЗАЦИЯ ПОЗНАВАТЕЛЬНОЙ ДЕЯТЕЛЬНОСТИ УЧАЩИХС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РЕБОВАНИЯ К ТЕХНИКЕ ПРОВЕДЕНИЯ УРОК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015"/>
          <p:cNvPicPr/>
          <p:nvPr/>
        </p:nvPicPr>
        <p:blipFill>
          <a:blip r:embed="rId1"/>
          <a:stretch/>
        </p:blipFill>
        <p:spPr>
          <a:xfrm>
            <a:off x="0" y="-2232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иды анализа уроков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лный анализ урока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руктурный анализ урока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спектный анализ урока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раткий анализ урока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идактический анализ урок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сихологический анализ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мплексный анализ уроко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015"/>
          <p:cNvPicPr/>
          <p:nvPr/>
        </p:nvPicPr>
        <p:blipFill>
          <a:blip r:embed="rId1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Объявление темы урока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403848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радиционный урок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читель сообщает учащимс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рок современного тип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ормулируют («открывают») сами учащиес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015"/>
          <p:cNvPicPr/>
          <p:nvPr/>
        </p:nvPicPr>
        <p:blipFill>
          <a:blip r:embed="rId1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ообщение целей и задач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403848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радиционный урок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читель формулирует и сообщает учащимся, чему должны научитьс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рок современного тип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учающиеся  должны участвовать в целеполагании,  формулировать личностный смысл урок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015"/>
          <p:cNvPicPr/>
          <p:nvPr/>
        </p:nvPicPr>
        <p:blipFill>
          <a:blip r:embed="rId1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ланирование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403848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радиционный уро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итель сообщает учащимся, какую работу они должны выполнить, чтобы достичь цел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316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рок современного тип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итель должен поставить перед учащимися учебную задачу, т.е. создать такую учебную ситуацию на уроке, когда они должны осуществить поиск содержательно обобщенного способа действия во всех возможных для данной ситуации частных и конкретных вариантах услов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015"/>
          <p:cNvPicPr/>
          <p:nvPr/>
        </p:nvPicPr>
        <p:blipFill>
          <a:blip r:embed="rId1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Изучение нового учебного материала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403848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радиционный уро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Изолированное» изучение учащимися системы научных понятий, составляющее содержание учебного предмет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рансляция содержания учителем, ученик не задействован в процесс («меня учат»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риентация в процессе обучения на «среднего» учащего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316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рок современного тип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держание обучения рассматривается как «субстрат, питающий смысловое развитие учащегося». Основной  единицей содержания становится проблемная ситуация 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ализация содержания связана с выбором технологий обучения учащихся, основанных на уровневой дифференциации обучения, создании учебных ситуаций, реализации проектной и исследовательской  деятельности, информационных и коммуникационных технологий обуч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015"/>
          <p:cNvPicPr/>
          <p:nvPr/>
        </p:nvPicPr>
        <p:blipFill>
          <a:blip r:embed="rId1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актическая деятельность учащихся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292720" y="1628280"/>
            <a:ext cx="403848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Традиционный урок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д руководством учителя учащиеся выполняют ряд практических задач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84360" y="1557360"/>
            <a:ext cx="4316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Урок современного типа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 создает условия для продуктивного применения знаний.  Учащиеся самостоятельно осуществляют учебные действия по намеченному плану (индивидуально или в группах, но решающую роль в достижении цели урока играет учебное сотрудничество) Реализация содержания связана с выбором технологий обучения учащихся, основанных на уровневой дифференциации обучения, создании учебных ситуаций, реализации проектной и исследовательской  деятельности, информационных и коммуникационных технологий обуч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015"/>
          <p:cNvPicPr/>
          <p:nvPr/>
        </p:nvPicPr>
        <p:blipFill>
          <a:blip r:embed="rId1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Осуществление контроля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292720" y="1628280"/>
            <a:ext cx="403848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Традиционный урок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Учитель осуществляет контроль за выполнением учащимися практической работы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755640" y="1484280"/>
            <a:ext cx="4316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рок современного тип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итель применяет разнообразные формы самоконтроля, взаимоконтроля. Учащиеся самостоятельно осуществляют контрол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015"/>
          <p:cNvPicPr/>
          <p:nvPr/>
        </p:nvPicPr>
        <p:blipFill>
          <a:blip r:embed="rId1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Осуществление коррекции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292720" y="1628280"/>
            <a:ext cx="403848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Традиционный урок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читель в ходе выполнения и по итогам выполненной работы учащимися осуществляет коррекцию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755640" y="1484280"/>
            <a:ext cx="4316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рок современного тип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читель создает условия для того, чтобы учащиеся самостоятельно формулировали затруднения и осуществляли коррекцию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28T16:38:54Z</dcterms:created>
  <dc:creator>User</dc:creator>
  <dc:description/>
  <dc:language>en-US</dc:language>
  <cp:lastModifiedBy>Пользователь Windows</cp:lastModifiedBy>
  <dcterms:modified xsi:type="dcterms:W3CDTF">2017-09-27T18:19:12Z</dcterms:modified>
  <cp:revision>3</cp:revision>
  <dc:subject/>
  <dc:title>Традиционные и инновационные подходы к анализу современного урока</dc:title>
</cp:coreProperties>
</file>