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8D7-EB4D-4F18-AF21-07BF41BA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7B8-2B00-4369-A628-DFF6FD0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57B-DDD8-4204-93A2-513CF520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A7A-BBCB-495B-945A-ED4A25B4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D9A-05C6-4FB4-991F-8BE0675B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78A-F988-47E5-AC08-2529C8D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DFA-C777-4BA4-9CA9-E8D9C9A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AF6-C28A-420D-8145-D2C42B65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8DA-6D8F-45DE-94BC-BA9515D1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65B-6DF7-4C39-BFE2-8DD308D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EDD-DE06-43B0-BDF1-38FCF45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5DA-225D-4FB8-AF22-A79A377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227-404B-49C9-AFA3-2258ED828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адиционные и инновационные подходы к анализу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учитель истории МБОУ «Благодарн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ная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ивание учащих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осуществляет оценивание учащихся за работу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тавит перед учащимися  задачу оценивания с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выясняет у учащихся, что они запомн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9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рефлексия. Учитель формирует у ученика установку на улучшение результатов своей деятельности, учащиеся анализируют изменения в учебной деятельности на основе сравнения предшествующих и последующих достижений, анализа  причин неудач и выделения недостающих операций и условий, которые обеспечили бы в дальнейшем успешное выполнение учебной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объявляет и комментирует (чаще – задание одно для все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9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могут выбирать задание из предложенных учителем с учётом индивидуальных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из современного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, СТРУКТУРА УРОКА, ЕГО МЕСТО В СИСТЕМЕ УРОКОВ ПО ТЕМЕ, ЦЕЛИ УРОК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ИЕ ТРЕБОВАНИЯ К УРО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ПОЗНАВАТЕЛЬНОЙ ДЕЯТЕЛЬНОСТ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ТЕХНИКЕ ПРОВЕДЕНИЯ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1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анализа уроков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пект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и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й анализ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ий анализ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й анализ уро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явление темы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ообщает учащи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уют («открывают») сами уча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бщение целей и зада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формулирует и сообщает учащимся, чему должны науч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ся  должны участвовать в целеполагании,  формулировать личностный смысл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сообщает учащимся, какую работу они должны выполнить, чтобы достичь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поставить перед учащимися учебную задачу, т.е. создать такую учебную ситуацию на уроке, когда они должны осуществить поиск содержательно обобщенного способа действия во всех возможных для данной ситуации частных и конкретных вариантах усл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учение нового учеб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олированное» изучение учащимися системы научных понятий, составляющее содержание учебного предм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ляция содержания учителем, ученик не задействован в процесс («меня учат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в процессе обучения на «среднего»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обучения рассматривается как «субстрат, питающий смысловое развитие учащегося». Основной  единицей содержания становится проблемная ситуац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держания связана с выбором технологий обучения учащихся, основанных на уровневой дифференциации обучения, создании учебных ситуаций, реализации проектной и исследовательской  деятельности, информационных и коммуникационных технологий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ктическая де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руководством учителя учащиеся выполняют ряд практ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4360" y="15573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создает условия для продуктивного применения знаний.  Учащиеся самостоятельно осуществляют учебные действия по намеченному плану (индивидуально или в группах, но решающую роль в достижении цели урока играет учебное сотрудничество) Реализация содержания связана с выбором технологий обучения учащихся, основанных на уровневой дифференциации обучения, создании учебных ситуаций, реализации проектной и исследовательской  деятельности, информационных и коммуникационных технологий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уществление контрол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ель осуществляет контроль за выполнением учащимися практической работы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именяет разнообразные формы самоконтроля, взаимоконтроля. Учащиеся самостоятельно осуществляют конт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уществление корр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в ходе выполнения и по итогам выполненной работы учащимися осуществляет коррек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оздает условия для того, чтобы учащиеся самостоятельно формулировали затруднения и осуществляли коррек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38:54Z</dcterms:created>
  <dc:creator>User</dc:creator>
  <dc:description/>
  <dc:language>en-US</dc:language>
  <cp:lastModifiedBy>Пользователь Windows</cp:lastModifiedBy>
  <dcterms:modified xsi:type="dcterms:W3CDTF">2017-09-27T18:19:12Z</dcterms:modified>
  <cp:revision>3</cp:revision>
  <dc:subject/>
  <dc:title>Традиционные и инновационные подходы к анализу современного урока</dc:title>
</cp:coreProperties>
</file>