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7C215-67B8-4750-8F88-FD583BDB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93D92-34B6-47CC-BED6-71937956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3E661-91C0-4E8C-91C1-BF4AE8C8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32AF6-893A-400F-9FB8-43AAF530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1CC3-FA00-4567-8BA2-6E4CA1F4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F6AF-1635-4733-A42A-E368064D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61504-A471-422C-8E56-B4081C52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54B0-51B0-43B1-8D88-AB1CA493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72F8-CCB6-4D6B-BA08-DA97A396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0FEE-0CC5-46F8-9E9F-6C6E830A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5AFA-263F-4230-BC04-EC345D69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1144-3B18-4EC0-BF3A-FB3EBB33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1F18-9D61-466F-B282-A63D7D37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CEC0-E70A-46C9-8C73-1FF21025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AE48-9ABC-4D00-801F-29FE36E9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2AF7-4B82-42FD-B0A5-3A086C7A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CF2A-0186-473A-990D-47B9BFC4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A727-26D1-4A1E-A488-B11CC82B4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E52D4-4E84-4948-96D6-E393ABD3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9096E-19D4-4C9E-9B93-E1E9DE62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051F-6C51-49DF-9588-70BFD84AF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4239C-0F04-4F77-B645-C5D4213B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1D691-AB6C-4F12-AE71-FD08F269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1AE5F-42B9-43F4-BA61-DE265656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BCBB-F05D-4959-A80D-1DE6F40EC9B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51A5-94A3-46D4-97F2-C2EB591570B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Ляззат\Desktop\лиза папкалар\снежок\22.jpg"/>
          <p:cNvPicPr/>
          <p:nvPr/>
        </p:nvPicPr>
        <p:blipFill>
          <a:blip r:embed="rId1"/>
          <a:stretch/>
        </p:blipFill>
        <p:spPr>
          <a:xfrm>
            <a:off x="114300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Ляззат\Desktop\лиза папкалар\снежок\қазақ.jpg"/>
          <p:cNvPicPr/>
          <p:nvPr/>
        </p:nvPicPr>
        <p:blipFill>
          <a:blip r:embed="rId1"/>
          <a:stretch/>
        </p:blipFill>
        <p:spPr>
          <a:xfrm>
            <a:off x="0" y="0"/>
            <a:ext cx="9085320" cy="66438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1928880" y="3857760"/>
            <a:ext cx="468144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0" spc="-1" strike="noStrike">
                <a:solidFill>
                  <a:srgbClr val="0000cc"/>
                </a:solidFill>
                <a:latin typeface="Times New Roman"/>
              </a:rPr>
              <a:t>Сәлем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643040" y="3786120"/>
            <a:ext cx="657216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0000cc"/>
                </a:solidFill>
                <a:latin typeface="Times New Roman"/>
              </a:rPr>
              <a:t>Ассалаумағалейкум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1500120" y="5929200"/>
            <a:ext cx="6572160" cy="571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Қазақта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C:\Users\Ляззат\Desktop\лиза папкалар\снежок\ор.jpg"/>
          <p:cNvPicPr/>
          <p:nvPr/>
        </p:nvPicPr>
        <p:blipFill>
          <a:blip r:embed="rId1"/>
          <a:stretch/>
        </p:blipFill>
        <p:spPr>
          <a:xfrm>
            <a:off x="2090880" y="0"/>
            <a:ext cx="496224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1643040" y="3857760"/>
            <a:ext cx="65721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0" spc="-1" strike="noStrike">
                <a:solidFill>
                  <a:srgbClr val="0000cc"/>
                </a:solidFill>
                <a:latin typeface="Times New Roman"/>
              </a:rPr>
              <a:t>Привет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571760" y="3786120"/>
            <a:ext cx="657216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0" spc="-1" strike="noStrike">
                <a:solidFill>
                  <a:srgbClr val="0000cc"/>
                </a:solidFill>
                <a:latin typeface="Times New Roman"/>
              </a:rPr>
              <a:t>Здравствуйте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Беларуста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Ляззат\Desktop\лиза папкалар\снежок\орыс.jpg"/>
          <p:cNvPicPr/>
          <p:nvPr/>
        </p:nvPicPr>
        <p:blipFill>
          <a:blip r:embed="rId1"/>
          <a:stretch/>
        </p:blipFill>
        <p:spPr>
          <a:xfrm>
            <a:off x="34920" y="0"/>
            <a:ext cx="907416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"/>
          <p:cNvSpPr/>
          <p:nvPr/>
        </p:nvSpPr>
        <p:spPr>
          <a:xfrm>
            <a:off x="1500120" y="4214880"/>
            <a:ext cx="65721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Times New Roman"/>
              </a:rPr>
              <a:t>Ви-таю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1571760" y="4143240"/>
            <a:ext cx="657216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Times New Roman"/>
              </a:rPr>
              <a:t>Дзень добры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Беларуста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C:\Users\Ляззат\Desktop\лиза папкалар\снежок\өзбек.jpg"/>
          <p:cNvPicPr/>
          <p:nvPr/>
        </p:nvPicPr>
        <p:blipFill>
          <a:blip r:embed="rId1"/>
          <a:stretch/>
        </p:blipFill>
        <p:spPr>
          <a:xfrm>
            <a:off x="11160" y="285840"/>
            <a:ext cx="9018720" cy="6215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714680" y="3857760"/>
            <a:ext cx="65721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3333cc"/>
                </a:solidFill>
                <a:latin typeface="Times New Roman"/>
              </a:rPr>
              <a:t>Ассалому алейкум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1571760" y="3857760"/>
            <a:ext cx="65721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0" spc="-1" strike="noStrike">
                <a:solidFill>
                  <a:srgbClr val="3333cc"/>
                </a:solidFill>
                <a:latin typeface="Times New Roman"/>
              </a:rPr>
              <a:t>Салом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Өзбекте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Ляззат\Desktop\лиза папкалар\снежок\украин.jpg"/>
          <p:cNvPicPr/>
          <p:nvPr/>
        </p:nvPicPr>
        <p:blipFill>
          <a:blip r:embed="rId1"/>
          <a:stretch/>
        </p:blipFill>
        <p:spPr>
          <a:xfrm>
            <a:off x="-28440" y="0"/>
            <a:ext cx="92008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1571760" y="3857760"/>
            <a:ext cx="65721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Times New Roman"/>
              </a:rPr>
              <a:t>Привит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1571760" y="3929040"/>
            <a:ext cx="657216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Times New Roman"/>
              </a:rPr>
              <a:t>Добрыдэнь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Украинда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Users\Ляззат\Desktop\лиза папкалар\снежок\грузин.jpg"/>
          <p:cNvPicPr/>
          <p:nvPr/>
        </p:nvPicPr>
        <p:blipFill>
          <a:blip r:embed="rId1"/>
          <a:stretch/>
        </p:blipFill>
        <p:spPr>
          <a:xfrm>
            <a:off x="109440" y="214200"/>
            <a:ext cx="8826480" cy="63579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571760" y="3929040"/>
            <a:ext cx="657216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Times New Roman"/>
              </a:rPr>
              <a:t>Гамарджоба 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Грузинде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C:\Users\Ляззат\Pictures\imgpreview (4).jpg"/>
          <p:cNvPicPr/>
          <p:nvPr/>
        </p:nvPicPr>
        <p:blipFill>
          <a:blip r:embed="rId1"/>
          <a:stretch/>
        </p:blipFill>
        <p:spPr>
          <a:xfrm>
            <a:off x="2428920" y="162000"/>
            <a:ext cx="4251240" cy="64818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1571760" y="3929040"/>
            <a:ext cx="657216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0" spc="-1" strike="noStrike">
                <a:solidFill>
                  <a:srgbClr val="3333cc"/>
                </a:solidFill>
                <a:latin typeface="Times New Roman"/>
              </a:rPr>
              <a:t>Намастэ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Үнділе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Ляззат\Desktop\лиза папкалар\снежок\китай.jpg"/>
          <p:cNvPicPr/>
          <p:nvPr/>
        </p:nvPicPr>
        <p:blipFill>
          <a:blip r:embed="rId1"/>
          <a:stretch/>
        </p:blipFill>
        <p:spPr>
          <a:xfrm>
            <a:off x="1571760" y="214200"/>
            <a:ext cx="5222880" cy="6380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1571760" y="3929040"/>
            <a:ext cx="657216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Times New Roman"/>
              </a:rPr>
              <a:t>Ни хоу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Қытайла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Users\Ляззат\Desktop\лиза папкалар\снежок\японка.jpg"/>
          <p:cNvPicPr/>
          <p:nvPr/>
        </p:nvPicPr>
        <p:blipFill>
          <a:blip r:embed="rId1"/>
          <a:stretch/>
        </p:blipFill>
        <p:spPr>
          <a:xfrm>
            <a:off x="285840" y="357120"/>
            <a:ext cx="8481960" cy="52866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1214280" y="3929040"/>
            <a:ext cx="692964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Times New Roman"/>
              </a:rPr>
              <a:t>Ко-ни-чи-ва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Жапонда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Ляззат\Desktop\лиза папкалар\снежок\фр.jpg"/>
          <p:cNvPicPr/>
          <p:nvPr/>
        </p:nvPicPr>
        <p:blipFill>
          <a:blip r:embed="rId1"/>
          <a:stretch/>
        </p:blipFill>
        <p:spPr>
          <a:xfrm>
            <a:off x="2071800" y="0"/>
            <a:ext cx="4414680" cy="618156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"/>
          <p:cNvSpPr/>
          <p:nvPr/>
        </p:nvSpPr>
        <p:spPr>
          <a:xfrm>
            <a:off x="1214280" y="3929040"/>
            <a:ext cx="692964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3333cc"/>
                </a:solidFill>
                <a:latin typeface="Times New Roman"/>
              </a:rPr>
              <a:t>Бонжур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1500120" y="6000840"/>
            <a:ext cx="6572160" cy="571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cc"/>
                </a:solidFill>
                <a:latin typeface="Times New Roman"/>
              </a:rPr>
              <a:t>Француздар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1358623994_img223"/>
          <p:cNvPicPr/>
          <p:nvPr/>
        </p:nvPicPr>
        <p:blipFill>
          <a:blip r:embed="rId1"/>
          <a:stretch/>
        </p:blipFill>
        <p:spPr>
          <a:xfrm>
            <a:off x="1708200" y="571680"/>
            <a:ext cx="5072040" cy="5072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607240" cy="5857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800" spc="-1" strike="noStrike">
                <a:solidFill>
                  <a:srgbClr val="ffff00"/>
                </a:solidFill>
                <a:latin typeface="Times New Roman"/>
              </a:rPr>
              <a:t>Туған тілім – айбыным</a:t>
            </a:r>
            <a:br>
              <a:rPr sz="8800"/>
            </a:br>
            <a:br>
              <a:rPr sz="8800"/>
            </a:br>
            <a:r>
              <a:rPr b="1" i="1" lang="kk-KZ" sz="4000" spc="-1" strike="noStrike">
                <a:solidFill>
                  <a:srgbClr val="ffff00"/>
                </a:solidFill>
                <a:latin typeface="Times New Roman"/>
              </a:rPr>
              <a:t>Тәрбие сағаты</a:t>
            </a:r>
            <a:br>
              <a:rPr sz="4000"/>
            </a:br>
            <a:r>
              <a:rPr b="1" lang="kk-KZ" sz="3600" spc="-1" strike="noStrike">
                <a:solidFill>
                  <a:srgbClr val="ffff00"/>
                </a:solidFill>
                <a:latin typeface="Times New Roman"/>
              </a:rPr>
              <a:t>Құмсай бастауыш мектебі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28760" y="214200"/>
            <a:ext cx="692928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3333cc"/>
                </a:solidFill>
                <a:latin typeface="Times New Roman"/>
              </a:rPr>
              <a:t>хау ду ю ду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28760" y="2143080"/>
            <a:ext cx="692928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Times New Roman"/>
              </a:rPr>
              <a:t>гутен таг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357120" y="4214880"/>
            <a:ext cx="692964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Times New Roman"/>
              </a:rPr>
              <a:t>мерхаба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428760" y="214200"/>
            <a:ext cx="842940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3333cc"/>
                </a:solidFill>
                <a:latin typeface="Times New Roman"/>
              </a:rPr>
              <a:t>ан ньон ха се йо</a:t>
            </a:r>
            <a:endParaRPr b="1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500040" y="2143080"/>
            <a:ext cx="7786800" cy="18003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Times New Roman"/>
              </a:rPr>
              <a:t>боун джорно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57120" y="4214880"/>
            <a:ext cx="8429760" cy="1800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Times New Roman"/>
              </a:rPr>
              <a:t>сайен байян у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C:\Users\Ляззат\Desktop\лиза папкалар\снежок\images.jpg"/>
          <p:cNvPicPr/>
          <p:nvPr/>
        </p:nvPicPr>
        <p:blipFill>
          <a:blip r:embed="rId1"/>
          <a:stretch/>
        </p:blipFill>
        <p:spPr>
          <a:xfrm>
            <a:off x="857160" y="357120"/>
            <a:ext cx="73119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4"/>
          <p:cNvSpPr/>
          <p:nvPr/>
        </p:nvSpPr>
        <p:spPr>
          <a:xfrm>
            <a:off x="358920" y="214200"/>
            <a:ext cx="8785080" cy="18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ff"/>
                </a:solidFill>
                <a:latin typeface="Times New Roman"/>
              </a:rPr>
              <a:t>ІІ.  Бәйге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ff00"/>
                </a:solidFill>
                <a:latin typeface="Times New Roman"/>
              </a:rPr>
              <a:t>Мақал-мәтелдер жарысы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8" descr="тил"/>
          <p:cNvPicPr/>
          <p:nvPr/>
        </p:nvPicPr>
        <p:blipFill>
          <a:blip r:embed="rId1"/>
          <a:stretch/>
        </p:blipFill>
        <p:spPr>
          <a:xfrm>
            <a:off x="2428920" y="2270160"/>
            <a:ext cx="47530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4"/>
          <p:cNvSpPr/>
          <p:nvPr/>
        </p:nvSpPr>
        <p:spPr>
          <a:xfrm>
            <a:off x="0" y="328608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4. Жақсы сөз - ……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Прямоугольник 5"/>
          <p:cNvSpPr/>
          <p:nvPr/>
        </p:nvSpPr>
        <p:spPr>
          <a:xfrm>
            <a:off x="0" y="42876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1. Тіл тас жарады, тас жармаса   …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0" y="4357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5. Шебердің қолы ортақ,  шешеннің  …..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0" y="1357200"/>
            <a:ext cx="82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2. Бал тамған тілден  …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0" y="2357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3. Тауды, тасты жел бұзар,  адамзатты …..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Прямоугольник 11"/>
          <p:cNvSpPr/>
          <p:nvPr/>
        </p:nvSpPr>
        <p:spPr>
          <a:xfrm>
            <a:off x="0" y="54291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6. Жақсы байқап сөйлер, жаман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……..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Прямоугольник 3"/>
          <p:cNvSpPr/>
          <p:nvPr/>
        </p:nvSpPr>
        <p:spPr>
          <a:xfrm>
            <a:off x="0" y="357120"/>
            <a:ext cx="90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7. Айтылған сөз -  …….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Прямоугольник 10"/>
          <p:cNvSpPr/>
          <p:nvPr/>
        </p:nvSpPr>
        <p:spPr>
          <a:xfrm>
            <a:off x="0" y="535788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0.  Басқа пәле -   ………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Прямоугольник 11"/>
          <p:cNvSpPr/>
          <p:nvPr/>
        </p:nvSpPr>
        <p:spPr>
          <a:xfrm>
            <a:off x="0" y="1928880"/>
            <a:ext cx="90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8. Жылы - жылы сөйлесең,     жылан  …………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Прямоугольник 12"/>
          <p:cNvSpPr/>
          <p:nvPr/>
        </p:nvSpPr>
        <p:spPr>
          <a:xfrm>
            <a:off x="0" y="385776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9.  Тілге құрмет  - ……….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Прямоугольник 6"/>
          <p:cNvSpPr/>
          <p:nvPr/>
        </p:nvSpPr>
        <p:spPr>
          <a:xfrm>
            <a:off x="0" y="214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1.  Бас кеспек болса да,    ……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Прямоугольник 8"/>
          <p:cNvSpPr/>
          <p:nvPr/>
        </p:nvSpPr>
        <p:spPr>
          <a:xfrm>
            <a:off x="0" y="49291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5. Ана сүті бой өсіреді, Ана тілі .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Прямоугольник 9"/>
          <p:cNvSpPr/>
          <p:nvPr/>
        </p:nvSpPr>
        <p:spPr>
          <a:xfrm>
            <a:off x="0" y="257184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3. Піл көтермегенді,  ………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Прямоугольник 7"/>
          <p:cNvSpPr/>
          <p:nvPr/>
        </p:nvSpPr>
        <p:spPr>
          <a:xfrm>
            <a:off x="0" y="13572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2.  Тіл қылыштан   ………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Прямоугольник 11"/>
          <p:cNvSpPr/>
          <p:nvPr/>
        </p:nvSpPr>
        <p:spPr>
          <a:xfrm>
            <a:off x="0" y="5857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6.  Өнер алды –  ………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Прямоугольник 12"/>
          <p:cNvSpPr/>
          <p:nvPr/>
        </p:nvSpPr>
        <p:spPr>
          <a:xfrm>
            <a:off x="0" y="378612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14. Тілден артық ………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3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4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14200" y="500040"/>
            <a:ext cx="874872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600000"/>
                </a:solidFill>
                <a:latin typeface="Times New Roman"/>
              </a:rPr>
              <a:t>ІІІ. Түсін мені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1389676174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1428840" y="1928880"/>
            <a:ext cx="5616360" cy="44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1373538810_kyz-ku"/>
          <p:cNvPicPr/>
          <p:nvPr/>
        </p:nvPicPr>
        <p:blipFill>
          <a:blip r:embed="rId1"/>
          <a:stretch/>
        </p:blipFill>
        <p:spPr>
          <a:xfrm>
            <a:off x="785880" y="1714680"/>
            <a:ext cx="7643880" cy="475596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2"/>
          <p:cNvSpPr/>
          <p:nvPr/>
        </p:nvSpPr>
        <p:spPr>
          <a:xfrm>
            <a:off x="214200" y="357120"/>
            <a:ext cx="8748720" cy="122400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600000"/>
                </a:solidFill>
                <a:latin typeface="Times New Roman"/>
              </a:rPr>
              <a:t>І</a:t>
            </a:r>
            <a:r>
              <a:rPr b="1" lang="en-US" sz="7200" spc="-1" strike="noStrike">
                <a:solidFill>
                  <a:srgbClr val="600000"/>
                </a:solidFill>
                <a:latin typeface="Times New Roman"/>
              </a:rPr>
              <a:t>V</a:t>
            </a:r>
            <a:r>
              <a:rPr b="1" lang="kk-KZ" sz="7200" spc="-1" strike="noStrike">
                <a:solidFill>
                  <a:srgbClr val="600000"/>
                </a:solidFill>
                <a:latin typeface="Times New Roman"/>
              </a:rPr>
              <a:t>. </a:t>
            </a:r>
            <a:r>
              <a:rPr b="1" lang="ru-RU" sz="7200" spc="-1" strike="noStrike">
                <a:solidFill>
                  <a:srgbClr val="600000"/>
                </a:solidFill>
                <a:latin typeface="Times New Roman"/>
              </a:rPr>
              <a:t>Кім жылдам?</a:t>
            </a:r>
            <a:r>
              <a:rPr b="1" lang="kk-KZ" sz="7200" spc="-1" strike="noStrike">
                <a:solidFill>
                  <a:srgbClr val="600000"/>
                </a:solidFill>
                <a:latin typeface="Times New Roman"/>
              </a:rPr>
              <a:t> 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50920" y="115920"/>
            <a:ext cx="74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800000"/>
                </a:solidFill>
                <a:latin typeface="Times New Roman"/>
              </a:rPr>
              <a:t>Сенің атың кім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50920" y="1052640"/>
            <a:ext cx="74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800000"/>
                </a:solidFill>
                <a:latin typeface="Times New Roman"/>
              </a:rPr>
              <a:t>Қайдан келесің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250920" y="1989000"/>
            <a:ext cx="74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800000"/>
                </a:solidFill>
                <a:latin typeface="Times New Roman"/>
              </a:rPr>
              <a:t>Жолда нені көрдің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250920" y="2924280"/>
            <a:ext cx="74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800000"/>
                </a:solidFill>
                <a:latin typeface="Times New Roman"/>
              </a:rPr>
              <a:t>Не істедің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250920" y="3933720"/>
            <a:ext cx="74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800000"/>
                </a:solidFill>
                <a:latin typeface="Times New Roman"/>
              </a:rPr>
              <a:t>Түскі асқа не жедің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250920" y="4941720"/>
            <a:ext cx="74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800000"/>
                </a:solidFill>
                <a:latin typeface="Times New Roman"/>
              </a:rPr>
              <a:t>Қайда барасың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8"/>
          <p:cNvSpPr/>
          <p:nvPr/>
        </p:nvSpPr>
        <p:spPr>
          <a:xfrm>
            <a:off x="250920" y="5994360"/>
            <a:ext cx="7416720" cy="86364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800000"/>
                </a:solidFill>
                <a:latin typeface="Times New Roman"/>
              </a:rPr>
              <a:t>Қандай сыйлық әкелдің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Picture 9" descr="smail"/>
          <p:cNvPicPr/>
          <p:nvPr/>
        </p:nvPicPr>
        <p:blipFill>
          <a:blip r:embed="rId1"/>
          <a:stretch/>
        </p:blipFill>
        <p:spPr>
          <a:xfrm>
            <a:off x="5508720" y="2492280"/>
            <a:ext cx="256212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path" presetID="3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709 0.02382 L -0.05712 0.22317 L -0.0382 0.02382 L -0.01823 0.22317 L 0.00173 0.02382 L 0.02048 0.22317 L 0.04045 0.02382 L 0.05937 0.22317 L 0.07934 0.02382 L 0.0993 0.22317 L 0.11823 0.02382 L 0.13819 0.22317 L 0.15694 0.02382 L 0.17691 0.22317 L 0.19687 0.02382 L 0.2158 0.22317 L 0.23594 0.02382 E">
                                      <p:cBhvr>
                                        <p:cTn id="405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1320" y="356760"/>
            <a:ext cx="7886520" cy="571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Мақсаты: </a:t>
            </a:r>
            <a:br>
              <a:rPr sz="3200"/>
            </a:br>
            <a:r>
              <a:rPr b="0" lang="ru-RU" sz="4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на тілде таза сөйлеуге, тілді құрметтеуге тәрбиелеу. Оқушылардың мемлекеттік тілге деген қызығушылығын арттыру. Тез ойлап, ұтымды жауап қайтара білуге, еркін сөйлеуге дағдыландыру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"/>
          <p:cNvSpPr/>
          <p:nvPr/>
        </p:nvSpPr>
        <p:spPr>
          <a:xfrm>
            <a:off x="0" y="29520"/>
            <a:ext cx="8858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а тілің біліп қой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ркіндігің, теңдігің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а тілің біліп қой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қтанышың, елдігің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а тілің – арың бұл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Ұятың боп тұр бетте.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Өзге тілдің бәрін біл,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ff00"/>
                </a:solidFill>
                <a:latin typeface="Times New Roman"/>
                <a:ea typeface="Calibri"/>
              </a:rPr>
              <a:t>Өз тіліңді құрметте!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5214960" y="593064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Қ.Мырзалиев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шуак"/>
          <p:cNvPicPr/>
          <p:nvPr/>
        </p:nvPicPr>
        <p:blipFill>
          <a:blip r:embed="rId1"/>
          <a:stretch/>
        </p:blipFill>
        <p:spPr>
          <a:xfrm>
            <a:off x="395280" y="0"/>
            <a:ext cx="7632720" cy="688644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"/>
          <p:cNvSpPr/>
          <p:nvPr/>
        </p:nvSpPr>
        <p:spPr>
          <a:xfrm>
            <a:off x="179280" y="404640"/>
            <a:ext cx="8748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ff00"/>
                </a:solidFill>
                <a:latin typeface="Times New Roman"/>
              </a:rPr>
              <a:t>VI. Қорытынды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539640" y="1628640"/>
            <a:ext cx="7272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kk-KZ" sz="4000" spc="-1" strike="noStrike">
                <a:solidFill>
                  <a:srgbClr val="000066"/>
                </a:solidFill>
                <a:latin typeface="Times New Roman"/>
              </a:rPr>
              <a:t>Кіршіксіз қардай сақтаңдар,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kk-KZ" sz="4000" spc="-1" strike="noStrike">
                <a:solidFill>
                  <a:srgbClr val="000066"/>
                </a:solidFill>
                <a:latin typeface="Times New Roman"/>
              </a:rPr>
              <a:t>Қазақтың тілін ғаламат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kk-KZ" sz="4000" spc="-1" strike="noStrike">
                <a:solidFill>
                  <a:srgbClr val="000066"/>
                </a:solidFill>
                <a:latin typeface="Times New Roman"/>
              </a:rPr>
              <a:t>Ана тіл – арым, иманым,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kk-KZ" sz="4000" spc="-1" strike="noStrike">
                <a:solidFill>
                  <a:srgbClr val="000066"/>
                </a:solidFill>
                <a:latin typeface="Times New Roman"/>
              </a:rPr>
              <a:t>Аманат, саған, аманат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i="1" lang="kk-KZ" sz="4000" spc="-1" strike="noStrike">
                <a:solidFill>
                  <a:srgbClr val="000000"/>
                </a:solidFill>
                <a:latin typeface="Times New Roman"/>
              </a:rPr>
              <a:t>М. Әлімбаев.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2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4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3708360" y="448200"/>
            <a:ext cx="51195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Ұлттық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тіл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қазақ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ұлтының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ухани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мәдени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байлығын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ұрпақтан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ұрпаққа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жеткізуші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қасиетті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құрал.           </a:t>
            </a: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Н.Ә.Назарбаев</a:t>
            </a:r>
            <a:r>
              <a:rPr b="1" i="1" lang="ru-RU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6" descr="president"/>
          <p:cNvPicPr/>
          <p:nvPr/>
        </p:nvPicPr>
        <p:blipFill>
          <a:blip r:embed="rId1"/>
          <a:stretch/>
        </p:blipFill>
        <p:spPr>
          <a:xfrm>
            <a:off x="179280" y="549360"/>
            <a:ext cx="3252960" cy="4895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3456000" y="1197000"/>
            <a:ext cx="5688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cc00"/>
                </a:solidFill>
                <a:latin typeface="Times New Roman"/>
              </a:rPr>
              <a:t>Қазақстанның 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cc00"/>
                </a:solidFill>
                <a:latin typeface="Times New Roman"/>
              </a:rPr>
              <a:t>болашағы </a:t>
            </a:r>
            <a:r>
              <a:rPr b="1" lang="ru-RU" sz="6000" spc="-1" strike="noStrike">
                <a:solidFill>
                  <a:srgbClr val="ffcc00"/>
                </a:solidFill>
                <a:latin typeface="Times New Roman"/>
              </a:rPr>
              <a:t>-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fcc00"/>
                </a:solidFill>
                <a:latin typeface="Times New Roman"/>
              </a:rPr>
              <a:t>қазақ тілінде</a:t>
            </a:r>
            <a:endParaRPr b="1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ffcc00"/>
                </a:solidFill>
                <a:latin typeface="Times New Roman"/>
              </a:rPr>
              <a:t>Н.Ә.Назарбаев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285840"/>
            <a:ext cx="9144000" cy="61434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ff1a1a"/>
                </a:solidFill>
                <a:latin typeface="Times New Roman"/>
              </a:rPr>
              <a:t>22 қыркүйек</a:t>
            </a:r>
            <a:endParaRPr b="1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cc"/>
                </a:solidFill>
                <a:latin typeface="Times New Roman"/>
              </a:rPr>
              <a:t>ҚР-ның 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cc"/>
                </a:solidFill>
                <a:latin typeface="Times New Roman"/>
              </a:rPr>
              <a:t>халықтарының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cc"/>
                </a:solidFill>
                <a:latin typeface="Times New Roman"/>
              </a:rPr>
              <a:t>тілдер мерекесі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76720" y="259920"/>
            <a:ext cx="5688000" cy="6264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990033"/>
                </a:solidFill>
                <a:latin typeface="Times New Roman"/>
              </a:rPr>
              <a:t>Ана тілін ұмытқан адам өз халқының өткенінен де, болашағынан да қол үзеді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5" name="Picture 4" descr="габит"/>
          <p:cNvPicPr/>
          <p:nvPr/>
        </p:nvPicPr>
        <p:blipFill>
          <a:blip r:embed="rId1"/>
          <a:srcRect l="17880" t="0" r="17776" b="0"/>
          <a:stretch/>
        </p:blipFill>
        <p:spPr>
          <a:xfrm>
            <a:off x="0" y="333360"/>
            <a:ext cx="3240000" cy="38750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0" y="4437000"/>
            <a:ext cx="3419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800000"/>
                </a:solidFill>
                <a:latin typeface="Times New Roman"/>
              </a:rPr>
              <a:t>Ғ.Мүсірепов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Ляззат\Desktop\лиза папкалар\снежок\150 ұлт.jpg"/>
          <p:cNvPicPr/>
          <p:nvPr/>
        </p:nvPicPr>
        <p:blipFill>
          <a:blip r:embed="rId1"/>
          <a:stretch/>
        </p:blipFill>
        <p:spPr>
          <a:xfrm>
            <a:off x="30240" y="214200"/>
            <a:ext cx="8982000" cy="635796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C:\Users\Ляззат\Desktop\лиза папкалар\снежок\әр ұлт.jpg"/>
          <p:cNvPicPr/>
          <p:nvPr/>
        </p:nvPicPr>
        <p:blipFill>
          <a:blip r:embed="rId1"/>
          <a:stretch/>
        </p:blipFill>
        <p:spPr>
          <a:xfrm>
            <a:off x="398520" y="0"/>
            <a:ext cx="8745480" cy="3714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C:\Users\Ляззат\Desktop\лиза папкалар\снежок\әр ұлтт.jpg"/>
          <p:cNvPicPr/>
          <p:nvPr/>
        </p:nvPicPr>
        <p:blipFill>
          <a:blip r:embed="rId2"/>
          <a:stretch/>
        </p:blipFill>
        <p:spPr>
          <a:xfrm>
            <a:off x="0" y="3209760"/>
            <a:ext cx="7643880" cy="364824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214200"/>
            <a:ext cx="871524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ffff00"/>
                </a:solidFill>
                <a:latin typeface="Times New Roman"/>
              </a:rPr>
              <a:t>І. Сәлем – сөздің анасы</a:t>
            </a:r>
            <a:endParaRPr b="1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C:\Users\Ляззат\Desktop\лиза папкалар\снежок\Без названия.jpg"/>
          <p:cNvPicPr/>
          <p:nvPr/>
        </p:nvPicPr>
        <p:blipFill>
          <a:blip r:embed="rId1"/>
          <a:stretch/>
        </p:blipFill>
        <p:spPr>
          <a:xfrm>
            <a:off x="2071800" y="2071800"/>
            <a:ext cx="5000400" cy="4375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C:\Users\Ляззат\Desktop\лиза папкалар\снежок\15667833-illustration-of-two-kids-shaking-hands-on-white-background-Stock-Vector.jpg"/>
          <p:cNvPicPr/>
          <p:nvPr/>
        </p:nvPicPr>
        <p:blipFill>
          <a:blip r:embed="rId2"/>
          <a:stretch/>
        </p:blipFill>
        <p:spPr>
          <a:xfrm>
            <a:off x="1928880" y="1428840"/>
            <a:ext cx="5275080" cy="51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0T14:45:09Z</dcterms:created>
  <dc:creator>Customer</dc:creator>
  <dc:description/>
  <dc:language>en-US</dc:language>
  <cp:lastModifiedBy>User</cp:lastModifiedBy>
  <dcterms:modified xsi:type="dcterms:W3CDTF">2017-09-27T10:47:29Z</dcterms:modified>
  <cp:revision>38</cp:revision>
  <dc:subject/>
  <dc:title>Ана тілім - ардағым</dc:title>
</cp:coreProperties>
</file>