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882E-4DBA-457C-B42E-36C38429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6FAD-33E7-4B30-B2A6-F03BB66A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E457-7A5F-4D62-A812-28B48168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1B2B-F32E-4E5C-AC7E-8D94DB3D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3EE2-2AC7-426E-84DE-CA161C3F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1260-FEC1-4CF5-B3CD-398456E4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57A7-8ABC-4CFF-80E7-465711B6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6CCC-3D01-49E8-AD0A-23A01585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78FD-AF79-4B68-8FEA-9D6ED398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CE79-881D-408E-920C-869F19C4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20B0-00BC-44B8-A9B3-5C00CE30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D249-27BC-4092-9470-09682FEA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8BB3-CD64-4EEF-A736-5F43F7B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62BC-E889-429C-8801-561999EB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5AFE-195B-4497-8B1F-05DA34CA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0E0-9C58-413A-B839-EF41DA41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8184-E0AB-4138-8E95-9418266C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248A-607F-410D-B5E8-94E8D68C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C8DF-01A2-44B7-BCAB-D7B53D89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9795-F300-4C0C-91C9-C1E95AEF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159E-F77D-47D3-94E9-7AFD8F93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B59E-E423-44B3-9111-6DE7C9A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7EFA-39D6-405F-A459-3C03378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329C-95CA-4822-993F-B47A5693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92C3-3E90-48FC-8BF3-81A3723BFDC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2288-3D17-4990-A8AF-5D2958EF15C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Ляззат\Desktop\лиза папкалар\снежок\22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Ляззат\Desktop\лиза папкалар\снежок\қазақ.jpg"/>
          <p:cNvPicPr/>
          <p:nvPr/>
        </p:nvPicPr>
        <p:blipFill>
          <a:blip r:embed="rId1"/>
          <a:stretch/>
        </p:blipFill>
        <p:spPr>
          <a:xfrm>
            <a:off x="0" y="0"/>
            <a:ext cx="9085320" cy="6643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1928880" y="3857760"/>
            <a:ext cx="468144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0000cc"/>
                </a:solidFill>
                <a:latin typeface="Times New Roman"/>
              </a:rPr>
              <a:t>Сәлем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643040" y="378612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cc"/>
                </a:solidFill>
                <a:latin typeface="Times New Roman"/>
              </a:rPr>
              <a:t>Ассалаумағалейкум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500120" y="5929200"/>
            <a:ext cx="6572160" cy="571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Қазақт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Users\Ляззат\Desktop\лиза папкалар\снежок\ор.jpg"/>
          <p:cNvPicPr/>
          <p:nvPr/>
        </p:nvPicPr>
        <p:blipFill>
          <a:blip r:embed="rId1"/>
          <a:stretch/>
        </p:blipFill>
        <p:spPr>
          <a:xfrm>
            <a:off x="2090880" y="0"/>
            <a:ext cx="49622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643040" y="385776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0000cc"/>
                </a:solidFill>
                <a:latin typeface="Times New Roman"/>
              </a:rPr>
              <a:t>Привет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571760" y="378612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0000cc"/>
                </a:solidFill>
                <a:latin typeface="Times New Roman"/>
              </a:rPr>
              <a:t>Здравствуйте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Беларуст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Ляззат\Desktop\лиза папкалар\снежок\орыс.jpg"/>
          <p:cNvPicPr/>
          <p:nvPr/>
        </p:nvPicPr>
        <p:blipFill>
          <a:blip r:embed="rId1"/>
          <a:stretch/>
        </p:blipFill>
        <p:spPr>
          <a:xfrm>
            <a:off x="3492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1500120" y="421488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Ви-таю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571760" y="41432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Дзень добры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Беларуст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Ляззат\Desktop\лиза папкалар\снежок\өзбек.jpg"/>
          <p:cNvPicPr/>
          <p:nvPr/>
        </p:nvPicPr>
        <p:blipFill>
          <a:blip r:embed="rId1"/>
          <a:stretch/>
        </p:blipFill>
        <p:spPr>
          <a:xfrm>
            <a:off x="11160" y="285840"/>
            <a:ext cx="9018720" cy="6215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714680" y="385776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3333cc"/>
                </a:solidFill>
                <a:latin typeface="Times New Roman"/>
              </a:rPr>
              <a:t>Ассалому алейкум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571760" y="385776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3333cc"/>
                </a:solidFill>
                <a:latin typeface="Times New Roman"/>
              </a:rPr>
              <a:t>Салом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Өзбекте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Ляззат\Desktop\лиза папкалар\снежок\украин.jpg"/>
          <p:cNvPicPr/>
          <p:nvPr/>
        </p:nvPicPr>
        <p:blipFill>
          <a:blip r:embed="rId1"/>
          <a:stretch/>
        </p:blipFill>
        <p:spPr>
          <a:xfrm>
            <a:off x="-28440" y="0"/>
            <a:ext cx="92008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571760" y="385776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Привит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571760" y="39290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Добрыдэнь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Украинд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Users\Ляззат\Desktop\лиза папкалар\снежок\грузин.jpg"/>
          <p:cNvPicPr/>
          <p:nvPr/>
        </p:nvPicPr>
        <p:blipFill>
          <a:blip r:embed="rId1"/>
          <a:stretch/>
        </p:blipFill>
        <p:spPr>
          <a:xfrm>
            <a:off x="109440" y="214200"/>
            <a:ext cx="8826480" cy="63579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571760" y="39290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Гамарджоба 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Грузинде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C:\Users\Ляззат\Pictures\imgpreview (4).jpg"/>
          <p:cNvPicPr/>
          <p:nvPr/>
        </p:nvPicPr>
        <p:blipFill>
          <a:blip r:embed="rId1"/>
          <a:stretch/>
        </p:blipFill>
        <p:spPr>
          <a:xfrm>
            <a:off x="2428920" y="162000"/>
            <a:ext cx="4251240" cy="6481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1571760" y="39290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3333cc"/>
                </a:solidFill>
                <a:latin typeface="Times New Roman"/>
              </a:rPr>
              <a:t>Намастэ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Үнділе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Ляззат\Desktop\лиза папкалар\снежок\китай.jpg"/>
          <p:cNvPicPr/>
          <p:nvPr/>
        </p:nvPicPr>
        <p:blipFill>
          <a:blip r:embed="rId1"/>
          <a:stretch/>
        </p:blipFill>
        <p:spPr>
          <a:xfrm>
            <a:off x="1571760" y="214200"/>
            <a:ext cx="5222880" cy="6380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1571760" y="39290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Ни хоу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Қытайл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Ляззат\Desktop\лиза папкалар\снежок\японка.jpg"/>
          <p:cNvPicPr/>
          <p:nvPr/>
        </p:nvPicPr>
        <p:blipFill>
          <a:blip r:embed="rId1"/>
          <a:stretch/>
        </p:blipFill>
        <p:spPr>
          <a:xfrm>
            <a:off x="285840" y="357120"/>
            <a:ext cx="8481960" cy="5286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1214280" y="3929040"/>
            <a:ext cx="692964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Ко-ни-чи-ва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Жапонд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Ляззат\Desktop\лиза папкалар\снежок\фр.jpg"/>
          <p:cNvPicPr/>
          <p:nvPr/>
        </p:nvPicPr>
        <p:blipFill>
          <a:blip r:embed="rId1"/>
          <a:stretch/>
        </p:blipFill>
        <p:spPr>
          <a:xfrm>
            <a:off x="2071800" y="0"/>
            <a:ext cx="4414680" cy="6181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1214280" y="3929040"/>
            <a:ext cx="692964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3333cc"/>
                </a:solidFill>
                <a:latin typeface="Times New Roman"/>
              </a:rPr>
              <a:t>Бонжур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Французд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358623994_img223"/>
          <p:cNvPicPr/>
          <p:nvPr/>
        </p:nvPicPr>
        <p:blipFill>
          <a:blip r:embed="rId1"/>
          <a:stretch/>
        </p:blipFill>
        <p:spPr>
          <a:xfrm>
            <a:off x="1708200" y="57168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607240" cy="585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>
                <a:solidFill>
                  <a:srgbClr val="ffff00"/>
                </a:solidFill>
                <a:latin typeface="Times New Roman"/>
              </a:rPr>
              <a:t>Туған тілім – айбыным</a:t>
            </a:r>
            <a:br>
              <a:rPr sz="8800"/>
            </a:br>
            <a:br>
              <a:rPr sz="8800"/>
            </a:b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Тәрбие сағаты</a:t>
            </a:r>
            <a:br>
              <a:rPr sz="4000"/>
            </a:b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ұмсай бастауыш мектебі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28760" y="214200"/>
            <a:ext cx="692928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3333cc"/>
                </a:solidFill>
                <a:latin typeface="Times New Roman"/>
              </a:rPr>
              <a:t>хау ду ю ду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28760" y="2143080"/>
            <a:ext cx="692928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гутен таг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57120" y="4214880"/>
            <a:ext cx="692964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мерхаба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428760" y="214200"/>
            <a:ext cx="842940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ан ньон ха се йо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00040" y="2143080"/>
            <a:ext cx="778680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боун джорно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57120" y="4214880"/>
            <a:ext cx="84297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сайен байян у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C:\Users\Ляззат\Desktop\лиза папкалар\снежок\images.jpg"/>
          <p:cNvPicPr/>
          <p:nvPr/>
        </p:nvPicPr>
        <p:blipFill>
          <a:blip r:embed="rId1"/>
          <a:stretch/>
        </p:blipFill>
        <p:spPr>
          <a:xfrm>
            <a:off x="857160" y="357120"/>
            <a:ext cx="73119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358920" y="214200"/>
            <a:ext cx="878508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ff"/>
                </a:solidFill>
                <a:latin typeface="Times New Roman"/>
              </a:rPr>
              <a:t>ІІ.  Бәйге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00"/>
                </a:solidFill>
                <a:latin typeface="Times New Roman"/>
              </a:rPr>
              <a:t>Мақал-мәтелдер жарыс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8" descr="тил"/>
          <p:cNvPicPr/>
          <p:nvPr/>
        </p:nvPicPr>
        <p:blipFill>
          <a:blip r:embed="rId1"/>
          <a:stretch/>
        </p:blipFill>
        <p:spPr>
          <a:xfrm>
            <a:off x="2428920" y="2270160"/>
            <a:ext cx="4753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0" y="328608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 Жақсы сөз - ……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0" y="42876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Тіл тас жарады, тас жармаса   …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0" y="43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. Шебердің қолы ортақ,  шешеннің  ….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0" y="135720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Бал тамған тілден  …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0" y="235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. Тауды, тасты жел бұзар,  адамзатты ….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0" y="5429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6. Жақсы байқап сөйлер, жаман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…….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3"/>
          <p:cNvSpPr/>
          <p:nvPr/>
        </p:nvSpPr>
        <p:spPr>
          <a:xfrm>
            <a:off x="0" y="35712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7. Айтылған сөз -  …….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Прямоугольник 10"/>
          <p:cNvSpPr/>
          <p:nvPr/>
        </p:nvSpPr>
        <p:spPr>
          <a:xfrm>
            <a:off x="0" y="535788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0.  Басқа пәле -   …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Прямоугольник 11"/>
          <p:cNvSpPr/>
          <p:nvPr/>
        </p:nvSpPr>
        <p:spPr>
          <a:xfrm>
            <a:off x="0" y="1928880"/>
            <a:ext cx="90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8. Жылы - жылы сөйлесең,     жылан  ……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Прямоугольник 12"/>
          <p:cNvSpPr/>
          <p:nvPr/>
        </p:nvSpPr>
        <p:spPr>
          <a:xfrm>
            <a:off x="0" y="385776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9.  Тілге құрмет  - ……….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6"/>
          <p:cNvSpPr/>
          <p:nvPr/>
        </p:nvSpPr>
        <p:spPr>
          <a:xfrm>
            <a:off x="0" y="214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1.  Бас кеспек болса да,    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8"/>
          <p:cNvSpPr/>
          <p:nvPr/>
        </p:nvSpPr>
        <p:spPr>
          <a:xfrm>
            <a:off x="0" y="4929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5. Ана сүті бой өсіреді, Ана тілі .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Прямоугольник 9"/>
          <p:cNvSpPr/>
          <p:nvPr/>
        </p:nvSpPr>
        <p:spPr>
          <a:xfrm>
            <a:off x="0" y="257184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3. Піл көтермегенді,  ………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Прямоугольник 7"/>
          <p:cNvSpPr/>
          <p:nvPr/>
        </p:nvSpPr>
        <p:spPr>
          <a:xfrm>
            <a:off x="0" y="13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2.  Тіл қылыштан   …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Прямоугольник 11"/>
          <p:cNvSpPr/>
          <p:nvPr/>
        </p:nvSpPr>
        <p:spPr>
          <a:xfrm>
            <a:off x="0" y="5857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6.  Өнер алды –  ………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Прямоугольник 12"/>
          <p:cNvSpPr/>
          <p:nvPr/>
        </p:nvSpPr>
        <p:spPr>
          <a:xfrm>
            <a:off x="0" y="378612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4. Тілден артық …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14200" y="500040"/>
            <a:ext cx="874872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600000"/>
                </a:solidFill>
                <a:latin typeface="Times New Roman"/>
              </a:rPr>
              <a:t>ІІІ. Түсін мені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1389676174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428840" y="1928880"/>
            <a:ext cx="5616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1373538810_kyz-ku"/>
          <p:cNvPicPr/>
          <p:nvPr/>
        </p:nvPicPr>
        <p:blipFill>
          <a:blip r:embed="rId1"/>
          <a:stretch/>
        </p:blipFill>
        <p:spPr>
          <a:xfrm>
            <a:off x="785880" y="1714680"/>
            <a:ext cx="7643880" cy="4755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214200" y="357120"/>
            <a:ext cx="874872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600000"/>
                </a:solidFill>
                <a:latin typeface="Times New Roman"/>
              </a:rPr>
              <a:t>І</a:t>
            </a:r>
            <a:r>
              <a:rPr b="1" lang="en-US" sz="7200" spc="-1" strike="noStrike">
                <a:solidFill>
                  <a:srgbClr val="600000"/>
                </a:solidFill>
                <a:latin typeface="Times New Roman"/>
              </a:rPr>
              <a:t>V</a:t>
            </a:r>
            <a:r>
              <a:rPr b="1" lang="kk-KZ" sz="7200" spc="-1" strike="noStrike">
                <a:solidFill>
                  <a:srgbClr val="600000"/>
                </a:solidFill>
                <a:latin typeface="Times New Roman"/>
              </a:rPr>
              <a:t>. </a:t>
            </a:r>
            <a:r>
              <a:rPr b="1" lang="ru-RU" sz="7200" spc="-1" strike="noStrike">
                <a:solidFill>
                  <a:srgbClr val="600000"/>
                </a:solidFill>
                <a:latin typeface="Times New Roman"/>
              </a:rPr>
              <a:t>Кім жылдам?</a:t>
            </a:r>
            <a:r>
              <a:rPr b="1" lang="kk-KZ" sz="7200" spc="-1" strike="noStrike">
                <a:solidFill>
                  <a:srgbClr val="600000"/>
                </a:solidFill>
                <a:latin typeface="Times New Roman"/>
              </a:rPr>
              <a:t> 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50920" y="11592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Сенің атың кім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50920" y="105264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Қайдан келес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50920" y="198900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Жолда нені көрд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50920" y="292428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Не істед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250920" y="393372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Түскі асқа не жед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50920" y="494172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Қайда барасы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50920" y="599436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Қандай сыйлық әкелд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9" descr="smail"/>
          <p:cNvPicPr/>
          <p:nvPr/>
        </p:nvPicPr>
        <p:blipFill>
          <a:blip r:embed="rId1"/>
          <a:stretch/>
        </p:blipFill>
        <p:spPr>
          <a:xfrm>
            <a:off x="5508720" y="2492280"/>
            <a:ext cx="2562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09 0.02382 L -0.05712 0.22317 L -0.0382 0.02382 L -0.01823 0.22317 L 0.00173 0.02382 L 0.02048 0.22317 L 0.04045 0.02382 L 0.05937 0.22317 L 0.07934 0.02382 L 0.0993 0.22317 L 0.11823 0.02382 L 0.13819 0.22317 L 0.15694 0.02382 L 0.17691 0.22317 L 0.19687 0.02382 L 0.2158 0.22317 L 0.23594 0.02382 E">
                                      <p:cBhvr>
                                        <p:cTn id="40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886520" cy="571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Мақсаты: </a:t>
            </a:r>
            <a:br>
              <a:rPr sz="32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на тілде таза сөйлеуге, тілді құрметтеуге тәрбиелеу. Оқушылардың мемлекеттік тілге деген қызығушылығын арттыру. Тез ойлап, ұтымды жауап қайтара білуге, еркін сөйлеуге дағдыландыр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95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 тілің біліп қой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ркіндігің, теңдігің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 тілің біліп қой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қтанышың, елдігің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 тілің – арың бұл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Ұятың боп тұр бетте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Өзге тілдің бәрін біл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Өз тіліңді құрметте!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214960" y="593064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Қ.Мырзалиев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шуак"/>
          <p:cNvPicPr/>
          <p:nvPr/>
        </p:nvPicPr>
        <p:blipFill>
          <a:blip r:embed="rId1"/>
          <a:stretch/>
        </p:blipFill>
        <p:spPr>
          <a:xfrm>
            <a:off x="395280" y="0"/>
            <a:ext cx="7632720" cy="6886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179280" y="40464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Times New Roman"/>
              </a:rPr>
              <a:t>VI. Қорытынды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1628640"/>
            <a:ext cx="727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Кіршіксіз қардай сақтаңдар,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Қазақтың тілін ғаламат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Ана тіл – арым, иманым,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Аманат, саған, аманат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М. Әлімбаев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3708360" y="448200"/>
            <a:ext cx="5119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Ұлттық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іл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қазақ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ұлтының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ухан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әден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айлығын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ұрпақтан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ұрпаққа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жеткізуші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қасиетті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құрал.           </a:t>
            </a: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Н.Ә.Назарбаев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6" descr="president"/>
          <p:cNvPicPr/>
          <p:nvPr/>
        </p:nvPicPr>
        <p:blipFill>
          <a:blip r:embed="rId1"/>
          <a:stretch/>
        </p:blipFill>
        <p:spPr>
          <a:xfrm>
            <a:off x="179280" y="549360"/>
            <a:ext cx="3252960" cy="4895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456000" y="1197000"/>
            <a:ext cx="5688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cc00"/>
                </a:solidFill>
                <a:latin typeface="Times New Roman"/>
              </a:rPr>
              <a:t>Қазақстанның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cc00"/>
                </a:solidFill>
                <a:latin typeface="Times New Roman"/>
              </a:rPr>
              <a:t>болашағы </a:t>
            </a: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-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cc00"/>
                </a:solidFill>
                <a:latin typeface="Times New Roman"/>
              </a:rPr>
              <a:t>қазақ тілінде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ffcc00"/>
                </a:solidFill>
                <a:latin typeface="Times New Roman"/>
              </a:rPr>
              <a:t>Н.Ә.Назарбаев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285840"/>
            <a:ext cx="9144000" cy="614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ff1a1a"/>
                </a:solidFill>
                <a:latin typeface="Times New Roman"/>
              </a:rPr>
              <a:t>22 қыркүйек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cc"/>
                </a:solidFill>
                <a:latin typeface="Times New Roman"/>
              </a:rPr>
              <a:t>ҚР-ның 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cc"/>
                </a:solidFill>
                <a:latin typeface="Times New Roman"/>
              </a:rPr>
              <a:t>халықтарының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cc"/>
                </a:solidFill>
                <a:latin typeface="Times New Roman"/>
              </a:rPr>
              <a:t>тілдер мерекесі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259920"/>
            <a:ext cx="5688000" cy="626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990033"/>
                </a:solidFill>
                <a:latin typeface="Times New Roman"/>
              </a:rPr>
              <a:t>Ана тілін ұмытқан адам өз халқының өткенінен де, болашағынан да қол үзеді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4" descr="габит"/>
          <p:cNvPicPr/>
          <p:nvPr/>
        </p:nvPicPr>
        <p:blipFill>
          <a:blip r:embed="rId1"/>
          <a:srcRect l="17880" t="0" r="17776" b="0"/>
          <a:stretch/>
        </p:blipFill>
        <p:spPr>
          <a:xfrm>
            <a:off x="0" y="333360"/>
            <a:ext cx="3240000" cy="3875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0" y="4437000"/>
            <a:ext cx="341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Ғ.Мүсіреп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Ляззат\Desktop\лиза папкалар\снежок\150 ұлт.jpg"/>
          <p:cNvPicPr/>
          <p:nvPr/>
        </p:nvPicPr>
        <p:blipFill>
          <a:blip r:embed="rId1"/>
          <a:stretch/>
        </p:blipFill>
        <p:spPr>
          <a:xfrm>
            <a:off x="30240" y="214200"/>
            <a:ext cx="8982000" cy="6357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C:\Users\Ляззат\Desktop\лиза папкалар\снежок\әр ұлт.jpg"/>
          <p:cNvPicPr/>
          <p:nvPr/>
        </p:nvPicPr>
        <p:blipFill>
          <a:blip r:embed="rId1"/>
          <a:stretch/>
        </p:blipFill>
        <p:spPr>
          <a:xfrm>
            <a:off x="398520" y="0"/>
            <a:ext cx="8745480" cy="3714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Ляззат\Desktop\лиза папкалар\снежок\әр ұлтт.jpg"/>
          <p:cNvPicPr/>
          <p:nvPr/>
        </p:nvPicPr>
        <p:blipFill>
          <a:blip r:embed="rId2"/>
          <a:stretch/>
        </p:blipFill>
        <p:spPr>
          <a:xfrm>
            <a:off x="0" y="3209760"/>
            <a:ext cx="7643880" cy="3648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214200"/>
            <a:ext cx="87152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ffff00"/>
                </a:solidFill>
                <a:latin typeface="Times New Roman"/>
              </a:rPr>
              <a:t>І. Сәлем – сөздің анасы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C:\Users\Ляззат\Desktop\лиза папкалар\снежок\Без названия.jpg"/>
          <p:cNvPicPr/>
          <p:nvPr/>
        </p:nvPicPr>
        <p:blipFill>
          <a:blip r:embed="rId1"/>
          <a:stretch/>
        </p:blipFill>
        <p:spPr>
          <a:xfrm>
            <a:off x="2071800" y="2071800"/>
            <a:ext cx="5000400" cy="4375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Ляззат\Desktop\лиза папкалар\снежок\15667833-illustration-of-two-kids-shaking-hands-on-white-background-Stock-Vector.jpg"/>
          <p:cNvPicPr/>
          <p:nvPr/>
        </p:nvPicPr>
        <p:blipFill>
          <a:blip r:embed="rId2"/>
          <a:stretch/>
        </p:blipFill>
        <p:spPr>
          <a:xfrm>
            <a:off x="1928880" y="1428840"/>
            <a:ext cx="52750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14:45:09Z</dcterms:created>
  <dc:creator>Customer</dc:creator>
  <dc:description/>
  <dc:language>en-US</dc:language>
  <cp:lastModifiedBy>User</cp:lastModifiedBy>
  <dcterms:modified xsi:type="dcterms:W3CDTF">2017-09-27T10:47:29Z</dcterms:modified>
  <cp:revision>38</cp:revision>
  <dc:subject/>
  <dc:title>Ана тілім - ардағым</dc:title>
</cp:coreProperties>
</file>