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01C-0AA9-4150-B3C2-E7CEEB7D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DDD-18A9-412E-BBDC-45ECDA6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96A-8FAE-4779-8A3E-B4D6A748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CEF-068D-47BB-8BB3-96A11BE1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7B75-2E2F-4FEC-84CC-BC34C0F2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4F5-D4E0-4104-ADCF-7EA5F5B8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D429-5C3D-4E78-BF3A-CBE2E11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1B31-F955-479C-A80E-393F69EE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A702-9A55-4D7A-A7FA-74F3537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727-2186-4B5E-BE3D-FD692D7C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D91-F99A-4B51-932B-9DAE128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FEA-1955-4C69-BDDF-9E9589F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37F-0189-4BD2-87ED-305EDB0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A346-DA67-40A1-AA09-209B2F7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1AC6-64FA-4CD9-A795-373CF0E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93BC-C288-481F-9CFE-7AABD2FD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894-E6E9-442F-8A40-F665207A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8221-179D-4D98-B7BB-956623C8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1440-CCD2-4015-98B2-59710678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8520-C684-4166-BE6C-AD9E21FF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52A6-FF70-4CA1-823E-72721CB0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CB16-F096-4489-A6E4-68E2CE5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CD8-56C3-4701-A3CD-712C990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0883-7356-402A-90C9-5841F14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6717-A7D0-4D7F-8102-275BCAE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9EE9-110D-4FA7-8A58-100FBB9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49E2-2B4D-466F-AF94-C4CB4F3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51D0-9CA0-467E-BBD6-E586377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0B30-C55E-466E-BF7E-ADFAE04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75A3-B757-4FA6-AE96-E494D7E0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BCD5-8094-4AEB-A8E9-A8CE34B2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4730-EE76-4A31-A027-E0732BAF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F51D-06CB-4EF3-B46E-9B8D4A3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4A-30A7-4ADA-9A33-694A16D7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7D04-21FA-45F0-85F2-D8159D7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8B21-EE59-4C2D-B705-F708E05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BE50-FEB8-43B5-A776-12B3600E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E01-4381-4EC6-97C1-E6B8A50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F6D3-23A1-4722-B243-F3E9502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4407-D81F-421B-A29C-AB33F05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7BEC-CF50-4B00-9414-C0C5065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833E-B9B3-44A8-9556-14378939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D430-DFE8-43A8-8A74-A09E84FC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DE4-5445-45AD-8EC6-20629DF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C83-7161-4A76-B232-AC4F018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CC5-E10E-49D3-BC68-455A813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080-FC81-495A-995C-3D1EF5F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982-BF6F-4FD7-9259-7DD4610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B51-38B3-42B0-BFF8-280FC0A6AF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4C5-B46E-4916-95B3-A85867C0CE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3B8-1EB0-4A4E-8D30-2EA35C8634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1447920" y="34290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F37C-2C98-4FB1-974B-9E94EA149E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06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57160" y="571320"/>
            <a:ext cx="782640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77"/>
                </a:solidFill>
                <a:latin typeface="Verdana"/>
              </a:rPr>
              <a:t>Актуальные вопросы дошкольного образования в условиях введения ФГОС</a:t>
            </a:r>
            <a:endParaRPr b="0" lang="en-US" sz="4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ребования к структуре основной образовательной программы ДО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язательная часть. </a:t>
            </a: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844640"/>
          <a:ext cx="8713800" cy="5121360"/>
        </p:xfrm>
        <a:graphic>
          <a:graphicData uri="http://schemas.openxmlformats.org/drawingml/2006/table">
            <a:tbl>
              <a:tblPr/>
              <a:tblGrid>
                <a:gridCol w="4705560"/>
                <a:gridCol w="4008240"/>
              </a:tblGrid>
              <a:tr h="5143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ЕБОВАНИЯ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 –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циально –личност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 –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ЯЗА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ляет  не менее 8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%  составляющая организуемая участниками образов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разовательные  обл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ммуникация   Социализация  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ние   Здоровье  Музыка   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уд     Чтение художественной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СТРУКТУР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ммуникативно –личност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 –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ЧА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ляет  не менее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% составляющая организуемая участниками образов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вигательная     Игровая    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 –исследоват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сприятие художественной литературы и фолькл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лементарной труд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нструирование из различн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зобрази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узыкаль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Oval 22"/>
          <p:cNvSpPr/>
          <p:nvPr/>
        </p:nvSpPr>
        <p:spPr>
          <a:xfrm>
            <a:off x="179280" y="907920"/>
            <a:ext cx="2316240" cy="93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3"/>
          <p:cNvSpPr/>
          <p:nvPr/>
        </p:nvSpPr>
        <p:spPr>
          <a:xfrm>
            <a:off x="6659640" y="907920"/>
            <a:ext cx="2160360" cy="941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разовательная программа ДОУ состоит из двух частей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844640"/>
          <a:ext cx="8569080" cy="5211720"/>
        </p:xfrm>
        <a:graphic>
          <a:graphicData uri="http://schemas.openxmlformats.org/drawingml/2006/table">
            <a:tbl>
              <a:tblPr/>
              <a:tblGrid>
                <a:gridCol w="3960720"/>
                <a:gridCol w="460836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язательная часть Программы предполагает комплексность подхода, обеспечивая развитие детей во всех пяти взаимодополняющих образовательных област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анная часть Программы должна учитывать образовательные потребности, интересы и мотивы детей, членов их семей и педагогов и, в частности, может быть ориентирована н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специфику национальных,         социокультурных, экономических, климатических условий, в которых осуществляется образовательный процес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выбор тех парциальных образовательных программ и форм организации работы с детьми, которые в наибольшей степени соответствуют потребностям и интересам воспитанников Организации, а также возможностям её педагогического коллекти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поддержку интересов педагогических работников Организации, реализация которых соответствует целям и задачам Программ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сложившиеся традиции Организации (групп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обенности работы в пяти основных образовательных областях в разных видах деятельности и культурных практиках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особенности организации развивающей предметно-пространственной сре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способы и направления поддержки детской инициативы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особенности взаимодействия педагогического коллектива с семьями воспитан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0" name="Oval 21"/>
          <p:cNvSpPr/>
          <p:nvPr/>
        </p:nvSpPr>
        <p:spPr>
          <a:xfrm>
            <a:off x="0" y="765000"/>
            <a:ext cx="2484360" cy="115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язатель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инвариант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менее 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2"/>
          <p:cNvSpPr/>
          <p:nvPr/>
        </p:nvSpPr>
        <p:spPr>
          <a:xfrm>
            <a:off x="6588000" y="765000"/>
            <a:ext cx="237672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ариатив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омпонент региона,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более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8200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разовательная программа ДОУ-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язательная часть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4000" y="1052640"/>
          <a:ext cx="8640720" cy="59036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25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Непосредственно образовательная деятельность (НОД):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Экспериментирование, Проектирование, Коллекционирование, Беседы, Наблюдения, Решение проблемных ситуаций, Игры, Викторины, Чтение и обсуждение, Инсценирование и драматизация, Оформление выставок, портфолио.</a:t>
                      </a: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родуктивная  деятельность (рисование, лепка, аппликация). В музыкальной деятельности: слушание, пение,  тан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Образовательная деятельность в ходе режимных моментов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изическое развитие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, закаливающие процедуры, прием пищи, гимнастика, упражнения и подвижные игры в течение дня, оздоровительная прогул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циально-коммуникативное развитие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- ситуативные беседы, развитие трудовых навыков через поручения и задания, дежурства, навыки самообслуживания, формирование навыков безопасного поведения при проведении режимных мом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знавательно-речевое развитие-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создание речевой развивающей среды, свободные диалоги с детьми в играх, наблюдениях, при восприятии картин, иллюстраций, разговоры с деть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Художественно-эстетическое развитие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использование музыки в повседневной жизни, в игре, в досуге, на прогулке, в изодеятельности, в гимнастике, привлечение внимания к звукам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Самостоятельная деятельность де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одвижные, спортивные игры и упражнения; индивидуальные игры, совместные игры, все виды самостоятельной деятельности,  предполагающие общение со сверстниками; чтение детьми коротких стихов, игры по мотивам художественных произведений, игры в уголке книги, сюжетно-ролевые игры, развивающие ; рисование, лепка, конструирование, рассматривание репродукции картин, музицирование, пение, танцы, игра на детских музыкальных инструментах, слушание музыки.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anchor="t">
                      <a:noAutofit/>
                    </a:bodyPr>
                    <a:p>
                      <a:pPr marL="476280" indent="-476280"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Взаимодействие с родителями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стреча с интересным человеком; «школы для родителей», клубы,  студии. Проведение мастер-классов, тренингов. Привлечение родителей к организации вечеров музыки и поэзии, гостиных, конкурсов,  концертов, анкетирование, стендовые консультации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496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ая культура родителей –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дин из самых действенных факторов духовно-нравственного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звития, воспитания и социализации детей дошкольного возраст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4360" y="1628640"/>
            <a:ext cx="820872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введением Федерального государственного стандарта большое внимание будет уделяться работе с родителями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ое партнерство — взаимовыгодное взаимодействие различных секторов общества, направленное на решение социальных проблем, обеспечение устойчивого развития социальных отношений и повышение качества жизни, осуществляемое в рамках действующего законодательства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дним из самых важных и ближайших партнёров являются родители наших воспитанников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23640" y="1699920"/>
            <a:ext cx="835956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бота с коллективом ДОУ по организации взаимодействия с семьей, ознакомление педагогов с системой новых форм работы с родителями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ышение педагогической культуры родителей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влечение родителей в деятельность ДОУ, совместная работа по обмену опытом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новные задачи работы: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установить партнерские отношения с семьей каждого воспитанника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объединить усилия для развития и воспитания детей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создать атмосферу взаимопонимания, общности интересов, эмоциональной взаимоподдержки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активизировать и обогащать воспитательные умения родителей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поддерживать их уверенность в собственных педагогических возможностях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288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а вовлечения родителей в единое пространство детского развития в ДОУ решается в трех направлениях: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нципами взаимодействия с родителями являютс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рожелательный стиль общения педагогов с родителями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ьный подход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трудничество, а не наставничество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6929280" y="2494080"/>
            <a:ext cx="2286000" cy="2639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58705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заимодействие ДОУ и семьи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1699920"/>
            <a:ext cx="7927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адиционные формы работы ДОУ с семьей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новационные формы и методы работы с семьей: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Круглый стол" по любой теме; тематические выставки; соцобследование, диагностика, тесты, опрос на любые темы; консультации специалистов; устный журнал для родителей, с разными темами на каждой странице; семейные спортивные встречи; почта доверия, телефон доверия; семейные проекты "Наша родословная"; открытые занятия для просмотра родителей; интеллектуальные ринги детей и родителей; контрольные для родителей; интервью с родителями и детьми на определенные темы; родительская гостиная; конкурс семейных талантов; портфолио  семейного успеха; аукцион секретов воспитания и др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роцессе работы с семьей в ДОУ решаются задачи, связанные с возрождением традиций семейного воспитания, вовлечение родителей, детей и педагогов в объединения по интересам и увлечениям, организации семейного досуга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нтеграция содержания и задач психолого-педагогической работы 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79280" y="1557360"/>
          <a:ext cx="8785440" cy="5268960"/>
        </p:xfrm>
        <a:graphic>
          <a:graphicData uri="http://schemas.openxmlformats.org/drawingml/2006/table">
            <a:tbl>
              <a:tblPr/>
              <a:tblGrid>
                <a:gridCol w="2121120"/>
                <a:gridCol w="6664320"/>
              </a:tblGrid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 коммуникативн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правлено на присвоение норм и ценностей, принятых в обществе, включая моральные и нравственные ценности; развитие общения и взаимодействия ребёнка с взрослыми и сверстникам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полагает развитие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ключает владение речью как средством общения; обогащение активного словаря; развитие связной, грамматически правильной диалогической и монологической речи; развитие звуковой и интонационной культуры речи, фонематического слуха; формирование звуковой аналитико-синтетической активности как предпосылки обучения грам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ключает приобретение опыта в следующих видах поведения детей: двигательном,  развитие физических качеств,   координации движения, крупной и мелкой моторики обеих рук,  выполнение основных движений (ходьба, бег, мягкие прыжки, повороты в обе стороны)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43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лноценное развитие ребёнка происходит при условии наличия двух составляющих его жизни – полноценной семья и детский сад. Семья обеспечивает необходимые ребёнку личностные взаимоотношения, формирование чувства защищённости, любви к близким и родным, доверия и открытости миру</a:t>
            </a:r>
            <a:r>
              <a:rPr b="0" lang="ru-RU" sz="1800" spc="-1" strike="noStrike">
                <a:solidFill>
                  <a:srgbClr val="6600cc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640" y="1773360"/>
            <a:ext cx="81439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годня в основе новой философии взаимодействия семьи и дошкольного учреждения лежит идея о том, что за воспитание детей несут ответственность родители, а все другие социальные институты призваны помочь, поддержать, направить, дополнить их воспитательную деятельность( Закон РФ об образовании)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ние приоритета семейного воспитания требует новых отношений семьи и дошкольного учреждения. Новизна этих отношений определяется понятиями «сотрудничество», «взаимодействие», «проектирование». Главный момент в контексте «семья – дошкольное учреждение» - личное взаимодействие педагога и родителей в процессе воспитания и развития конкретного ребенка в данной семье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актической реализации данного аспекта возникает потребность в разработке технологии, направленной на установление партнерских отношений между педагогами и родителями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5564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, происходящие сегодня в сфере дошкольного образования, направлены, прежде всего, на улучшение его качества. Оно, в свою очередь, во многом зависит от согласованности действий семьи и ДОУ. Положительный результат  будет,  достигнут только при рассмотрении семьи и детского сада в рамках единого образовательного пространства, подразумевающего взаимодействие и сотрудничество между педагогами ДОУ и родителями на всем протяжении дошкольного детства ребенка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ль семьи в воспитании и развитии ребёнка нельзя недооценивать. Главной особенностью семейного воспитания признается особый эмоциональный микроклимат, благодаря которому у ребёнка формируется отношение к себе, что определяет его чувство самоценности. Именно пример родителей, их личные качества во многом определяют результативность воспитательной функции семьи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214200"/>
            <a:ext cx="80596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8920" y="1557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Указ Президента РФ от 1 июня 2012 г. N 761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 Национальной стратегии действий в интересах детей на 2012 - 2017 годы»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Она определяет основные направления и задачи госполитики в интересах детей и ключевые механизмы ее реализации. Последние базируются на общепризнанных принципах и нормах международного права. 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цстратегию планируется реализовывать по следующим основным направлениям: семейная политика детствосбережения; доступность качественного обучения и воспитания, культурное развитие и информационная безопасность несовершеннолетних; здравоохранение и правосудие, дружественные к ребенку; равные возможности для детей, нуждающихся в особой заботе государства, и пр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В числе первоочередных мер - разработка и принятие федерального закона, определяющего основы государственной семейной политики. Реформирование органов опеки и попечительства и комиссий по делам несовершеннолетних. Кроме того, предстоит усовершенствовать правовые механизмы, гарантирующие участие обоих родителей в воспитании ребенка при раздельном проживании. Важно улучшать систему налоговых вычетов для семей с детьми. Следует обеспечить регулярность алиментных выплат, в т. ч. путем формирования государственного алиментного фонда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едполагается создать систему общественного контроля в сфере обеспечения и защиты прав несовершеннолетних, а также психолого-педагогическую сеть для работы с семьями и трудными детьми.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Указ вступает в силу со дня его подписания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тое прямое сотрудничество, взаимодействие дошкольного учреждения с семьей, активное включение родителей в жизнь детского сада - главный принцип взаимодействия семьи и дошкольного образовательного учреждения, при котором возможно выполнение главной цели воспитательного процесса - гармоничное развитие личности ребенка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08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369800" y="2204640"/>
            <a:ext cx="73134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ервом этап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ходимы мероприятия, которые направлены на повышение уровня педагогической компетенции воспитателей путем активизации, углубления и систематизации представлений о содержании, задачах и методах литературного развития детей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этого организуются семинар, консультации, деловая игра и круглый стол, а результатом педагогической дискуссии станет разработка плана мероприятий с родителями для  привлечения их к сотрудничеству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01320"/>
            <a:ext cx="842508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26920" y="2276640"/>
            <a:ext cx="78566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тором этап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полагается включение родителей в  деятельность детского сада. Взаимодействие с родителями осуществляется на  родительском собрании, конференции «Незабываемые книги детства», конкурсе «Мама, папа, я – читающая семья» и других мероприятиях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ами первых двух этапов станет: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тематики и формы проведения совместных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рческих встреч с детьми и их родителями на материале литературных текстов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становление доверительных отношений с родителями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оставление возможности педагогам и родителям проявить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ю готовность к сотрудничеству</a:t>
            </a: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301320"/>
            <a:ext cx="842508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26920" y="2636640"/>
            <a:ext cx="78566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 этап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позволит включить в реализацию данного направления всех участников педагогического процесс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, родителей и педагогов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ой формой взаимодействия стан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ая гостиная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ом данного этапа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ет определение  тематики встреч, которая  будет разрабатываться, исходя из интересов детей, родителей и  педагогов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лавным условием реализации педагогического проектирования направленного на взаимодействие с семьей и получение высокой результативности является: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местная работа специалистов ДОУ и родителей, где каждый участник занимает  активную, заинтересованную позицию. Процесс поэтапного включения родителей в деятельность детского сада поможет создать условия, способствующие литературному развитию детей дошкольного возраста и дальнейшему  развитию детско-родительских отношений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анируемые итоговые результаты освоения детьми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1280" y="1699920"/>
            <a:ext cx="8353440" cy="45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завершению дошкольного образования  (к 7 годам):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бёнок овладевает основными культурными способами деятельности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обладает установкой положительного отношения к миру, другим людям и самому себе, обладает чувством собственного достоинства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обладает развитым воображением, которое реализуется в разных видах деятельности, и, прежде всего, в игре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достаточно хорошо владеет устной речью, может выражать свои мысли и желания, может использовать речь для выражения своих мыслей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у ребёнка развита крупная и мелкая моторика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способен к волевым усилиям, может следовать социальным нормам поведения и правилам в разных видах деятельности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проявляет любознательность, задаёт вопросы взрослым и сверстникам, интересуется причинно-следственными связями…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7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анируемые итоговые результаты освоения детьми основной общеобразовательной программы дошкольного образования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71280" y="1628280"/>
            <a:ext cx="7561080" cy="4753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меющий первичные представления о себе, семье, обществе, государстве, мире и природе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владевший универсальными предпосылками учебной деятельности –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мениями работать по правилу и по образцу, слушать взрослого и выполнять его инструкции;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владевший необходимыми умениями и навыками. У ребенка сформированы умения и навыки, необходимые для осуществления различных видов детской деятельности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ункции методической службы ДОУ по разработке и внедрению основной общеобразовательной программы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1280" y="1628640"/>
            <a:ext cx="41767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формационно- аналитическая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ие педагогов, способных войти в рабочую/творческую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уппу  по разработке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бор программно-методического обеспечения             в соответствии с ФГОС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сильных и слабых сторон ДОУ, возможностей           и угроз, которые могут препятствовать активному внедрению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а сайта ДОУ. 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59280" y="1628640"/>
            <a:ext cx="396072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Мотивационно-целевая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целей и задач рабочей/творческой группы по разработке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щь педагогам в изменении подходов к образовательному процессу в соответствии с ФГОС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одоление сопротивления педагогов инновационным процессам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тивация на внедрение современных образовательных технологий в ДОУ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ункции методической службы ДОУ по разработке и внедрению основной обще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8000" y="1557360"/>
            <a:ext cx="35989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ланово-прогностическая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ноз инновационного развития ДОУ                  (программа развития)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ирование системы методической работы           ДОУ в контексте ФГТ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работка ООП ДО  совместно с рабочей/творческой                группой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ление годового           плана, плана работы педагогического совета             ДОУ по разработке и внедрению ООП ДО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71600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рганизационно-исполнительская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дрение ООП ДО, обеспечение выполнения годового плана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бота с кадрами (проведение консультаций, семинаров-практикумов, деловых игр, мозгового штурма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ка заседаний педагогических советов в контексте ФГТ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ие, изучение и обобщение педагогического опыта в рамках реализации ООП ДО (открытые мероприятия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я взаимодействия с родителями и соц.партнерами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дрение современных педагогических технологий  (метод проектов, ИКТ) в соответствии с ООП ДО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Функции методической службы ДОУ по разработке и внедрению основной обще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5280" y="1827000"/>
            <a:ext cx="3960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нтрольно-диагностическая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ение всех видов контроля по реализации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всех направлений образовательного процесса в контексте ФГТ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предметно-развивающей среды в ДОУ в соответствии с ФГТ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я мониторинга развития детей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02280" y="1827000"/>
            <a:ext cx="3790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рекционная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еспечение оперативной помощи в работе педагогов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странение несоответствий образовательного процесса ФГТ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ложения по корректировке ООП ДО с учетом специфики ДОУ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й закон Российской Федерации от 29 декабря 2012 г. N 273-ФЗ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тья 64. Дошкольное образование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школьное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ование 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программы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школьного образования направлены на разностороннее развитие детей дошкольного возраста с учетом их возрастных и индивидуальных особенностей, … 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 (законные представители)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совершеннолетних обучающихся, обеспечивающие получение детьми дошкольного образования в форме семейного образования, имеют право на получение методической, психолого-педагогической, диагностической и консультативной помощи без взимания платы, в том числе в дошкольных образовательных организациях и общеобразовательных организациях, если в них созданы соответствующие консультационные центры. Обеспечение предоставления таких видов помощи осуществляется органами государственной власти субъектов Российской Федерации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83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5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1557360"/>
            <a:ext cx="8105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глашаю к сотрудничеству!</a:t>
            </a:r>
            <a:endParaRPr b="0" lang="en-US" sz="4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ел. для связи +7(921)-346-16-04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965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82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е государственные требования к структуре основной общеобразовательной программы дошкольного образования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иказ Минобрнауки РФ №655 от 23.11.2009г.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 утверждении федеральных государственных требований к условиям реализации основной общеобразовательной программы дошкольного образования»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иказ Минобрнауки РФ №2151от 20.07. 2011г.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 разработке основной общеобразовательной программы дошкольного образования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исьмо Минобрнауки РФ № 03-248 от 21 октября 2010 года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30 июля 2013 года вступил в силу новый СанПиН 2.4.1.3049-13 для дошкольных образовательных учреждений.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"Санитарно-эпидемиологические требования к устройству, содержанию и организации режима работы в дошкольных организациях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ановление Главного государственного санитарного врача Российской Федерации от 15 мая 2013 г. N 26 ) Новый СанПиН содержит нововведения в организацию работы детских садов, включая организацию пита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оект утвержден  29 августа 2013, вступает в силу согласно перспективному плану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стоящий федеральный государственный образовательный стандарт дошкольного образования (далее – Стандарт) представляет собой совокупность обязательных требований к дошкольному образованию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еализации Программы участвуют дети, их родители (законные представители), педагогические работники и их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дарта являются обязательными при реализации основной образовательной программы дошкольного образования для Организаций и индивидуальных предпринимателей, в случае если иное не установлено настоящим Стандартом.го самоуправления, работодатели и их объедине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ство образовательного пространства – обеспечение единых условий и качества образования независимо от места обучения, исключающих возможность дискриминации в сфере образова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828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ндарт разработан с учётом Конвенции ООН о правах ребёнка , Конституции Российской Федерации , законодательства Российской Федерации, в основе которых заложены следующие основные принципы:</a:t>
            </a: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и специфики и разнообразия детства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хранения уникальности и самоценности детства как важного этапа в общем развитии человека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чностно-развивающий и гуманистический характер взаимодействия взрослых и детей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важение личности ребенка как обязательное требование ко всем взрослым участникам образовательной деятельности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ение образовательной деятельности в формах, специфических для детей данной возрастной группы, прежде всего, в форме игры, познавательной и исследовательской деятельности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 Стандарте учтены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бые образовательные потребности отдельных категорий детей, в том числе с ограниченными возможностями здоровья;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зможности освоения ребёнком Программы на разных этапах её реализации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принципы дошкольного образовани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1827360"/>
            <a:ext cx="8066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ценного проживания ребёнком всех этапов детства (младенческого, раннего и дошкольного возраста), обогащения (амплификации) детского развития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изации дошкольного образования;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действия и сотрудничества детей и взрослых, признания ребенка полноценным участником (субъектом) образовательных отношени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и инициативы детей в различных видах деятельности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тнёрства Организации или индивидуального предпринимателя с семьё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я детей к социокультурным нормам, традициям семьи, общества и государства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я познавательных интересов и познавательных действий ребенка в различных видах деятельности; 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зрастной адекватности (соответствия условий, требований, методов возрасту  и особенностям развития)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ёта этнокультурной ситуации развития дете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ятия требованиями к условиям реализации Программы, обеспечивающими социальную ситуацию развития личности ребёнка, ключевого места в структуре Стандарта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Принципы построения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11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определяет содержание и организацию образовательной деятельности на уровне дошкольного образования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формируется как программа психолого-педагогической поддержки позитивной социализации и индивидуализации, развития личности детей дошкольного возраста и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направлена на: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создание условий развития детей дошкольного возраста, открывающих возможности позитивной социализации ребёнка, его всестороннего личностного развития, развития инициативы и творческих способностей на основе сотрудничества со взрослыми и сверстниками и соответствующим дошкольному возрасту видам деятельности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на создание развивающей образовательной среды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утверждается Организацией самостоятельно в соответствии с настоящим Стандартом и с учётом Примерных программ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держание Программы должно обеспечивать развитие личности, мотивации и способностей детей в различных видах деятельности и охватывать следующие образовательные области: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о коммуникативн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знавательн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чев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удожественно эстетическ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ое развитие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1:31:58Z</dcterms:created>
  <dc:creator>OBryndina</dc:creator>
  <dc:description/>
  <dc:language>en-US</dc:language>
  <cp:lastModifiedBy>Pedkabinet</cp:lastModifiedBy>
  <dcterms:modified xsi:type="dcterms:W3CDTF">2014-09-24T08:53:40Z</dcterms:modified>
  <cp:revision>176</cp:revision>
  <dc:subject/>
  <dc:title>ДЕНЬ ОТКРЫТЫХ ДВЕР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49</vt:lpwstr>
  </property>
</Properties>
</file>