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CB6-1E7C-4E20-BD08-195CBFEF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270D-FC54-403A-8751-42D597C3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BC67-AB59-4F35-93DA-9D23D4E2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8566-0959-4029-82D5-BC51BDFF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373-F386-42AA-98B3-38DA75E49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6EFD-0B05-4F04-8ED9-242F8E60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417A-E5F8-4941-9199-2056F980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06F93-13CC-45E1-95F8-FC3B3A59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BD4E-DB76-422D-9F59-07771124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1F52-7FC7-4292-AAB9-37FA10E8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B0A5-CD3C-4336-A012-EDB20D46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EA84-DC08-4D75-9B18-2B01AF53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3970-0028-43DA-B449-1EC519D8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34D56-DC56-4933-A8DA-6FF122C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CCD2-1CC4-4AAB-BA83-8978F5D4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0B4F-589F-48EA-A548-4D9D57F85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CD0CE-5FFF-4822-A119-0AD2F087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611D6-74C1-4FEE-A775-A30BA293D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F83BD-E6EC-4711-A0CB-96DBB7701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3FA97-2652-441D-8408-B0DF148C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1F59-905C-4520-BB51-E02DFE03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BD285-CE06-4D98-9EF8-C555C7B1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346D-A6F0-4289-8E10-CF83BB27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7B1E-E12C-4048-A3AE-127FE1B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EBD30-D901-4F2D-9416-AE640EA8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8527-43E0-47D5-AAF9-8F519FA9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4334-440B-4F8B-92FE-3935DEEC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C381E-1707-4EDE-B802-B28303FD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612F-8BE8-45DD-A19F-2C045C75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CCF50-7FE6-4E97-8556-ED39335D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6054C-76C4-4712-BEFF-165F2C2A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20FA-84E6-45BB-9883-BA9094C5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62FC3-93C7-4284-B9D1-76B9B9FD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8AD-3D6E-4642-9C47-FEDB304D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025E0-DC53-4C87-A63B-C79F9070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9B10-F1CE-4967-A59A-AD532FF7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8EC34-0A84-48FF-81F9-C32A4069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579E-127E-49EB-8B20-6B30921B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CFB1E-A6C8-41AF-BFC6-4F72D9EE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9AEB3-B03F-4A31-B1EA-D6086842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12677-548D-4CA6-BD88-33A23F9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1A32-1060-4213-865E-F4BCA9B7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C53D7-7E89-4922-90AC-3B9E750C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BBC2-2E4D-493B-BC71-B9EAAB6D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E443-7573-42EA-B05C-3D4ADB6C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DF59-5F91-43DC-A9CE-445FC604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4B3-E414-4088-A318-5315E9A0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4F92-0A77-4F0D-8570-7DD5D9921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" name="AutoShape 3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Line 5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49690-5F91-4250-A72B-E426CEA7682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1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2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roup 13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12" name="AutoShape 14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utoShape 15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Line 16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7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18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726F-97CD-4300-9809-56B44BB80CE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1447920" y="25146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EB29-F2E4-4BE6-B693-8CE3199A0B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04920" y="380880"/>
            <a:ext cx="8534160" cy="59436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380880" y="457200"/>
            <a:ext cx="8382240" cy="57913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1447920" y="3429000"/>
            <a:ext cx="69339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5"/>
          <p:cNvSpPr/>
          <p:nvPr/>
        </p:nvSpPr>
        <p:spPr>
          <a:xfrm>
            <a:off x="-2666880" y="198108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16"/>
          <p:cNvSpPr/>
          <p:nvPr/>
        </p:nvSpPr>
        <p:spPr>
          <a:xfrm>
            <a:off x="-3352680" y="53352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6D51-8997-4207-B9D0-6820B3D9AFD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206" name="AutoShape 3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4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Line 5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1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2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3"/>
          <p:cNvGrpSpPr/>
          <p:nvPr/>
        </p:nvGrpSpPr>
        <p:grpSpPr>
          <a:xfrm>
            <a:off x="76320" y="152280"/>
            <a:ext cx="8991360" cy="6629400"/>
            <a:chOff x="76320" y="152280"/>
            <a:chExt cx="8991360" cy="6629400"/>
          </a:xfrm>
        </p:grpSpPr>
        <p:sp>
          <p:nvSpPr>
            <p:cNvPr id="212" name="AutoShape 14"/>
            <p:cNvSpPr/>
            <p:nvPr/>
          </p:nvSpPr>
          <p:spPr>
            <a:xfrm>
              <a:off x="76320" y="152280"/>
              <a:ext cx="8991360" cy="66294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"/>
            <p:cNvSpPr/>
            <p:nvPr/>
          </p:nvSpPr>
          <p:spPr>
            <a:xfrm>
              <a:off x="152280" y="228600"/>
              <a:ext cx="8839440" cy="64771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Line 16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7"/>
          <p:cNvSpPr/>
          <p:nvPr/>
        </p:nvSpPr>
        <p:spPr>
          <a:xfrm>
            <a:off x="-2819520" y="1447920"/>
            <a:ext cx="3657600" cy="3657600"/>
          </a:xfrm>
          <a:prstGeom prst="pie">
            <a:avLst/>
          </a:prstGeom>
          <a:solidFill>
            <a:srgbClr val="c0504d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8"/>
          <p:cNvSpPr/>
          <p:nvPr/>
        </p:nvSpPr>
        <p:spPr>
          <a:xfrm>
            <a:off x="-3352680" y="0"/>
            <a:ext cx="4038480" cy="4038480"/>
          </a:xfrm>
          <a:prstGeom prst="pie">
            <a:avLst/>
          </a:prstGeom>
          <a:solidFill>
            <a:srgbClr val="0000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c050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77777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857160" y="571320"/>
            <a:ext cx="7826400" cy="578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7777"/>
                </a:solidFill>
                <a:latin typeface="Verdana"/>
              </a:rPr>
              <a:t>Актуальные вопросы дошкольного образования в условиях введения ФГОС</a:t>
            </a:r>
            <a:endParaRPr b="0" lang="en-US" sz="4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Схема 6" descr=""/>
          <p:cNvPicPr/>
          <p:nvPr/>
        </p:nvPicPr>
        <p:blipFill>
          <a:blip r:embed="rId1"/>
          <a:stretch/>
        </p:blipFill>
        <p:spPr>
          <a:xfrm>
            <a:off x="1639800" y="1639800"/>
            <a:ext cx="6108840" cy="40719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9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ребования к структуре основной образовательной программы ДО.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бязательная часть. </a:t>
            </a:r>
            <a:endParaRPr b="0" lang="en-US" sz="2000" spc="-1" strike="noStrike">
              <a:solidFill>
                <a:srgbClr val="0000ff"/>
              </a:solidFill>
              <a:latin typeface="Georgia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79280" y="1844640"/>
          <a:ext cx="8713800" cy="5121360"/>
        </p:xfrm>
        <a:graphic>
          <a:graphicData uri="http://schemas.openxmlformats.org/drawingml/2006/table">
            <a:tbl>
              <a:tblPr/>
              <a:tblGrid>
                <a:gridCol w="4705560"/>
                <a:gridCol w="4008240"/>
              </a:tblGrid>
              <a:tr h="5143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ТРЕБОВАНИЯ 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вательно –речев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оциально –личност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о –эстет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i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ОБЯЗАТЕ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авляет  не менее 8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%  составляющая организуемая участниками образовательного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Образовательные  области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ммуникация   Социализация   Безопас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ние   Здоровье  Музыка   Физическая 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уд     Чтение художественной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ое твор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СТРУКТУР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ммуникативно –личностн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ватель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Речев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удожественно –эстет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ЧАСТЬ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ставляет  не менее 6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0% составляющая организуемая участниками образовательного проце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Виды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вигательная     Игровая    Коммуникатив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знавательно –исследовате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осприятие художественной литературы и фолькл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Элементарной трудов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нструирование из различных материа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зобразитель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узыкаль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Oval 22"/>
          <p:cNvSpPr/>
          <p:nvPr/>
        </p:nvSpPr>
        <p:spPr>
          <a:xfrm>
            <a:off x="179280" y="907920"/>
            <a:ext cx="2316240" cy="935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Г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23"/>
          <p:cNvSpPr/>
          <p:nvPr/>
        </p:nvSpPr>
        <p:spPr>
          <a:xfrm>
            <a:off x="6659640" y="907920"/>
            <a:ext cx="2160360" cy="9414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Г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хема 6" descr=""/>
          <p:cNvPicPr/>
          <p:nvPr/>
        </p:nvPicPr>
        <p:blipFill>
          <a:blip r:embed="rId1"/>
          <a:stretch/>
        </p:blipFill>
        <p:spPr>
          <a:xfrm>
            <a:off x="1639800" y="1639800"/>
            <a:ext cx="6108840" cy="4071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0728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бразовательная программа ДОУ состоит из двух частей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24000" y="1844640"/>
          <a:ext cx="8569080" cy="5211720"/>
        </p:xfrm>
        <a:graphic>
          <a:graphicData uri="http://schemas.openxmlformats.org/drawingml/2006/table">
            <a:tbl>
              <a:tblPr/>
              <a:tblGrid>
                <a:gridCol w="3960720"/>
                <a:gridCol w="460836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Обязательная часть Программы предполагает комплексность подхода, обеспечивая развитие детей во всех пяти взаимодополняющих образовательных областя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Times New Roman"/>
                          <a:ea typeface="Times New Roman"/>
                        </a:rPr>
                        <a:t>Данная часть Программы должна учитывать образовательные потребности, интересы и мотивы детей, членов их семей и педагогов и, в частности, может быть ориентирована на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специфику национальных,         социокультурных, экономических, климатических условий, в которых осуществляется образовательный процесс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выбор тех парциальных образовательных программ и форм организации работы с детьми, которые в наибольшей степени соответствуют потребностям и интересам воспитанников Организации, а также возможностям её педагогического коллектива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поддержку интересов педагогических работников Организации, реализация которых соответствует целям и задачам Программ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сложившиеся традиции Организации (групп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2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      </a:t>
                      </a: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-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собенности работы в пяти основных образовательных областях в разных видах деятельности и культурных практиках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особенности организации развивающей предметно-пространственной среды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способы и направления поддержки детской инициативы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- особенности взаимодействия педагогического коллектива с семьями воспитан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80" name="Oval 21"/>
          <p:cNvSpPr/>
          <p:nvPr/>
        </p:nvSpPr>
        <p:spPr>
          <a:xfrm>
            <a:off x="0" y="765000"/>
            <a:ext cx="2484360" cy="11512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бязатель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инвариантна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менее 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22"/>
          <p:cNvSpPr/>
          <p:nvPr/>
        </p:nvSpPr>
        <p:spPr>
          <a:xfrm>
            <a:off x="6588000" y="765000"/>
            <a:ext cx="2376720" cy="1079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Вариатив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компонент региона, Д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е более 4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Схема 6" descr=""/>
          <p:cNvPicPr/>
          <p:nvPr/>
        </p:nvPicPr>
        <p:blipFill>
          <a:blip r:embed="rId1"/>
          <a:stretch/>
        </p:blipFill>
        <p:spPr>
          <a:xfrm>
            <a:off x="1639800" y="1639800"/>
            <a:ext cx="6108840" cy="407196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8200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Образовательная программа ДОУ-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обязательная часть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4000" y="1052640"/>
          <a:ext cx="8640720" cy="59036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125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b050"/>
                          </a:solidFill>
                          <a:uFillTx/>
                          <a:latin typeface="Verdana"/>
                        </a:rPr>
                        <a:t>Непосредственно образовательная деятельность (НОД):</a:t>
                      </a: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Экспериментирование, Проектирование, Коллекционирование, Беседы, Наблюдения, Решение проблемных ситуаций, Игры, Викторины, Чтение и обсуждение, Инсценирование и драматизация, Оформление выставок, портфолио.</a:t>
                      </a:r>
                      <a:r>
                        <a:rPr b="1" i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Продуктивная  деятельность (рисование, лепка, аппликация). В музыкальной деятельности: слушание, пение,  танц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b050"/>
                          </a:solidFill>
                          <a:uFillTx/>
                          <a:latin typeface="Verdana"/>
                        </a:rPr>
                        <a:t>Образовательная деятельность в ходе режимных моментов</a:t>
                      </a: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Физическое развитие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, закаливающие процедуры, прием пищи, гимнастика, упражнения и подвижные игры в течение дня, оздоровительная прогулка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Социально-коммуникативное развитие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- ситуативные беседы, развитие трудовых навыков через поручения и задания, дежурства, навыки самообслуживания, формирование навыков безопасного поведения при проведении режимных моментов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Познавательно-речевое развитие-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создание речевой развивающей среды, свободные диалоги с детьми в играх, наблюдениях, при восприятии картин, иллюстраций, разговоры с детьм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Художественно-эстетическое развитие: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использование музыки в повседневной жизни, в игре, в досуге, на прогулке, в изодеятельности, в гимнастике, привлечение внимания к звукам</a:t>
                      </a:r>
                      <a:r>
                        <a:rPr b="1" lang="ru-RU" sz="10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 u="sng">
                          <a:solidFill>
                            <a:srgbClr val="00b050"/>
                          </a:solidFill>
                          <a:uFillTx/>
                          <a:latin typeface="Verdana"/>
                        </a:rPr>
                        <a:t>Самостоятельная деятельность дете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: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подвижные, спортивные игры и упражнения; индивидуальные игры, совместные игры, все виды самостоятельной деятельности,  предполагающие общение со сверстниками; чтение детьми коротких стихов, игры по мотивам художественных произведений, игры в уголке книги, сюжетно-ролевые игры, развивающие ; рисование, лепка, конструирование, рассматривание репродукции картин, музицирование, пение, танцы, игра на детских музыкальных инструментах, слушание музыки.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6600">
                <a:tc>
                  <a:txBody>
                    <a:bodyPr lIns="90000" rIns="90000" anchor="t">
                      <a:noAutofit/>
                    </a:bodyPr>
                    <a:p>
                      <a:pPr marL="476280" indent="-476280"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Взаимодействие с родителями</a:t>
                      </a:r>
                      <a:r>
                        <a:rPr b="1" lang="ru-RU" sz="14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: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Verdana"/>
                        </a:rPr>
                        <a:t>встреча с интересным человеком; «школы для родителей», клубы,  студии. Проведение мастер-классов, тренингов. Привлечение родителей к организации вечеров музыки и поэзии, гостиных, конкурсов,  концертов, анкетирование, стендовые консультации и т.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9280" y="620640"/>
            <a:ext cx="849636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дагогическая культура родителей – 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дин из самых действенных факторов духовно-нравственного </a:t>
            </a:r>
            <a:br>
              <a:rPr sz="2000"/>
            </a:b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развития, воспитания и социализации детей дошкольного возраста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4360" y="1628640"/>
            <a:ext cx="820872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введением Федерального государственного стандарта большое внимание будет уделяться работе с родителями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циальное партнерство — взаимовыгодное взаимодействие различных секторов общества, направленное на решение социальных проблем, обеспечение устойчивого развития социальных отношений и повышение качества жизни, осуществляемое в рамках действующего законодательства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дним из самых важных и ближайших партнёров являются родители наших воспитанников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23640" y="1699920"/>
            <a:ext cx="835956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.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бота с коллективом ДОУ по организации взаимодействия с семьей, ознакомление педагогов с системой новых форм работы с родителями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.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вышение педагогической культуры родителей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.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влечение родителей в деятельность ДОУ, совместная работа по обмену опытом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сновные задачи работы:</a:t>
            </a:r>
            <a:endParaRPr b="0" lang="en-US" sz="21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установить партнерские отношения с семьей каждого воспитанника;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объединить усилия для развития и воспитания детей;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создать атмосферу взаимопонимания, общности интересов, эмоциональной взаимоподдержки;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активизировать и обогащать воспитательные умения родителей;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поддерживать их уверенность в собственных педагогических возможностях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94920" y="301320"/>
            <a:ext cx="8288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а вовлечения родителей в единое пространство детского развития в ДОУ решается в трех направлениях: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нципами взаимодействия с родителями являются: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брожелательный стиль общения педагогов с родителями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дивидуальный подход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трудничество, а не наставничество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tretch/>
        </p:blipFill>
        <p:spPr>
          <a:xfrm>
            <a:off x="6929280" y="2494080"/>
            <a:ext cx="2286000" cy="2639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"/>
          <p:cNvPicPr/>
          <p:nvPr/>
        </p:nvPicPr>
        <p:blipFill>
          <a:blip r:embed="rId2"/>
          <a:stretch/>
        </p:blipFill>
        <p:spPr>
          <a:xfrm>
            <a:off x="1763640" y="4292640"/>
            <a:ext cx="587052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заимодействие ДОУ и семьи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55640" y="1699920"/>
            <a:ext cx="792792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радиционные формы работы ДОУ с семьей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нновационные формы и методы работы с семьей: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Круглый стол" по любой теме; тематические выставки; соцобследование, диагностика, тесты, опрос на любые темы; консультации специалистов; устный журнал для родителей, с разными темами на каждой странице; семейные спортивные встречи; почта доверия, телефон доверия; семейные проекты "Наша родословная"; открытые занятия для просмотра родителей; интеллектуальные ринги детей и родителей; контрольные для родителей; интервью с родителями и детьми на определенные темы; родительская гостиная; конкурс семейных талантов; портфолио  семейного успеха; аукцион секретов воспитания и др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 процессе работы с семьей в ДОУ решаются задачи, связанные с возрождением традиций семейного воспитания, вовлечение родителей, детей и педагогов в объединения по интересам и увлечениям, организации семейного досуга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10920" y="301320"/>
            <a:ext cx="807228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Интеграция содержания и задач психолого-педагогической работы 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79280" y="1557360"/>
          <a:ext cx="8785440" cy="5268960"/>
        </p:xfrm>
        <a:graphic>
          <a:graphicData uri="http://schemas.openxmlformats.org/drawingml/2006/table">
            <a:tbl>
              <a:tblPr/>
              <a:tblGrid>
                <a:gridCol w="2121120"/>
                <a:gridCol w="6664320"/>
              </a:tblGrid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 коммуникативн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направлено на присвоение норм и ценностей, принятых в обществе, включая моральные и нравственные ценности; развитие общения и взаимодействия ребёнка с взрослыми и сверстниками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полагает развитие любознательности и познавательной мотивации; формирование познавательных действий, становление сознания; развитие воображения и творческой активности; формирование первичных представлений о себе, других людях, объектах окружающего мира, о свойствах и отношениях объектов окружающего мира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ключает владение речью как средством общения; обогащение активного словаря; развитие связной, грамматически правильной диалогической и монологической речи; развитие звуковой и интонационной культуры речи, фонематического слуха; формирование звуковой аналитико-синтетической активности как предпосылки обучения грамот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редполагает развитие предпосылок ценностно-смыслового восприятия и понимания произведений искусства (словесного, музыкального, изобразительного), мира природы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развит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ключает приобретение опыта в следующих видах поведения детей: двигательном,  развитие физических качеств,   координации движения, крупной и мелкой моторики обеих рук,  выполнение основных движений (ходьба, бег, мягкие прыжки, повороты в обе стороны) и т.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43920" cy="13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олноценное развитие ребёнка происходит при условии наличия двух составляющих его жизни – полноценной семья и детский сад. Семья обеспечивает необходимые ребёнку личностные взаимоотношения, формирование чувства защищённости, любви к близким и родным, доверия и открытости миру</a:t>
            </a:r>
            <a:r>
              <a:rPr b="0" lang="ru-RU" sz="1800" spc="-1" strike="noStrike">
                <a:solidFill>
                  <a:srgbClr val="6600cc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9640" y="1773360"/>
            <a:ext cx="81439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егодня в основе новой философии взаимодействия семьи и дошкольного учреждения лежит идея о том, что за воспитание детей несут ответственность родители, а все другие социальные институты призваны помочь, поддержать, направить, дополнить их воспитательную деятельность( Закон РФ об образовании).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знание приоритета семейного воспитания требует новых отношений семьи и дошкольного учреждения. Новизна этих отношений определяется понятиями «сотрудничество», «взаимодействие», «проектирование». Главный момент в контексте «семья – дошкольное учреждение» - личное взаимодействие педагога и родителей в процессе воспитания и развития конкретного ребенка в данной семье.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практической реализации данного аспекта возникает потребность в разработке технологии, направленной на установление партнерских отношений между педагогами и родителями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755640" y="148392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77777"/>
                </a:solidFill>
                <a:latin typeface="Verdana"/>
              </a:rPr>
              <a:t>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зменения, происходящие сегодня в сфере дошкольного образования, направлены, прежде всего, на улучшение его качества. Оно, в свою очередь, во многом зависит от согласованности действий семьи и ДОУ. Положительный результат  будет,  достигнут только при рассмотрении семьи и детского сада в рамках единого образовательного пространства, подразумевающего взаимодействие и сотрудничество между педагогами ДОУ и родителями на всем протяжении дошкольного детства ребенка.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оль семьи в воспитании и развитии ребёнка нельзя недооценивать. Главной особенностью семейного воспитания признается особый эмоциональный микроклимат, благодаря которому у ребёнка формируется отношение к себе, что определяет его чувство самоценности. Именно пример родителей, их личные качества во многом определяют результативность воспитательной функции семьи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214200"/>
            <a:ext cx="8059680" cy="119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нормативные документы, определяющие новые приоритеты развития дошкольного образования: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8920" y="155700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Указ Президента РФ от 1 июня 2012 г. N 761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      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Calibri"/>
              </a:rPr>
              <a:t>«О Национальной стратегии действий в интересах детей на 2012 - 2017 годы»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Она определяет основные направления и задачи госполитики в интересах детей и ключевые механизмы ее реализации. Последние базируются на общепризнанных принципах и нормах международного права. 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Нацстратегию планируется реализовывать по следующим основным направлениям: семейная политика детствосбережения; доступность качественного обучения и воспитания, культурное развитие и информационная безопасность несовершеннолетних; здравоохранение и правосудие, дружественные к ребенку; равные возможности для детей, нуждающихся в особой заботе государства, и пр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В числе первоочередных мер - разработка и принятие федерального закона, определяющего основы государственной семейной политики. Реформирование органов опеки и попечительства и комиссий по делам несовершеннолетних. Кроме того, предстоит усовершенствовать правовые механизмы, гарантирующие участие обоих родителей в воспитании ребенка при раздельном проживании. Важно улучшать систему налоговых вычетов для семей с детьми. Следует обеспечить регулярность алиментных выплат, в т. ч. путем формирования государственного алиментного фонда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Предполагается создать систему общественного контроля в сфере обеспечения и защиты прав несовершеннолетних, а также психолого-педагогическую сеть для работы с семьями и трудными детьми.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                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Calibri"/>
              </a:rPr>
              <a:t>Указ вступает в силу со дня его подписания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ткрытое прямое сотрудничество, взаимодействие дошкольного учреждения с семьей, активное включение родителей в жизнь детского сада - главный принцип взаимодействия семьи и дошкольного образовательного учреждения, при котором возможно выполнение главной цели воспитательного процесса - гармоничное развитие личности ребенка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08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дагогического проекта на тему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С книгой по жизни», который состоит из 3-х частей, направлен на организацию сотрудничества педагогов и родителей в целях оптимизации  литературного развития детей.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369800" y="2204640"/>
            <a:ext cx="73134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77777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ервом этап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обходимы мероприятия, которые направлены на повышение уровня педагогической компетенции воспитателей путем активизации, углубления и систематизации представлений о содержании, задачах и методах литературного развития детей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ля этого организуются семинар, консультации, деловая игра и круглый стол, а результатом педагогической дискуссии станет разработка плана мероприятий с родителями для  привлечения их к сотрудничеству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280" y="301320"/>
            <a:ext cx="842508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дагогического проекта на тему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С книгой по жизни», который состоит из 3-х частей, направлен на организацию сотрудничества педагогов и родителей в целях оптимизации  литературного развития детей.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26920" y="2276640"/>
            <a:ext cx="785664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втором этапе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полагается включение родителей в  деятельность детского сада. Взаимодействие с родителями осуществляется на  родительском собрании, конференции «Незабываемые книги детства», конкурсе «Мама, папа, я – читающая семья» и других мероприятиях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ами первых двух этапов станет: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тематики и формы проведения совместных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ворческих встреч с детьми и их родителями на материале литературных текстов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становление доверительных отношений с родителями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оставление возможности педагогам и родителям проявить </a:t>
            </a: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вою готовность к сотрудничеству</a:t>
            </a:r>
            <a:r>
              <a:rPr b="0" lang="ru-RU" sz="2900" spc="-1" strike="noStrike">
                <a:solidFill>
                  <a:srgbClr val="777777"/>
                </a:solidFill>
                <a:latin typeface="Verdana"/>
              </a:rPr>
              <a:t>. </a:t>
            </a:r>
            <a:endParaRPr b="0" lang="en-US" sz="29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280" y="301320"/>
            <a:ext cx="842508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едагогического проекта на тему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«С книгой по жизни», который состоит из 3-х частей, направлен на организацию сотрудничества педагогов и родителей в целях оптимизации  литературного развития детей.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826920" y="2636640"/>
            <a:ext cx="785664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лючительный этап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технологии позволит включить в реализацию данного направления всех участников педагогического процесса -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тей, родителей и педагогов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ой формой взаимодействия станет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ая гостиная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ом данного этапа 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нет определение  тематики встреч, которая  будет разрабатываться, исходя из интересов детей, родителей и  педагогов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Главным условием реализации педагогического проектирования направленного на взаимодействие с семьей и получение высокой результативности является: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971640" y="1827360"/>
            <a:ext cx="7711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вместная работа специалистов ДОУ и родителей, где каждый участник занимает  активную, заинтересованную позицию. Процесс поэтапного включения родителей в деятельность детского сада поможет создать условия, способствующие литературному развитию детей дошкольного возраста и дальнейшему  развитию детско-родительских отношений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ланируемые итоговые результаты освоения детьми основной общеобразовательной программы дошкольного образования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11280" y="1699920"/>
            <a:ext cx="8353440" cy="45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 завершению дошкольного образования  (к 7 годам):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-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бёнок овладевает основными культурными способами деятельности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обладает установкой положительного отношения к миру, другим людям и самому себе, обладает чувством собственного достоинства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обладает развитым воображением, которое реализуется в разных видах деятельности, и, прежде всего, в игре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достаточно хорошо владеет устной речью, может выражать свои мысли и желания, может использовать речь для выражения своих мыслей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у ребёнка развита крупная и мелкая моторика;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способен к волевым усилиям, может следовать социальным нормам поведения и правилам в разных видах деятельности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ребёнок проявляет любознательность, задаёт вопросы взрослым и сверстникам, интересуется причинно-следственными связями…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137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ланируемые итоговые результаты освоения детьми основной общеобразовательной программы дошкольного образования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71280" y="1628280"/>
            <a:ext cx="7561080" cy="4753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способный управлять своим поведением и планировать свои действия на основе первичных ценностных представлений, соблюдающий элементарные общепринятые нормы и правила поведения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имеющий первичные представления о себе, семье, обществе, государстве, мире и природе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владевший универсальными предпосылками учебной деятельности –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мениями работать по правилу и по образцу, слушать взрослого и выполнять его инструкции;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владевший необходимыми умениями и навыками. У ребенка сформированы умения и навыки, необходимые для осуществления различных видов детской деятельности.</a:t>
            </a: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ункции методической службы ДОУ по разработке и внедрению основной общеобразовательной программы 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611280" y="1628640"/>
            <a:ext cx="417672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Информационно- аналитическая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явление педагогов, способных войти в рабочую/творческую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группу  по разработке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ОП ДО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бор программно-методического обеспечения             в соответствии с ФГОС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нализ сильных и слабых сторон ДОУ, возможностей           и угроз, которые могут препятствовать активному внедрению ООП ДО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держка сайта ДОУ. 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859280" y="1628640"/>
            <a:ext cx="396072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1" lang="ru-RU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Мотивационно-целевая 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пределение целей и задач рабочей/творческой группы по разработке ООП ДО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мощь педагогам в изменении подходов к образовательному процессу в соответствии с ФГОС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одоление сопротивления педагогов инновационным процессам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тивация на внедрение современных образовательных технологий в ДОУ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ункции методической службы ДОУ по разработке и внедрению основной общеобразовательной программы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68000" y="1557360"/>
            <a:ext cx="359892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Планово-прогностическая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ноз инновационного развития ДОУ                  (программа развития)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ланирование системы методической работы           ДОУ в контексте ФГТ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зработка ООП ДО  совместно с рабочей/творческой                группой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ставление годового           плана, плана работы педагогического совета             ДОУ по разработке и внедрению ООП ДО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716000" y="1628640"/>
            <a:ext cx="4248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777777"/>
                </a:solidFill>
                <a:latin typeface="Verdana"/>
              </a:rPr>
              <a:t>	</a:t>
            </a:r>
            <a:r>
              <a:rPr b="1" lang="ru-RU" sz="18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Организационно-исполнительская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едрение ООП ДО, обеспечение выполнения годового плана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абота с кадрами (проведение консультаций, семинаров-практикумов, деловых игр, мозгового штурма)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готовка заседаний педагогических советов в контексте ФГТ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явление, изучение и обобщение педагогического опыта в рамках реализации ООП ДО (открытые мероприятия)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изация взаимодействия с родителями и соц.партнерами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недрение современных педагогических технологий  (метод проектов, ИКТ) в соответствии с ООП ДО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56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Функции методической службы ДОУ по разработке и внедрению основной общеобразовательной программы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5280" y="1827000"/>
            <a:ext cx="3960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нтрольно-диагностическая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ение всех видов контроля по реализации ООП ДО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енка всех направлений образовательного процесса в контексте ФГТ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ценка предметно-развивающей среды в ДОУ в соответствии с ФГТ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рганизация мониторинга развития детей.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102280" y="1827000"/>
            <a:ext cx="37908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Коррекционная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еспечение оперативной помощи в работе педагогов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странение несоответствий образовательного процесса ФГТ.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дложения по корректировке ООП ДО с учетом специфики ДОУ 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нормативные документы, определяющие новые приоритеты развития дошкольного образования: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деральный закон Российской Федерации от 29 декабря 2012 г. N 273-ФЗ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тья 64. Дошкольное образование</a:t>
            </a:r>
            <a:endParaRPr b="0" lang="en-US" sz="1800" spc="-1" strike="noStrike">
              <a:solidFill>
                <a:srgbClr val="77777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школьное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разование направлено на формирование общей культуры, развитие физических, интеллектуальных, нравственных, эстетических и личностных качеств, формирование предпосылок учебной деятельности, сохранение и укрепление здоровья детей дошкольного возраста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разовательные программы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ошкольного образования направлены на разностороннее развитие детей дошкольного возраста с учетом их возрастных и индивидуальных особенностей, … Освоение образовательных программ дошкольного образования не сопровождается проведением промежуточных аттестаций и итоговой аттестации обучающихся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  <a:p>
            <a:pPr marL="322200" indent="-322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и (законные представители) </a:t>
            </a:r>
            <a:r>
              <a:rPr b="1" lang="ru-RU" sz="1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совершеннолетних обучающихся, обеспечивающие получение детьми дошкольного образования в форме семейного образования, имеют право на получение методической, психолого-педагогической, диагностической и консультативной помощи без взимания платы, в том числе в дошкольных образовательных организациях и общеобразовательных организациях, если в них созданы соответствующие консультационные центры. Обеспечение предоставления таких видов помощи осуществляется органами государственной власти субъектов Российской Федерации.</a:t>
            </a:r>
            <a:endParaRPr b="0" lang="en-US" sz="14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7835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5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5280" y="1557360"/>
            <a:ext cx="81057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глашаю к сотрудничеству!</a:t>
            </a:r>
            <a:endParaRPr b="0" lang="en-US" sz="4000" spc="-1" strike="noStrike">
              <a:solidFill>
                <a:srgbClr val="777777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ел. для связи +7(921)-346-16-04</a:t>
            </a:r>
            <a:endParaRPr b="0" lang="en-US" sz="3200" spc="-1" strike="noStrike">
              <a:solidFill>
                <a:srgbClr val="777777"/>
              </a:solidFill>
              <a:latin typeface="Verdana"/>
            </a:endParaRPr>
          </a:p>
        </p:txBody>
      </p:sp>
      <p:pic>
        <p:nvPicPr>
          <p:cNvPr id="324" name="Picture 4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9654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30132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нормативные документы, определяющие новые приоритеты развития дошкольного образования: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68000" y="182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деральные государственные требования к структуре основной общеобразовательной программы дошкольного образования 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риказ Минобрнауки РФ №655 от 23.11.2009г.)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 утверждении федеральных государственных требований к условиям реализации основной общеобразовательной программы дошкольного образования»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риказ Минобрнауки РФ №2151от 20.07. 2011г.)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 разработке основной общеобразовательной программы дошкольного образования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исьмо Минобрнауки РФ № 03-248 от 21 октября 2010 года)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 30 июля 2013 года вступил в силу новый СанПиН 2.4.1.3049-13 для дошкольных образовательных учреждений. </a:t>
            </a: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"Санитарно-эпидемиологические требования к устройству, содержанию и организации режима работы в дошкольных организациях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»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становление Главного государственного санитарного врача Российской Федерации от 15 мая 2013 г. N 26 ) Новый СанПиН содержит нововведения в организацию работы детских садов, включая организацию питания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01320"/>
            <a:ext cx="814392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нормативные документы, определяющие новые приоритеты развития дошкольного образования: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99640" y="1827360"/>
            <a:ext cx="7783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ЕДЕРАЛЬНЫЙ ГОСУДАРСТВЕННЫЙ ОБРАЗОВАТЕЛЬНЫЙ СТАНДАРТ ДОШКОЛЬНОГО ОБРАЗОВАНИЯ </a:t>
            </a: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проект утвержден  29 августа 2013, вступает в силу согласно перспективному плану)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астоящий федеральный государственный образовательный стандарт дошкольного образования (далее – Стандарт) представляет собой совокупность обязательных требований к дошкольному образованию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 реализации Программы участвуют дети, их родители (законные представители), педагогические работники и их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тандарта являются обязательными при реализации основной образовательной программы дошкольного образования для Организаций и индивидуальных предпринимателей, в случае если иное не установлено настоящим Стандартом.го самоуправления, работодатели и их объединения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динство образовательного пространства – обеспечение единых условий и качества образования независимо от места обучения, исключающих возможность дискриминации в сфере образования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828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ндарт разработан с учётом Конвенции ООН о правах ребёнка , Конституции Российской Федерации , законодательства Российской Федерации, в основе которых заложены следующие основные принципы:</a:t>
            </a:r>
            <a:endParaRPr b="0" lang="en-US" sz="20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4360" y="1827360"/>
            <a:ext cx="799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держки специфики и разнообразия детства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хранения уникальности и самоценности детства как важного этапа в общем развитии человека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ичностно-развивающий и гуманистический характер взаимодействия взрослых и детей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важение личности ребенка как обязательное требование ко всем взрослым участникам образовательной деятельности;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уществление образовательной деятельности в формах, специфических для детей данной возрастной группы, прежде всего, в форме игры, познавательной и исследовательской деятельности.</a:t>
            </a: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 Стандарте учтены: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обые образовательные потребности отдельных категорий детей, в том числе с ограниченными возможностями здоровья;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зможности освоения ребёнком Программы на разных этапах её реализации.</a:t>
            </a: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сновные принципы дошкольного образования:</a:t>
            </a:r>
            <a:endParaRPr b="0" lang="en-US" sz="28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6920" y="1827360"/>
            <a:ext cx="80661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лноценного проживания ребёнком всех этапов детства (младенческого, раннего и дошкольного возраста), обогащения (амплификации) детского развития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ндивидуализации дошкольного образования;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действия и сотрудничества детей и взрослых, признания ребенка полноценным участником (субъектом) образовательных отношений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ддержки инициативы детей в различных видах деятельности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ртнёрства Организации или индивидуального предпринимателя с семьёй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общения детей к социокультурным нормам, традициям семьи, общества и государства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я познавательных интересов и познавательных действий ребенка в различных видах деятельности; 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озрастной адекватности (соответствия условий, требований, методов возрасту  и особенностям развития)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ёта этнокультурной ситуации развития детей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нятия требованиями к условиям реализации Программы, обеспечивающими социальную ситуацию развития личности ребёнка, ключевого места в структуре Стандарта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Принципы построения</a:t>
            </a:r>
            <a:br>
              <a:rPr sz="2400"/>
            </a:br>
            <a:r>
              <a:rPr b="1" lang="ru-RU" sz="2400" spc="-1" strike="noStrike">
                <a:solidFill>
                  <a:srgbClr val="6600cc"/>
                </a:solidFill>
                <a:latin typeface="Georgia"/>
              </a:rPr>
              <a:t>образовательной программы</a:t>
            </a:r>
            <a:endParaRPr b="0" lang="en-US" sz="2400" spc="-1" strike="noStrike">
              <a:solidFill>
                <a:srgbClr val="0000ff"/>
              </a:solidFill>
              <a:latin typeface="Georgi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11280" y="1557360"/>
            <a:ext cx="853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рамма определяет содержание и организацию образовательной деятельности на уровне дошкольного образования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рамма формируется как программа психолого-педагогической поддержки позитивной социализации и индивидуализации, развития личности детей дошкольного возраста и определяет комплекс основных характеристик дошкольного образования (объём, содержание и планируемые результаты в виде целевых ориентиров дошкольного образования).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рамма направлена на: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создание условий развития детей дошкольного возраста, открывающих возможности позитивной социализации ребёнка, его всестороннего личностного развития, развития инициативы и творческих способностей на основе сотрудничества со взрослыми и сверстниками и соответствующим дошкольному возрасту видам деятельности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на создание развивающей образовательной среды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грамма утверждается Организацией самостоятельно в соответствии с настоящим Стандартом и с учётом Примерных программ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держание Программы должно обеспечивать развитие личности, мотивации и способностей детей в различных видах деятельности и охватывать следующие образовательные области: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циально коммуникативное развитие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ознавательное развитие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ечевое развитие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художественно эстетическое развитие;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изическое развитие. </a:t>
            </a: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7777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6T11:31:58Z</dcterms:created>
  <dc:creator>OBryndina</dc:creator>
  <dc:description/>
  <dc:language>en-US</dc:language>
  <cp:lastModifiedBy>Pedkabinet</cp:lastModifiedBy>
  <dcterms:modified xsi:type="dcterms:W3CDTF">2014-09-24T08:53:40Z</dcterms:modified>
  <cp:revision>176</cp:revision>
  <dc:subject/>
  <dc:title>ДЕНЬ ОТКРЫТЫХ ДВЕР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0701049</vt:lpwstr>
  </property>
</Properties>
</file>