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6FF-A1EA-413C-94A6-1FFBA821F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7F0-7A00-4C08-B53A-6ABB00CC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769-4686-4FB0-B341-4F4AB102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5DEB-AE5C-4E09-B537-BCF7F1DF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8FD1-1497-47A6-9BBD-AEE98552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1EFF-2D71-4AC5-BD2A-96EDA872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A70-7D97-4179-87C4-674D4695C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AB14-ED7F-4F52-A8B8-56434E27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DF38-8BCE-4E64-8B9F-C5816209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E5C0-2593-4D55-954B-8E27FAE6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D407-CDEB-4E37-A409-4007F8DE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B06-290A-405E-9D39-392BEFA6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69B17-B8E7-4B84-B81B-5C13A24F8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Дециметр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38858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лк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катерина Андр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. К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колько треугольников на рисунк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1752480"/>
            <a:ext cx="7162920" cy="4648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4114800"/>
            <a:ext cx="71629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1066680" y="1752120"/>
            <a:ext cx="3581640" cy="2362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648320" y="1752120"/>
            <a:ext cx="3504960" cy="2362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752480"/>
            <a:ext cx="3581280" cy="2362320"/>
          </a:xfrm>
          <a:prstGeom prst="triangle">
            <a:avLst>
              <a:gd name="adj" fmla="val 50444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819520" y="4114800"/>
            <a:ext cx="3581280" cy="2286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1752480"/>
            <a:ext cx="1752840" cy="236232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rot="14400">
            <a:off x="6399720" y="1752480"/>
            <a:ext cx="1828800" cy="2362320"/>
          </a:xfrm>
          <a:prstGeom prst="rtTriangl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ставьте числа, в порядке возраст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2209680"/>
          <a:ext cx="8229600" cy="350532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609480" y="3505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4648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3505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46483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3505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4648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5053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46483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5053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464832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35053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46483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5053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64832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620120" y="350532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848720" y="46483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228600" y="685800"/>
            <a:ext cx="8686440" cy="4799160"/>
            <a:chOff x="228600" y="685800"/>
            <a:chExt cx="8686440" cy="4799160"/>
          </a:xfrm>
        </p:grpSpPr>
        <p:cxnSp>
          <p:nvCxnSpPr>
            <p:cNvPr id="73" name="_s9232"/>
            <p:cNvCxnSpPr>
              <a:stCxn id="74" idx="0"/>
              <a:endCxn id="75" idx="2"/>
            </p:cNvCxnSpPr>
            <p:nvPr/>
          </p:nvCxnSpPr>
          <p:spPr>
            <a:xfrm flipV="1" rot="16200000">
              <a:off x="5780520" y="1395720"/>
              <a:ext cx="960480" cy="3378600"/>
            </a:xfrm>
            <a:prstGeom prst="bentConnector3">
              <a:avLst>
                <a:gd name="adj1" fmla="val 118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9228"/>
            <p:cNvCxnSpPr>
              <a:stCxn id="77" idx="0"/>
              <a:endCxn id="75" idx="2"/>
            </p:cNvCxnSpPr>
            <p:nvPr/>
          </p:nvCxnSpPr>
          <p:spPr>
            <a:xfrm flipV="1" rot="16200000">
              <a:off x="4654440" y="2521800"/>
              <a:ext cx="960480" cy="1126440"/>
            </a:xfrm>
            <a:prstGeom prst="bentConnector3">
              <a:avLst>
                <a:gd name="adj1" fmla="val 118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9227"/>
            <p:cNvCxnSpPr>
              <a:stCxn id="79" idx="0"/>
              <a:endCxn id="75" idx="2"/>
            </p:cNvCxnSpPr>
            <p:nvPr/>
          </p:nvCxnSpPr>
          <p:spPr>
            <a:xfrm flipH="1" flipV="1" rot="5400000">
              <a:off x="3528360" y="2521800"/>
              <a:ext cx="960480" cy="1126800"/>
            </a:xfrm>
            <a:prstGeom prst="bentConnector3">
              <a:avLst>
                <a:gd name="adj1" fmla="val 118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9226"/>
            <p:cNvCxnSpPr>
              <a:stCxn id="81" idx="0"/>
              <a:endCxn id="75" idx="2"/>
            </p:cNvCxnSpPr>
            <p:nvPr/>
          </p:nvCxnSpPr>
          <p:spPr>
            <a:xfrm flipH="1" flipV="1" rot="5400000">
              <a:off x="2402640" y="1395720"/>
              <a:ext cx="960480" cy="3378960"/>
            </a:xfrm>
            <a:prstGeom prst="bentConnector3">
              <a:avLst>
                <a:gd name="adj1" fmla="val 118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5" name="_s9222"/>
            <p:cNvSpPr/>
            <p:nvPr/>
          </p:nvSpPr>
          <p:spPr>
            <a:xfrm>
              <a:off x="3606840" y="685800"/>
              <a:ext cx="1930320" cy="1919520"/>
            </a:xfrm>
            <a:prstGeom prst="roundRect">
              <a:avLst>
                <a:gd name="adj" fmla="val 16667"/>
              </a:avLst>
            </a:prstGeom>
            <a:solidFill>
              <a:srgbClr val="e4f3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</a:rPr>
                <a:t>ВЕЛИЧИНЫ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9223"/>
            <p:cNvSpPr/>
            <p:nvPr/>
          </p:nvSpPr>
          <p:spPr>
            <a:xfrm>
              <a:off x="228600" y="3565440"/>
              <a:ext cx="1930320" cy="1919520"/>
            </a:xfrm>
            <a:prstGeom prst="roundRect">
              <a:avLst>
                <a:gd name="adj" fmla="val 16667"/>
              </a:avLst>
            </a:prstGeom>
            <a:solidFill>
              <a:srgbClr val="e4f3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_s9224"/>
            <p:cNvSpPr/>
            <p:nvPr/>
          </p:nvSpPr>
          <p:spPr>
            <a:xfrm>
              <a:off x="2480400" y="3565440"/>
              <a:ext cx="1930320" cy="1919520"/>
            </a:xfrm>
            <a:prstGeom prst="roundRect">
              <a:avLst>
                <a:gd name="adj" fmla="val 16667"/>
              </a:avLst>
            </a:prstGeom>
            <a:solidFill>
              <a:srgbClr val="e4f3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9225"/>
            <p:cNvSpPr/>
            <p:nvPr/>
          </p:nvSpPr>
          <p:spPr>
            <a:xfrm>
              <a:off x="4732560" y="3565440"/>
              <a:ext cx="1930320" cy="1919520"/>
            </a:xfrm>
            <a:prstGeom prst="roundRect">
              <a:avLst>
                <a:gd name="adj" fmla="val 16667"/>
              </a:avLst>
            </a:prstGeom>
            <a:solidFill>
              <a:srgbClr val="e4f3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9231"/>
            <p:cNvSpPr/>
            <p:nvPr/>
          </p:nvSpPr>
          <p:spPr>
            <a:xfrm>
              <a:off x="6984720" y="3565440"/>
              <a:ext cx="1930320" cy="1919520"/>
            </a:xfrm>
            <a:prstGeom prst="roundRect">
              <a:avLst>
                <a:gd name="adj" fmla="val 16667"/>
              </a:avLst>
            </a:prstGeom>
            <a:solidFill>
              <a:srgbClr val="e4f3f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304920" y="3962520"/>
            <a:ext cx="167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41911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И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403848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АНТИМ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560" y="4041720"/>
            <a:ext cx="48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катерина</cp:lastModifiedBy>
  <dcterms:modified xsi:type="dcterms:W3CDTF">2017-03-06T17:18:3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