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4F1-226C-459B-9FA3-F6E586C8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837-6D5D-4D53-A70F-5678847A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F40-2897-47B5-9EC3-71982245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ED2-8728-4C0F-8231-2DA85997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CD9-A11E-43E3-B1C2-C86B71BE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5B0-2F9A-4737-A290-1E417076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723-FFD2-46DD-9DA6-E1099A7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4E3-B8AC-45B0-9159-00D124DB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8AD-EFFE-4A47-ACAC-A4F20FF9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C25-8EA5-4FC5-8C38-04850CCA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4E6-7B14-4140-A605-53572AD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2E3-30AE-4332-AFBC-F808D776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38D2-1998-4DCA-A32C-B4B03FA9E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Децимет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8858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атерина Андр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К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треугольников на рисун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752480"/>
            <a:ext cx="716292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114800"/>
            <a:ext cx="7162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066680" y="1752120"/>
            <a:ext cx="3581640" cy="236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1752120"/>
            <a:ext cx="3504960" cy="236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752480"/>
            <a:ext cx="3581280" cy="2362320"/>
          </a:xfrm>
          <a:prstGeom prst="triangle">
            <a:avLst>
              <a:gd name="adj" fmla="val 50444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819520" y="4114800"/>
            <a:ext cx="3581280" cy="228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752480"/>
            <a:ext cx="1752840" cy="23623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rot="14400">
            <a:off x="6399720" y="1752480"/>
            <a:ext cx="1828800" cy="23623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ставьте числа, в порядке возрас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209680"/>
          <a:ext cx="8229600" cy="35053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09480" y="3505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648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505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648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3505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505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4648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505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46483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3505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648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505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6483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505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4648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28600" y="685800"/>
            <a:ext cx="8686440" cy="4799160"/>
            <a:chOff x="228600" y="685800"/>
            <a:chExt cx="8686440" cy="4799160"/>
          </a:xfrm>
        </p:grpSpPr>
        <p:cxnSp>
          <p:nvCxnSpPr>
            <p:cNvPr id="73" name="_s923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780520" y="1395720"/>
              <a:ext cx="960480" cy="3378600"/>
            </a:xfrm>
            <a:prstGeom prst="bentConnector3">
              <a:avLst>
                <a:gd name="adj1" fmla="val 11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9228"/>
            <p:cNvCxnSpPr>
              <a:stCxn id="77" idx="0"/>
              <a:endCxn id="75" idx="2"/>
            </p:cNvCxnSpPr>
            <p:nvPr/>
          </p:nvCxnSpPr>
          <p:spPr>
            <a:xfrm flipV="1" rot="16200000">
              <a:off x="4654440" y="2521800"/>
              <a:ext cx="960480" cy="1126440"/>
            </a:xfrm>
            <a:prstGeom prst="bentConnector3">
              <a:avLst>
                <a:gd name="adj1" fmla="val 11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9227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3528360" y="2521800"/>
              <a:ext cx="960480" cy="1126800"/>
            </a:xfrm>
            <a:prstGeom prst="bentConnector3">
              <a:avLst>
                <a:gd name="adj1" fmla="val 11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9226"/>
            <p:cNvCxnSpPr>
              <a:stCxn id="81" idx="0"/>
              <a:endCxn id="75" idx="2"/>
            </p:cNvCxnSpPr>
            <p:nvPr/>
          </p:nvCxnSpPr>
          <p:spPr>
            <a:xfrm flipH="1" flipV="1" rot="5400000">
              <a:off x="2402640" y="1395720"/>
              <a:ext cx="960480" cy="3378960"/>
            </a:xfrm>
            <a:prstGeom prst="bentConnector3">
              <a:avLst>
                <a:gd name="adj1" fmla="val 11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9222"/>
            <p:cNvSpPr/>
            <p:nvPr/>
          </p:nvSpPr>
          <p:spPr>
            <a:xfrm>
              <a:off x="3606840" y="68580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ВЕЛИЧИН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9223"/>
            <p:cNvSpPr/>
            <p:nvPr/>
          </p:nvSpPr>
          <p:spPr>
            <a:xfrm>
              <a:off x="228600" y="356544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9224"/>
            <p:cNvSpPr/>
            <p:nvPr/>
          </p:nvSpPr>
          <p:spPr>
            <a:xfrm>
              <a:off x="2480400" y="356544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9225"/>
            <p:cNvSpPr/>
            <p:nvPr/>
          </p:nvSpPr>
          <p:spPr>
            <a:xfrm>
              <a:off x="4732560" y="356544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9231"/>
            <p:cNvSpPr/>
            <p:nvPr/>
          </p:nvSpPr>
          <p:spPr>
            <a:xfrm>
              <a:off x="6984720" y="356544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04920" y="396252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191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0384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НТ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560" y="404172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катерина</cp:lastModifiedBy>
  <dcterms:modified xsi:type="dcterms:W3CDTF">2017-03-06T17:18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