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E91B-B2E7-4FA1-B777-3EEA5AD87D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5E19-2ADF-42E9-B94A-519DDBF38D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16F6-BE63-450E-B1A9-85041E35FF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8761-04A3-4650-8CAD-77D026D0A6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553E-A244-4C69-A877-A802F34EE0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4161-5E93-4B3F-A645-86AC9DF4F1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F065-6DF1-44E4-A14B-F010F71D04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2E18-C76D-409E-A8E8-3B732EFD4D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219B-FC9F-4FBA-A409-203524E8D3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DA13-538A-4FEF-99B6-FE00CB9055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6CB7-5365-4CC2-B4F7-8071364676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23BA-1420-46F8-838A-52C62B8994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1F36-EA7E-4E83-ACB3-C9D7F70505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7933-93C8-4791-809C-5DA6A5CEB5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A99E-B32C-439C-8D60-A9D8886AAA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E58A-1039-4AD1-9F15-B5AC10844D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BCC7-0951-42AA-8211-5D2DBB5CEA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148A-E28C-4863-A23F-1BC6748FAA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276E-D665-4A45-A7AB-8160FC3D8A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204D-8163-478B-BB6F-1846F72483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AE2A-4ACE-484E-B866-23E0352FDD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845A-A8A6-40EB-A08F-F101A8DFFD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100A-7121-4DD3-A67E-7C20266A10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AFA5-637F-4350-9094-7F67C05D9E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E47C-B657-417D-8DA5-21475CEB85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92A9-B51A-427C-860B-96B8AAB2AD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1125-0DE4-4813-B550-F895D8D37D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B1FE-8025-4F00-A39D-81F799AD4C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6709-3C07-4790-98D0-6CF9E8F8EC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8E0B-7E04-4F8F-8708-61ADB81DD2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9953-CE45-488B-8E36-20A1B5BC06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EDF9-DBE1-4D86-8972-AC4D7FC20E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CF8-B137-407B-8498-D8546EFB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160-6DA4-43F4-98D0-7FC82A96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EB4-576C-4548-A752-9F6A5B96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E75-EC92-454E-89B8-07AB9EA6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94E6-D9CA-4E8F-B788-B3C55F6A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4C07-F0BE-4EC6-AB1A-3A70AC85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7CDD-42E9-4297-8041-CA5B1A57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DA27-CE62-47AB-8AA4-F6EFFCD8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9766-50DF-4CD7-91CD-60C1851D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13DE-CC21-492C-B8AC-DA944AD6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DD85-A56D-4230-BC59-252601D8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F58-0780-48EB-8435-B1E455A2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E89B-FFB7-4691-9A5C-8C39775B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2F7F-EB7A-4B24-B15D-09203FDA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8DFA-134B-425B-BA9D-A57946D3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2601-583A-4CB2-B771-A5061C85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1365-6DE8-4F10-8911-BB6608ED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FC973-FCB5-4DC2-8A9D-EB721D17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20CAA-C824-48C2-A34A-3F770FB8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C667-DA10-439B-BF0E-09CF6757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6C69B-D299-45A1-8394-834CF68B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5F32F-C8A7-465F-9D23-9A51EEB7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646-76CE-4D7F-9E52-FABBCA6B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02A9-3D2D-47A5-B1A0-75D16FE8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F98C-0586-4367-ABF0-3DB7169F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59BF8-275D-4B44-8877-2D327658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A1329-1104-4E0A-B302-6F61F333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4BE80-5EBB-4ADF-8029-C038C939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F60C-5265-4B7D-8D7B-4976854D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D80E-274A-4275-B0E4-9B4D034B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CBCF7-416E-4156-BCE4-D9AD7028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5CF73-B90D-4AA8-B95A-C7A0D74C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8FBE2-C055-47D9-A678-A11E1021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109-A725-48ED-95AA-0F91C7C4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BB316-41C8-4D82-9FA8-5F3034BD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0B13B-6772-4499-971E-A37741FD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1CC44-AA4C-4E83-8F9B-3BF0880C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63532-E40E-4F53-8477-05E6259C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C2954-35B9-40E5-8A51-ACEC0451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E482-3C58-4B26-BEF5-00C7E294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D234-281D-4C27-A2EB-0874E317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C9318-78C0-4546-AF4D-F976217F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298D7-C5E7-4737-8887-16D87CE8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4B4-892B-4872-A185-6104A527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8A6-FCC5-41AB-8F2B-0B45A3DC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EE6-1A59-4B8F-83F1-33AFBA45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597-0435-4126-B4CC-D579F6F8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FD5-8F33-4A92-B155-A88F98BE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3745-1D88-466D-AA71-89461F16B9A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7A9A-72A8-4A13-AD92-4D78FA4182F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AF42-85FF-42F3-99D4-3DECC90748D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FF69-2822-44D0-8BDB-8FEF67BED11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29.jpeg"/><Relationship Id="rId4" Type="http://schemas.openxmlformats.org/officeDocument/2006/relationships/image" Target="../media/image28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www.brand-metro.ru/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-1176480" y="-1073160"/>
            <a:ext cx="6632640" cy="5187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4040" y="4876920"/>
            <a:ext cx="78548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«Айбашская СОШ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-11 классы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2" descr="C:\Users\USER\Pictures\рисунки 2\C38-07.jpg"/>
          <p:cNvPicPr/>
          <p:nvPr/>
        </p:nvPicPr>
        <p:blipFill>
          <a:blip r:embed="rId3"/>
          <a:stretch/>
        </p:blipFill>
        <p:spPr>
          <a:xfrm>
            <a:off x="4952880" y="380880"/>
            <a:ext cx="3886200" cy="3048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2881440" cy="647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Ответ </a:t>
            </a:r>
            <a:r>
              <a:rPr b="1" lang="ru-RU" sz="3600" spc="-1" strike="noStrike">
                <a:solidFill>
                  <a:srgbClr val="04617b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2352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onstantia"/>
              </a:rPr>
              <a:t>СЛАЛОМ  </a:t>
            </a:r>
            <a:r>
              <a:rPr b="0" lang="ru-RU" sz="8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7" descr="Слалом"/>
          <p:cNvPicPr/>
          <p:nvPr/>
        </p:nvPicPr>
        <p:blipFill>
          <a:blip r:embed="rId3"/>
          <a:srcRect l="12872" t="5200" r="2749" b="0"/>
          <a:stretch/>
        </p:blipFill>
        <p:spPr>
          <a:xfrm>
            <a:off x="2484360" y="3645000"/>
            <a:ext cx="3527640" cy="2809800"/>
          </a:xfrm>
          <a:prstGeom prst="rect">
            <a:avLst/>
          </a:prstGeom>
          <a:ln w="38160">
            <a:solidFill>
              <a:srgbClr val="009dd9"/>
            </a:solidFill>
            <a:miter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2952720" cy="718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опрос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3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1835280" y="4581360"/>
            <a:ext cx="112392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95280" y="12736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Название како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парфюмерного средств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переводит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с французско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как «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вода из Кёльна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»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2592360" cy="706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твет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67564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8" descr="Одеколон Мужской"/>
          <p:cNvPicPr/>
          <p:nvPr/>
        </p:nvPicPr>
        <p:blipFill>
          <a:blip r:embed="rId3"/>
          <a:stretch/>
        </p:blipFill>
        <p:spPr>
          <a:xfrm>
            <a:off x="3317760" y="3933720"/>
            <a:ext cx="2635200" cy="2738520"/>
          </a:xfrm>
          <a:prstGeom prst="rect">
            <a:avLst/>
          </a:prstGeom>
          <a:ln w="38160">
            <a:solidFill>
              <a:srgbClr val="009dd9"/>
            </a:solidFill>
            <a:miter/>
          </a:ln>
        </p:spPr>
      </p:pic>
      <p:sp>
        <p:nvSpPr>
          <p:cNvPr id="237" name="Rectangle 9"/>
          <p:cNvSpPr/>
          <p:nvPr/>
        </p:nvSpPr>
        <p:spPr>
          <a:xfrm>
            <a:off x="1547640" y="1773360"/>
            <a:ext cx="60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ОДЕКОЛО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nstantia"/>
              </a:rPr>
              <a:t>О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– по-французски </a:t>
            </a:r>
            <a:r>
              <a:rPr b="1" i="1" lang="ru-RU" sz="4800" spc="-1" strike="noStrike">
                <a:solidFill>
                  <a:srgbClr val="000000"/>
                </a:solidFill>
                <a:latin typeface="Constantia"/>
              </a:rPr>
              <a:t>в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3240360" cy="647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Вопрос </a:t>
            </a:r>
            <a:r>
              <a:rPr b="1" lang="ru-RU" sz="3600" spc="-1" strike="noStrike">
                <a:solidFill>
                  <a:srgbClr val="04617b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155844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Если перевести это слов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с латинского язык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то оно буквально буд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означа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сидящий впереди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»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Что это за слово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737080" cy="647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Ответ </a:t>
            </a:r>
            <a:r>
              <a:rPr b="1" lang="ru-RU" sz="3600" spc="-1" strike="noStrike">
                <a:solidFill>
                  <a:srgbClr val="04617b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42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1295280" y="1219320"/>
            <a:ext cx="6696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ПРЕЗИДЕН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8" descr="F:\Новая папка (2)\iпар.jpg"/>
          <p:cNvPicPr/>
          <p:nvPr/>
        </p:nvPicPr>
        <p:blipFill>
          <a:blip r:embed="rId3"/>
          <a:stretch/>
        </p:blipFill>
        <p:spPr>
          <a:xfrm>
            <a:off x="2209680" y="25909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3030480" cy="718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опрос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16203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Из малайского языка к нам пришло название этого животного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В переводе на русский оно означает «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лесной человек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»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Назовите это животно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2674800" cy="79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твет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ОРАНГУТАНГ   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6" descr="Орангутанг"/>
          <p:cNvPicPr/>
          <p:nvPr/>
        </p:nvPicPr>
        <p:blipFill>
          <a:blip r:embed="rId3"/>
          <a:stretch/>
        </p:blipFill>
        <p:spPr>
          <a:xfrm>
            <a:off x="3419640" y="3357720"/>
            <a:ext cx="2311200" cy="3340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024360" cy="706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опрос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640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179280" y="209664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Как французы называю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любое оконное стекло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а мы только цветное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узорчатое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2808360" cy="706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твет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332000" y="1844640"/>
            <a:ext cx="597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ВИТРА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2556000" y="2997360"/>
            <a:ext cx="3438360" cy="3673440"/>
          </a:xfrm>
          <a:prstGeom prst="rect">
            <a:avLst/>
          </a:prstGeom>
          <a:ln w="38160">
            <a:solidFill>
              <a:srgbClr val="dbf5f9"/>
            </a:solidFill>
            <a:miter/>
          </a:ln>
          <a:effectLst>
            <a:outerShdw dist="107932" dir="13500000" blurRad="0" rotWithShape="0">
              <a:srgbClr val="dbf5f9">
                <a:alpha val="50000"/>
              </a:srgbClr>
            </a:outerShdw>
          </a:effectLst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сположите в алфавитном порядк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95280" y="16765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ведывательны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нохарактерны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виват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ночине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ноцветны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ведыват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обидет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носчи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герметизироват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ноцветь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нофактурны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герметизац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8" descr="F:\Новая папка (2)\iвр.jpg"/>
          <p:cNvPicPr/>
          <p:nvPr/>
        </p:nvPicPr>
        <p:blipFill>
          <a:blip r:embed="rId2"/>
          <a:stretch/>
        </p:blipFill>
        <p:spPr>
          <a:xfrm>
            <a:off x="0" y="449568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04920" y="3808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 мя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Users\USER\Pictures\рисунки 2\C44-16.jpg"/>
          <p:cNvPicPr/>
          <p:nvPr/>
        </p:nvPicPr>
        <p:blipFill>
          <a:blip r:embed="rId2"/>
          <a:stretch/>
        </p:blipFill>
        <p:spPr>
          <a:xfrm>
            <a:off x="5022720" y="835200"/>
            <a:ext cx="4127760" cy="3590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f6fc6"/>
                </a:solidFill>
                <a:latin typeface="Constantia"/>
              </a:rPr>
              <a:t>Разминка!</a:t>
            </a:r>
            <a:endParaRPr b="0" lang="en-US" sz="1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Прямоугольник 4" descr=""/>
          <p:cNvPicPr/>
          <p:nvPr/>
        </p:nvPicPr>
        <p:blipFill>
          <a:blip r:embed="rId3"/>
          <a:stretch/>
        </p:blipFill>
        <p:spPr>
          <a:xfrm>
            <a:off x="-380880" y="0"/>
            <a:ext cx="4174920" cy="2798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авильный ответ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2" descr="F:\Новая папка (2)\iшо.jpg"/>
          <p:cNvPicPr/>
          <p:nvPr/>
        </p:nvPicPr>
        <p:blipFill>
          <a:blip r:embed="rId2"/>
          <a:stretch/>
        </p:blipFill>
        <p:spPr>
          <a:xfrm>
            <a:off x="4648320" y="1828800"/>
            <a:ext cx="4495680" cy="50292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4"/>
          <p:cNvSpPr/>
          <p:nvPr/>
        </p:nvSpPr>
        <p:spPr>
          <a:xfrm>
            <a:off x="457200" y="1905120"/>
            <a:ext cx="434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ыв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ерме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ерметиз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фак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характ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цве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цвет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чи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би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C:\Users\USER\Pictures\рисунки 2\C44-12.jpg"/>
          <p:cNvPicPr/>
          <p:nvPr/>
        </p:nvPicPr>
        <p:blipFill>
          <a:blip r:embed="rId2"/>
          <a:stretch/>
        </p:blipFill>
        <p:spPr>
          <a:xfrm>
            <a:off x="6419880" y="0"/>
            <a:ext cx="2724120" cy="34164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304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бусы!!!</a:t>
            </a:r>
            <a:endParaRPr b="0" lang="en-US" sz="11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7" name="Picture 7" descr="F:\Новая папка (2)\iлонглш.jpg"/>
          <p:cNvPicPr/>
          <p:nvPr/>
        </p:nvPicPr>
        <p:blipFill>
          <a:blip r:embed="rId3"/>
          <a:stretch/>
        </p:blipFill>
        <p:spPr>
          <a:xfrm>
            <a:off x="0" y="4648320"/>
            <a:ext cx="3325680" cy="2209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04920" y="3808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2 мя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                  </a:t>
            </a: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Ребус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895480" cy="1143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2666880" cy="1506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1143000" y="2057400"/>
            <a:ext cx="297180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верим ответы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нит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ктор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ме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1424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дберите синонимы к фразеологизма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28600" y="1295280"/>
          <a:ext cx="8763120" cy="525312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4993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жать камень за пазух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уд пру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уда ни возьмис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мя голо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аза до ижиц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лед просты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царе Горох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ть з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ать неку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время о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хи не обид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ы не замут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0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ть Америк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а до 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инай как зва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корки до кор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доски до дос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етать велосипе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993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пара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гром среди ясного неб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304920" y="3808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3 мя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авильный</a:t>
            </a: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!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28600" y="1219320"/>
          <a:ext cx="8763120" cy="536580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ать неку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уд пру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3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пара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мя голо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инай как зва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лед просты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жать камень за пазух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ть з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царе Горох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время о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хи не обид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ы не замут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аза до ижиц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а до 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доски до дос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корки до кор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ть Америк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етать велосипе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уда ни возьмис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гром среди ясного неб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Расставьте ударение в словах!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Picture 2" descr="F:\Новая папка (2)\iнко.jpg"/>
          <p:cNvPicPr/>
          <p:nvPr/>
        </p:nvPicPr>
        <p:blipFill>
          <a:blip r:embed="rId2"/>
          <a:stretch/>
        </p:blipFill>
        <p:spPr>
          <a:xfrm>
            <a:off x="6620040" y="3505320"/>
            <a:ext cx="2523960" cy="33526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2743200" y="1071720"/>
            <a:ext cx="3581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ф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ав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542592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онкурс капита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сставим ударение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" name="Picture 2" descr="C:\Users\USER\Pictures\рисунки 2\C44-13.jpg"/>
          <p:cNvPicPr/>
          <p:nvPr/>
        </p:nvPicPr>
        <p:blipFill>
          <a:blip r:embed="rId2"/>
          <a:stretch/>
        </p:blipFill>
        <p:spPr>
          <a:xfrm>
            <a:off x="304920" y="457200"/>
            <a:ext cx="2286000" cy="609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"/>
          <p:cNvGraphicFramePr/>
          <p:nvPr/>
        </p:nvGraphicFramePr>
        <p:xfrm>
          <a:off x="2666880" y="1447920"/>
          <a:ext cx="6096240" cy="5091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алфавИ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обесп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догов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свЁк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дос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тОр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звонИ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тУф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красИве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щав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ката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ъясните значение архаизмов и подберите к ним  современные  синоним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добрей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дей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ан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3" descr="F:\Новая папка (2)\iфк.jpg"/>
          <p:cNvPicPr/>
          <p:nvPr/>
        </p:nvPicPr>
        <p:blipFill>
          <a:blip r:embed="rId2"/>
          <a:stretch/>
        </p:blipFill>
        <p:spPr>
          <a:xfrm>
            <a:off x="0" y="3200400"/>
            <a:ext cx="3809880" cy="3657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09480" y="2362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4 мя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начение архаизм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3520" y="1676520"/>
          <a:ext cx="8229600" cy="4922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добр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икмахе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ед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ер, артис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а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до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п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а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оша, подрост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русское слово получится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единить два английских слова: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агон» и «путь»?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457200" y="533520"/>
            <a:ext cx="25146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«Удвоенные согласные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895480" y="1371600"/>
          <a:ext cx="6096240" cy="5394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Товарищ по работ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Популярная игра на льд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Спортивный бе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Сотрудник газеты, журна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Рисунки в журнале, газете, книг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96" name="Picture 27" descr="F:\Новая папка (2)\iур.jpg"/>
          <p:cNvPicPr/>
          <p:nvPr/>
        </p:nvPicPr>
        <p:blipFill>
          <a:blip r:embed="rId2"/>
          <a:stretch/>
        </p:blipFill>
        <p:spPr>
          <a:xfrm>
            <a:off x="0" y="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28600" y="2895480"/>
            <a:ext cx="213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озыгрыш мяча вратар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авильные ответы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99120" indent="-27324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11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г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4299120" indent="-27324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11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4299120" indent="-27324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11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4299120" indent="-27324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11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ор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4299120" indent="-27324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11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4299120" indent="-27324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11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3" descr="F:\Новая папка (2)\iп.jpg"/>
          <p:cNvPicPr/>
          <p:nvPr/>
        </p:nvPicPr>
        <p:blipFill>
          <a:blip r:embed="rId2"/>
          <a:stretch/>
        </p:blipFill>
        <p:spPr>
          <a:xfrm>
            <a:off x="0" y="3505320"/>
            <a:ext cx="3733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81280" y="380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нтони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Picture 2" descr="C:\Users\USER\Pictures\рисунки 2\C44-58.jpg"/>
          <p:cNvPicPr/>
          <p:nvPr/>
        </p:nvPicPr>
        <p:blipFill>
          <a:blip r:embed="rId2"/>
          <a:stretch/>
        </p:blipFill>
        <p:spPr>
          <a:xfrm>
            <a:off x="304920" y="1600200"/>
            <a:ext cx="3352680" cy="48769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3962520" y="1828800"/>
            <a:ext cx="487656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названия литературных  произведений, в которых                      встречается антитез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произведение К. Симонова «Дни и ноч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3808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5 мя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4617b"/>
                </a:solidFill>
                <a:latin typeface="Times New Roman"/>
              </a:rPr>
              <a:t>Сгруппируйте парами</a:t>
            </a:r>
            <a:r>
              <a:rPr b="1" lang="ru-RU" sz="3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1" lang="ru-RU" sz="3800" spc="-1" strike="noStrike">
                <a:solidFill>
                  <a:srgbClr val="04617b"/>
                </a:solidFill>
                <a:latin typeface="Times New Roman"/>
              </a:rPr>
              <a:t>антитезы по схеме «цифра-буква». </a:t>
            </a:r>
            <a:br>
              <a:rPr sz="3800"/>
            </a:b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) величественное сия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авды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) нищенские лохмот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) пораж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б) блеск медяк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) триумф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 в) гибельный зака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) царская мант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г) славная побе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) маршальский жез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д) горький пла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6) ликующие крик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е) нож мясни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7) радужные надежды              ж) разочарованный вздо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553080" y="4992840"/>
            <a:ext cx="2590920" cy="1865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0" y="60958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6 мя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</a:rPr>
              <a:t>Правильные ответы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714640" y="1980720"/>
            <a:ext cx="21337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 Б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2 Г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 В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4 А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5 Е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6 Д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7 Ж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4572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оставьте словосочетания по схеме «цифра-буква» (для фанатов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) луч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1) неприступн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) замок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2) бледн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) лун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3) ликующ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)  сон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4) роково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) тайн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5) страшн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е) жизнь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6) золото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3" descr="C:\Users\USER\Pictures\рисунки 2\C44-08.jpg"/>
          <p:cNvPicPr/>
          <p:nvPr/>
        </p:nvPicPr>
        <p:blipFill>
          <a:blip r:embed="rId2"/>
          <a:stretch/>
        </p:blipFill>
        <p:spPr>
          <a:xfrm>
            <a:off x="2666880" y="2438280"/>
            <a:ext cx="2368800" cy="3657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 у вас так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419720" y="2133360"/>
            <a:ext cx="44956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Д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Г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Picture 2" descr="F:\Новая папка (2)\бол.jpg"/>
          <p:cNvPicPr/>
          <p:nvPr/>
        </p:nvPicPr>
        <p:blipFill>
          <a:blip r:embed="rId2"/>
          <a:stretch/>
        </p:blipFill>
        <p:spPr>
          <a:xfrm>
            <a:off x="0" y="2209680"/>
            <a:ext cx="4343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зовите коренных жителей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438280" y="1904760"/>
            <a:ext cx="1828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Ту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Одес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Костр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Пск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Пен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190512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трах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м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м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катерин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6477120" y="5086440"/>
            <a:ext cx="2666880" cy="17715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</a:rPr>
              <a:t>Правильный ответ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ула (туляк), Одесса (одессит), Кострома (костромич), Псков(псковчанин), Пенза(пензенец),  Астрахань(астраханец), Омск(омич), Минск(минчанин),Тамбов(тамбовец), Екатеринбург( екатеринбурженец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Calibri"/>
              </a:rPr>
              <a:t>Пенальти!!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6" name="Picture 2" descr="C:\Users\USER\Pictures\рисунки 2\C44-05.jpg"/>
          <p:cNvPicPr/>
          <p:nvPr/>
        </p:nvPicPr>
        <p:blipFill>
          <a:blip r:embed="rId2"/>
          <a:stretch/>
        </p:blipFill>
        <p:spPr>
          <a:xfrm>
            <a:off x="1600200" y="1995480"/>
            <a:ext cx="5867280" cy="4633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мвай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2" descr="is?bscZdz92WjcF49gVASUtdlF2Y-vEpVINjtPY7ZDXoQ8"/>
          <p:cNvPicPr/>
          <p:nvPr/>
        </p:nvPicPr>
        <p:blipFill>
          <a:blip r:embed="rId2"/>
          <a:stretch/>
        </p:blipFill>
        <p:spPr>
          <a:xfrm>
            <a:off x="914400" y="3352680"/>
            <a:ext cx="4191120" cy="3124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12" name="Прямоугольник 4"/>
          <p:cNvSpPr/>
          <p:nvPr/>
        </p:nvSpPr>
        <p:spPr>
          <a:xfrm>
            <a:off x="380880" y="533520"/>
            <a:ext cx="25146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сшифруйте современные пиктограммы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8" name="Picture 5" descr="F:\Новая папка (2)\stolb.gif"/>
          <p:cNvPicPr/>
          <p:nvPr/>
        </p:nvPicPr>
        <p:blipFill>
          <a:blip r:embed="rId2"/>
          <a:stretch/>
        </p:blipFill>
        <p:spPr>
          <a:xfrm>
            <a:off x="3733920" y="2057400"/>
            <a:ext cx="1371600" cy="457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F:\Новая папка (2)\iп.jpg"/>
          <p:cNvPicPr/>
          <p:nvPr/>
        </p:nvPicPr>
        <p:blipFill>
          <a:blip r:embed="rId3"/>
          <a:stretch/>
        </p:blipFill>
        <p:spPr>
          <a:xfrm>
            <a:off x="6400800" y="3981600"/>
            <a:ext cx="2743200" cy="2876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F:\Новая папка (2)\iур.jpg"/>
          <p:cNvPicPr/>
          <p:nvPr/>
        </p:nvPicPr>
        <p:blipFill>
          <a:blip r:embed="rId4"/>
          <a:stretch/>
        </p:blipFill>
        <p:spPr>
          <a:xfrm>
            <a:off x="0" y="1981080"/>
            <a:ext cx="2855880" cy="266724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5" descr=""/>
          <p:cNvPicPr/>
          <p:nvPr/>
        </p:nvPicPr>
        <p:blipFill>
          <a:blip r:embed="rId5"/>
          <a:stretch/>
        </p:blipFill>
        <p:spPr>
          <a:xfrm>
            <a:off x="-274680" y="4498920"/>
            <a:ext cx="3840120" cy="987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оверим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240" y="1934640"/>
            <a:ext cx="4419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 не кури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) телефо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) текстовое сообщ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) опас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) аэропор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) линия разрез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7) место пит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8) для инвалид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4" name="Picture 2" descr="F:\Новая папка (2)\iпт.jpg"/>
          <p:cNvPicPr/>
          <p:nvPr/>
        </p:nvPicPr>
        <p:blipFill>
          <a:blip r:embed="rId2"/>
          <a:stretch/>
        </p:blipFill>
        <p:spPr>
          <a:xfrm>
            <a:off x="4876920" y="213372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3" descr="C:\Users\USER\Pictures\рисунки 2\C44-06.jpg"/>
          <p:cNvPicPr/>
          <p:nvPr/>
        </p:nvPicPr>
        <p:blipFill>
          <a:blip r:embed="rId2"/>
          <a:stretch/>
        </p:blipFill>
        <p:spPr>
          <a:xfrm>
            <a:off x="6095880" y="1752480"/>
            <a:ext cx="2828880" cy="4953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ридумайте свои пиктограммы для обозначения следующих ситуаций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934640"/>
            <a:ext cx="8229600" cy="45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«Победа будет за нами!»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«Мы сегодня участвуе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в лингвоболе!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Times New Roman"/>
              </a:rPr>
              <a:t>Оцени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9" name="Таблица 3" descr=""/>
          <p:cNvPicPr/>
          <p:nvPr/>
        </p:nvPicPr>
        <p:blipFill>
          <a:blip r:embed="rId2"/>
          <a:stretch/>
        </p:blipFill>
        <p:spPr>
          <a:xfrm>
            <a:off x="907920" y="1935000"/>
            <a:ext cx="73263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570880" cy="55627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80880" y="55627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Поздравляем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C:\Users\USER\Pictures\рисунки 2\C38-06.jpg"/>
          <p:cNvPicPr/>
          <p:nvPr/>
        </p:nvPicPr>
        <p:blipFill>
          <a:blip r:embed="rId2"/>
          <a:stretch/>
        </p:blipFill>
        <p:spPr>
          <a:xfrm>
            <a:off x="0" y="0"/>
            <a:ext cx="4205160" cy="365760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3" descr=""/>
          <p:cNvPicPr/>
          <p:nvPr/>
        </p:nvPicPr>
        <p:blipFill>
          <a:blip r:embed="rId3"/>
          <a:stretch/>
        </p:blipFill>
        <p:spPr>
          <a:xfrm>
            <a:off x="-212760" y="-804960"/>
            <a:ext cx="10240920" cy="8229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2881440" cy="718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опрос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По-древнегречески толпа – «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охлос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». А как, согласно одной из версий, называли отдельно взятого представителя этой толпы?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2386080" cy="79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твет </a:t>
            </a:r>
            <a:r>
              <a:rPr b="1" lang="ru-RU" sz="4500" spc="-1" strike="noStrike">
                <a:solidFill>
                  <a:srgbClr val="04617b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360" y="3068280"/>
            <a:ext cx="8067600" cy="12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ОХЛАМОН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2880000" cy="7779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опрос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95280" y="123552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Название какого вид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транспорт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в переводе с греческо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означает «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столичный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»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2459160" cy="718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твет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809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6" descr="Станции метро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16360" y="4541760"/>
            <a:ext cx="3024000" cy="2198880"/>
          </a:xfrm>
          <a:prstGeom prst="rect">
            <a:avLst/>
          </a:prstGeom>
          <a:ln w="38160">
            <a:solidFill>
              <a:srgbClr val="009dd9"/>
            </a:solidFill>
            <a:miter/>
          </a:ln>
        </p:spPr>
      </p:pic>
      <p:sp>
        <p:nvSpPr>
          <p:cNvPr id="223" name="Rectangle 7"/>
          <p:cNvSpPr/>
          <p:nvPr/>
        </p:nvSpPr>
        <p:spPr>
          <a:xfrm>
            <a:off x="324000" y="2067480"/>
            <a:ext cx="849600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Метер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» - мать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полис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» - горо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Вместе –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метрополитен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2952720" cy="706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опрос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24000" y="1626120"/>
            <a:ext cx="855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Название како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вида спор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переводится с норвежско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как «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след на склоне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»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54:11Z</dcterms:created>
  <dc:creator>ZID</dc:creator>
  <dc:description/>
  <dc:language>en-US</dc:language>
  <cp:lastModifiedBy>user</cp:lastModifiedBy>
  <dcterms:modified xsi:type="dcterms:W3CDTF">2011-02-16T21:28:18Z</dcterms:modified>
  <cp:revision>60</cp:revision>
  <dc:subject/>
  <dc:title>Лингвобол</dc:title>
</cp:coreProperties>
</file>