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3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34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8E04-C813-4450-A34A-A67EEEE3DD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5AE6-B580-44F3-9F91-F52FF23778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38FB-BD4D-4C49-A89C-51179C1387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2521-EC48-493F-BBE3-92CC301203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635A-2B57-4799-B049-74450A19D5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E075-7F78-4D3F-A7EA-57E88A95C0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F4E0-EFAC-466A-9EC2-7A620863C5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EC0F-FC42-4235-829F-2FE4DC9F3D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4F21-9FD3-4072-AE42-EE53440152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BC91-0F83-42F2-A982-78A9688FC98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DEE08-4B62-4BF8-9723-9BE49D254F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0179-EF97-49AF-9333-75001856FF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67A9-3356-4280-8D98-EF67ECF587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7AA7-20FF-4F84-9929-0811BAE7D7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1CBF-9097-4013-A193-D3BDED0CD4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A8AD-C3FE-4F04-BAA8-E2728CE437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F114-DE74-4A3F-92D3-402DD0DACB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DB3E-2F21-45C8-B2B1-B1E51E6323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56DB-50A0-452B-BEAA-149C0E0590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DC1F-589C-45AB-A659-70E93FF4C9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8710B-584B-456F-B688-5C2062EFD9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7B5A-E7A8-4175-8B20-EEE22C97E5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6CE8-6360-4AF0-BC81-08CE969D31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D0C8-D35A-40D9-9A42-641646D07F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803D-D9D4-4A20-8888-58D503120E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24B9-B626-41B6-A5C5-EC9D2F59D0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C826-5B2E-4309-A361-9DE01050BA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C5E7-30F0-44D5-9BD5-D9631F3A92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50AA6-F2DA-465E-8E20-25FD8B9FAD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AEB9-0152-4502-A6DB-3C125090CB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B020-EAC3-4D68-A43B-2E67516F23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EE50-377F-401C-8198-57712D41766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9BE-BB4B-4957-BB68-BF389A75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B97-C596-4E8F-BE10-9F88B7C8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767B-FB45-4AE7-AE68-22DFB667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C873-1BE8-40B1-A97F-E84A80482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3B95-8B4A-4109-BC25-D7B963D99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BA19C-8F09-47D1-9E3F-AA7EDC9C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381F-3E8A-44C2-B461-5932834C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DBD9-1D00-4616-84B1-5F672619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0BC1-64F9-4CC3-82AB-4847A17A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B4E9-F7CD-4194-A500-9164928A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68670-8E87-4D36-AB37-FF3B6166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CC4-4C6B-4B18-A8B5-FC310F6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E5F5-31F5-44A6-B106-23DB54F7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ACF-4350-486D-B36B-B7482E9A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6221-DBB1-4B27-BF87-D8982F2A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895B-4154-4ABC-BD56-229A1D58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1E340-25FE-4358-A0B2-18BC0ACE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67712-6E46-4E67-B0AF-F7E2F285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DC73F-38BD-4CE8-A886-919FDF3F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8C608-A39E-45F6-AD2F-C8C6C7E3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9F54-8564-4E45-999B-9FC03A88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C4397-3A84-4C76-975D-EC54FCA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0C93-CFD2-4028-A661-1B448462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072AE-CF5C-436D-A9A0-A2567521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BC67D-37B6-4BC1-A8B6-54DC507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0B12E-EBA1-4A77-B652-B59E4885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24FD-9EE2-4895-8E29-270B1544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848E-8CB0-4F0D-9D6D-F637E6F1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3E5B-BC28-4181-82F2-2009051A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1D3E3-3654-4661-9E00-67E6C5FE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BA1D-A86D-4367-977A-8F661363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1358A-6695-4A08-BC5A-463AD5C8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1AF9E-B313-4B4B-83DD-7190B8381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3B1-960E-476B-AB11-4C88A6B4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1877C-24C4-4B81-B829-FBE4C9E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5798D-18C2-46A3-B8C0-2A3D3E5B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D8DE-FC28-4856-AAEB-34CB1F44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F4353-DDB6-41AB-9677-2B6FED2C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A0719-AE48-4400-B27C-CACB3798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22D9A-87B2-455B-84C6-23F81C6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F192C-0E4F-4B6B-8D80-FB71FC6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0D39-2EBC-4E1D-9486-7D6B136A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1434-26DD-4979-A0B4-9FC30AA2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070-6505-4E4A-A7BD-ADBEBB71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0F5C-C9C5-4147-A88E-DE05D68D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D33-A622-4343-945D-1EDE2509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B3F-7512-4830-BA9D-6161CA54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56F8-5D83-4446-80FA-CC49E9FF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2BB6-0EA7-4B40-8A9D-65E7BDB1B7D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DB2A7-97B9-4732-993F-69F990C5177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FF21-1513-4423-AB35-68AE5D28A415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879-3F4C-46D9-BBCA-9AF5F8982B2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29.jpeg"/><Relationship Id="rId4" Type="http://schemas.openxmlformats.org/officeDocument/2006/relationships/image" Target="../media/image28.jpe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http://www.brand-metro.ru/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-1176480" y="-1073160"/>
            <a:ext cx="6632640" cy="5187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4040" y="4876920"/>
            <a:ext cx="78548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«Айбашская СОШ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-11 классы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2" descr="C:\Users\USER\Pictures\рисунки 2\C38-07.jpg"/>
          <p:cNvPicPr/>
          <p:nvPr/>
        </p:nvPicPr>
        <p:blipFill>
          <a:blip r:embed="rId3"/>
          <a:stretch/>
        </p:blipFill>
        <p:spPr>
          <a:xfrm>
            <a:off x="4952880" y="38088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881440" cy="64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36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7235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Constantia"/>
              </a:rPr>
              <a:t>СЛАЛОМ  </a:t>
            </a:r>
            <a:r>
              <a:rPr b="0" lang="ru-RU" sz="88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9" name="Picture 7" descr="Слалом"/>
          <p:cNvPicPr/>
          <p:nvPr/>
        </p:nvPicPr>
        <p:blipFill>
          <a:blip r:embed="rId3"/>
          <a:srcRect l="12872" t="5200" r="2749" b="0"/>
          <a:stretch/>
        </p:blipFill>
        <p:spPr>
          <a:xfrm>
            <a:off x="2484360" y="3645000"/>
            <a:ext cx="3527640" cy="2809800"/>
          </a:xfrm>
          <a:prstGeom prst="rect">
            <a:avLst/>
          </a:prstGeom>
          <a:ln w="38160">
            <a:solidFill>
              <a:srgbClr val="009dd9"/>
            </a:solidFill>
            <a:miter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95272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AutoShape 6"/>
          <p:cNvSpPr/>
          <p:nvPr/>
        </p:nvSpPr>
        <p:spPr>
          <a:xfrm>
            <a:off x="1835280" y="4581360"/>
            <a:ext cx="112392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395280" y="127368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азвание ка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арфюмерного средств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ереводится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с французс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вода из Кёльна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259236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67564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8" descr="Одеколон Мужской"/>
          <p:cNvPicPr/>
          <p:nvPr/>
        </p:nvPicPr>
        <p:blipFill>
          <a:blip r:embed="rId3"/>
          <a:stretch/>
        </p:blipFill>
        <p:spPr>
          <a:xfrm>
            <a:off x="3317760" y="3933720"/>
            <a:ext cx="2635200" cy="2738520"/>
          </a:xfrm>
          <a:prstGeom prst="rect">
            <a:avLst/>
          </a:prstGeom>
          <a:ln w="38160">
            <a:solidFill>
              <a:srgbClr val="009dd9"/>
            </a:solidFill>
            <a:miter/>
          </a:ln>
        </p:spPr>
      </p:pic>
      <p:sp>
        <p:nvSpPr>
          <p:cNvPr id="237" name="Rectangle 9"/>
          <p:cNvSpPr/>
          <p:nvPr/>
        </p:nvSpPr>
        <p:spPr>
          <a:xfrm>
            <a:off x="1547640" y="1773360"/>
            <a:ext cx="60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ОДЕКОЛО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О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– по-французски </a:t>
            </a:r>
            <a:r>
              <a:rPr b="1" i="1" lang="ru-RU" sz="4800" spc="-1" strike="noStrike">
                <a:solidFill>
                  <a:srgbClr val="000000"/>
                </a:solidFill>
                <a:latin typeface="Constantia"/>
              </a:rPr>
              <a:t>в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3240360" cy="64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36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713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155844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Если перевести это слов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с латинского языка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то оно буквально буде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знача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сидящий впереди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Что это за слово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2737080" cy="647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3600" spc="-1" strike="noStrike">
                <a:solidFill>
                  <a:srgbClr val="04617b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1295280" y="1219320"/>
            <a:ext cx="669636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ПРЕЗИДЕН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8" descr="F:\Новая папка (2)\iпар.jpg"/>
          <p:cNvPicPr/>
          <p:nvPr/>
        </p:nvPicPr>
        <p:blipFill>
          <a:blip r:embed="rId3"/>
          <a:stretch/>
        </p:blipFill>
        <p:spPr>
          <a:xfrm>
            <a:off x="2209680" y="259092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03048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1620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Из малайского языка к нам пришло название этого животного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переводе на русский оно означает 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лесной человек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Назовите это животно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267480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ОРАНГУТАНГ   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0" name="Picture 6" descr="Орангутанг"/>
          <p:cNvPicPr/>
          <p:nvPr/>
        </p:nvPicPr>
        <p:blipFill>
          <a:blip r:embed="rId3"/>
          <a:stretch/>
        </p:blipFill>
        <p:spPr>
          <a:xfrm>
            <a:off x="3419640" y="3357720"/>
            <a:ext cx="2311200" cy="3340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02436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640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179280" y="209664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 французы называю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любое оконное стекло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а мы только цветное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узорчатое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280836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642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332000" y="1844640"/>
            <a:ext cx="597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onstantia"/>
              </a:rPr>
              <a:t>ВИТРА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7" descr=""/>
          <p:cNvPicPr/>
          <p:nvPr/>
        </p:nvPicPr>
        <p:blipFill>
          <a:blip r:embed="rId3"/>
          <a:stretch/>
        </p:blipFill>
        <p:spPr>
          <a:xfrm>
            <a:off x="2556000" y="2997360"/>
            <a:ext cx="3438360" cy="3673440"/>
          </a:xfrm>
          <a:prstGeom prst="rect">
            <a:avLst/>
          </a:prstGeom>
          <a:ln w="38160">
            <a:solidFill>
              <a:srgbClr val="dbf5f9"/>
            </a:solidFill>
            <a:miter/>
          </a:ln>
          <a:effectLst>
            <a:outerShdw dist="107932" dir="13500000" blurRad="0" rotWithShape="0">
              <a:srgbClr val="dbf5f9">
                <a:alpha val="50000"/>
              </a:srgbClr>
            </a:outerShdw>
          </a:effectLst>
        </p:spPr>
      </p:pic>
    </p:spTree>
  </p:cSld>
  <p:transition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положите в алфавитном порядк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95280" y="16765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едыватель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характер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ива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чин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цвет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ведыва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обиде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счи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герметизировать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цветь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нофактурный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герметизац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Picture 8" descr="F:\Новая папка (2)\iвр.jpg"/>
          <p:cNvPicPr/>
          <p:nvPr/>
        </p:nvPicPr>
        <p:blipFill>
          <a:blip r:embed="rId2"/>
          <a:stretch/>
        </p:blipFill>
        <p:spPr>
          <a:xfrm>
            <a:off x="0" y="4495680"/>
            <a:ext cx="2514600" cy="23623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1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Users\USER\Pictures\рисунки 2\C44-16.jpg"/>
          <p:cNvPicPr/>
          <p:nvPr/>
        </p:nvPicPr>
        <p:blipFill>
          <a:blip r:embed="rId2"/>
          <a:stretch/>
        </p:blipFill>
        <p:spPr>
          <a:xfrm>
            <a:off x="5022720" y="835200"/>
            <a:ext cx="4127760" cy="35906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457200" y="7617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f6fc6"/>
                </a:solidFill>
                <a:latin typeface="Constantia"/>
              </a:rPr>
              <a:t>Разминка!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Прямоугольник 4" descr=""/>
          <p:cNvPicPr/>
          <p:nvPr/>
        </p:nvPicPr>
        <p:blipFill>
          <a:blip r:embed="rId3"/>
          <a:stretch/>
        </p:blipFill>
        <p:spPr>
          <a:xfrm>
            <a:off x="-380880" y="0"/>
            <a:ext cx="4174920" cy="279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вильный ответ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2" descr="F:\Новая папка (2)\iшо.jpg"/>
          <p:cNvPicPr/>
          <p:nvPr/>
        </p:nvPicPr>
        <p:blipFill>
          <a:blip r:embed="rId2"/>
          <a:stretch/>
        </p:blipFill>
        <p:spPr>
          <a:xfrm>
            <a:off x="4648320" y="1828800"/>
            <a:ext cx="4495680" cy="50292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4"/>
          <p:cNvSpPr/>
          <p:nvPr/>
        </p:nvSpPr>
        <p:spPr>
          <a:xfrm>
            <a:off x="457200" y="1905120"/>
            <a:ext cx="434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ыва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еды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ерме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ерметизир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фак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характе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цвет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чи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би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C:\Users\USER\Pictures\рисунки 2\C44-12.jpg"/>
          <p:cNvPicPr/>
          <p:nvPr/>
        </p:nvPicPr>
        <p:blipFill>
          <a:blip r:embed="rId2"/>
          <a:stretch/>
        </p:blipFill>
        <p:spPr>
          <a:xfrm>
            <a:off x="6419880" y="0"/>
            <a:ext cx="2724120" cy="34164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520" y="3047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бусы!!!</a:t>
            </a:r>
            <a:endParaRPr b="0" lang="en-US" sz="11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7" name="Picture 7" descr="F:\Новая папка (2)\iлонглш.jpg"/>
          <p:cNvPicPr/>
          <p:nvPr/>
        </p:nvPicPr>
        <p:blipFill>
          <a:blip r:embed="rId3"/>
          <a:stretch/>
        </p:blipFill>
        <p:spPr>
          <a:xfrm>
            <a:off x="0" y="4648320"/>
            <a:ext cx="3325680" cy="22096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2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                  </a:t>
            </a: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Ребус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5486400" y="2057400"/>
            <a:ext cx="2895480" cy="11430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3048120" y="3352680"/>
            <a:ext cx="2666880" cy="1506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1143000" y="2057400"/>
            <a:ext cx="297180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верим ответы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нито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ктор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рем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14240" y="2286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одберите синонимы к фразеологизма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228600" y="1295280"/>
          <a:ext cx="8763120" cy="525312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ть камень за пазух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уд пру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уда ни возьми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мя голо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за до ижиц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лед просты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царе Горох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з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ать неку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о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 не оби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ы не замут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0004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Амери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 до 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инай как зва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орки до к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доски до дос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етать велосип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пар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гром среди ясного неб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3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вильный</a:t>
            </a: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 </a:t>
            </a:r>
            <a:r>
              <a:rPr b="0" lang="ru-RU" sz="6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твет!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228600" y="1219320"/>
          <a:ext cx="8763120" cy="536580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вать некуд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уд пру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пара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мя голов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минай как зва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след просты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жать камень за пазухо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ть з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царе Горох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 время он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хи не обид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ы не замути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за до ижиц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а до 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доски до доск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корки до кор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36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вать Америку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етать велосипе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3676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уда ни возьмис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гром среди ясного неба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4617b"/>
                </a:solidFill>
                <a:latin typeface="Calibri"/>
              </a:rPr>
              <a:t>Расставьте ударение в словах!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2" name="Picture 2" descr="F:\Новая папка (2)\iнко.jpg"/>
          <p:cNvPicPr/>
          <p:nvPr/>
        </p:nvPicPr>
        <p:blipFill>
          <a:blip r:embed="rId2"/>
          <a:stretch/>
        </p:blipFill>
        <p:spPr>
          <a:xfrm>
            <a:off x="6620040" y="3505320"/>
            <a:ext cx="2523960" cy="33526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2743200" y="1071720"/>
            <a:ext cx="3581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гов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в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к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ф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ав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542592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онкурс капита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асставим ударение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6" name="Picture 2" descr="C:\Users\USER\Pictures\рисунки 2\C44-13.jpg"/>
          <p:cNvPicPr/>
          <p:nvPr/>
        </p:nvPicPr>
        <p:blipFill>
          <a:blip r:embed="rId2"/>
          <a:stretch/>
        </p:blipFill>
        <p:spPr>
          <a:xfrm>
            <a:off x="304920" y="457200"/>
            <a:ext cx="2286000" cy="6095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"/>
          <p:cNvGraphicFramePr/>
          <p:nvPr/>
        </p:nvGraphicFramePr>
        <p:xfrm>
          <a:off x="2666880" y="1447920"/>
          <a:ext cx="6096240" cy="50911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алфавИ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обесп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договО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свЁкл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досУ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тОр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звонИ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тУфл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красИве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щав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8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d0d0d"/>
                          </a:solidFill>
                          <a:latin typeface="Constantia"/>
                          <a:ea typeface="Arial"/>
                        </a:rPr>
                        <a:t>катал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Объясните значение архаизмов и подберите к ним  современные  синонимы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добр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едей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ань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т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ок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3" descr="F:\Новая папка (2)\iфк.jpg"/>
          <p:cNvPicPr/>
          <p:nvPr/>
        </p:nvPicPr>
        <p:blipFill>
          <a:blip r:embed="rId2"/>
          <a:stretch/>
        </p:blipFill>
        <p:spPr>
          <a:xfrm>
            <a:off x="0" y="3200400"/>
            <a:ext cx="3809880" cy="36576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609480" y="236232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4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Значение архаизмо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3520" y="1676520"/>
          <a:ext cx="8229600" cy="4922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радобр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рикмахе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де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ер, артис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а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дон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пт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кла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р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а, подросто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русское слово получится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оединить два английских слова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агон» и «путь»?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457200" y="533520"/>
            <a:ext cx="25146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895480" y="-3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«Удвоенные согласны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895480" y="1371600"/>
          <a:ext cx="6096240" cy="53942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Товарищ по работ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Популярная игра на льд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Спортивный бе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Сотрудник газеты, журнал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d0d0d"/>
                          </a:solidFill>
                          <a:latin typeface="Times New Roman"/>
                          <a:ea typeface="Times New Roman"/>
                        </a:rPr>
                        <a:t>Рисунки в журнале, газете, книг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296" name="Picture 27" descr="F:\Новая папка (2)\iур.jpg"/>
          <p:cNvPicPr/>
          <p:nvPr/>
        </p:nvPicPr>
        <p:blipFill>
          <a:blip r:embed="rId2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28600" y="2895480"/>
            <a:ext cx="2133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озыгрыш мяча вратар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авильные ответы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лег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сс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о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люстраци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4299120" indent="-273240">
              <a:lnSpc>
                <a:spcPct val="100000"/>
              </a:lnSpc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34113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0" name="Picture 3" descr="F:\Новая папка (2)\iп.jpg"/>
          <p:cNvPicPr/>
          <p:nvPr/>
        </p:nvPicPr>
        <p:blipFill>
          <a:blip r:embed="rId2"/>
          <a:stretch/>
        </p:blipFill>
        <p:spPr>
          <a:xfrm>
            <a:off x="0" y="35053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581280" y="38052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нтоним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2" descr="C:\Users\USER\Pictures\рисунки 2\C44-58.jpg"/>
          <p:cNvPicPr/>
          <p:nvPr/>
        </p:nvPicPr>
        <p:blipFill>
          <a:blip r:embed="rId2"/>
          <a:stretch/>
        </p:blipFill>
        <p:spPr>
          <a:xfrm>
            <a:off x="304920" y="1600200"/>
            <a:ext cx="3352680" cy="48769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3962520" y="1828800"/>
            <a:ext cx="48765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шите названия литературных  произведений, в которых                      встречается антитез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произведение К. Симонова «Дни и ноч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80880"/>
            <a:ext cx="213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5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Сгруппируйте парами</a:t>
            </a: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	</a:t>
            </a:r>
            <a:r>
              <a:rPr b="1" lang="ru-RU" sz="3800" spc="-1" strike="noStrike">
                <a:solidFill>
                  <a:srgbClr val="04617b"/>
                </a:solidFill>
                <a:latin typeface="Times New Roman"/>
              </a:rPr>
              <a:t>антитезы по схеме «цифра-буква». </a:t>
            </a:r>
            <a:br>
              <a:rPr sz="3800"/>
            </a:b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) величественное сияние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авды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) нищенские лохмот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) поражен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б) блеск медя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) триумф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           в) гибельный зака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) царская манти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           г) славная побе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) маршальский жез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д) горький пла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) ликующие крик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 е) нож мясни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7) радужные надежды              ж) разочарованный вздо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553080" y="4992840"/>
            <a:ext cx="2590920" cy="18651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0" y="609588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6 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Правильные ответы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714640" y="1980720"/>
            <a:ext cx="21337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1 Б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2 Г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3 В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4 А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5 Е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6 Д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7 Ж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572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Составьте словосочетания по схеме «цифра-буква» (для фанатов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а) луч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1) неприступ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) замок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2) блед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) лу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3) ликующи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)  сон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4) роков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) тай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5) страшны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е) жизнь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6) золот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3" descr="C:\Users\USER\Pictures\рисунки 2\C44-08.jpg"/>
          <p:cNvPicPr/>
          <p:nvPr/>
        </p:nvPicPr>
        <p:blipFill>
          <a:blip r:embed="rId2"/>
          <a:stretch/>
        </p:blipFill>
        <p:spPr>
          <a:xfrm>
            <a:off x="2666880" y="2438280"/>
            <a:ext cx="2368800" cy="3657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А у вас так?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419720" y="2133360"/>
            <a:ext cx="44956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Д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Г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2" descr="F:\Новая папка (2)\бол.jpg"/>
          <p:cNvPicPr/>
          <p:nvPr/>
        </p:nvPicPr>
        <p:blipFill>
          <a:blip r:embed="rId2"/>
          <a:stretch/>
        </p:blipFill>
        <p:spPr>
          <a:xfrm>
            <a:off x="0" y="2209680"/>
            <a:ext cx="4343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зовите коренных жителей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38280" y="1904760"/>
            <a:ext cx="1828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Ту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Одес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Костр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ск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Unicode MS"/>
              </a:rPr>
              <a:t>Пенз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63600" indent="-3636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"/>
          <p:cNvSpPr/>
          <p:nvPr/>
        </p:nvSpPr>
        <p:spPr>
          <a:xfrm>
            <a:off x="4876920" y="1905120"/>
            <a:ext cx="2438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трах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м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с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м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катерин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6477120" y="5086440"/>
            <a:ext cx="2666880" cy="1771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5000" spc="-1" strike="noStrike">
                <a:solidFill>
                  <a:srgbClr val="04617b"/>
                </a:solidFill>
                <a:latin typeface="Times New Roman"/>
              </a:rPr>
              <a:t>Правильный ответ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ула (туляк), Одесса (одессит), Кострома (костромич), Псков(псковчанин), Пенза(пензенец),  Астрахань(астраханец), Омск(омич), Минск(минчанин),Тамбов(тамбовец), Екатеринбург( екатеринбурженец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4617b"/>
                </a:solidFill>
                <a:latin typeface="Calibri"/>
              </a:rPr>
              <a:t>Пенальти!!!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6" name="Picture 2" descr="C:\Users\USER\Pictures\рисунки 2\C44-05.jpg"/>
          <p:cNvPicPr/>
          <p:nvPr/>
        </p:nvPicPr>
        <p:blipFill>
          <a:blip r:embed="rId2"/>
          <a:stretch/>
        </p:blipFill>
        <p:spPr>
          <a:xfrm>
            <a:off x="1600200" y="1995480"/>
            <a:ext cx="5867280" cy="46339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мвай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2" descr="is?bscZdz92WjcF49gVASUtdlF2Y-vEpVINjtPY7ZDXoQ8"/>
          <p:cNvPicPr/>
          <p:nvPr/>
        </p:nvPicPr>
        <p:blipFill>
          <a:blip r:embed="rId2"/>
          <a:stretch/>
        </p:blipFill>
        <p:spPr>
          <a:xfrm>
            <a:off x="914400" y="3352680"/>
            <a:ext cx="4191120" cy="31244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12" name="Прямоугольник 4"/>
          <p:cNvSpPr/>
          <p:nvPr/>
        </p:nvSpPr>
        <p:spPr>
          <a:xfrm>
            <a:off x="380880" y="533520"/>
            <a:ext cx="2514600" cy="914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асшифруйте современные пиктограммы: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8" name="Picture 5" descr="F:\Новая папка (2)\stolb.gif"/>
          <p:cNvPicPr/>
          <p:nvPr/>
        </p:nvPicPr>
        <p:blipFill>
          <a:blip r:embed="rId2"/>
          <a:stretch/>
        </p:blipFill>
        <p:spPr>
          <a:xfrm>
            <a:off x="3733920" y="2057400"/>
            <a:ext cx="1371600" cy="4572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6" descr="F:\Новая папка (2)\iп.jpg"/>
          <p:cNvPicPr/>
          <p:nvPr/>
        </p:nvPicPr>
        <p:blipFill>
          <a:blip r:embed="rId3"/>
          <a:stretch/>
        </p:blipFill>
        <p:spPr>
          <a:xfrm>
            <a:off x="6400800" y="3981600"/>
            <a:ext cx="2743200" cy="2876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F:\Новая папка (2)\iур.jpg"/>
          <p:cNvPicPr/>
          <p:nvPr/>
        </p:nvPicPr>
        <p:blipFill>
          <a:blip r:embed="rId4"/>
          <a:stretch/>
        </p:blipFill>
        <p:spPr>
          <a:xfrm>
            <a:off x="0" y="1981080"/>
            <a:ext cx="2855880" cy="2667240"/>
          </a:xfrm>
          <a:prstGeom prst="rect">
            <a:avLst/>
          </a:prstGeom>
          <a:ln w="0">
            <a:noFill/>
          </a:ln>
        </p:spPr>
      </p:pic>
      <p:pic>
        <p:nvPicPr>
          <p:cNvPr id="331" name="Прямоугольник 5" descr=""/>
          <p:cNvPicPr/>
          <p:nvPr/>
        </p:nvPicPr>
        <p:blipFill>
          <a:blip r:embed="rId5"/>
          <a:stretch/>
        </p:blipFill>
        <p:spPr>
          <a:xfrm>
            <a:off x="-274680" y="4498920"/>
            <a:ext cx="3840120" cy="98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Проверим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28240" y="1934640"/>
            <a:ext cx="4419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не кури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телеф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 текстовое сообще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) опас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) аэропорт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) линия разрез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7) место питани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8) для инвалид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4" name="Picture 2" descr="F:\Новая папка (2)\iпт.jpg"/>
          <p:cNvPicPr/>
          <p:nvPr/>
        </p:nvPicPr>
        <p:blipFill>
          <a:blip r:embed="rId2"/>
          <a:stretch/>
        </p:blipFill>
        <p:spPr>
          <a:xfrm>
            <a:off x="4876920" y="21337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3" descr="C:\Users\USER\Pictures\рисунки 2\C44-06.jpg"/>
          <p:cNvPicPr/>
          <p:nvPr/>
        </p:nvPicPr>
        <p:blipFill>
          <a:blip r:embed="rId2"/>
          <a:stretch/>
        </p:blipFill>
        <p:spPr>
          <a:xfrm>
            <a:off x="6095880" y="1752480"/>
            <a:ext cx="2828880" cy="49532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52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идумайте свои пиктограммы для обозначения следующих ситуаций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1934640"/>
            <a:ext cx="8229600" cy="45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«Победа будет за нами!» 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«Мы сегодня участвуем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в лингвоболе!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ff"/>
                </a:solidFill>
                <a:latin typeface="Times New Roman"/>
              </a:rPr>
              <a:t>Оценив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9" name="Таблица 3" descr=""/>
          <p:cNvPicPr/>
          <p:nvPr/>
        </p:nvPicPr>
        <p:blipFill>
          <a:blip r:embed="rId2"/>
          <a:stretch/>
        </p:blipFill>
        <p:spPr>
          <a:xfrm>
            <a:off x="907920" y="1935000"/>
            <a:ext cx="732636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70880" cy="556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80880" y="55627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Поздравляем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C:\Users\USER\Pictures\рисунки 2\C38-06.jpg"/>
          <p:cNvPicPr/>
          <p:nvPr/>
        </p:nvPicPr>
        <p:blipFill>
          <a:blip r:embed="rId2"/>
          <a:stretch/>
        </p:blipFill>
        <p:spPr>
          <a:xfrm>
            <a:off x="0" y="0"/>
            <a:ext cx="4205160" cy="3657600"/>
          </a:xfrm>
          <a:prstGeom prst="rect">
            <a:avLst/>
          </a:prstGeom>
          <a:ln w="0">
            <a:noFill/>
          </a:ln>
        </p:spPr>
      </p:pic>
      <p:pic>
        <p:nvPicPr>
          <p:cNvPr id="343" name="Прямоугольник 3" descr=""/>
          <p:cNvPicPr/>
          <p:nvPr/>
        </p:nvPicPr>
        <p:blipFill>
          <a:blip r:embed="rId3"/>
          <a:stretch/>
        </p:blipFill>
        <p:spPr>
          <a:xfrm>
            <a:off x="-212760" y="-804960"/>
            <a:ext cx="10240920" cy="8229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88144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о-древнегречески толпа –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охлос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. А как, согласно одной из версий, называли отдельно взятого представителя этой толпы? 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2386080" cy="792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500" spc="-1" strike="noStrike">
                <a:solidFill>
                  <a:srgbClr val="04617b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4360" y="3068280"/>
            <a:ext cx="8067600" cy="12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Constantia"/>
              </a:rPr>
              <a:t>ОХЛАМОН</a:t>
            </a:r>
            <a:endParaRPr b="0" lang="en-US" sz="8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2880000" cy="7779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95280" y="123552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азвание какого вид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транспорт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в переводе с гречес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означает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толичный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640" y="188640"/>
            <a:ext cx="2459160" cy="718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твет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809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1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6" descr="Станции метро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4541760"/>
            <a:ext cx="3024000" cy="2198880"/>
          </a:xfrm>
          <a:prstGeom prst="rect">
            <a:avLst/>
          </a:prstGeom>
          <a:ln w="38160">
            <a:solidFill>
              <a:srgbClr val="009dd9"/>
            </a:solidFill>
            <a:miter/>
          </a:ln>
        </p:spPr>
      </p:pic>
      <p:sp>
        <p:nvSpPr>
          <p:cNvPr id="223" name="Rectangle 7"/>
          <p:cNvSpPr/>
          <p:nvPr/>
        </p:nvSpPr>
        <p:spPr>
          <a:xfrm>
            <a:off x="324000" y="2067480"/>
            <a:ext cx="849600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Метер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 - мать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полис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» - город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месте – </a:t>
            </a: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метрополитен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2952720" cy="7063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38160">
            <a:solidFill>
              <a:srgbClr val="dbf5f9"/>
            </a:solidFill>
            <a:miter/>
          </a:ln>
          <a:effectLst>
            <a:outerShdw dist="36147" dir="2700000" blurRad="0" rotWithShape="0">
              <a:srgbClr val="85dfd0">
                <a:alpha val="5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опрос </a:t>
            </a:r>
            <a:r>
              <a:rPr b="1" lang="ru-RU" sz="4000" spc="-1" strike="noStrike">
                <a:solidFill>
                  <a:srgbClr val="04617b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24000" y="1626120"/>
            <a:ext cx="8557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Название ка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вида спо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переводится с норвежског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как «</a:t>
            </a:r>
            <a:r>
              <a:rPr b="1" lang="ru-RU" sz="5400" spc="-1" strike="noStrike">
                <a:solidFill>
                  <a:srgbClr val="000000"/>
                </a:solidFill>
                <a:latin typeface="Constantia"/>
              </a:rPr>
              <a:t>след на склоне</a:t>
            </a:r>
            <a:r>
              <a:rPr b="0" lang="ru-RU" sz="5400" spc="-1" strike="noStrike">
                <a:solidFill>
                  <a:srgbClr val="000000"/>
                </a:solidFill>
                <a:latin typeface="Constantia"/>
              </a:rPr>
              <a:t>»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5:54:11Z</dcterms:created>
  <dc:creator>ZID</dc:creator>
  <dc:description/>
  <dc:language>en-US</dc:language>
  <cp:lastModifiedBy>user</cp:lastModifiedBy>
  <dcterms:modified xsi:type="dcterms:W3CDTF">2011-02-16T21:28:18Z</dcterms:modified>
  <cp:revision>60</cp:revision>
  <dc:subject/>
  <dc:title>Лингвобол</dc:title>
</cp:coreProperties>
</file>