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5.wmf" ContentType="image/x-wmf"/>
  <Override PartName="/ppt/media/image14.jpeg" ContentType="image/jpeg"/>
  <Override PartName="/ppt/media/image1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83797-4DC6-47B8-9E0A-633FE608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C7D55-970C-47BC-A427-4A82918E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A6D66-BB57-4818-9781-9868A0C1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C6B86-CC13-457F-B25C-92B82350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DA8A-8C67-4E62-81FF-72869A7E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D554-1B5C-428C-9BC3-30C9091C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81A0-CCC3-4128-8133-FD1BC01F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4D543-2E86-445E-9DA9-51401495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01A4-F1CD-4392-8C84-3EBC1833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66CC-066F-48EA-9F82-3A270F34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7507-DF92-4993-94A6-8BB3C224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0ECE1-A49A-4DDF-87EF-8F85866A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DB3B-AC7B-4F0F-8FB9-183A90D5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59B8-C9B3-4F8E-99CD-81B3C488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3EA6-DD09-488C-AB91-3712AE7F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6D82-910F-467F-8E9A-31C25AAD6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E51B-C7BE-430F-A056-5962E9C03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D530A-C95F-46D9-92DD-38FBDB98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439EC-F082-4434-AD88-0A31DD4F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DE688-382D-47AE-8B64-554FBCB7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E286F-56DF-45E0-8C6D-9C321F30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E3CD6-08BC-4696-9E3C-9F070055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57D2B-A5AB-4D4D-9FB5-E2CB655C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E88F5-5ACD-4662-8DD7-39647F98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E607-F0A7-4444-AF35-04FEA9D06C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5755-F634-46C9-AA7D-5CF332CF90B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1752480"/>
            <a:ext cx="6019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Портфолио - как средство оптимизации деятельности   педагога и одна из форм проектной деятельности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учит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4343400"/>
            <a:ext cx="183528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76160" y="8377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Требования к оформлению портфолио и принцип работы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3200"/>
            </a:br>
            <a:br>
              <a:rPr sz="35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52480" y="13716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ртфолио учителя обычно оформляется в папке-накопителе с файлами. Каждый отдельный материал, включенный в портфолио, должен дотироваться. Состав портфолио зависит от конкретных задач, которые ставит перед собой учитель или администра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ртфолио должен содержать выводы и комментарии преподавателя, по представленном в нем материал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4495680"/>
            <a:ext cx="184140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676160" y="609480"/>
            <a:ext cx="7010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 Системность и регулятивность самомониторинг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 Достовер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 Объектив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 Нацеленность автора на самосовершенствова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 Структуризация материалов, логичность и лаконичность всех письменных поясн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. Аккуратность и эстетичность оформления, единое стилевое реш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. Целостность, тематическая завершенность представленных материал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. Наглядность результатов раб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. Технологич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160020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В зависимости от целей создания портфолио бывают разных типов:</a:t>
            </a: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) это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“папка достижений”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направленная на повышение собственной значимости учителя и отражающая его успехи (грамоты, дипломы, сертификаты детей и пр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рефлексивное портфолио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раскрывающее динамику личностного развития учителя или учащегося, помогающее отследить результативность его деятельности как в количественном, так и в качественном плане; в эту папку собираются статьи, эссе, анализ деятельности, видеокассеты, в общем, всё, что делалось в течение определённого срока (напр., года, нескольких лет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проблемно-исследовательски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связанный с написанием реферата, научной работы, подготовкой к выступлению на конференц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тематически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создаваемый в процессе работы по определённому проекту, теме, разделу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методически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в котором помещаются методические материалы, свидетельствующие о профессионализме педагога, и которые собраны или созданы им сами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137160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4572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Основные части портфоли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447920"/>
            <a:ext cx="701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Портре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титульный лист, содержание портфолио, педагогическое эссе, творческий отчет, отзывы коллег и администрации, курсы повышения квалификации, награды и поощре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Рабочие материал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педагогическая концепция, публикации, авторские либо коллективные программы, открытые уроки, самоанализ к урокам, проекты и исследования, выступления,  план и наработки по теме самообразовани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Достижения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демонстрируют успехи, лучшие результаты  учащегося. Диаграммы, мониторинги, дипломы учащихся. Фотографии, лучшие работы. 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Коллекто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методические разработки, статьи, педагогические концепции и т.п. материалы, используемые вами в работе, авторство которых вам не принадлежит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167652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План работы по теме самообразовани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бщешкольная методическая тем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Методическая тема ГМ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ндивидуальная тема самообраз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Начало работы над темой (год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кончание работы над темой (год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Цель и задачи работы над темой самообраз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сновные вопросы, намечаемые для изуч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Литература по теме самообразования(книги, журналы, статьи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Чей опыт предполагается изучить по данной тем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ворческое сотрудничество по теме самообраз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зучение передового опыта (посещение уроков, семинаров, курсов по теме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ыступление с сообщением о собственном педагогическом опыт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Результат работы по теме самообразования (практические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ыводы по окончании работы над тем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04920" y="4267080"/>
            <a:ext cx="13716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Презентация портфолио</a:t>
            </a: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010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Форма аттестационного испытания, в ходе которого аттестуемый учитель представляет экспертной группе свидетельства своего профессионализма и результатов педагогической деятельности в форме структурированного портфолио. Презентация может проходить в виде выставки учебно-методических материалов, слайд-шоу, доклада, сопровождаемого компьютерным показом с помощью мастера презентаций Power Point и други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Защита портфоли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Защита портфолио проводится публично на открытом заседаний экспертной группы (с согласия аттестуемого – на семинаре, «круглом столе»).  Защита портфолио проводится в несколько этапов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езентация портфоли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тветы на вопросы по существу представленных документ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знакомление аттестуемого учителя с рецензиями на работ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яснение аттестуемого учителя по замечаниям рецензент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бсуждение результатов защиты членами экспертной групп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оведение до аттестуемого выводов и рекомендаций экспертной групп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4114800"/>
            <a:ext cx="137160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История  понятия портфоли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ртфолио (от франц.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porter 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злагать, формулировать, нести и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folio 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лист, страница) – досье, собрание достижений. В 19 веке словом портфолио называли альбом для фотографий. В эпоху Ренессанса художники и архитекторы привозили с собой «портфолио», когда они заявляли свои претензии на место в академии художеств или на строительный проект. При помощи представленных в портфолио документов можно было не только составить себе впечатление о качестве работы, но и о профессиональном пути претендентов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Идея применения портфолио в школе происходит из Соединенных Штатов,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где она возникла в 80-х гг. Настоящий бум начался в конце 80-х – начале 90-х гг. С этого времени использование портфолио в школах носит лавинообразный характер. Число публикаций и книг, посвященных идее портфолио в обучении, за короткий срок резко возросло, достигнув к 1995 г. своего пика и стало в настоящее время практически необозримым. Один из авторов говорит о настоящей “портфолиомании”, захватившей образовательный мир. Идея портфолио становится все более популярной в Европе и Японии, ее называют одним из трех трендов современного образова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43434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ffffff"/>
                </a:solidFill>
                <a:uFillTx/>
                <a:latin typeface="Arial"/>
              </a:rPr>
              <a:t>Зарубежный опыт использования портфолио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75248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 зарубежной школе портфолио рассматривают как вид так называемого “аутентичного оценивания”, которое выявляет уровни сформированности компетентносте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 зарубежной педагогической практике разработан ряд моделей портфолио, из которых чаще всего используютс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Портфолио документаци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Портфолио процесса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Портфолио показатель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Оценочный портфолио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4495680"/>
            <a:ext cx="842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ортфолио в форме проекта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часто используется в школах США в форме выпускного проекта для учащихся, который предусматривает исследовательский проект, конкретный продукт деятельности, устную презентацию; в Дании выполнение междисциплинарного проекта портфолио официально заменило выпускные экзамен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1217520" cy="12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21 веке в российских школах, всё более актуальным и востребованным становится создание портфолио. И если ранее наличие портфолио носило больше рекомендательный характер, то всё чаще при аттестации педагогов, портфолио становится обязательным требованием при повышении квалификационной категор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520" y="2285640"/>
            <a:ext cx="71629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говорить в широком смысле слова, портфолио это папка с определённой структурой, представляющая собой собрание документов, образцов работ, фотографий, профессиональных достижений, позволяющих судить о личности, либо представленной орган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32400" y="5257080"/>
            <a:ext cx="68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мысл  портфолио – «показать всё, на что ты способен»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280" y="4267080"/>
            <a:ext cx="16765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00400" y="304560"/>
            <a:ext cx="3581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Виды портфоли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23880" y="990360"/>
            <a:ext cx="7010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уществуют различные модели портфолио. Начиная от индивидуальных, фиксирующих развитие и личные достижения индивида в образовательной деятельности.  Такие, как портфолио учащегося или педагог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 также групповые (например, портфолио класса) и коллективные (портфолио организации, ВЕБ портфолио школ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280" y="2438280"/>
            <a:ext cx="1447920" cy="1333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447920" y="35053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Портфолио образовательного учреж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4191120"/>
            <a:ext cx="7699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едставляет собой набор документации по видам деятельности ОУ, на основе которого может быть дана комплексная оценка образовательного учреждения в процессе экспертизы его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76160" y="2286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Портфолио ученика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едставляет собой портфолио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внешних достижени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ртфолио личностного развит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ртфолио внешних достижени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состоит из трех блоков – портфолио документов, портфолио работ, портфолио отзывов. Основное назначение данной группы портфолио заключается в накоплении документальных свидетельств успешности школьника, обеспечивая ему рейтинговое место в группе одноклассников либо соискателей конкурсного места в высшее учебное за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ортфолио личностного развития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это изучение старшеклассником особенностей своей личности в системе ее социальных отношений и спланированная работа по их усовершенствованию для достижения новых качеств субъек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743200"/>
            <a:ext cx="148752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Портфолио учителя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99840" y="16765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сматривается сегодня не только как альтернативная форма оценки его профессионализма и результативности работы при проведении экспертизы на соответствие заявленной квалификационной категории, но и как механизм самообразования, самопознания, самоактуализации личности педагога. Состав портфолио зависит от конкретных задач, которые ставит перед собой учи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4920" y="4267080"/>
            <a:ext cx="159696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Основная цель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828440" y="160020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ртфолио учителя- проанализировать и представить значимые профессиональные результаты, достигнутые учителем в разнообразных видах воспитательной, творческой самообразовательной деятельности, обеспечить мониторинг профессионального роста учите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4920" y="4267080"/>
            <a:ext cx="175248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 u="sng">
                <a:solidFill>
                  <a:srgbClr val="ffffff"/>
                </a:solidFill>
                <a:uFillTx/>
                <a:latin typeface="Arial"/>
              </a:rPr>
              <a:t>Подготовка портфолио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28800" y="14479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 подготовке портфолио практикующий учитель составляет индивидуальный план профессионального развития, в котором определя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и и задачи своего профессионального рос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мения, которые ему необходимо приобрест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ренинги и курсы, которые он собирается пройти в ближайшие 2-3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и и задачи профессионального развития учителя должны соотноситься с тремя вещам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фессиональными стандартами преподавания предме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певаемостью уче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ратегическим планом шко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80880" y="4419720"/>
            <a:ext cx="121932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горь</cp:lastModifiedBy>
  <dcterms:modified xsi:type="dcterms:W3CDTF">2009-11-12T12:35:0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