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F28F-4B23-48AA-92DA-E404CC01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9160-1A85-449D-9A04-67C192D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A1CF-7D52-423D-BBBE-4DC403F4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F047-089C-4224-860B-2E5E162E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4B97-BFCA-4D0B-B5E9-53DD2F59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4C60-E673-4A25-81FC-A8D47ED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2001-85AB-4262-98B3-0EF18AA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FB0-ECF7-4A37-96CA-C2B3899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2E9-47D9-481E-9AB9-89411073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6EB8-CA7F-4D23-8477-8D1E559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4D3A-5D19-425D-B284-364AC77C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A8C5-F1B2-4497-8B2B-4701C24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1A92-FFB6-4E84-8592-63D6C400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AEAA-1749-43B7-8CA7-9C1E1B37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8228-C95E-44A7-ABEB-6488E0DE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3337-ED0D-4E8B-9672-590C3CB4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87C-27F5-4D6C-A67B-C2ECB420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272C-EDCD-4D43-9876-54A190E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50F3-0F65-4982-9D3A-50BB7E91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984C-A839-4B86-9C90-927C3E84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2914-6CB1-4F2E-A3C7-2F8B18B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073C-4EAB-479E-AF48-1E8F481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3952-3B85-426A-8C21-E06D9A6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3360-C366-4E2B-A8C1-6E0EF93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A4C1-7A7B-457E-95A8-AAB6B1E26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7DB-E0AF-4DAC-9429-A685182F4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175248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ортфолио - как средство оптимизации деятельности   педагога и одна из форм проектн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 к оформлению портфолио и принцип работы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200"/>
            </a:br>
            <a:br>
              <a:rPr sz="35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71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тфолио учителя обычно оформляется в папке-накопителе с файлами. Каждый отдельный материал, включенный в портфолио, должен дотироваться. Состав портфолио зависит от конкретных задач, которые ставит перед собой учитель или администр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тфолио должен содержать выводы и комментарии преподавателя, по представленном в нем материал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18414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 Системность и регулятивность самомониторин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 Достовер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 Объектив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 Нацеленность автора на самосовершенств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 Структуризация материалов, логичность и лаконичность всех письменных пояс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 Аккуратность и эстетичность оформления, единое стилевое реш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 Целостность, тематическая завершенность представленных матери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 Наглядность результатов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 Технолог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1600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 зависимости от целей создания портфолио бывают разных типов: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это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“папка достижений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направленная на повышение собственной значимости учителя и отражающая его успехи (грамоты, дипломы, сертификаты детей и п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ефлексивное портфолио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раскрывающее динамику личностного развития учителя или учащегося, помогающее отследить результативность его деятельности как в количественном, так и в качественном плане; в эту папку собираются статьи, эссе, анализ деятельности, видеокассеты, в общем, всё, что делалось в течение определённого срока (напр., года, нескольких лет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облемно-исследовательск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связанный с написанием реферата, научной работы, подготовкой к выступлению на конферен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тематическ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создаваемый в процессе работы по определённому проекту, теме, раздел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в котором помещаются методические материалы, свидетельствующие о профессионализме педагога, и которые собраны или созданы им сами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37160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Основные части портфоли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ортре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титульный лист, содержание портфолио, педагогическое эссе, творческий отчет, отзывы коллег и администрации, курсы повышения квалификации, награды и поощр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абочие материал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едагогическая концепция, публикации, авторские либо коллективные программы, открытые уроки, самоанализ к урокам, проекты и исследования, выступления,  план и наработки по теме самообразова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остижен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емонстрируют успехи, лучшие результаты  учащегося. Диаграммы, мониторинги, дипломы учащихся. Фотографии, лучшие работы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оллекто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методические разработки, статьи, педагогические концепции и т.п. материалы, используемые вами в работе, авторство которых вам не принадлежи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676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лан работы по теме само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бщешкольная методическая те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тодическая тема Г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ндивидуальная тема само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чало работы над темой (го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ончание работы над темой (го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ь и задачи работы над темой само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новные вопросы, намечаемые для изуч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итература по теме самообразования(книги, журналы, стать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ей опыт предполагается изучить по данной те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ворческое сотрудничество по теме само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учение передового опыта (посещение уроков, семинаров, курсов по тем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ступление с сообщением о собственном педагогическом опы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езультат работы по теме самообразования (практически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воды по окончании работы над те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371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я портфолио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а аттестационного испытания, в ходе которого аттестуемый учитель представляет экспертной группе свидетельства своего профессионализма и результатов педагогической деятельности в форме структурированного портфолио. Презентация может проходить в виде выставки учебно-методических материалов, слайд-шоу, доклада, сопровождаемого компьютерным показом с помощью мастера презентаций Power Point и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щита портфоли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щита портфолио проводится публично на открытом заседаний экспертной группы (с согласия аттестуемого – на семинаре, «круглом столе»).  Защита портфолио проводится в несколько этапов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зентация портфоли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веты на вопросы по существу представленных докумен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знакомление аттестуемого учителя с рецензиями на работ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яснение аттестуемого учителя по замечаниям рецензен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суждение результатов защиты членами экспертной груп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оведение до аттестуемого выводов и рекомендаций экспертной груп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13716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История  понятия портфол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ртфолио (от франц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orter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злагать, формулировать, нести и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olio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ист, страница) – досье, собрание достижений. В 19 веке словом портфолио называли альбом для фотографий. В эпоху Ренессанса художники и архитекторы привозили с собой «портфолио», когда они заявляли свои претензии на место в академии художеств или на строительный проект. При помощи представленных в портфолио документов можно было не только составить себе впечатление о качестве работы, но и о профессиональном пути претендент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дея применения портфолио в школе происходит из Соединенных Штатов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де она возникла в 80-х гг. Настоящий бум начался в конце 80-х – начале 90-х гг. С этого времени использование портфолио в школах носит лавинообразный характер. Число публикаций и книг, посвященных идее портфолио в обучении, за короткий срок резко возросло, достигнув к 1995 г. своего пика и стало в настоящее время практически необозримым. Один из авторов говорит о настоящей “портфолиомании”, захватившей образовательный мир. Идея портфолио становится все более популярной в Европе и Японии, ее называют одним из трех трендов современного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Зарубежный опыт использования портфолио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зарубежной школе портфолио рассматривают как вид так называемого “аутентичного оценивания”, которое выявляет уровни сформированности компетентност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зарубежной педагогической практике разработан ряд моделей портфолио, из которых чаще всего использу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ортфолио документ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ортфолио процесс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ортфолио показате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ценочный портфолио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495680"/>
            <a:ext cx="84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ртфолио в форме проект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асто используется в школах США в форме выпускного проекта для учащихся, который предусматривает исследовательский проект, конкретный продукт деятельности, устную презентацию; в Дании выполнение междисциплинарного проекта портфолио официально заменило выпускные экзаме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121752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21 веке в российских школах, всё более актуальным и востребованным становится создание портфолио. И если ранее наличие портфолио носило больше рекомендательный характер, то всё чаще при аттестации педагогов, портфолио становится обязательным требованием при повышении квалификационной катег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говорить в широком смысле слова, портфолио это папка с определённой структурой, представляющая собой собрание документов, образцов работ, фотографий, профессиональных достижений, позволяющих судить о личности, либо представленной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2400" y="5257080"/>
            <a:ext cx="68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мысл  портфолио – «показать всё, на что ты способен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1676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иды портфоли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99036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различные модели портфолио. Начиная от индивидуальных, фиксирующих развитие и личные достижения индивида в образовательной деятельности.  Такие, как портфолио учащегося или педаго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также групповые (например, портфолио класса) и коллективные (портфолио организации, ВЕБ портфолио школ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1447920" cy="1333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35053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ртфолио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191120"/>
            <a:ext cx="769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ставляет собой набор документации по видам деятельности ОУ, на основе которого может быть дана комплексная оценка образовательного учреждения в процессе экспертизы его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ортфолио учен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ставляет собой портфолио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нешних достижени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ртфолио личностного разви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ртфолио внешних достижени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остоит из трех блоков – портфолио документов, портфолио работ, портфолио отзывов. Основное назначение данной группы портфолио заключается в накоплении документальных свидетельств успешности школьника, обеспечивая ему рейтинговое место в группе одноклассников либо соискателей конкурсного места в высше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ртфолио личностного развит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это изучение старшеклассником особенностей своей личности в системе ее социальных отношений и спланированная работа по их усовершенствованию для достижения новых качеств субъ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1487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ортфолио учител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матривается сегодня не только как альтернативная форма оценки его профессионализма и результативности работы при проведении экспертизы на соответствие заявленной квалификационной категории, но и как механизм самообразования, самопознания, самоактуализации личности педагога. Состав портфолио зависит от конкретных задач, которые ставит перед собой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5969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Основная цел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тфолио учителя- проанализировать и представить значимые профессиональные результаты, достигнутые учителем в разнообразных видах воспитательной, творческой самообразовательной деятельности, обеспечить мониторинг профессионального роста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7524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одготовка портфол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подготовке портфолио практикующий учитель составляет индивидуальный план профессионального развития, в котором определя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и и задачи своего профессионального рос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я, которые ему необходимо приобре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нинги и курсы, которые он собирается пройти в ближайшие 2-3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и и задачи профессионального развития учителя должны соотноситься с тремя вещ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иональными стандартами преподавания предм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певаемостью уче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тегическим планом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2193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09-11-12T12:35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