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1B6B-7CD5-4C1B-A208-747590C49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7B80-1647-4BC9-AB6D-D03868BA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1FB43-EBE0-4346-AB31-722908D9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BE916-D70E-4EBA-86F2-AFEAA1189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BDC7F-3097-4575-9138-CF58BF38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5B3E4-8CA8-4670-A580-003DFE9B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26D79-A62D-4488-B6A9-74A2B950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23551-8E21-4C6D-AA2D-8B43EE46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5E0C9-01B7-4B2B-A5DA-6853E923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F390B-9D8F-40AD-8C54-44A5559A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6C470-4FC5-4B81-BEF5-1F7BFE73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DC9-08AC-487C-8A6E-3A665DF5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24B-F450-48B4-8A93-32F6B807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5EE9-602A-4746-A541-7388B2EC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A0C2-235C-4746-9256-6F7654C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2DF6-CB00-44BC-A0D3-74948A81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ED91E-57EF-44D1-884A-7F31A907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EB08-F542-4DEE-B1FD-FC73E105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542C-FD28-4AE6-9981-E6C64A13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2D94-F00B-4669-BC5E-913F5126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F1E-05F9-48D2-B98C-A9FE9B89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5A4E-D2EE-4FDB-8785-FB6A0219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495C-0A9A-446B-8416-2FE2A620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C156-5D72-4496-AA2C-7237023B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A351-71F4-40F9-B6E7-6AB2C2D2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DC21-2039-4E88-B469-1D73A2D8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753B0-886B-4483-AE47-4EEB4043C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4D1AB-1338-4BE5-B07D-0080FCCF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61E1E-EF13-4181-BBD7-B8A7C64E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54FA-78FD-403D-804D-DE6BC2E9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E2F2B-7E5F-4833-9EBF-0C163817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567F-01E2-4802-962C-E025725E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6374-7D44-4B42-A829-E3150ED3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A913-0046-458D-AD58-BD780797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23503-7B31-4613-9867-4E4096B5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2BB1F-C341-4209-869D-1FB3253B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9266B-2A9B-4752-9284-7C98EC7F9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9335E-C103-4AB3-9512-784085F8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5C796-8BAE-4462-BC67-0780F0DF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4C1DD-319A-4974-85D7-4836F2AA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93855-18F1-4A6F-9915-0D972859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5B51-879D-469A-B774-F198DAFD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CB49-9D58-439C-BCEF-C873D524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61E7-785F-4FC0-A4A2-9F227290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41009-D1D6-439F-A020-574C611A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FF34F-B822-46FF-9B78-4620B1901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7FDA1-0A0C-4D70-BB14-D7601DB0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A6B8F-7B0E-4B55-A8B9-BD85DB0B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E79B5-3316-4B0C-89B7-5FF06CEE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D361-C608-4C0B-9CFB-78EBA58C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4BBFA-B7D6-49D7-8904-434AC07C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2855-34B5-49A0-9BED-134DDD509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CD90B-DB98-4094-B21A-26FAE1F1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F4FE-47B9-40AE-8732-89D8FC69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E22A0-DBB9-42AB-BEC8-2A540191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12255-7B96-4C8D-97FE-8E24F043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E77B5-5EB4-4F69-A1AC-1E88A8C3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73E1-651C-4D42-B2D8-6122283B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A8974-4877-43DB-8905-625558E3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9277-CE18-44DA-BE05-62EA4B28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D39F6-89CD-4E37-BF21-7374D4C8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F1E5-F248-41ED-8C7A-28D50264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370DD-756F-4B2D-92B4-3D36D49F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9C3BB-391C-49E5-B34C-4E6C6578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95A4-8070-41C4-BDBA-3256CA23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FEE6-7689-4967-99DA-772102F6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55E68-F37A-4933-AA3C-89276D5B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C27C-A0F2-45AE-A89C-F3B92218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A6D7C-DF18-459C-91C1-A44384AE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D3687-52D8-47AD-9F8D-D37CD56D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AD5C0-6643-4B9C-8E69-A88BF3F5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BF08A-AE89-44EF-B193-D9162A40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DDB0D-997F-47AA-8A1C-E49BE30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B73B8-0C54-4E92-9EFF-28F2C45C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BFB35-7625-4F28-B18D-0DE38620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5773-CE67-43FA-8B62-5A38C911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D7608-33BA-4EBE-A7D5-CD070FC9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E663E-ADFA-4376-83B8-2E45FDDF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EA3E5-3425-4E65-A910-B3B842E3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D41BD-6458-4C6A-91AC-679F19BC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EA21-49AB-4453-8575-C137A346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323A7-5FF8-4765-9A97-CE28BB45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2DE57-3F31-4530-BA51-15750FB6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560E7-86FB-45AD-9E0C-CE41B84C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03CBF-BDA6-49C4-A991-521E579B1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C6DC3-5DFC-409A-B6F1-0DA6D9E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365B-32B4-4265-901A-E5A0BCA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10C08-8C6F-4DCB-A824-36734EB9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B052E-4116-422D-97AE-9AE86B1F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83989-3FB5-41DB-8194-1280C7F3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621EB3-1D89-461C-A2F4-A2DF4687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4D11E-E13A-445D-93CC-5C6A8751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FCAE-D3A2-4DE8-9980-B6D86719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0DF90-2B42-464D-A432-8C65A530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35592-DB1C-451F-89D4-4AE21DAD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E8BAE-9ECF-41D2-9DDE-2D0A9467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DDAE9-D4AB-4CE0-85FF-BA29DC38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C7A-346C-4F7D-8F75-3917BAA8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56D9E-1FB7-45AE-A7EB-F9E342FD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AB10D-93DD-4A3F-A848-61F42692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6EB16-A472-4836-A6E1-2505CF98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0E8B6-18CE-4B7B-8AE2-E581BDA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8133-DF92-4183-B217-4D16474E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950E-8B72-4316-B926-F8D85DBD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9D9B3-CB77-4B7B-A40B-5D6F7289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A6492-3983-4CCB-91C1-3893D2C8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5A59E-F898-4DDA-9C7A-B6E0D6EF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4300A-8984-4F57-979B-7B92D4AD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079E-2D17-4063-9CBD-780DF7A8E5E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B5C3-4D44-4D52-BD13-7BB13D54F0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903A-B3EC-4A52-BCF0-E963C223594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05E4-4B0D-4DD7-BC69-941C736944E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D824-1CC2-4C7C-BFCC-B3C1D0EAE93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6EC0-5099-4364-9871-B09ACBE6EFEA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F63-FA53-4FA4-94B1-5433353EC12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78AC-8046-46BD-80BF-2761644A28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47D7-F657-47E2-84F0-C622995756F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71640" y="907920"/>
            <a:ext cx="7937280" cy="22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7200" spc="-1" strike="noStrike">
              <a:solidFill>
                <a:srgbClr val="4e3b30"/>
              </a:solidFill>
              <a:latin typeface="Arial"/>
              <a:ea typeface="Arial"/>
            </a:endParaRPr>
          </a:p>
        </p:txBody>
      </p:sp>
      <p:pic>
        <p:nvPicPr>
          <p:cNvPr id="400" name="Picture 5" descr="D:\Масленица 2016\Профессии\727494127.jpg"/>
          <p:cNvPicPr/>
          <p:nvPr/>
        </p:nvPicPr>
        <p:blipFill>
          <a:blip r:embed="rId1"/>
          <a:stretch/>
        </p:blipFill>
        <p:spPr>
          <a:xfrm>
            <a:off x="762120" y="214200"/>
            <a:ext cx="816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5" descr="D:\Масленица 2016\Профессии\2kxbq-qtfji.jpg"/>
          <p:cNvPicPr/>
          <p:nvPr/>
        </p:nvPicPr>
        <p:blipFill>
          <a:blip r:embed="rId1"/>
          <a:stretch/>
        </p:blipFill>
        <p:spPr>
          <a:xfrm>
            <a:off x="357120" y="187200"/>
            <a:ext cx="850104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D:\Масленица 2016\Профессии\2rdy9jbz9o8.jpg"/>
          <p:cNvPicPr/>
          <p:nvPr/>
        </p:nvPicPr>
        <p:blipFill>
          <a:blip r:embed="rId1"/>
          <a:stretch/>
        </p:blipFill>
        <p:spPr>
          <a:xfrm>
            <a:off x="214200" y="285840"/>
            <a:ext cx="87012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5" descr="D:\Масленица 2016\Профессии\0201c7dd4d99e88d0d40ae6ce90d6272.jpg"/>
          <p:cNvPicPr/>
          <p:nvPr/>
        </p:nvPicPr>
        <p:blipFill>
          <a:blip r:embed="rId1"/>
          <a:stretch/>
        </p:blipFill>
        <p:spPr>
          <a:xfrm>
            <a:off x="142920" y="357120"/>
            <a:ext cx="88581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D:\Масленица 2016\Профессии\ea81fc8a10cb9a0d2d0c2c4cc374b277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D:\Масленица 2016\Профессии\i.jpg"/>
          <p:cNvPicPr/>
          <p:nvPr/>
        </p:nvPicPr>
        <p:blipFill>
          <a:blip r:embed="rId1"/>
          <a:stretch/>
        </p:blipFill>
        <p:spPr>
          <a:xfrm>
            <a:off x="399960" y="214200"/>
            <a:ext cx="84582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2" descr="D:\Масленица 2016\Профессии\nh06ioifdqi.jpg"/>
          <p:cNvPicPr/>
          <p:nvPr/>
        </p:nvPicPr>
        <p:blipFill>
          <a:blip r:embed="rId1"/>
          <a:stretch/>
        </p:blipFill>
        <p:spPr>
          <a:xfrm>
            <a:off x="357120" y="285840"/>
            <a:ext cx="857268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5" descr="D:\Масленица 2016\Профессии\sjfovmqjlj0.jpg"/>
          <p:cNvPicPr/>
          <p:nvPr/>
        </p:nvPicPr>
        <p:blipFill>
          <a:blip r:embed="rId1"/>
          <a:stretch/>
        </p:blipFill>
        <p:spPr>
          <a:xfrm>
            <a:off x="304920" y="174600"/>
            <a:ext cx="855324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12:05:14Z</dcterms:created>
  <dc:creator>Сеня</dc:creator>
  <dc:description/>
  <dc:language>en-US</dc:language>
  <cp:lastModifiedBy>user</cp:lastModifiedBy>
  <dcterms:modified xsi:type="dcterms:W3CDTF">2017-09-17T18:27:34Z</dcterms:modified>
  <cp:revision>52</cp:revision>
  <dc:subject/>
  <dc:title>Развитие речевого творчества дошкольников на основе интеллектуального тренинга.</dc:title>
</cp:coreProperties>
</file>