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CD0B-319E-4EC2-89BE-DAC2F717F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7C48-27A3-4223-9B73-84A77207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04CC0-47EE-4BB2-AEC0-13F84DFA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24A57-FD94-4A0D-AE2D-D9927B98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EB690-5596-4917-AC26-EAF4BFEE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B81E3A-E296-4D5E-B38E-6E39E4B9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1102E-AB9A-4A54-84DA-B314E6F4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79E17-7655-4178-8509-20FD95D7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1966A-F7B8-4A92-8352-43AC287C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7933C-6939-4C06-BE41-66DF16242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FF06C-AA70-4B97-B74E-4D0678C8F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32C6-695B-482A-9ABC-AED455570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012C-9A3E-43D2-98BA-2888719A5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2E7F-2F60-4618-9989-DBB3BBB42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9C5A-7956-4330-961C-171F3201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D2B7-0AA8-4C76-9AA4-10DBAE11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FB98-38BB-4666-9515-746B9593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AD19-F71B-4EAF-BA49-AE82D7B5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97B6-7BF9-4081-85AE-E9BDD205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D0DB-F99A-4102-8FA4-AC1E0068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6F08-BD09-4CA3-B184-02A7F338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E2E3-4220-493D-B4A1-395588A4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C80D-70BA-4ADA-990D-A528D766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A8B4-7DA8-4177-9120-C214CB2B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1AA6-4B62-4947-977D-A2B2A84E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5C39-81B5-4B20-ABF8-DAEC9405D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640EE-6DC8-4EBF-8BC2-2FB8A301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A9140-AC6E-44F0-A3AC-5F8EC2E0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75ABE-205D-4768-B4F1-440718AE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42912-C9FA-46FD-B303-ABC0C3F2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8DF61-2F68-4C02-909C-C58506BC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D85F-F7CA-4173-9EC6-41EA8C0B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2D424-4A25-426C-8056-342DC848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E8B84-9169-42E5-968A-10D3F25E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190B6-3AE8-480A-87EF-B686823C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79C06-02EB-467B-A2B8-407202C6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9D86D-1FB0-4EED-A48D-435A60EA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88061-B82D-4998-9218-7053DEAE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40A76-3DD0-4E66-9C3A-35929E251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FD07D-E107-41D4-AB83-854FC5AA4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3614A-9DCF-490B-A5BC-61344AAA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6E45D-DAF7-4A31-8EC2-38ED3A83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D223-E0C3-4F4E-8854-7D88220F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480C2-5649-4BC5-9C39-A2569E69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11102-CA28-4136-81B9-7A811AE2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952A2-9478-4C1F-986F-EEB21984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A9D31-AAFD-424F-8920-460F0816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DDB48-6C04-45BB-BA5D-625B7F13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CFE41-80C8-4B57-A27F-7B5CD973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1AB86-05C8-4BFA-97C2-6FEF8AE1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9EE9B-A513-4683-B354-884FAEB1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165EE-C229-47B5-A66D-962D7DF96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E9191-7BDD-4E2E-A2FC-B511FBC8B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D66F-D794-4BAD-B18A-478FD90A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86FD1-4B06-46B2-81D8-0DE48B6B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B4D33-4D6D-4DA5-B93A-0913D7CF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8356A-7CBB-4832-85FF-F2C625BD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E873C-B54C-4D8C-8C8D-A50F9AC6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E4FC5-B063-4F07-8DCF-3AC31394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DF133-B8ED-4D04-AECA-9DAB1424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65AD7-7CB9-48B5-A984-D39C5BEC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A0059-15F5-4D9B-9DBD-BAF27B1D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FC9C8-3FB1-4A17-A29A-A586A3FD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829F9-B8EB-406F-B383-93ED2338B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AF7F-55FB-462A-9A16-03781B89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A8BBB-1AA9-4911-99C1-0978A08EC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C735C-E3D8-4DAA-898E-5EAFFCE8D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18133-B87E-4444-8300-CE7667F4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A6C63-28CD-43F2-B419-C0F7C059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0F7CF-87D7-4457-9484-99BCECF6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33E49-5452-4889-B2C4-9887E3EE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44A12-665F-4251-954F-ADEFA7A2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D26A8-D663-4DD2-9D25-E534A3F7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EE91C-AF52-41FE-BDAC-DF9DC13D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AFC29-DA64-483D-A069-6BB108B3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76FA-9DBA-4DA5-AB79-79DD58E8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6BCAC-7B81-4244-BE79-E0FDEA68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4552F-C839-4A07-BA93-E2DD20467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F579B-01E6-4460-AD2C-8515DB10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A5615-01CE-4E3F-80DB-AC6AFE429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8BEF0-F4A5-40FF-A474-EC2A6AFD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E084A-0500-4C60-A7C6-79139DB4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A7C96-040A-4CE5-BA71-97CA8174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701C6-35B6-46FF-BCE4-616C2C4F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AC156-2BD6-4021-8BCB-739C9490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2BC82-E27E-4B1C-B837-B0BB454F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97DC-A4B9-438D-84FF-CC515B36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7785D-1DED-4954-83E3-087FA7D2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36F7F-F0CE-4CCD-98BB-A1AEBF15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FB078-967A-459A-B877-4886E8BE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49425-4F41-4B5B-A509-F7348A89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9CA97-75CE-4959-BF30-239831F9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9E8ED-57DA-40F5-9198-732A24EA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E7CEE-7409-43FB-835E-BFBB3603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FC0A4-C175-4109-9B68-A450BF36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336E5-7223-4554-8C52-0F9C9D26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3055C-3CC2-4235-BFF3-F0789EF6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BD46-BDF9-485D-981F-F6B11FCD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78F9C-0263-407E-875E-F7FFE217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29D67-BA5E-4742-806F-880EB2E8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9CE4D-F1D8-40AA-AD3D-586EEBB8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F6BD2-4A40-4380-AB3C-0F242CD5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94EA3-9F25-459B-A150-D8DA2466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D30ED-BC1B-4CC1-B22F-144B7B7D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24C1D-7341-45F0-B5F0-B2FD5CFC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F3DB3-C9E2-43A8-BA84-2F6BA817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905C7-E314-462A-907D-E23F183C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ACDF2-6701-4BF9-87DF-D7B84CEB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E5C8-314D-4C98-B058-FE69AE8E226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2BEC-8CF5-47A3-B463-97185B3F792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E536-6B0E-4BB1-9912-54726667C20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A214-00E4-4DB3-BB50-212F2E475D8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CF5D-4549-4672-A0A5-8320C9C5958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16E1-5674-4EA6-9180-F51F151AD01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FD74-FC3D-412A-854A-7D7EB0158E9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91AB-4B7A-4E3C-A0FA-C4CDCD15A4F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AA12-0EA6-41B2-B0BB-AAF45C31E25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71640" y="907920"/>
            <a:ext cx="793728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7200" spc="-1" strike="noStrike">
              <a:solidFill>
                <a:srgbClr val="4e3b30"/>
              </a:solidFill>
              <a:latin typeface="Arial"/>
              <a:ea typeface="Arial"/>
            </a:endParaRPr>
          </a:p>
        </p:txBody>
      </p:sp>
      <p:pic>
        <p:nvPicPr>
          <p:cNvPr id="400" name="Picture 5" descr="D:\Масленица 2016\Профессии\727494127.jpg"/>
          <p:cNvPicPr/>
          <p:nvPr/>
        </p:nvPicPr>
        <p:blipFill>
          <a:blip r:embed="rId1"/>
          <a:stretch/>
        </p:blipFill>
        <p:spPr>
          <a:xfrm>
            <a:off x="762120" y="214200"/>
            <a:ext cx="8167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5" descr="D:\Масленица 2016\Профессии\2kxbq-qtfji.jpg"/>
          <p:cNvPicPr/>
          <p:nvPr/>
        </p:nvPicPr>
        <p:blipFill>
          <a:blip r:embed="rId1"/>
          <a:stretch/>
        </p:blipFill>
        <p:spPr>
          <a:xfrm>
            <a:off x="357120" y="187200"/>
            <a:ext cx="8501040" cy="63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7" descr="D:\Масленица 2016\Профессии\2rdy9jbz9o8.jpg"/>
          <p:cNvPicPr/>
          <p:nvPr/>
        </p:nvPicPr>
        <p:blipFill>
          <a:blip r:embed="rId1"/>
          <a:stretch/>
        </p:blipFill>
        <p:spPr>
          <a:xfrm>
            <a:off x="214200" y="285840"/>
            <a:ext cx="87012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5" descr="D:\Масленица 2016\Профессии\0201c7dd4d99e88d0d40ae6ce90d6272.jpg"/>
          <p:cNvPicPr/>
          <p:nvPr/>
        </p:nvPicPr>
        <p:blipFill>
          <a:blip r:embed="rId1"/>
          <a:stretch/>
        </p:blipFill>
        <p:spPr>
          <a:xfrm>
            <a:off x="142920" y="357120"/>
            <a:ext cx="88581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5" descr="D:\Масленица 2016\Профессии\ea81fc8a10cb9a0d2d0c2c4cc374b277.jpg"/>
          <p:cNvPicPr/>
          <p:nvPr/>
        </p:nvPicPr>
        <p:blipFill>
          <a:blip r:embed="rId1"/>
          <a:stretch/>
        </p:blipFill>
        <p:spPr>
          <a:xfrm>
            <a:off x="285840" y="285840"/>
            <a:ext cx="864396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4" descr="D:\Масленица 2016\Профессии\i.jpg"/>
          <p:cNvPicPr/>
          <p:nvPr/>
        </p:nvPicPr>
        <p:blipFill>
          <a:blip r:embed="rId1"/>
          <a:stretch/>
        </p:blipFill>
        <p:spPr>
          <a:xfrm>
            <a:off x="399960" y="214200"/>
            <a:ext cx="84582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D:\Масленица 2016\Профессии\nh06ioifdqi.jpg"/>
          <p:cNvPicPr/>
          <p:nvPr/>
        </p:nvPicPr>
        <p:blipFill>
          <a:blip r:embed="rId1"/>
          <a:stretch/>
        </p:blipFill>
        <p:spPr>
          <a:xfrm>
            <a:off x="357120" y="285840"/>
            <a:ext cx="85726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5" descr="D:\Масленица 2016\Профессии\sjfovmqjlj0.jpg"/>
          <p:cNvPicPr/>
          <p:nvPr/>
        </p:nvPicPr>
        <p:blipFill>
          <a:blip r:embed="rId1"/>
          <a:stretch/>
        </p:blipFill>
        <p:spPr>
          <a:xfrm>
            <a:off x="304920" y="174600"/>
            <a:ext cx="855324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12:05:14Z</dcterms:created>
  <dc:creator>Сеня</dc:creator>
  <dc:description/>
  <dc:language>en-US</dc:language>
  <cp:lastModifiedBy>user</cp:lastModifiedBy>
  <dcterms:modified xsi:type="dcterms:W3CDTF">2017-09-17T18:27:34Z</dcterms:modified>
  <cp:revision>52</cp:revision>
  <dc:subject/>
  <dc:title>Развитие речевого творчества дошкольников на основе интеллектуального тренинга.</dc:title>
</cp:coreProperties>
</file>