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4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1.jpeg" ContentType="image/jpeg"/>
  <Override PartName="/ppt/media/image32.wmf" ContentType="image/x-wmf"/>
  <Override PartName="/ppt/media/image20.png" ContentType="image/png"/>
  <Override PartName="/ppt/media/image18.wmf" ContentType="image/x-wmf"/>
  <Override PartName="/ppt/media/image1.jpeg" ContentType="image/jpeg"/>
  <Override PartName="/ppt/media/image7.png" ContentType="image/png"/>
  <Override PartName="/ppt/media/image37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8.jpeg" ContentType="image/jpeg"/>
  <Override PartName="/ppt/media/image28.png" ContentType="image/png"/>
  <Override PartName="/ppt/media/image11.png" ContentType="image/png"/>
  <Override PartName="/ppt/media/image5.png" ContentType="image/png"/>
  <Override PartName="/ppt/media/image35.png" ContentType="image/png"/>
  <Override PartName="/ppt/media/image34.wmf" ContentType="image/x-wmf"/>
  <Override PartName="/ppt/media/image10.jpeg" ContentType="image/jpeg"/>
  <Override PartName="/ppt/media/image14.png" ContentType="image/png"/>
  <Override PartName="/ppt/media/image29.wmf" ContentType="image/x-wmf"/>
  <Override PartName="/ppt/media/image31.png" ContentType="image/png"/>
  <Override PartName="/ppt/media/image6.png" ContentType="image/png"/>
  <Override PartName="/ppt/media/image36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16.png" ContentType="image/png"/>
  <Override PartName="/ppt/media/image17.png" ContentType="image/pn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838E-3439-475B-9C85-1C4447261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E285-234D-4924-9C98-356D8A33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CFCA-6270-42DD-9147-5B30B0A74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CBFE-F0A5-4DAE-8B70-68A1FB883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EC52-7551-4498-98EC-17FD98495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3C09-153F-4425-83BD-68CFF3E3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A867-09EE-4E72-AA41-C51CC3F8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0CA7-E053-4C5A-80CE-D79A7AA1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3D9AE-918C-4C77-BA1A-8B44C0DB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C7E2D-1AF8-41E2-A363-F47BD900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4D23C-3896-498D-91F8-A3F2B1DC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1FF1-51C4-4E62-BE39-FF0A90D3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53AE-82B1-494C-BCC2-1A2409D3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400F-72B4-41D6-92C4-DB19937A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9A9C-F5B8-4772-B7E9-445CC74C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ECAC-D4B3-469E-AF81-A7148E5BE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57E7-5901-4BF1-87B6-235D71873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7539-E856-4AB3-B09E-12768D67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B280-ACB9-4733-B09D-AB3273EB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8D43-5552-41BC-A618-CD82CB29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0BC8-F6DB-46C7-A050-D86F131B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81AD-5289-4649-AB1D-D04E830B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3F2C-861B-4CA8-86C0-5283CE04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134C-6661-4053-9967-1BD73A88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BFB7-6896-4952-880E-8073C9FD50C9}" type="slidenum">
              <a:rPr b="0" lang="ru-RU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5457-8983-4822-AE13-2C768E33BB2E}" type="slidenum">
              <a:rPr b="0" lang="ru-RU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324000" y="0"/>
            <a:ext cx="8351640" cy="62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осударственное казенное учреждение здравоохра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тский туберкулезный санаторий «Петродворец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ценарий- презентация  проекта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«Суд над папиросой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втор: воспитатель:Терентьева Татьяна Викторо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237960" y="-115920"/>
            <a:ext cx="8929800" cy="15908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ДЕВУШКА ИЗ ЕГО           КОМПАНИИ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ДЕВУШКА С КОТОРОЙ ОН ДРУЖИТ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Содержимое 6" descr=""/>
          <p:cNvPicPr/>
          <p:nvPr/>
        </p:nvPicPr>
        <p:blipFill>
          <a:blip r:embed="rId2"/>
          <a:stretch/>
        </p:blipFill>
        <p:spPr>
          <a:xfrm>
            <a:off x="552600" y="2362320"/>
            <a:ext cx="3849480" cy="3763800"/>
          </a:xfrm>
          <a:prstGeom prst="rect">
            <a:avLst/>
          </a:prstGeom>
          <a:ln w="0">
            <a:noFill/>
          </a:ln>
        </p:spPr>
      </p:pic>
      <p:pic>
        <p:nvPicPr>
          <p:cNvPr id="108" name="Содержимое 7" descr=""/>
          <p:cNvPicPr/>
          <p:nvPr/>
        </p:nvPicPr>
        <p:blipFill>
          <a:blip r:embed="rId3"/>
          <a:stretch/>
        </p:blipFill>
        <p:spPr>
          <a:xfrm>
            <a:off x="4740120" y="2362320"/>
            <a:ext cx="384984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 мире около 70 видов табака, один вреднее другого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 табаке содержится самый радиоактивный элемент – полуний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Каждая выкуренная сигарета нейтрализует витамины и стоит курящему минуты жизни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Горящая сигарета – это химическая фабрика, содержащая 3000 соединений, а в их числе более 40 канцерогенов и 12 коканцерогенов (канцероген – вещество, способствующее возникновению рака, а коканцероген – усиливающий его действие)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4" descr="C:\Users\Aser\AppData\Local\Microsoft\Windows\Temporary Internet Files\Content.IE5\6GVS3B5Q\MC900290955[1].wmf"/>
          <p:cNvPicPr/>
          <p:nvPr/>
        </p:nvPicPr>
        <p:blipFill>
          <a:blip r:embed="rId2"/>
          <a:stretch/>
        </p:blipFill>
        <p:spPr>
          <a:xfrm>
            <a:off x="3768840" y="5229360"/>
            <a:ext cx="16063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выкуривании одной пачки сигарет средней крепости с общей массой табака 20 г образуется 0,0012 г синильной кислоты; приблизительно столько же сероводорода; 0,22 г пиридиновых оснований; 0,18 г никотина; 0,64 г (0,843 л) аммиака; 0,92 г (0,738 л) оксида углерода (2) и не менее 1 г табачного дегтя. В последнем содержится около сотни химических веществ, в том числе радиоактивный изотоп калия, мышьяк и ряд канцерогено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Кур"/>
          <p:cNvPicPr/>
          <p:nvPr/>
        </p:nvPicPr>
        <p:blipFill>
          <a:blip r:embed="rId2"/>
          <a:stretch/>
        </p:blipFill>
        <p:spPr>
          <a:xfrm>
            <a:off x="1465200" y="1600200"/>
            <a:ext cx="2022480" cy="452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Никотин - один из самых сильных ядов растительного происхождения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Для человека смертельная доза никотина составляет 50-100мг  (выкуривание 20-25 сигарет в день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Rectangle 2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32000" y="3789000"/>
            <a:ext cx="6480000" cy="230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охи, приятель, мои дела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ша такая мне тяже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рудно стало мне ровно стуча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 боли хочется громко кричать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9" descr="20"/>
          <p:cNvPicPr/>
          <p:nvPr/>
        </p:nvPicPr>
        <p:blipFill>
          <a:blip r:embed="rId2"/>
          <a:stretch/>
        </p:blipFill>
        <p:spPr>
          <a:xfrm>
            <a:off x="179280" y="260280"/>
            <a:ext cx="316872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637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ставка кислорода к сердечной мышце резко нарушается из-за блокирования гемоглобина крови окисью углерода из состава табачного дыма. Это приводит к серьезным поражениям сердца и сосуд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урение приводит к повышению кровяного давление, ввиду сужения кровеносных сосудов и вынуждает работать сердце с большей нагрузко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 курильщиков риск инфаркта миокарда в 4-5 раз выше, чем у некурящи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лжны вы узнать, конечно, об этом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к Лёгких недавно здесь пробегал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вую жертву себе он иска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 счастью большому, на этот ра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н не приметил с тобою нас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сети свои он не смог нас пойма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 что будет с нами лет через пять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ремя придёт- его Рак одолее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 сигарет, от табак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мрём вмести с ним и мы наверня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сли бы знал он, как страшн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мирать от болезни этой ужасн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сли б хотел наш хозяин жить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н бы немедленно бросил курить!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961920" y="1100160"/>
            <a:ext cx="393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кажу вам, друзья, по секрет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5" descr="C:\Users\Aser\AppData\Local\Microsoft\Windows\Temporary Internet Files\Content.IE5\4C0YVZTP\MC900287105[1].wmf"/>
          <p:cNvPicPr/>
          <p:nvPr/>
        </p:nvPicPr>
        <p:blipFill>
          <a:blip r:embed="rId2"/>
          <a:stretch/>
        </p:blipFill>
        <p:spPr>
          <a:xfrm>
            <a:off x="5867280" y="2359080"/>
            <a:ext cx="2665440" cy="25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головок 1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42560" cy="1444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урение основной фактор риска хронического  бронхита, эмфиземы и пневмон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рвым проявлением болезни служит хронический кашель, постепенное нарастание одыш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держащиеся в табаке канцерогены способны вызвать рост раковой опухоли.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мерно 85% случаев рака легкого связано с курением. Менее 10% пациентов остаются в живых через 5 лет после диагноза рака легкого, большинство погибает в течении 5 ле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могите! Караул! Погибаю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лодым, в расцвети сил, умираю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Язва гонится Проклятая за мной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 ведь я ещё такой молодой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Я хозяина часто просил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тоб голодным никогда не кури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 хозяин  не любит меня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икотином тихо губит меня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4" descr="C:\Users\Aser\AppData\Local\Microsoft\Windows\Temporary Internet Files\Content.IE5\426T7Y3Z\MC900312254[1].wmf"/>
          <p:cNvPicPr/>
          <p:nvPr/>
        </p:nvPicPr>
        <p:blipFill>
          <a:blip r:embed="rId2"/>
          <a:stretch/>
        </p:blipFill>
        <p:spPr>
          <a:xfrm>
            <a:off x="6516720" y="2133720"/>
            <a:ext cx="20160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Яды, содержащиеся в никотине, отрицательно влияют на слизистую оболочку желудка, изменяют её, что приводит к такому заболеванию, как язва.  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57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Анидин, сероводород и другие, переходя в слюну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действуют на слизистую оболочку желудка, что приводит к потере аппетита, и болям в области желудка (хронические гастриты, язвы)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6" descr=""/>
          <p:cNvPicPr/>
          <p:nvPr/>
        </p:nvPicPr>
        <p:blipFill>
          <a:blip r:embed="rId1"/>
          <a:stretch/>
        </p:blipFill>
        <p:spPr>
          <a:xfrm>
            <a:off x="371520" y="201600"/>
            <a:ext cx="8523360" cy="1395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рентьева Татьяна Викторовна воспитатель высшей категории ДТС «Петродворец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дагогический стаж 30 ле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должности воспитателя с 2000 год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Picture 5" descr="C:\Users\Aser\Desktop\DSCN5660.JPG"/>
          <p:cNvPicPr/>
          <p:nvPr/>
        </p:nvPicPr>
        <p:blipFill>
          <a:blip r:embed="rId2"/>
          <a:stretch/>
        </p:blipFill>
        <p:spPr>
          <a:xfrm>
            <a:off x="3492360" y="1484280"/>
            <a:ext cx="5112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0" y="19051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 бедный, несчастный, прокуренный Мозг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очу, чтоб кто-нибудь Пете помо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н каждый день никотином травится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 мне это, ой, как не нравитс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ал плохо он соображать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вот – по контрольной двойка опя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н учится еле-еле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войки его одолел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н бросить курить не может, ослаб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перь в Никотиновом царстве он раб.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4" descr="C:\Users\Aser\AppData\Local\Microsoft\Windows\Temporary Internet Files\Content.IE5\N14MWCHO\MC900229685[1].wmf"/>
          <p:cNvPicPr/>
          <p:nvPr/>
        </p:nvPicPr>
        <p:blipFill>
          <a:blip r:embed="rId2"/>
          <a:stretch/>
        </p:blipFill>
        <p:spPr>
          <a:xfrm>
            <a:off x="5724360" y="2637000"/>
            <a:ext cx="31687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следования показали. Что никотин, содержащийся в табаке, вызывает привыкание к табаку. Курящий очень скоро становится никотино зависимым. Курящих нередко поджидает беда под названием Никотиновая слепо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теросклероз сосудов начинаетс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уки и ноги гангреной поражаютс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урильщик легко инвалидом станет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сли вовремя курить не перестанет.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Rectangle 2" descr=""/>
          <p:cNvPicPr/>
          <p:nvPr/>
        </p:nvPicPr>
        <p:blipFill>
          <a:blip r:embed="rId1"/>
          <a:stretch/>
        </p:blipFill>
        <p:spPr>
          <a:xfrm>
            <a:off x="285840" y="268200"/>
            <a:ext cx="8675640" cy="1158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жет, издать во всех странах закон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Курильщиков злостных с планеты вон!»?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Хотим мы здоровыми, бодрыми быть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ра покончить с зельем проклятым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усть каждый сидящий на миг помолчи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лушайте, как его сердце стучит!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4" descr="C:\Users\Aser\AppData\Local\Microsoft\Windows\Temporary Internet Files\Content.IE5\426T7Y3Z\MC900311800[1].wmf"/>
          <p:cNvPicPr/>
          <p:nvPr/>
        </p:nvPicPr>
        <p:blipFill>
          <a:blip r:embed="rId2"/>
          <a:stretch/>
        </p:blipFill>
        <p:spPr>
          <a:xfrm>
            <a:off x="4211640" y="5157720"/>
            <a:ext cx="136836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УСТЬ ВАШЕ СЕРДЦЕ ДАСТ ВАМ СОВЕТ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ОИТ КУРИТЬ ИЛИ НЕТ?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4" descr="C:\Users\Aser\AppData\Local\Microsoft\Windows\Temporary Internet Files\Content.IE5\426T7Y3Z\MC900433872[1].png"/>
          <p:cNvPicPr/>
          <p:nvPr/>
        </p:nvPicPr>
        <p:blipFill>
          <a:blip r:embed="rId2"/>
          <a:stretch/>
        </p:blipFill>
        <p:spPr>
          <a:xfrm>
            <a:off x="3276720" y="4221000"/>
            <a:ext cx="261936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Rectangle 2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C:\Users\Aser\Desktop\о вреде курения\Новая папка\P1070128.JPG"/>
          <p:cNvPicPr/>
          <p:nvPr/>
        </p:nvPicPr>
        <p:blipFill>
          <a:blip r:embed="rId2"/>
          <a:stretch/>
        </p:blipFill>
        <p:spPr>
          <a:xfrm>
            <a:off x="1589040" y="1717560"/>
            <a:ext cx="5965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81680" indent="-36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 Негативное влияние курения на здоровье человека сложно переоценить. Заболеваемость раком легких в стране за последние 10 лет выросла на 63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В 2001 году Государственной Думой РФ был принят закон №87-ФЗ «Об ограничении курения табака», послуживший толчком для запуска ряда региональных программ по преодолению табачной зависимости среди населени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Каждая школа должна иметь свои локальные программы по профилактике табакокур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 Подавляющее большинство людей начинают курить в школьном возрасте, поэтому эффективные меры по профилактике курения в школе могут помочь многим ученикам обойти стороной эту форму зависимос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98240" indent="-3740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сказать о появлении табака в России и вредных веществах, содержащихся в не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8240" indent="-3740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казать пагубное влияние табака на здоровье человека, развеять миф о «полезности» кур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8240" indent="-3740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пагандировать здоровый образ жизн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8240" indent="-3740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ормирование отношения к своему здоровью и здоровью окружающих , как важнейшей социальной цен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8240" indent="-3740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работка умений и навыков сохранения и укрепления здоровья , безопасного и ответственного поведения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8240" indent="-3740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48920" indent="-336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писание учебной программы : «Предупреждение табако курения и других вредных привычек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8920" indent="-336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ведение анкетирования: « Курение и молодежь»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8920" indent="-336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Как бросить курить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8920" indent="-336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писание письма «Курящему сверстнику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8920" indent="-336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ведение  занятий , бесед , просмотр фильмов на тему: «Курению-нет», «Да здравствует чистый воздух», «Туберкулез и курение»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8920" indent="-336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нсультации врачей и других  специалистов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8920" indent="-336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делирование ситуаций и ролевых игр с целью избавления от вредных привыче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8920" indent="-336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рганизация конкурсов  рисунков, оформление газет   на тему «Жизнь без табака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8920" indent="-336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48920" indent="-336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48920" indent="-336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48920" indent="-336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держка начала курения среди подростк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кращение числа курящи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каз от курения подростк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хранение здоровья подростк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ормирование социальных и жизненных навыков , обеспечивающих физическое и психологическое здоровье , активную деятельную жизнь и долголетие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3" descr=""/>
          <p:cNvPicPr/>
          <p:nvPr/>
        </p:nvPicPr>
        <p:blipFill>
          <a:blip r:embed="rId1"/>
          <a:stretch/>
        </p:blipFill>
        <p:spPr>
          <a:xfrm>
            <a:off x="407880" y="268200"/>
            <a:ext cx="841860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никновение табака в цивилизацию относится к 1492 году – открытие Колумбом Америки. Когда Христофор Колумб и другие первооткрыватели прибыли на землю Америки, они обнаружили, что туземцы используют табак для самых разных нужд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России табак появился в начале 17 века, его привезли из Англ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6840" y="1599840"/>
            <a:ext cx="84358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5 % курильщиков начинают курить в возрасте 16-19 лет, когда у человека нет еще жизненного опыта. И он легкомысленно относится к своему будущему здоровь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Picture 4" descr="C:\Users\Aser\AppData\Local\Microsoft\Windows\Temporary Internet Files\Content.IE5\426T7Y3Z\MP900178822[1].jpg"/>
          <p:cNvPicPr/>
          <p:nvPr/>
        </p:nvPicPr>
        <p:blipFill>
          <a:blip r:embed="rId2"/>
          <a:stretch/>
        </p:blipFill>
        <p:spPr>
          <a:xfrm>
            <a:off x="2916360" y="3068640"/>
            <a:ext cx="32400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ЛЬЧИ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ВОЧ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Содержимое 8" descr=""/>
          <p:cNvPicPr/>
          <p:nvPr/>
        </p:nvPicPr>
        <p:blipFill>
          <a:blip r:embed="rId2"/>
          <a:stretch/>
        </p:blipFill>
        <p:spPr>
          <a:xfrm>
            <a:off x="552600" y="2362320"/>
            <a:ext cx="3849480" cy="3763800"/>
          </a:xfrm>
          <a:prstGeom prst="rect">
            <a:avLst/>
          </a:prstGeom>
          <a:ln w="0">
            <a:noFill/>
          </a:ln>
        </p:spPr>
      </p:pic>
      <p:pic>
        <p:nvPicPr>
          <p:cNvPr id="103" name="Содержимое 9" descr=""/>
          <p:cNvPicPr/>
          <p:nvPr/>
        </p:nvPicPr>
        <p:blipFill>
          <a:blip r:embed="rId3"/>
          <a:stretch/>
        </p:blipFill>
        <p:spPr>
          <a:xfrm>
            <a:off x="4703760" y="2222640"/>
            <a:ext cx="392580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07:53:09Z</dcterms:created>
  <dc:creator>User</dc:creator>
  <dc:description/>
  <dc:language>en-US</dc:language>
  <cp:lastModifiedBy>юрий</cp:lastModifiedBy>
  <dcterms:modified xsi:type="dcterms:W3CDTF">2017-09-28T07:12:56Z</dcterms:modified>
  <cp:revision>145</cp:revision>
  <dc:subject/>
  <dc:title>Сердце</dc:title>
</cp:coreProperties>
</file>