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32.wmf" ContentType="image/x-wmf"/>
  <Override PartName="/ppt/media/image20.png" ContentType="image/png"/>
  <Override PartName="/ppt/media/image18.wmf" ContentType="image/x-wmf"/>
  <Override PartName="/ppt/media/image1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8.jpeg" ContentType="image/jpeg"/>
  <Override PartName="/ppt/media/image28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wmf" ContentType="image/x-wmf"/>
  <Override PartName="/ppt/media/image10.jpeg" ContentType="image/jpeg"/>
  <Override PartName="/ppt/media/image14.png" ContentType="image/png"/>
  <Override PartName="/ppt/media/image29.wmf" ContentType="image/x-wmf"/>
  <Override PartName="/ppt/media/image31.png" ContentType="image/png"/>
  <Override PartName="/ppt/media/image6.png" ContentType="image/png"/>
  <Override PartName="/ppt/media/image36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2AE-7940-4AAE-9170-C26888F9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077E-8329-4255-AD2B-3A172731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6133-8EDC-40D2-9FA5-51E07813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63D-1F8B-4169-A55E-D1777EB2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B60F-5C87-4BD0-A643-E26EA897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F143-829F-45A8-930F-5CC4B85D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5AE7-0C94-4CAB-AA49-CBF3064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FBCF5-45E9-44A1-BBB5-360829D3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F6FA-151B-4168-A130-12D55A83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2508-5907-4858-937D-7AE618DD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4C5-D5E4-4274-A642-4469FCEB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B376-F068-4DB4-ABB6-E2A43D6C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861-1244-4A69-ADE9-D2D6DA9E6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69D8-55F0-4031-A0C0-9BE7416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FC7B-C4A5-4B33-B2F5-95A8AF25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8F59-9B39-49AE-814F-4ABC236D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66FC-D9AB-4DC2-BA85-900220F54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5CD-F97D-4614-9CF0-48231D3D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D1C-CF19-4EC8-AD83-6B3BEFF9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7CB-2A89-4565-9700-FEB282F2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6D3E-D3E2-4C96-90DA-28ABBFE0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E37-53D7-45CE-AE52-06EF0EC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D72-22F3-4D98-83EB-8470E7C1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484-B096-4852-800C-8A5310F9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80F6-761D-4ECF-B520-853BC47C9EC8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68A9-4EBC-4E70-8746-93F05E7F8988}" type="slidenum">
              <a:rPr b="0" lang="ru-RU" sz="1200" spc="-1" strike="noStrike">
                <a:solidFill>
                  <a:srgbClr val="bcbcb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324000" y="0"/>
            <a:ext cx="8351640" cy="62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осударственное казенное учреждение здравоохран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тский туберкулезный санаторий «Петродворец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ценарий- презентация  проекта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«Суд над папиросо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втор: воспитатель:Терентье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237960" y="-115920"/>
            <a:ext cx="8929800" cy="1590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ЕВУШКА ИЗ ЕГО           КОМПАНИИ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ДЕВУШКА С КОТОРОЙ ОН ДРУЖИТ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"/>
          <p:cNvPicPr/>
          <p:nvPr/>
        </p:nvPicPr>
        <p:blipFill>
          <a:blip r:embed="rId2"/>
          <a:stretch/>
        </p:blipFill>
        <p:spPr>
          <a:xfrm>
            <a:off x="552600" y="2362320"/>
            <a:ext cx="3849480" cy="3763800"/>
          </a:xfrm>
          <a:prstGeom prst="rect">
            <a:avLst/>
          </a:prstGeom>
          <a:ln w="0">
            <a:noFill/>
          </a:ln>
        </p:spPr>
      </p:pic>
      <p:pic>
        <p:nvPicPr>
          <p:cNvPr id="108" name="Содержимое 7" descr=""/>
          <p:cNvPicPr/>
          <p:nvPr/>
        </p:nvPicPr>
        <p:blipFill>
          <a:blip r:embed="rId3"/>
          <a:stretch/>
        </p:blipFill>
        <p:spPr>
          <a:xfrm>
            <a:off x="4740120" y="2362320"/>
            <a:ext cx="38498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мире около 70 видов табака, один вреднее другого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 табаке содержится самый радиоактивный элемент – полуний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Каждая выкуренная сигарета нейтрализует витамины и стоит курящему минуты жизн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Горящая сигарета – это химическая фабрика, содержащая 3000 соединений, а в их числе более 40 канцерогенов и 12 коканцерогенов (канцероген – вещество, способствующее возникновению рака, а коканцероген – усиливающий его действие)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Picture 4" descr="C:\Users\Aser\AppData\Local\Microsoft\Windows\Temporary Internet Files\Content.IE5\6GVS3B5Q\MC900290955[1].wmf"/>
          <p:cNvPicPr/>
          <p:nvPr/>
        </p:nvPicPr>
        <p:blipFill>
          <a:blip r:embed="rId2"/>
          <a:stretch/>
        </p:blipFill>
        <p:spPr>
          <a:xfrm>
            <a:off x="3768840" y="5229360"/>
            <a:ext cx="16063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выкуривании одной пачки сигарет средней крепости с общей массой табака 20 г образуется 0,0012 г синильной кислоты; приблизительно столько же сероводорода; 0,22 г пиридиновых оснований; 0,18 г никотина; 0,64 г (0,843 л) аммиака; 0,92 г (0,738 л) оксида углерода (2) и не менее 1 г табачного дегтя. В последнем содержится около сотни химических веществ, в том числе радиоактивный изотоп калия, мышьяк и ряд канцероген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Кур"/>
          <p:cNvPicPr/>
          <p:nvPr/>
        </p:nvPicPr>
        <p:blipFill>
          <a:blip r:embed="rId2"/>
          <a:stretch/>
        </p:blipFill>
        <p:spPr>
          <a:xfrm>
            <a:off x="1465200" y="1600200"/>
            <a:ext cx="20224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икотин - один из самых сильных ядов растительного происхожд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Для человека смертельная доза никотина составляет 50-100мг  (выкуривание 20-25 сигарет в день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80000" cy="230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охи, приятель, мои дела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ша такая мне тяже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рудно стало мне ровно стуч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боли хочется громко кричать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9" descr="20"/>
          <p:cNvPicPr/>
          <p:nvPr/>
        </p:nvPicPr>
        <p:blipFill>
          <a:blip r:embed="rId2"/>
          <a:stretch/>
        </p:blipFill>
        <p:spPr>
          <a:xfrm>
            <a:off x="179280" y="260280"/>
            <a:ext cx="316872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637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ставка кислорода к сердечной мышце резко нарушается из-за блокирования гемоглобина крови окисью углерода из состава табачного дыма. Это приводит к серьезным поражениям сердца и сосуд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рение приводит к повышению кровяного давление, ввиду сужения кровеносных сосудов и вынуждает работать сердце с большей нагру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 курильщиков риск инфаркта миокарда в 4-5 раз выше, чем у некуря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лжны вы узнать, конечно, об этом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к Лёгких недавно здесь пробега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вую жертву себе он иска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 счастью большому, на этот раз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не приметил с тобою нас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сети свои он не смог нас пойма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что будет с нами лет через пять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ремя придёт- его Рак одоле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сигарет, от таба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рём вмести с ним и мы наверня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бы знал он, как страшн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ирать от болезни этой ужас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сли б хотел наш хозяин жить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бы немедленно бросил курить!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961920" y="1100160"/>
            <a:ext cx="393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кажу вам, друзья, по секрет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5" descr="C:\Users\Aser\AppData\Local\Microsoft\Windows\Temporary Internet Files\Content.IE5\4C0YVZTP\MC900287105[1].wmf"/>
          <p:cNvPicPr/>
          <p:nvPr/>
        </p:nvPicPr>
        <p:blipFill>
          <a:blip r:embed="rId2"/>
          <a:stretch/>
        </p:blipFill>
        <p:spPr>
          <a:xfrm>
            <a:off x="5867280" y="2359080"/>
            <a:ext cx="2665440" cy="25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444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рение основной фактор риска хронического  бронхита, эмфиземы и пневмон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ервым проявлением болезни служит хронический кашель, постепенное нарастание одышк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держащиеся в табаке канцерогены способны вызвать рост раковой опухоли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но 85% случаев рака легкого связано с курением. Менее 10% пациентов остаются в живых через 5 лет после диагноза рака легкого, большинство погибает в течении 5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могите! Караул! Погибаю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лодым, в расцвети сил, умираю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зва гонится Проклятая за мной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ведь я ещё такой молодой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Я хозяина часто просил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б голодным никогда не кури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 хозяин  не любит меня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отином тихо губит меня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C:\Users\Aser\AppData\Local\Microsoft\Windows\Temporary Internet Files\Content.IE5\426T7Y3Z\MC900312254[1].wmf"/>
          <p:cNvPicPr/>
          <p:nvPr/>
        </p:nvPicPr>
        <p:blipFill>
          <a:blip r:embed="rId2"/>
          <a:stretch/>
        </p:blipFill>
        <p:spPr>
          <a:xfrm>
            <a:off x="6516720" y="2133720"/>
            <a:ext cx="2016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Яды, содержащиеся в никотине, отрицательно влияют на слизистую оболочку желудка, изменяют её, что приводит к такому заболеванию, как язва.   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Анидин, сероводород и другие, переходя в слюну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ffffff"/>
                </a:solidFill>
                <a:latin typeface="Times New Roman"/>
              </a:rPr>
              <a:t>действуют на слизистую оболочку желудка, что приводит к потере аппетита, и болям в области желудка (хронические гастриты, язвы).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6" descr=""/>
          <p:cNvPicPr/>
          <p:nvPr/>
        </p:nvPicPr>
        <p:blipFill>
          <a:blip r:embed="rId1"/>
          <a:stretch/>
        </p:blipFill>
        <p:spPr>
          <a:xfrm>
            <a:off x="371520" y="201600"/>
            <a:ext cx="8523360" cy="1395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рентьева Татьяна Викторовна воспитатель высшей категории ДТС «Петродворец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дагогический стаж 30 лет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должности воспитателя с 2000 год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5" descr="C:\Users\Aser\Desktop\DSCN5660.JPG"/>
          <p:cNvPicPr/>
          <p:nvPr/>
        </p:nvPicPr>
        <p:blipFill>
          <a:blip r:embed="rId2"/>
          <a:stretch/>
        </p:blipFill>
        <p:spPr>
          <a:xfrm>
            <a:off x="3492360" y="148428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0" y="19051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 бедный, несчастный, прокуренный Мозг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очу, чтоб кто-нибудь Пете помог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каждый день никотином травится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 мне это, ой, как не нравитс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тал плохо он соображать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от – по контрольной двойка опят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учится еле-ел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йки его одоле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н бросить курить не может, ослаб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перь в Никотиновом царстве он раб.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Picture 4" descr="C:\Users\Aser\AppData\Local\Microsoft\Windows\Temporary Internet Files\Content.IE5\N14MWCHO\MC900229685[1].wmf"/>
          <p:cNvPicPr/>
          <p:nvPr/>
        </p:nvPicPr>
        <p:blipFill>
          <a:blip r:embed="rId2"/>
          <a:stretch/>
        </p:blipFill>
        <p:spPr>
          <a:xfrm>
            <a:off x="5724360" y="2637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сследования показали. Что никотин, содержащийся в табаке, вызывает привыкание к табаку. Курящий очень скоро становится никотино зависимым. Курящих нередко поджидает беда под названием Никотиновая слепот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теросклероз сосудов начинае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и и ноги гангреной поражаютс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урильщик легко инвалидом стане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сли вовремя курить не перестанет.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Rectangle 2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7564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т, издать во всех странах закон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Курильщиков злостных с планеты вон!»?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отим мы здоровыми, бодрыми быть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ра покончить с зельем прокляты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каждый сидящий на миг помолчи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ушайте, как его сердце стучит!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C:\Users\Aser\AppData\Local\Microsoft\Windows\Temporary Internet Files\Content.IE5\426T7Y3Z\MC900311800[1].wmf"/>
          <p:cNvPicPr/>
          <p:nvPr/>
        </p:nvPicPr>
        <p:blipFill>
          <a:blip r:embed="rId2"/>
          <a:stretch/>
        </p:blipFill>
        <p:spPr>
          <a:xfrm>
            <a:off x="4211640" y="5157720"/>
            <a:ext cx="136836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УСТЬ ВАШЕ СЕРДЦЕ ДАСТ ВАМ СОВЕ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ОИТ КУРИТЬ ИЛИ НЕТ?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4" descr="C:\Users\Aser\AppData\Local\Microsoft\Windows\Temporary Internet Files\Content.IE5\426T7Y3Z\MC900433872[1].png"/>
          <p:cNvPicPr/>
          <p:nvPr/>
        </p:nvPicPr>
        <p:blipFill>
          <a:blip r:embed="rId2"/>
          <a:stretch/>
        </p:blipFill>
        <p:spPr>
          <a:xfrm>
            <a:off x="3276720" y="4221000"/>
            <a:ext cx="261936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Rectangle 2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C:\Users\Aser\Desktop\о вреде курения\Новая папка\P1070128.JPG"/>
          <p:cNvPicPr/>
          <p:nvPr/>
        </p:nvPicPr>
        <p:blipFill>
          <a:blip r:embed="rId2"/>
          <a:stretch/>
        </p:blipFill>
        <p:spPr>
          <a:xfrm>
            <a:off x="1589040" y="1717560"/>
            <a:ext cx="5965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Негативное влияние курения на здоровье человека сложно переоценить. Заболеваемость раком легких в стране за последние 10 лет выросла на 63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В 2001 году Государственной Думой РФ был принят закон №87-ФЗ «Об ограничении курения табака», послуживший толчком для запуска ряда региональных программ по преодолению табачной зависимости среди населе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Каждая школа должна иметь свои локальные программы по профилактике табакокурени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Подавляющее большинство людей начинают курить в школьном возрасте, поэтому эффективные меры по профилактике курения в школе могут помочь многим ученикам обойти стороной эту форму зависимост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81680" indent="-36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ссказать о появлении табака в России и вредных веществах, содержащихся в н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казать пагубное влияние табака на здоровье человека, развеять миф о «полезности» кур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пагандировать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отношения к своему здоровью и здоровью окружающих , как важнейшей социальной ценност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ботка умений и навыков сохранения и укрепления здоровья , безопасного и ответственного поведения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исание учебной программы : «Предупреждение табако курения и других вредных привычек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дение анкетирования: « Курение и молодежь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Как бросить курить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писание письма «Курящему сверстнику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ведение  занятий , бесед , просмотр фильмов на тему: «Курению-нет», «Да здравствует чистый воздух», «Туберкулез и курение»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нсультации врачей и других  специалистов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елирование ситуаций и ролевых игр с целью избавления от вредных привыче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рганизация конкурсов  рисунков, оформление газет   на тему «Жизнь без табака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48920" indent="-336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держка начала курения среди подрост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кращение числа курящи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каз от курения подрост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хранение здоровья подрост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социальных и жизненных навыков , обеспечивающих физическое и психологическое здоровье , активную деятельную жизнь и долголет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3" descr=""/>
          <p:cNvPicPr/>
          <p:nvPr/>
        </p:nvPicPr>
        <p:blipFill>
          <a:blip r:embed="rId1"/>
          <a:stretch/>
        </p:blipFill>
        <p:spPr>
          <a:xfrm>
            <a:off x="407880" y="268200"/>
            <a:ext cx="841860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никновение табака в цивилизацию относится к 1492 году – открытие Колумбом Америки. Когда Христофор Колумб и другие первооткрыватели прибыли на землю Америки, они обнаружили, что туземцы используют табак для самых разных нужд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России табак появился в начале 17 века, его привезли из Англ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5 % курильщиков начинают курить в возрасте 16-19 лет, когда у человека нет еще жизненного опыта. И он легкомысленно относится к своему будущему здоровью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4" descr="C:\Users\Aser\AppData\Local\Microsoft\Windows\Temporary Internet Files\Content.IE5\426T7Y3Z\MP900178822[1].jpg"/>
          <p:cNvPicPr/>
          <p:nvPr/>
        </p:nvPicPr>
        <p:blipFill>
          <a:blip r:embed="rId2"/>
          <a:stretch/>
        </p:blipFill>
        <p:spPr>
          <a:xfrm>
            <a:off x="2916360" y="3068640"/>
            <a:ext cx="324000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3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35040"/>
            <a:ext cx="404028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ЛЬЧ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4720" y="1535040"/>
            <a:ext cx="40417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ВОЧ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Содержимое 8" descr=""/>
          <p:cNvPicPr/>
          <p:nvPr/>
        </p:nvPicPr>
        <p:blipFill>
          <a:blip r:embed="rId2"/>
          <a:stretch/>
        </p:blipFill>
        <p:spPr>
          <a:xfrm>
            <a:off x="552600" y="2362320"/>
            <a:ext cx="3849480" cy="3763800"/>
          </a:xfrm>
          <a:prstGeom prst="rect">
            <a:avLst/>
          </a:prstGeom>
          <a:ln w="0">
            <a:noFill/>
          </a:ln>
        </p:spPr>
      </p:pic>
      <p:pic>
        <p:nvPicPr>
          <p:cNvPr id="103" name="Содержимое 9" descr=""/>
          <p:cNvPicPr/>
          <p:nvPr/>
        </p:nvPicPr>
        <p:blipFill>
          <a:blip r:embed="rId3"/>
          <a:stretch/>
        </p:blipFill>
        <p:spPr>
          <a:xfrm>
            <a:off x="4703760" y="2222640"/>
            <a:ext cx="392580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07:53:09Z</dcterms:created>
  <dc:creator>User</dc:creator>
  <dc:description/>
  <dc:language>en-US</dc:language>
  <cp:lastModifiedBy>юрий</cp:lastModifiedBy>
  <dcterms:modified xsi:type="dcterms:W3CDTF">2017-09-28T07:12:56Z</dcterms:modified>
  <cp:revision>145</cp:revision>
  <dc:subject/>
  <dc:title>Сердце</dc:title>
</cp:coreProperties>
</file>