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941-64BF-42E6-9D9F-95C8C02C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E52-E829-4133-A828-B47F6527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90BD-9C13-4862-91E7-E64E4C68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A155-1EED-4CFC-845E-1BEE2461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307F-95CB-434A-A121-4F9DD929E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BD85-F522-4BDF-B1A4-7A57577AA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9C28-6376-4471-9769-AE08C629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ABAC-7A09-4FA8-B95D-AD467709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52B7-D072-4FBB-AD99-94E8ADF4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4D08-1EEE-4A87-8446-946BCAE1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25EB-E907-4F89-B7DA-7C27566D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2021-48A1-4C4A-A670-F937EA24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5CBB-A3B0-4318-A801-D233C11A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B6B5-E1D8-4032-AE91-C94C913A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43C2-34F8-4D70-ABBB-AAB564952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FF30-66F5-4EC5-847F-7AA73EBD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EDA6-A14C-40DA-8678-EDFF2AF5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E5A-1748-4510-BABC-62139EED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06C-DB0F-4F37-A40E-60421AD0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D0F-7178-450F-B08E-CE1C8A6C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929E-6856-4BB0-BC9D-FB4EF2EC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29B-CCB9-4ADD-84E3-6E856161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D8E-7776-4759-A520-BAB1AFA4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396-213F-4A35-B714-5A746453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2329-16DE-4B0B-B8F7-50695C8A8D8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1C03-19AA-42EB-BD44-F66A876C8E3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208080"/>
            <a:ext cx="8242200" cy="1511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" descr="C:\Documents and Settings\Admin\Рабочий стол\солнечная система\sunsystem_800x600.jpg"/>
          <p:cNvPicPr/>
          <p:nvPr/>
        </p:nvPicPr>
        <p:blipFill>
          <a:blip r:embed="rId2"/>
          <a:stretch/>
        </p:blipFill>
        <p:spPr>
          <a:xfrm>
            <a:off x="642960" y="1643040"/>
            <a:ext cx="7858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428760" y="4813200"/>
            <a:ext cx="835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Галактик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огромное скопление звезд, медленно вращающихся вокруг общего цент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2" descr="C:\Documents and Settings\Admin\Рабочий стол\солнечная система\галактика андромеды.jpg"/>
          <p:cNvPicPr/>
          <p:nvPr/>
        </p:nvPicPr>
        <p:blipFill>
          <a:blip r:embed="rId1"/>
          <a:stretch/>
        </p:blipFill>
        <p:spPr>
          <a:xfrm>
            <a:off x="285840" y="285840"/>
            <a:ext cx="2143080" cy="1857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142920" y="214740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актика Андромеда - наш самый близкий галактический сосе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C:\Documents and Settings\Admin\Рабочий стол\солнечная система\галактики АГР.jpg"/>
          <p:cNvPicPr/>
          <p:nvPr/>
        </p:nvPicPr>
        <p:blipFill>
          <a:blip r:embed="rId2"/>
          <a:stretch/>
        </p:blipFill>
        <p:spPr>
          <a:xfrm>
            <a:off x="6286680" y="285840"/>
            <a:ext cx="2500200" cy="214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6143760" y="2072880"/>
            <a:ext cx="30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Галак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Ar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7" descr="C:\Documents and Settings\Admin\Рабочий стол\солнечная система\галактики скопления в Деве.jpg"/>
          <p:cNvPicPr/>
          <p:nvPr/>
        </p:nvPicPr>
        <p:blipFill>
          <a:blip r:embed="rId3"/>
          <a:stretch/>
        </p:blipFill>
        <p:spPr>
          <a:xfrm>
            <a:off x="3500280" y="1428840"/>
            <a:ext cx="2637000" cy="263664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8"/>
          <p:cNvSpPr/>
          <p:nvPr/>
        </p:nvSpPr>
        <p:spPr>
          <a:xfrm>
            <a:off x="2916360" y="3786120"/>
            <a:ext cx="45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лактики скопления в Де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C:\Documents and Settings\Admin\Рабочий стол\солнечная система\крабовид туман.jpg"/>
          <p:cNvPicPr/>
          <p:nvPr/>
        </p:nvPicPr>
        <p:blipFill>
          <a:blip r:embed="rId1"/>
          <a:stretch/>
        </p:blipFill>
        <p:spPr>
          <a:xfrm>
            <a:off x="357120" y="285840"/>
            <a:ext cx="3810240" cy="3809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:\Documents and Settings\Admin\Рабочий стол\солнечная система\крабовидная туманность.jpg"/>
          <p:cNvPicPr/>
          <p:nvPr/>
        </p:nvPicPr>
        <p:blipFill>
          <a:blip r:embed="rId2"/>
          <a:stretch/>
        </p:blipFill>
        <p:spPr>
          <a:xfrm>
            <a:off x="4214880" y="1714680"/>
            <a:ext cx="4533840" cy="37144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214200" y="4143240"/>
            <a:ext cx="521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ижайшее к нам скопление звезд носит имя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абовидной туманности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ПАПУЛИНА\Мои рисунки\ruka.jpg"/>
          <p:cNvPicPr/>
          <p:nvPr/>
        </p:nvPicPr>
        <p:blipFill>
          <a:blip r:embed="rId1"/>
          <a:stretch/>
        </p:blipFill>
        <p:spPr>
          <a:xfrm>
            <a:off x="1357200" y="785880"/>
            <a:ext cx="635796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432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Со́лнечная систе́ма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— планетная система, включающая в себя центральную звезду — Солнце — и все естественные космические объекты, обращающиеся вокруг неё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2" descr="C:\Documents and Settings\Admin\Рабочий стол\солнечная система\430px-Solar_sys8.jpg"/>
          <p:cNvPicPr/>
          <p:nvPr/>
        </p:nvPicPr>
        <p:blipFill>
          <a:blip r:embed="rId1"/>
          <a:stretch/>
        </p:blipFill>
        <p:spPr>
          <a:xfrm>
            <a:off x="1000080" y="1643040"/>
            <a:ext cx="7143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Documents and Settings\Admin\Рабочий стол\солнечная система\5592.jpg"/>
          <p:cNvPicPr/>
          <p:nvPr/>
        </p:nvPicPr>
        <p:blipFill>
          <a:blip r:embed="rId1"/>
          <a:stretch/>
        </p:blipFill>
        <p:spPr>
          <a:xfrm>
            <a:off x="285840" y="214200"/>
            <a:ext cx="3857400" cy="314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Admin\Рабочий стол\солнечная система\180px-Solar_planets.jpg"/>
          <p:cNvPicPr/>
          <p:nvPr/>
        </p:nvPicPr>
        <p:blipFill>
          <a:blip r:embed="rId2"/>
          <a:stretch/>
        </p:blipFill>
        <p:spPr>
          <a:xfrm>
            <a:off x="6215040" y="214200"/>
            <a:ext cx="2286000" cy="64296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14200" y="3151080"/>
            <a:ext cx="4000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неты земной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. Меркур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 Вен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 Зем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4. Мар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143160" y="3885840"/>
            <a:ext cx="300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неты-гиган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Юпи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Сатур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 Ура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. Непту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3" descr="C:\Documents and Settings\Admin\Рабочий стол\солнечная система\solnce_2.jpg"/>
          <p:cNvPicPr/>
          <p:nvPr/>
        </p:nvPicPr>
        <p:blipFill>
          <a:blip r:embed="rId1"/>
          <a:stretch/>
        </p:blipFill>
        <p:spPr>
          <a:xfrm>
            <a:off x="214200" y="142920"/>
            <a:ext cx="3714840" cy="3214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C:\Documents and Settings\Admin\Рабочий стол\солнечная система\2321.jpg"/>
          <p:cNvPicPr/>
          <p:nvPr/>
        </p:nvPicPr>
        <p:blipFill>
          <a:blip r:embed="rId2"/>
          <a:stretch/>
        </p:blipFill>
        <p:spPr>
          <a:xfrm>
            <a:off x="5143680" y="214200"/>
            <a:ext cx="3809880" cy="3143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C:\Documents and Settings\Admin\Рабочий стол\солнечная система\солнце.jpg"/>
          <p:cNvPicPr/>
          <p:nvPr/>
        </p:nvPicPr>
        <p:blipFill>
          <a:blip r:embed="rId3"/>
          <a:stretch/>
        </p:blipFill>
        <p:spPr>
          <a:xfrm>
            <a:off x="2500200" y="2357280"/>
            <a:ext cx="4000680" cy="340056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285840" y="481320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Солнц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 — звезда Солнечной системы и, бесспорно, её главный компонент. Солнце — довольно большая и яркая звез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571680" y="922680"/>
            <a:ext cx="778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Планеты земной групп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Calibri"/>
              </a:rPr>
              <a:t>Меркурий, Венера, Земля и Мар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C:\Documents and Settings\Admin\Рабочий стол\солнечная система\360px-Terrestrial_planet_size_comparisons.jpg"/>
          <p:cNvPicPr/>
          <p:nvPr/>
        </p:nvPicPr>
        <p:blipFill>
          <a:blip r:embed="rId1"/>
          <a:stretch/>
        </p:blipFill>
        <p:spPr>
          <a:xfrm>
            <a:off x="928800" y="3000240"/>
            <a:ext cx="73580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Documents and Settings\Admin\Рабочий стол\солнечная система\меркурий.jpg"/>
          <p:cNvPicPr/>
          <p:nvPr/>
        </p:nvPicPr>
        <p:blipFill>
          <a:blip r:embed="rId1"/>
          <a:stretch/>
        </p:blipFill>
        <p:spPr>
          <a:xfrm>
            <a:off x="214200" y="142920"/>
            <a:ext cx="3571920" cy="27860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3"/>
          <p:cNvSpPr/>
          <p:nvPr/>
        </p:nvSpPr>
        <p:spPr>
          <a:xfrm>
            <a:off x="357120" y="22147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еркур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C:\Documents and Settings\Admin\Рабочий стол\солнечная система\венера.jpg"/>
          <p:cNvPicPr/>
          <p:nvPr/>
        </p:nvPicPr>
        <p:blipFill>
          <a:blip r:embed="rId2"/>
          <a:stretch/>
        </p:blipFill>
        <p:spPr>
          <a:xfrm>
            <a:off x="5786280" y="3857760"/>
            <a:ext cx="3024360" cy="2666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Documents and Settings\Admin\Рабочий стол\солнечная система\венера2.jpg"/>
          <p:cNvPicPr/>
          <p:nvPr/>
        </p:nvPicPr>
        <p:blipFill>
          <a:blip r:embed="rId3"/>
          <a:stretch/>
        </p:blipFill>
        <p:spPr>
          <a:xfrm>
            <a:off x="4357800" y="4429080"/>
            <a:ext cx="2500200" cy="22575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5929200" y="478620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ен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C:\Documents and Settings\Admin\Рабочий стол\солнечная система\марс.jpg"/>
          <p:cNvPicPr/>
          <p:nvPr/>
        </p:nvPicPr>
        <p:blipFill>
          <a:blip r:embed="rId4"/>
          <a:stretch/>
        </p:blipFill>
        <p:spPr>
          <a:xfrm>
            <a:off x="4286160" y="285840"/>
            <a:ext cx="4552920" cy="325764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8"/>
          <p:cNvSpPr/>
          <p:nvPr/>
        </p:nvSpPr>
        <p:spPr>
          <a:xfrm>
            <a:off x="7143840" y="300024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р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6" descr="C:\Documents and Settings\Admin\Рабочий стол\солнечная система\3e77cd802493ef73f595bb18971ce4d6.jpg"/>
          <p:cNvPicPr/>
          <p:nvPr/>
        </p:nvPicPr>
        <p:blipFill>
          <a:blip r:embed="rId5"/>
          <a:stretch/>
        </p:blipFill>
        <p:spPr>
          <a:xfrm>
            <a:off x="285840" y="3429000"/>
            <a:ext cx="3763800" cy="28576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10"/>
          <p:cNvSpPr/>
          <p:nvPr/>
        </p:nvSpPr>
        <p:spPr>
          <a:xfrm>
            <a:off x="3000240" y="5460840"/>
            <a:ext cx="19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928800" y="64296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ланеты-гиганты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Юпитер, Сатурн, Уран и Непту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C:\Documents and Settings\Admin\Рабочий стол\солнечная система\360px-Gas_planet_size_comparisons.jpg"/>
          <p:cNvPicPr/>
          <p:nvPr/>
        </p:nvPicPr>
        <p:blipFill>
          <a:blip r:embed="rId1"/>
          <a:stretch/>
        </p:blipFill>
        <p:spPr>
          <a:xfrm>
            <a:off x="928800" y="2928960"/>
            <a:ext cx="721512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Admin\Рабочий стол\солнечная система\юпитер.jpg"/>
          <p:cNvPicPr/>
          <p:nvPr/>
        </p:nvPicPr>
        <p:blipFill>
          <a:blip r:embed="rId1"/>
          <a:stretch/>
        </p:blipFill>
        <p:spPr>
          <a:xfrm>
            <a:off x="5000760" y="3714840"/>
            <a:ext cx="3921120" cy="29052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2"/>
          <p:cNvSpPr/>
          <p:nvPr/>
        </p:nvSpPr>
        <p:spPr>
          <a:xfrm>
            <a:off x="5072040" y="3857760"/>
            <a:ext cx="20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Юпи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C:\Documents and Settings\Admin\Рабочий стол\солнечная система\сатурн.gif"/>
          <p:cNvPicPr/>
          <p:nvPr/>
        </p:nvPicPr>
        <p:blipFill>
          <a:blip r:embed="rId2"/>
          <a:stretch/>
        </p:blipFill>
        <p:spPr>
          <a:xfrm>
            <a:off x="357120" y="28584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dmin\Рабочий стол\солнечная система\1195248604_xakep_lv_88772e7e1021e9129529f5e0f4720f3.jpg"/>
          <p:cNvPicPr/>
          <p:nvPr/>
        </p:nvPicPr>
        <p:blipFill>
          <a:blip r:embed="rId3"/>
          <a:stretch/>
        </p:blipFill>
        <p:spPr>
          <a:xfrm>
            <a:off x="2048040" y="2214720"/>
            <a:ext cx="2523960" cy="185724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5"/>
          <p:cNvSpPr/>
          <p:nvPr/>
        </p:nvSpPr>
        <p:spPr>
          <a:xfrm>
            <a:off x="2571840" y="1785960"/>
            <a:ext cx="24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атур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C:\Documents and Settings\Admin\Рабочий стол\солнечная система\уран.gif"/>
          <p:cNvPicPr/>
          <p:nvPr/>
        </p:nvPicPr>
        <p:blipFill>
          <a:blip r:embed="rId4"/>
          <a:stretch/>
        </p:blipFill>
        <p:spPr>
          <a:xfrm>
            <a:off x="6500880" y="214200"/>
            <a:ext cx="2162160" cy="228600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7"/>
          <p:cNvSpPr/>
          <p:nvPr/>
        </p:nvSpPr>
        <p:spPr>
          <a:xfrm>
            <a:off x="6357960" y="19288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Ур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9" descr="C:\Documents and Settings\Admin\Рабочий стол\солнечная система\нептун.jpg"/>
          <p:cNvPicPr/>
          <p:nvPr/>
        </p:nvPicPr>
        <p:blipFill>
          <a:blip r:embed="rId5"/>
          <a:stretch/>
        </p:blipFill>
        <p:spPr>
          <a:xfrm>
            <a:off x="214200" y="4500720"/>
            <a:ext cx="2786040" cy="221436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9"/>
          <p:cNvSpPr/>
          <p:nvPr/>
        </p:nvSpPr>
        <p:spPr>
          <a:xfrm>
            <a:off x="1714680" y="4721400"/>
            <a:ext cx="33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епту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14200" y="11473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А сколько звезд на неб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C:\Documents and Settings\Admin\Рабочий стол\солнечная система\звездное небо.jpg"/>
          <p:cNvPicPr/>
          <p:nvPr/>
        </p:nvPicPr>
        <p:blipFill>
          <a:blip r:embed="rId1"/>
          <a:stretch/>
        </p:blipFill>
        <p:spPr>
          <a:xfrm>
            <a:off x="285840" y="3357720"/>
            <a:ext cx="4429080" cy="331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Documents and Settings\Admin\Рабочий стол\солнечная система\meteory.jpg"/>
          <p:cNvPicPr/>
          <p:nvPr/>
        </p:nvPicPr>
        <p:blipFill>
          <a:blip r:embed="rId2"/>
          <a:stretch/>
        </p:blipFill>
        <p:spPr>
          <a:xfrm>
            <a:off x="4500720" y="285840"/>
            <a:ext cx="4405320" cy="2604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ocuments and Settings\Admin\Рабочий стол\солнечная система\hyak32_small.gif"/>
          <p:cNvPicPr/>
          <p:nvPr/>
        </p:nvPicPr>
        <p:blipFill>
          <a:blip r:embed="rId3"/>
          <a:stretch/>
        </p:blipFill>
        <p:spPr>
          <a:xfrm>
            <a:off x="4214880" y="3571920"/>
            <a:ext cx="47149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2:31:35Z</dcterms:created>
  <dc:creator>Admin</dc:creator>
  <dc:description/>
  <dc:language>en-US</dc:language>
  <cp:lastModifiedBy>Admin</cp:lastModifiedBy>
  <dcterms:modified xsi:type="dcterms:W3CDTF">2010-02-25T15:03:36Z</dcterms:modified>
  <cp:revision>14</cp:revision>
  <dc:subject/>
  <dc:title>Солнечная семья</dc:title>
</cp:coreProperties>
</file>