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75FF-8784-4D9A-B03B-2E0FAAC5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E8E-C332-4A86-9B91-138707DC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4F7-DAA2-467C-B891-26ED657D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9592-9515-4F6B-A351-2114A64D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AA9F-BA76-4624-9954-2DED2484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373F-2E84-46EC-81C2-E99B82C5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675C-C6E2-45B5-A8DF-29890AA0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80CC-D711-4722-9FE8-3B891A98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AB93-824C-41B6-B4E1-E38C87A9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03B7-79FB-4F10-890A-4A094F6E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36F7-880D-40F7-8DD8-FE56E2E0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C2F4-2F8D-4C30-81D7-D07F8A14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22B8-DD55-4A83-BE19-9CA04E5D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BE73-252E-405A-9F16-1ECE838F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04ED-E077-4E39-B551-920E3680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58F5-0D1C-4170-92AF-E778F427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341C-87B8-4A37-80D5-6EA76028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887-302A-43A4-9AB7-AC9CA342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5E0-0CE8-4DC8-93C5-F92C1861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7AE5-9299-4846-9A34-5C62D278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81F-47F7-40CB-AA40-EC3DFCCD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0779-AD04-4BCC-BC58-84F42735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0C2-82E7-455B-9CE2-A73A4421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754-CAD6-4291-85E8-A3B5C3DD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A37E-801C-4EDF-A638-778874DABEE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BCC3-F7E6-4173-9797-40883C81996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208080"/>
            <a:ext cx="8242200" cy="1511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C:\Documents and Settings\Admin\Рабочий стол\солнечная система\sunsystem_800x600.jpg"/>
          <p:cNvPicPr/>
          <p:nvPr/>
        </p:nvPicPr>
        <p:blipFill>
          <a:blip r:embed="rId2"/>
          <a:stretch/>
        </p:blipFill>
        <p:spPr>
          <a:xfrm>
            <a:off x="642960" y="1643040"/>
            <a:ext cx="78580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428760" y="481320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алактик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огромное скопление звезд, медленно вращающихся вокруг общего цент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:\Documents and Settings\Admin\Рабочий стол\солнечная система\галактика андромеды.jpg"/>
          <p:cNvPicPr/>
          <p:nvPr/>
        </p:nvPicPr>
        <p:blipFill>
          <a:blip r:embed="rId1"/>
          <a:stretch/>
        </p:blipFill>
        <p:spPr>
          <a:xfrm>
            <a:off x="285840" y="285840"/>
            <a:ext cx="2143080" cy="18572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142920" y="214740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актика Андромеда - наш самый близкий галактический сосе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C:\Documents and Settings\Admin\Рабочий стол\солнечная система\галактики АГР.jpg"/>
          <p:cNvPicPr/>
          <p:nvPr/>
        </p:nvPicPr>
        <p:blipFill>
          <a:blip r:embed="rId2"/>
          <a:stretch/>
        </p:blipFill>
        <p:spPr>
          <a:xfrm>
            <a:off x="6286680" y="285840"/>
            <a:ext cx="2500200" cy="214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6143760" y="20728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Галакт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Ar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C:\Documents and Settings\Admin\Рабочий стол\солнечная система\галактики скопления в Деве.jpg"/>
          <p:cNvPicPr/>
          <p:nvPr/>
        </p:nvPicPr>
        <p:blipFill>
          <a:blip r:embed="rId3"/>
          <a:stretch/>
        </p:blipFill>
        <p:spPr>
          <a:xfrm>
            <a:off x="3500280" y="1428840"/>
            <a:ext cx="2637000" cy="26366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8"/>
          <p:cNvSpPr/>
          <p:nvPr/>
        </p:nvSpPr>
        <p:spPr>
          <a:xfrm>
            <a:off x="2916360" y="3786120"/>
            <a:ext cx="45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актики скопления в Де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Documents and Settings\Admin\Рабочий стол\солнечная система\крабовид туман.jpg"/>
          <p:cNvPicPr/>
          <p:nvPr/>
        </p:nvPicPr>
        <p:blipFill>
          <a:blip r:embed="rId1"/>
          <a:stretch/>
        </p:blipFill>
        <p:spPr>
          <a:xfrm>
            <a:off x="357120" y="28584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Documents and Settings\Admin\Рабочий стол\солнечная система\крабовидная туманность.jpg"/>
          <p:cNvPicPr/>
          <p:nvPr/>
        </p:nvPicPr>
        <p:blipFill>
          <a:blip r:embed="rId2"/>
          <a:stretch/>
        </p:blipFill>
        <p:spPr>
          <a:xfrm>
            <a:off x="4214880" y="1714680"/>
            <a:ext cx="4533840" cy="37144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214200" y="4143240"/>
            <a:ext cx="52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ижайшее к нам скопление звезд носит имя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бовидной туманности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ПАПУЛИНА\Мои рисунки\ruka.jpg"/>
          <p:cNvPicPr/>
          <p:nvPr/>
        </p:nvPicPr>
        <p:blipFill>
          <a:blip r:embed="rId1"/>
          <a:stretch/>
        </p:blipFill>
        <p:spPr>
          <a:xfrm>
            <a:off x="1357200" y="785880"/>
            <a:ext cx="63579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432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Со́лнечная систе́ма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— планетная система, включающая в себя центральную звезду — Солнце — и все естественные космические объекты, обращающиеся вокруг неё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2" descr="C:\Documents and Settings\Admin\Рабочий стол\солнечная система\430px-Solar_sys8.jpg"/>
          <p:cNvPicPr/>
          <p:nvPr/>
        </p:nvPicPr>
        <p:blipFill>
          <a:blip r:embed="rId1"/>
          <a:stretch/>
        </p:blipFill>
        <p:spPr>
          <a:xfrm>
            <a:off x="1000080" y="1643040"/>
            <a:ext cx="7143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dmin\Рабочий стол\солнечная система\5592.jpg"/>
          <p:cNvPicPr/>
          <p:nvPr/>
        </p:nvPicPr>
        <p:blipFill>
          <a:blip r:embed="rId1"/>
          <a:stretch/>
        </p:blipFill>
        <p:spPr>
          <a:xfrm>
            <a:off x="285840" y="214200"/>
            <a:ext cx="3857400" cy="314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Documents and Settings\Admin\Рабочий стол\солнечная система\180px-Solar_planets.jpg"/>
          <p:cNvPicPr/>
          <p:nvPr/>
        </p:nvPicPr>
        <p:blipFill>
          <a:blip r:embed="rId2"/>
          <a:stretch/>
        </p:blipFill>
        <p:spPr>
          <a:xfrm>
            <a:off x="6215040" y="214200"/>
            <a:ext cx="2286000" cy="6429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214200" y="3151080"/>
            <a:ext cx="400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анеты земной групп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Мерку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Вен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Зем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Мар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143160" y="3885840"/>
            <a:ext cx="30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еты-гигант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Юпи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Сатур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Ур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Непту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Documents and Settings\Admin\Рабочий стол\солнечная система\solnce_2.jpg"/>
          <p:cNvPicPr/>
          <p:nvPr/>
        </p:nvPicPr>
        <p:blipFill>
          <a:blip r:embed="rId1"/>
          <a:stretch/>
        </p:blipFill>
        <p:spPr>
          <a:xfrm>
            <a:off x="214200" y="142920"/>
            <a:ext cx="3714840" cy="3214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Documents and Settings\Admin\Рабочий стол\солнечная система\2321.jpg"/>
          <p:cNvPicPr/>
          <p:nvPr/>
        </p:nvPicPr>
        <p:blipFill>
          <a:blip r:embed="rId2"/>
          <a:stretch/>
        </p:blipFill>
        <p:spPr>
          <a:xfrm>
            <a:off x="5143680" y="214200"/>
            <a:ext cx="3809880" cy="314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Documents and Settings\Admin\Рабочий стол\солнечная система\солнце.jpg"/>
          <p:cNvPicPr/>
          <p:nvPr/>
        </p:nvPicPr>
        <p:blipFill>
          <a:blip r:embed="rId3"/>
          <a:stretch/>
        </p:blipFill>
        <p:spPr>
          <a:xfrm>
            <a:off x="2500200" y="2357280"/>
            <a:ext cx="4000680" cy="340056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6"/>
          <p:cNvSpPr/>
          <p:nvPr/>
        </p:nvSpPr>
        <p:spPr>
          <a:xfrm>
            <a:off x="285840" y="481320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лнц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— звезда Солнечной системы и, бесспорно, её главный компонент. Солнце — довольно большая и яркая звез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571680" y="922680"/>
            <a:ext cx="778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Планеты земной групп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Меркурий, Венера, Земля и Мар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C:\Documents and Settings\Admin\Рабочий стол\солнечная система\360px-Terrestrial_planet_size_comparisons.jpg"/>
          <p:cNvPicPr/>
          <p:nvPr/>
        </p:nvPicPr>
        <p:blipFill>
          <a:blip r:embed="rId1"/>
          <a:stretch/>
        </p:blipFill>
        <p:spPr>
          <a:xfrm>
            <a:off x="928800" y="3000240"/>
            <a:ext cx="73580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Admin\Рабочий стол\солнечная система\меркурий.jpg"/>
          <p:cNvPicPr/>
          <p:nvPr/>
        </p:nvPicPr>
        <p:blipFill>
          <a:blip r:embed="rId1"/>
          <a:stretch/>
        </p:blipFill>
        <p:spPr>
          <a:xfrm>
            <a:off x="214200" y="142920"/>
            <a:ext cx="3571920" cy="27860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"/>
          <p:cNvSpPr/>
          <p:nvPr/>
        </p:nvSpPr>
        <p:spPr>
          <a:xfrm>
            <a:off x="357120" y="221472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ркур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C:\Documents and Settings\Admin\Рабочий стол\солнечная система\венера.jpg"/>
          <p:cNvPicPr/>
          <p:nvPr/>
        </p:nvPicPr>
        <p:blipFill>
          <a:blip r:embed="rId2"/>
          <a:stretch/>
        </p:blipFill>
        <p:spPr>
          <a:xfrm>
            <a:off x="5786280" y="3857760"/>
            <a:ext cx="3024360" cy="2666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Admin\Рабочий стол\солнечная система\венера2.jpg"/>
          <p:cNvPicPr/>
          <p:nvPr/>
        </p:nvPicPr>
        <p:blipFill>
          <a:blip r:embed="rId3"/>
          <a:stretch/>
        </p:blipFill>
        <p:spPr>
          <a:xfrm>
            <a:off x="4357800" y="4429080"/>
            <a:ext cx="2500200" cy="22575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5929200" y="478620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ен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C:\Documents and Settings\Admin\Рабочий стол\солнечная система\марс.jpg"/>
          <p:cNvPicPr/>
          <p:nvPr/>
        </p:nvPicPr>
        <p:blipFill>
          <a:blip r:embed="rId4"/>
          <a:stretch/>
        </p:blipFill>
        <p:spPr>
          <a:xfrm>
            <a:off x="4286160" y="285840"/>
            <a:ext cx="4552920" cy="325764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8"/>
          <p:cNvSpPr/>
          <p:nvPr/>
        </p:nvSpPr>
        <p:spPr>
          <a:xfrm>
            <a:off x="7143840" y="300024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C:\Documents and Settings\Admin\Рабочий стол\солнечная система\3e77cd802493ef73f595bb18971ce4d6.jpg"/>
          <p:cNvPicPr/>
          <p:nvPr/>
        </p:nvPicPr>
        <p:blipFill>
          <a:blip r:embed="rId5"/>
          <a:stretch/>
        </p:blipFill>
        <p:spPr>
          <a:xfrm>
            <a:off x="285840" y="3429000"/>
            <a:ext cx="3763800" cy="28576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0"/>
          <p:cNvSpPr/>
          <p:nvPr/>
        </p:nvSpPr>
        <p:spPr>
          <a:xfrm>
            <a:off x="3000240" y="546084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928800" y="64296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ланеты-гиганты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Юпитер, Сатурн, Уран и Непту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C:\Documents and Settings\Admin\Рабочий стол\солнечная система\360px-Gas_planet_size_comparisons.jpg"/>
          <p:cNvPicPr/>
          <p:nvPr/>
        </p:nvPicPr>
        <p:blipFill>
          <a:blip r:embed="rId1"/>
          <a:stretch/>
        </p:blipFill>
        <p:spPr>
          <a:xfrm>
            <a:off x="928800" y="2928960"/>
            <a:ext cx="72151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Admin\Рабочий стол\солнечная система\юпитер.jpg"/>
          <p:cNvPicPr/>
          <p:nvPr/>
        </p:nvPicPr>
        <p:blipFill>
          <a:blip r:embed="rId1"/>
          <a:stretch/>
        </p:blipFill>
        <p:spPr>
          <a:xfrm>
            <a:off x="5000760" y="3714840"/>
            <a:ext cx="3921120" cy="29052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5072040" y="385776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3" descr="C:\Documents and Settings\Admin\Рабочий стол\солнечная система\сатурн.gif"/>
          <p:cNvPicPr/>
          <p:nvPr/>
        </p:nvPicPr>
        <p:blipFill>
          <a:blip r:embed="rId2"/>
          <a:stretch/>
        </p:blipFill>
        <p:spPr>
          <a:xfrm>
            <a:off x="357120" y="28584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Admin\Рабочий стол\солнечная система\1195248604_xakep_lv_88772e7e1021e9129529f5e0f4720f3.jpg"/>
          <p:cNvPicPr/>
          <p:nvPr/>
        </p:nvPicPr>
        <p:blipFill>
          <a:blip r:embed="rId3"/>
          <a:stretch/>
        </p:blipFill>
        <p:spPr>
          <a:xfrm>
            <a:off x="2048040" y="2214720"/>
            <a:ext cx="2523960" cy="185724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2571840" y="1785960"/>
            <a:ext cx="24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C:\Documents and Settings\Admin\Рабочий стол\солнечная система\уран.gif"/>
          <p:cNvPicPr/>
          <p:nvPr/>
        </p:nvPicPr>
        <p:blipFill>
          <a:blip r:embed="rId4"/>
          <a:stretch/>
        </p:blipFill>
        <p:spPr>
          <a:xfrm>
            <a:off x="6500880" y="214200"/>
            <a:ext cx="2162160" cy="2286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7"/>
          <p:cNvSpPr/>
          <p:nvPr/>
        </p:nvSpPr>
        <p:spPr>
          <a:xfrm>
            <a:off x="6357960" y="19288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9" descr="C:\Documents and Settings\Admin\Рабочий стол\солнечная система\нептун.jpg"/>
          <p:cNvPicPr/>
          <p:nvPr/>
        </p:nvPicPr>
        <p:blipFill>
          <a:blip r:embed="rId5"/>
          <a:stretch/>
        </p:blipFill>
        <p:spPr>
          <a:xfrm>
            <a:off x="214200" y="4500720"/>
            <a:ext cx="2786040" cy="22143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9"/>
          <p:cNvSpPr/>
          <p:nvPr/>
        </p:nvSpPr>
        <p:spPr>
          <a:xfrm>
            <a:off x="1714680" y="4721400"/>
            <a:ext cx="33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пту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214200" y="11473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А сколько звезд на неб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C:\Documents and Settings\Admin\Рабочий стол\солнечная система\звездное небо.jpg"/>
          <p:cNvPicPr/>
          <p:nvPr/>
        </p:nvPicPr>
        <p:blipFill>
          <a:blip r:embed="rId1"/>
          <a:stretch/>
        </p:blipFill>
        <p:spPr>
          <a:xfrm>
            <a:off x="285840" y="3357720"/>
            <a:ext cx="4429080" cy="3314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Admin\Рабочий стол\солнечная система\meteory.jpg"/>
          <p:cNvPicPr/>
          <p:nvPr/>
        </p:nvPicPr>
        <p:blipFill>
          <a:blip r:embed="rId2"/>
          <a:stretch/>
        </p:blipFill>
        <p:spPr>
          <a:xfrm>
            <a:off x="4500720" y="285840"/>
            <a:ext cx="4405320" cy="2604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ocuments and Settings\Admin\Рабочий стол\солнечная система\hyak32_small.gif"/>
          <p:cNvPicPr/>
          <p:nvPr/>
        </p:nvPicPr>
        <p:blipFill>
          <a:blip r:embed="rId3"/>
          <a:stretch/>
        </p:blipFill>
        <p:spPr>
          <a:xfrm>
            <a:off x="4214880" y="3571920"/>
            <a:ext cx="47149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2:31:35Z</dcterms:created>
  <dc:creator>Admin</dc:creator>
  <dc:description/>
  <dc:language>en-US</dc:language>
  <cp:lastModifiedBy>Admin</cp:lastModifiedBy>
  <dcterms:modified xsi:type="dcterms:W3CDTF">2010-02-25T15:03:36Z</dcterms:modified>
  <cp:revision>14</cp:revision>
  <dc:subject/>
  <dc:title>Солнечная семья</dc:title>
</cp:coreProperties>
</file>