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C14-4681-4D61-8DEA-29A860C08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EB1-C8EA-4D93-9AFC-61BD71B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B144-3046-4FB8-9B1E-F6D032CF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3E41-0850-4DF0-9E9A-A95A4AA76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ACAE-2EA0-4B76-B82B-B8314E84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B5FC0-D4FB-4DE2-A36A-18DA97F7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F63D-B2D5-449A-B63C-415355E30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512-963E-4A35-BB91-472E9FD2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8AAC-7F87-44D4-84D2-8EEACDD1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6EAE-CB40-423D-8164-048AA2A5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DE6D-2543-4958-8F6D-38CDAABC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37AE-7134-43A1-B4DF-3FD8EAA2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533-E379-46D4-AF47-D17A7070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CF1C-83DD-4550-BC6E-2D6E2527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79E5-B06C-4094-91E3-6E4733FFA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BE3B-9CCD-41D7-9B7F-A0ADCFA3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F2BE-39CC-4C53-893E-4DBB644E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636AD-AD49-463D-A6DD-075F46DE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6E0A1-F8DC-41BB-85AF-4550E855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14F18-D00C-4453-B161-043881D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BE2C-5087-4551-B4CE-E09CF25E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8110C-9A8A-4811-BC19-F326F3E9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094C-1686-4193-91F5-0D29E460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9E641-8708-4B76-98DB-42F6577B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3C19E-7E9C-44E0-97D7-7697763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F85B1-66DC-47B8-91A2-9B308F94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3E2A-06D6-47EB-83E1-48BA7F7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1EF8-3F28-43CA-ACAE-87E925C1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1E958-6C2D-4FE7-9525-5CCFD88D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BE804-808A-4BF5-8B3E-17D33E04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6AB-7811-4289-9673-F60D4146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C263-BF33-4D9A-8202-D9B2DC19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428-D280-49E3-B8DC-7FCDF88A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7E28-8A2C-4039-B240-E78C6498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1CB-C7DC-49B7-AD32-F227FF36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33F-6995-4782-ACAE-8B9B186D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115-8BCF-42F2-9B8B-831BB584E4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8526-CF5B-47D3-9CAF-F45A9901928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22ED-B87A-48EA-A24C-114DD71250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" Target="slide19.xml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итель химии МКОУ СОШ 15 г.Лиски Решетников Е.А.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4"/>
          <p:cNvSpPr txBox="1"/>
          <p:nvPr/>
        </p:nvSpPr>
        <p:spPr>
          <a:xfrm>
            <a:off x="971640" y="2133720"/>
            <a:ext cx="69530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ТИПЫ ХИМИЧЕСКИ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АКЦ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41" name="Прямоугольник 1"/>
          <p:cNvSpPr/>
          <p:nvPr/>
        </p:nvSpPr>
        <p:spPr>
          <a:xfrm>
            <a:off x="5796000" y="5445000"/>
            <a:ext cx="2952720" cy="720720"/>
          </a:xfrm>
          <a:prstGeom prst="rect">
            <a:avLst/>
          </a:prstGeom>
          <a:solidFill>
            <a:srgbClr val="cccc99"/>
          </a:solidFill>
          <a:ln w="25560">
            <a:solidFill>
              <a:srgbClr val="95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990033"/>
                </a:solidFill>
                <a:uFillTx/>
                <a:latin typeface="Times New Roman"/>
                <a:hlinkClick r:id="rId5" action="ppaction://hlinksldjump"/>
              </a:rPr>
              <a:t>коэффици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324000" y="1182600"/>
          <a:ext cx="849600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52"/>
          <p:cNvSpPr/>
          <p:nvPr/>
        </p:nvSpPr>
        <p:spPr>
          <a:xfrm>
            <a:off x="4932360" y="3789360"/>
            <a:ext cx="388764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(OH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uO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1"/>
          <p:cNvSpPr/>
          <p:nvPr/>
        </p:nvSpPr>
        <p:spPr>
          <a:xfrm>
            <a:off x="4932360" y="234936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KOH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2"/>
          <p:cNvSpPr/>
          <p:nvPr/>
        </p:nvSpPr>
        <p:spPr>
          <a:xfrm>
            <a:off x="4932360" y="2924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Fe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= Fe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4"/>
          <p:cNvSpPr/>
          <p:nvPr/>
        </p:nvSpPr>
        <p:spPr>
          <a:xfrm>
            <a:off x="4932360" y="3429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n +Cu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u +Zn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0368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49"/>
          <p:cNvSpPr/>
          <p:nvPr/>
        </p:nvSpPr>
        <p:spPr>
          <a:xfrm>
            <a:off x="4788000" y="155736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 + Cu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u + Fe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4788000" y="270828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Mg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4788000" y="515772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907920"/>
          <a:ext cx="8229600" cy="569124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50"/>
          <p:cNvSpPr/>
          <p:nvPr/>
        </p:nvSpPr>
        <p:spPr>
          <a:xfrm>
            <a:off x="4788000" y="256536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B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4788000" y="544500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 + Hg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u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2"/>
          <p:cNvSpPr/>
          <p:nvPr/>
        </p:nvSpPr>
        <p:spPr>
          <a:xfrm>
            <a:off x="4788000" y="602136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Mg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0" name=""/>
          <p:cNvGraphicFramePr/>
          <p:nvPr/>
        </p:nvGraphicFramePr>
        <p:xfrm>
          <a:off x="324000" y="1182600"/>
          <a:ext cx="8496000" cy="567216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1"/>
          <p:cNvSpPr/>
          <p:nvPr/>
        </p:nvSpPr>
        <p:spPr>
          <a:xfrm>
            <a:off x="4932360" y="1700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OH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2"/>
          <p:cNvSpPr/>
          <p:nvPr/>
        </p:nvSpPr>
        <p:spPr>
          <a:xfrm>
            <a:off x="4932360" y="2205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 + Pb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b + Zn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53"/>
          <p:cNvSpPr/>
          <p:nvPr/>
        </p:nvSpPr>
        <p:spPr>
          <a:xfrm>
            <a:off x="4932360" y="278136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g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= MgSO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↑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4932360" y="4508640"/>
            <a:ext cx="3887640" cy="64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O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4"/>
          <p:cNvSpPr/>
          <p:nvPr/>
        </p:nvSpPr>
        <p:spPr>
          <a:xfrm>
            <a:off x="4932360" y="5157720"/>
            <a:ext cx="3887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OH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4932360" y="580536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N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aS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↓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836640"/>
          <a:ext cx="8229600" cy="580536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Rectangle 52"/>
          <p:cNvSpPr/>
          <p:nvPr/>
        </p:nvSpPr>
        <p:spPr>
          <a:xfrm>
            <a:off x="4859280" y="3068640"/>
            <a:ext cx="388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4"/>
          <p:cNvSpPr/>
          <p:nvPr/>
        </p:nvSpPr>
        <p:spPr>
          <a:xfrm>
            <a:off x="4859280" y="4149720"/>
            <a:ext cx="38880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5"/>
          <p:cNvSpPr/>
          <p:nvPr/>
        </p:nvSpPr>
        <p:spPr>
          <a:xfrm>
            <a:off x="4859280" y="5516640"/>
            <a:ext cx="38894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KCl = AgCl + K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57200" y="1197000"/>
          <a:ext cx="8229600" cy="569124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2"/>
          <p:cNvSpPr/>
          <p:nvPr/>
        </p:nvSpPr>
        <p:spPr>
          <a:xfrm>
            <a:off x="4788000" y="227664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Cl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3"/>
          <p:cNvSpPr/>
          <p:nvPr/>
        </p:nvSpPr>
        <p:spPr>
          <a:xfrm>
            <a:off x="4788000" y="393372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H = Cu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4"/>
          <p:cNvSpPr/>
          <p:nvPr/>
        </p:nvSpPr>
        <p:spPr>
          <a:xfrm>
            <a:off x="4788000" y="4508640"/>
            <a:ext cx="388764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(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5"/>
          <p:cNvSpPr/>
          <p:nvPr/>
        </p:nvSpPr>
        <p:spPr>
          <a:xfrm>
            <a:off x="4788000" y="5229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NaBr = AgBr + Na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395280" y="1182600"/>
          <a:ext cx="849636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92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5003640" y="4292640"/>
            <a:ext cx="38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Cl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+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5003640" y="5300640"/>
            <a:ext cx="3888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Br + NaOH = NaBr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5003640" y="5805360"/>
            <a:ext cx="38894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KI = AgI + KN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шите уравнения реакций, расставьте коэффициен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600200"/>
          <a:ext cx="8229600" cy="524196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C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Cl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KCl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 F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N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+ C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 + S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→ N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O + C → Cu + CO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Rectangle 49"/>
          <p:cNvSpPr/>
          <p:nvPr/>
        </p:nvSpPr>
        <p:spPr>
          <a:xfrm>
            <a:off x="4788000" y="162864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Al + 3 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 Al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4788000" y="2205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Cl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KCl +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4788000" y="2708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Al + F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2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4788000" y="3213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NO + 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2 N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3"/>
          <p:cNvSpPr/>
          <p:nvPr/>
        </p:nvSpPr>
        <p:spPr>
          <a:xfrm>
            <a:off x="4788000" y="371628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Na + C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 2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4"/>
          <p:cNvSpPr/>
          <p:nvPr/>
        </p:nvSpPr>
        <p:spPr>
          <a:xfrm>
            <a:off x="4788000" y="422100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→ C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5"/>
          <p:cNvSpPr/>
          <p:nvPr/>
        </p:nvSpPr>
        <p:spPr>
          <a:xfrm>
            <a:off x="4788000" y="4724280"/>
            <a:ext cx="38876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Al + 3 S = Al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6"/>
          <p:cNvSpPr/>
          <p:nvPr/>
        </p:nvSpPr>
        <p:spPr>
          <a:xfrm>
            <a:off x="4788000" y="5229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P + 5 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= 2 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7"/>
          <p:cNvSpPr/>
          <p:nvPr/>
        </p:nvSpPr>
        <p:spPr>
          <a:xfrm>
            <a:off x="4788000" y="5805360"/>
            <a:ext cx="38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+ 3 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↔ 2 N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478800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CuO + C = 2 Cu + C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Основные типы химических реакций.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84360" y="1773360"/>
            <a:ext cx="3527280" cy="93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684360" y="2852640"/>
            <a:ext cx="352728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684360" y="3860640"/>
            <a:ext cx="345600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заме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684360" y="4941720"/>
            <a:ext cx="3456000" cy="792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акции об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4500720" y="1773360"/>
            <a:ext cx="3958920" cy="9349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+ Б = А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00720" y="2852640"/>
            <a:ext cx="395892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Б = А +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4500720" y="3860640"/>
            <a:ext cx="3887640" cy="86364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 + БВ = АВ + 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4500720" y="4941720"/>
            <a:ext cx="3887640" cy="72072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Б + ВГ = АГ + В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5"/>
          <p:cNvSpPr/>
          <p:nvPr/>
        </p:nvSpPr>
        <p:spPr>
          <a:xfrm>
            <a:off x="4932360" y="184464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Mg +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M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6"/>
          <p:cNvSpPr/>
          <p:nvPr/>
        </p:nvSpPr>
        <p:spPr>
          <a:xfrm>
            <a:off x="4932360" y="3933720"/>
            <a:ext cx="388764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O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= Ca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7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1970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60"/>
          <p:cNvSpPr/>
          <p:nvPr/>
        </p:nvSpPr>
        <p:spPr>
          <a:xfrm>
            <a:off x="4788000" y="227664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P + 5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2 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8"/>
          <p:cNvSpPr/>
          <p:nvPr/>
        </p:nvSpPr>
        <p:spPr>
          <a:xfrm>
            <a:off x="4788000" y="4005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1197000"/>
          <a:ext cx="8229600" cy="586908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52"/>
          <p:cNvSpPr/>
          <p:nvPr/>
        </p:nvSpPr>
        <p:spPr>
          <a:xfrm>
            <a:off x="4788000" y="1773360"/>
            <a:ext cx="38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 +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9"/>
          <p:cNvSpPr/>
          <p:nvPr/>
        </p:nvSpPr>
        <p:spPr>
          <a:xfrm>
            <a:off x="4788000" y="3429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324000" y="1182600"/>
          <a:ext cx="8496000" cy="5676840"/>
        </p:xfrm>
        <a:graphic>
          <a:graphicData uri="http://schemas.openxmlformats.org/drawingml/2006/table">
            <a:tbl>
              <a:tblPr/>
              <a:tblGrid>
                <a:gridCol w="431640"/>
                <a:gridCol w="4165560"/>
                <a:gridCol w="3898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 = NaOH + H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 + Pb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Pb + Zn(N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 + 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MgSO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H</a:t>
                      </a:r>
                      <a:r>
                        <a:rPr b="0" lang="de-DE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↑</a:t>
                      </a:r>
                      <a:r>
                        <a:rPr b="0" lang="de-DE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 O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H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(OH)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CuO + H</a:t>
                      </a:r>
                      <a:r>
                        <a:rPr b="0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Br + NaOH = NaBr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I = AgI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+ H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NaOH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соед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1"/>
          <p:cNvSpPr/>
          <p:nvPr/>
        </p:nvSpPr>
        <p:spPr>
          <a:xfrm>
            <a:off x="4932360" y="3284640"/>
            <a:ext cx="3887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0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+ H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324000" y="1341360"/>
          <a:ext cx="8496000" cy="5469120"/>
        </p:xfrm>
        <a:graphic>
          <a:graphicData uri="http://schemas.openxmlformats.org/drawingml/2006/table">
            <a:tbl>
              <a:tblPr/>
              <a:tblGrid>
                <a:gridCol w="718920"/>
                <a:gridCol w="3878280"/>
                <a:gridCol w="3898800"/>
              </a:tblGrid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M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KOH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↑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FeSO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n +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Zn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O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OH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=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BaS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+ Na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Rectangle 48"/>
          <p:cNvSpPr/>
          <p:nvPr/>
        </p:nvSpPr>
        <p:spPr>
          <a:xfrm>
            <a:off x="395280" y="260280"/>
            <a:ext cx="835344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9"/>
          <p:cNvSpPr/>
          <p:nvPr/>
        </p:nvSpPr>
        <p:spPr>
          <a:xfrm>
            <a:off x="32400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2"/>
          <p:cNvSpPr/>
          <p:nvPr/>
        </p:nvSpPr>
        <p:spPr>
          <a:xfrm>
            <a:off x="4932360" y="6308640"/>
            <a:ext cx="388764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0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95280" y="1036800"/>
          <a:ext cx="8229600" cy="582120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 + 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 +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 +  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 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HCl = Al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 = AgCl + K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Rectangle 51"/>
          <p:cNvSpPr/>
          <p:nvPr/>
        </p:nvSpPr>
        <p:spPr>
          <a:xfrm>
            <a:off x="4716360" y="6308640"/>
            <a:ext cx="3888000" cy="549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(OH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F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РАВНЕНИЯ ХИМИЧЕСКИХ РЕАКЦИЙ:</a:t>
            </a:r>
            <a:br>
              <a:rPr sz="2400"/>
            </a:b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акции раз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8360" y="988920"/>
          <a:ext cx="8229600" cy="5869080"/>
        </p:xfrm>
        <a:graphic>
          <a:graphicData uri="http://schemas.openxmlformats.org/drawingml/2006/table">
            <a:tbl>
              <a:tblPr/>
              <a:tblGrid>
                <a:gridCol w="514440"/>
                <a:gridCol w="3816360"/>
                <a:gridCol w="38988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ВАРИА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 + 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C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Cl = Fe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= B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 ↔ H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OH = Cu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K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OH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NaBr = AgBr + Na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 + Hg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Cu(N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H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a7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g + HCl = MgC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Rectangle 50"/>
          <p:cNvSpPr/>
          <p:nvPr/>
        </p:nvSpPr>
        <p:spPr>
          <a:xfrm>
            <a:off x="4788000" y="3213000"/>
            <a:ext cx="38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↔ 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3:06:00Z</dcterms:created>
  <dc:creator>15</dc:creator>
  <dc:description/>
  <dc:language>en-US</dc:language>
  <cp:lastModifiedBy>User</cp:lastModifiedBy>
  <dcterms:modified xsi:type="dcterms:W3CDTF">2017-09-28T12:55:50Z</dcterms:modified>
  <cp:revision>14</cp:revision>
  <dc:subject/>
  <dc:title>Слайд 1</dc:title>
</cp:coreProperties>
</file>