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719-4059-49CE-9937-26F7C74B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BEF-C6BF-49FD-B8E5-9CF99DFE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4DC-40DE-40C7-B3DD-DB33CBA8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267-3970-4D93-B0CE-C4F0483B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DFC-6B1E-4915-9861-1F624215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6E7-D3E2-488C-B0B0-663AA763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B50-DC1B-4E55-86B1-8A79CCD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BC86-2F59-4698-B662-F7447C8F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6AD1-CD67-4B37-AFF6-636C370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8D34-6F7A-403A-957F-2777A694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7A13-51AC-4939-8D5D-04C9685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650-E507-468C-B4BB-87926E7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B821-30B3-4DB2-9FD5-5796426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4F54-DC72-4A81-AB68-EAD85004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9793-F946-43D9-982A-EDAB5886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ECA2-4B23-4D5B-89CB-53AF3AC4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48E0-2D57-4DFB-B628-4FCC1A37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231B-6825-4EE6-BBAD-0335DF47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F1EA-FBC3-4DAA-8FB9-3EA907D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280F-2A33-4EF4-959C-95FD8EB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4D46-1A83-4152-B9BD-A76E8F2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28B3-03E6-4522-8D12-F6E5FBF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101-B260-40FA-9B8E-3BEF81A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8FA5-3917-4D00-9E5E-6F8A821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17A9-940C-40F4-8079-F93E5B8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9B79-5E58-48BC-9327-AB26B51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DC45-2ED0-4794-8C02-7ED3EC2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90D1-576B-4FF6-A27A-94344F7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5768-AF28-462E-86E7-ADC26266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8398-D2C2-45F2-871F-4D3C7E3A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BF7-4FE5-4E6C-8DE3-170268E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B8C-966C-40EC-88CE-E9EDC54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0A3-35B0-4BC1-8E83-A0C507F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DB0-1C23-48E7-AA76-291F9DD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CAF-7C7A-45B0-B176-E6C26AC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A59-E101-47D5-B1B1-CF449C7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CEB3-7BF2-4F39-A65E-0B315E769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506B-B8A0-47CC-AFD4-3F6335AD16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55B-7C8D-445D-A09C-EEDB34BD04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19.xm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химии МКОУ СОШ 15 г.Лиски Решетников Е.А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971640" y="2133720"/>
            <a:ext cx="69530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ИПЫ ХИМИЧЕ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796000" y="5445000"/>
            <a:ext cx="2952720" cy="720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коэффици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24000" y="1182600"/>
          <a:ext cx="8496000" cy="5676840"/>
        </p:xfrm>
        <a:graphic>
          <a:graphicData uri="http://schemas.openxmlformats.org/drawingml/2006/table">
            <a:tbl>
              <a:tblPr/>
              <a:tblGrid>
                <a:gridCol w="431640"/>
                <a:gridCol w="41655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2"/>
          <p:cNvSpPr/>
          <p:nvPr/>
        </p:nvSpPr>
        <p:spPr>
          <a:xfrm>
            <a:off x="4932360" y="3789360"/>
            <a:ext cx="388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(OH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O +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1"/>
          <p:cNvSpPr/>
          <p:nvPr/>
        </p:nvSpPr>
        <p:spPr>
          <a:xfrm>
            <a:off x="4932360" y="234936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OH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2"/>
          <p:cNvSpPr/>
          <p:nvPr/>
        </p:nvSpPr>
        <p:spPr>
          <a:xfrm>
            <a:off x="4932360" y="2924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Fe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4"/>
          <p:cNvSpPr/>
          <p:nvPr/>
        </p:nvSpPr>
        <p:spPr>
          <a:xfrm>
            <a:off x="4932360" y="3429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n +Cu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u +Zn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036800"/>
          <a:ext cx="8229600" cy="582120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49"/>
          <p:cNvSpPr/>
          <p:nvPr/>
        </p:nvSpPr>
        <p:spPr>
          <a:xfrm>
            <a:off x="4788000" y="155736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 + Cu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u + Fe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788000" y="270828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 Mg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4788000" y="515772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= C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907920"/>
          <a:ext cx="8229600" cy="569124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50"/>
          <p:cNvSpPr/>
          <p:nvPr/>
        </p:nvSpPr>
        <p:spPr>
          <a:xfrm>
            <a:off x="4788000" y="256536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= B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4788000" y="544500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 + Hg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u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4788000" y="602136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 Mg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24000" y="1182600"/>
          <a:ext cx="8496000" cy="5672160"/>
        </p:xfrm>
        <a:graphic>
          <a:graphicData uri="http://schemas.openxmlformats.org/drawingml/2006/table">
            <a:tbl>
              <a:tblPr/>
              <a:tblGrid>
                <a:gridCol w="431640"/>
                <a:gridCol w="4165560"/>
                <a:gridCol w="389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1"/>
          <p:cNvSpPr/>
          <p:nvPr/>
        </p:nvSpPr>
        <p:spPr>
          <a:xfrm>
            <a:off x="4932360" y="1700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OH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4932360" y="2205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 + Pb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b + Zn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3"/>
          <p:cNvSpPr/>
          <p:nvPr/>
        </p:nvSpPr>
        <p:spPr>
          <a:xfrm>
            <a:off x="4932360" y="278136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g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Mg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4932360" y="4508640"/>
            <a:ext cx="38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O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4932360" y="5157720"/>
            <a:ext cx="38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OH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4932360" y="580536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a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↓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836640"/>
          <a:ext cx="8229600" cy="580536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52"/>
          <p:cNvSpPr/>
          <p:nvPr/>
        </p:nvSpPr>
        <p:spPr>
          <a:xfrm>
            <a:off x="4859280" y="3068640"/>
            <a:ext cx="388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4859280" y="4149720"/>
            <a:ext cx="388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4859280" y="5516640"/>
            <a:ext cx="388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KCl = AgCl + K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197000"/>
          <a:ext cx="8229600" cy="569124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2"/>
          <p:cNvSpPr/>
          <p:nvPr/>
        </p:nvSpPr>
        <p:spPr>
          <a:xfrm>
            <a:off x="4788000" y="227664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3"/>
          <p:cNvSpPr/>
          <p:nvPr/>
        </p:nvSpPr>
        <p:spPr>
          <a:xfrm>
            <a:off x="4788000" y="393372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H = Cu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4"/>
          <p:cNvSpPr/>
          <p:nvPr/>
        </p:nvSpPr>
        <p:spPr>
          <a:xfrm>
            <a:off x="4788000" y="4508640"/>
            <a:ext cx="3887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5"/>
          <p:cNvSpPr/>
          <p:nvPr/>
        </p:nvSpPr>
        <p:spPr>
          <a:xfrm>
            <a:off x="4788000" y="5229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NaBr = AgBr + Na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1182600"/>
          <a:ext cx="8496360" cy="5676840"/>
        </p:xfrm>
        <a:graphic>
          <a:graphicData uri="http://schemas.openxmlformats.org/drawingml/2006/table">
            <a:tbl>
              <a:tblPr/>
              <a:tblGrid>
                <a:gridCol w="431640"/>
                <a:gridCol w="416592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5003640" y="4292640"/>
            <a:ext cx="38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4"/>
          <p:cNvSpPr/>
          <p:nvPr/>
        </p:nvSpPr>
        <p:spPr>
          <a:xfrm>
            <a:off x="5003640" y="5300640"/>
            <a:ext cx="388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Br + NaOH = NaBr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5003640" y="5805360"/>
            <a:ext cx="3889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KI = AgI + K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те уравнения реакций, расставьте коэффици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600200"/>
          <a:ext cx="8229600" cy="524196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+C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l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KCl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+ F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N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+ C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+ S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N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O + C → Cu + 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49"/>
          <p:cNvSpPr/>
          <p:nvPr/>
        </p:nvSpPr>
        <p:spPr>
          <a:xfrm>
            <a:off x="4788000" y="162864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Al + 3 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2 Al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4788000" y="2205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Cl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Cl 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4788000" y="2708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Al + F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4788000" y="3213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NO + 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3"/>
          <p:cNvSpPr/>
          <p:nvPr/>
        </p:nvSpPr>
        <p:spPr>
          <a:xfrm>
            <a:off x="4788000" y="3716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Na + 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 2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4"/>
          <p:cNvSpPr/>
          <p:nvPr/>
        </p:nvSpPr>
        <p:spPr>
          <a:xfrm>
            <a:off x="4788000" y="4221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→ C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5"/>
          <p:cNvSpPr/>
          <p:nvPr/>
        </p:nvSpPr>
        <p:spPr>
          <a:xfrm>
            <a:off x="4788000" y="4724280"/>
            <a:ext cx="388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Al + 3 S = 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4788000" y="5229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P + 5 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2 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7"/>
          <p:cNvSpPr/>
          <p:nvPr/>
        </p:nvSpPr>
        <p:spPr>
          <a:xfrm>
            <a:off x="4788000" y="580536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3 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↔ 2 N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478800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CuO + C = 2 Cu + C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Основные типы химических реакци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4360" y="1773360"/>
            <a:ext cx="3527280" cy="93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84360" y="2852640"/>
            <a:ext cx="3527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84360" y="3860640"/>
            <a:ext cx="345600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84360" y="4941720"/>
            <a:ext cx="345600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00720" y="1773360"/>
            <a:ext cx="3958920" cy="93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+ Б = А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00720" y="2852640"/>
            <a:ext cx="39589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Б = А +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00720" y="3860640"/>
            <a:ext cx="3887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+ БВ = АВ +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500720" y="4941720"/>
            <a:ext cx="388764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Б + ВГ = АГ + 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5"/>
          <p:cNvSpPr/>
          <p:nvPr/>
        </p:nvSpPr>
        <p:spPr>
          <a:xfrm>
            <a:off x="4932360" y="184464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g +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6"/>
          <p:cNvSpPr/>
          <p:nvPr/>
        </p:nvSpPr>
        <p:spPr>
          <a:xfrm>
            <a:off x="4932360" y="393372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O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= C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7"/>
          <p:cNvSpPr/>
          <p:nvPr/>
        </p:nvSpPr>
        <p:spPr>
          <a:xfrm>
            <a:off x="493236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197000"/>
          <a:ext cx="8229600" cy="582120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0"/>
          <p:cNvSpPr/>
          <p:nvPr/>
        </p:nvSpPr>
        <p:spPr>
          <a:xfrm>
            <a:off x="4788000" y="227664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P + 5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8"/>
          <p:cNvSpPr/>
          <p:nvPr/>
        </p:nvSpPr>
        <p:spPr>
          <a:xfrm>
            <a:off x="4788000" y="4005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197000"/>
          <a:ext cx="8229600" cy="586908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52"/>
          <p:cNvSpPr/>
          <p:nvPr/>
        </p:nvSpPr>
        <p:spPr>
          <a:xfrm>
            <a:off x="4788000" y="1773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+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4788000" y="3429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24000" y="1182600"/>
          <a:ext cx="8496000" cy="5676840"/>
        </p:xfrm>
        <a:graphic>
          <a:graphicData uri="http://schemas.openxmlformats.org/drawingml/2006/table">
            <a:tbl>
              <a:tblPr/>
              <a:tblGrid>
                <a:gridCol w="431640"/>
                <a:gridCol w="41655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1"/>
          <p:cNvSpPr/>
          <p:nvPr/>
        </p:nvSpPr>
        <p:spPr>
          <a:xfrm>
            <a:off x="4932360" y="328464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0"/>
          <p:cNvSpPr/>
          <p:nvPr/>
        </p:nvSpPr>
        <p:spPr>
          <a:xfrm>
            <a:off x="493236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2"/>
          <p:cNvSpPr/>
          <p:nvPr/>
        </p:nvSpPr>
        <p:spPr>
          <a:xfrm>
            <a:off x="493236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1036800"/>
          <a:ext cx="8229600" cy="582120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51"/>
          <p:cNvSpPr/>
          <p:nvPr/>
        </p:nvSpPr>
        <p:spPr>
          <a:xfrm>
            <a:off x="4716360" y="6308640"/>
            <a:ext cx="388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988920"/>
          <a:ext cx="8229600" cy="586908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50"/>
          <p:cNvSpPr/>
          <p:nvPr/>
        </p:nvSpPr>
        <p:spPr>
          <a:xfrm>
            <a:off x="4788000" y="3213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3:06:00Z</dcterms:created>
  <dc:creator>15</dc:creator>
  <dc:description/>
  <dc:language>en-US</dc:language>
  <cp:lastModifiedBy>User</cp:lastModifiedBy>
  <dcterms:modified xsi:type="dcterms:W3CDTF">2017-09-28T12:55:50Z</dcterms:modified>
  <cp:revision>14</cp:revision>
  <dc:subject/>
  <dc:title>Слайд 1</dc:title>
</cp:coreProperties>
</file>