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7D2-6754-4CB5-ACC9-5FA953F2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917-A626-4507-899A-4C31B66C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F1F3-F090-4DD8-B673-86173F96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B0E5-76E6-4014-9C87-F7D9ED4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D3E4-A72B-4A0E-9B0C-8F1804353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FA83-4F34-486F-8229-77299AECE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9872-DC99-4369-B1EA-D85FA008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8972-7C68-4F48-8C8E-87717F62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F6B9-FF3E-4693-9F18-FA3ED51F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42F2-2E49-4A9C-9A2F-E922BC03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0C18-2360-499B-9A1A-BA931EE6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608-78BB-48AB-B254-CD2858EA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01A8-FCD6-4A44-95F5-8413574A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89F6-D524-402C-8EBF-DA3A3530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4DC0D-662F-45DE-9C84-1C26B4B0C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646A-D3B2-4C92-8C5F-8258A18C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8CE5F-EBE8-4E80-A5F1-0A927FBB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746F-573B-48E7-9929-9506B622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F46B-7057-413B-AF29-9E30752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6A4-A845-4991-9962-3447CBE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8C7B-07C7-4B5C-9381-011F5820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A16-FC64-4090-8648-969188C8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C7B-1858-4535-A134-7B31D24A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ED76-93CB-4A17-907D-45A3FD40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E0A2-967B-47D4-BB7E-8B49662ACA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868A-F77B-44B4-9B39-1D4FD662C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Животный Мир            Подмосковь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advTm="600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аба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5798880" y="3141720"/>
            <a:ext cx="23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ускается туман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сыпается каба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оет землю у ре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ит острые клы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Ё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87480" y="2401920"/>
            <a:ext cx="4484520" cy="3154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5724000" y="3068640"/>
            <a:ext cx="288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от иголки и булав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зают из-под лав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меня они глядя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лока они хотя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оссворд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684360" y="1700280"/>
          <a:ext cx="3301920" cy="4140000"/>
        </p:xfrm>
        <a:graphic>
          <a:graphicData uri="http://schemas.openxmlformats.org/drawingml/2006/table">
            <a:tbl>
              <a:tblPr/>
              <a:tblGrid>
                <a:gridCol w="420480"/>
                <a:gridCol w="433440"/>
                <a:gridCol w="431640"/>
                <a:gridCol w="360360"/>
                <a:gridCol w="432000"/>
                <a:gridCol w="503280"/>
                <a:gridCol w="360360"/>
                <a:gridCol w="360360"/>
              </a:tblGrid>
              <a:tr h="520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4211640" y="1700280"/>
            <a:ext cx="4297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ое животное могло так 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ебе сказа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Я похож на ёл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У меня красивая рыжая шуб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У меня ветвистые рог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Я близкий родственник свинь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Я маленький, серенький и пугливы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333000"/>
            <a:ext cx="63691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Животные лесов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8064360" cy="518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Хвой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05080" y="1905120"/>
            <a:ext cx="2793960" cy="4190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ось    Бобр   Глухар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илин     Кл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64000" y="2276640"/>
            <a:ext cx="72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16720" y="2349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36000" y="2205000"/>
            <a:ext cx="72072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940360" y="2276640"/>
            <a:ext cx="28728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77080" y="2349360"/>
            <a:ext cx="4316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ос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49240" y="2133720"/>
            <a:ext cx="5437440" cy="3906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375240" y="3213000"/>
            <a:ext cx="259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ось - рога ветвистые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а копыта быстры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оловой качая, 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девает небоскл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лухарь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98440" y="2670120"/>
            <a:ext cx="3821400" cy="2440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775480" y="2244600"/>
            <a:ext cx="275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дь на зорьке и ступай на сев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болотам, камушкам и мх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устив хвоста колючий вее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осне красуется глухар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меша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8000" y="1916280"/>
            <a:ext cx="5761080" cy="4190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84720" y="2924280"/>
            <a:ext cx="288000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суля   Дятел    Ли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аяц     Кукуш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03640" y="3284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3284640"/>
            <a:ext cx="712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80360" y="3284640"/>
            <a:ext cx="86364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019640" y="3284640"/>
            <a:ext cx="36036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0360" y="3284640"/>
            <a:ext cx="64764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Ли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9720" y="1905120"/>
            <a:ext cx="3782880" cy="4190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92720" y="2924280"/>
            <a:ext cx="344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 любит семечки из шиш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 ловит бедных серых мыш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реди зверей она – краса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лутовка рыжая ли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98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Заяц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98440" y="2736720"/>
            <a:ext cx="3821400" cy="27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487840" y="2368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09440" y="2852640"/>
            <a:ext cx="2497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ыгун-трусиш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вост-коротыш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азки с косинко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шки вдоль спин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дежка в два цвета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а зиму, на лет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Широколиственный лес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58760" y="2871720"/>
            <a:ext cx="3821040" cy="2746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364000" y="3213000"/>
            <a:ext cx="3311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Живот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бан   Барсук   Ёж Сой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443280" y="3645000"/>
            <a:ext cx="57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20000" y="3645000"/>
            <a:ext cx="73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3645000"/>
            <a:ext cx="8650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876720" y="3645000"/>
            <a:ext cx="14292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14:42:01Z</dcterms:created>
  <dc:creator>Admin</dc:creator>
  <dc:description/>
  <dc:language>en-US</dc:language>
  <cp:lastModifiedBy>Admin</cp:lastModifiedBy>
  <dcterms:modified xsi:type="dcterms:W3CDTF">2010-08-11T13:52:09Z</dcterms:modified>
  <cp:revision>5</cp:revision>
  <dc:subject/>
  <dc:title>Животный Мир      Подмосковья</dc:title>
</cp:coreProperties>
</file>