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593-C0CA-4146-A203-9C426C94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86F-721B-45B9-81F4-6D151E73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E03-EC7E-402F-961F-D5E12E58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D54-1E5A-4054-A173-296085BC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B0D5-310B-4066-95DC-A239F79B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179C-C997-41AE-83A2-35EC4AFA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05EF-403D-4F58-9089-DCC93B0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CA5A-1733-41DE-98CD-3CDBBDFA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1D05-FAFF-4907-8043-4EF6151E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377C-BE55-4D42-A9F1-3161496B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6E6A-4EF7-44F6-97A0-E5E3A9D1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F26-2C13-424E-8338-821AFE2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8BC4-1F95-436E-8D2C-05CD523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BA83-7ED7-4B39-9F60-C5ED7B4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5037-CC71-48FF-B17F-63F119B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37E4-5206-46CE-827D-2EFC8B1A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8B3B-CE82-4091-9028-A46922E9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41D-E89D-420C-91A8-51074144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543-A898-444B-ACCC-1AFF71CD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0B2-430A-4536-A6F9-D88BAED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0F4-0243-454A-9EA9-BEAE4DEE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B45-B910-47D5-BF54-86F8F23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D5F-12C1-40C9-908F-2DF6863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2C1-7995-4341-BB5D-E73888A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F99-FFD9-4DB7-BD71-0128AE6F9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47D-228B-4DA8-899F-C18BC728E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Животный Мир            Подмосковь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60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б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98880" y="314172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ускается тум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ыпается каб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ет землю у ре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ит острые кл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Ё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87480" y="2401920"/>
            <a:ext cx="4484520" cy="315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24000" y="3068640"/>
            <a:ext cx="288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иголки и була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зают из-под ла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меня они гляд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лока они хот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ссвор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700280"/>
          <a:ext cx="3301920" cy="4140000"/>
        </p:xfrm>
        <a:graphic>
          <a:graphicData uri="http://schemas.openxmlformats.org/drawingml/2006/table">
            <a:tbl>
              <a:tblPr/>
              <a:tblGrid>
                <a:gridCol w="420480"/>
                <a:gridCol w="433440"/>
                <a:gridCol w="431640"/>
                <a:gridCol w="360360"/>
                <a:gridCol w="432000"/>
                <a:gridCol w="503280"/>
                <a:gridCol w="360360"/>
                <a:gridCol w="36036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211640" y="1700280"/>
            <a:ext cx="429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ое животное могло так 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бе сказ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Я похож на ёл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У меня красивая рыжая шу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У меня ветвистые р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Я близкий родственник свин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Я маленький, серенький и пуглив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369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 лес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806436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вой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5080" y="1905120"/>
            <a:ext cx="279396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сь    Бобр   Глухар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лин     Кл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64000" y="227664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2349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2205000"/>
            <a:ext cx="720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940360" y="2276640"/>
            <a:ext cx="287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2349360"/>
            <a:ext cx="4316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ос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9240" y="2133720"/>
            <a:ext cx="5437440" cy="390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5240" y="3213000"/>
            <a:ext cx="25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ось - рога ветвист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копыта быстр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ловой качая, 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вает небоскл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лухар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98440" y="2670120"/>
            <a:ext cx="3821400" cy="24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75480" y="2244600"/>
            <a:ext cx="275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ь на зорьке и ступай на сев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болотам, камушкам и мх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устив хвоста колючий ве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осне красуется глуха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меша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761080" cy="419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2924280"/>
            <a:ext cx="2880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суля   Дятел    Л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яц     Кукуш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03640" y="3284640"/>
            <a:ext cx="57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284640"/>
            <a:ext cx="71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284640"/>
            <a:ext cx="863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9640" y="3284640"/>
            <a:ext cx="360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0360" y="3284640"/>
            <a:ext cx="647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и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9720" y="1905120"/>
            <a:ext cx="3782880" cy="419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92720" y="2924280"/>
            <a:ext cx="34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любит семечки из шиш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ловит бедных серых мыш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и зверей она – крас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утовка рыжая ли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я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98440" y="2736720"/>
            <a:ext cx="382140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8784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9440" y="2852640"/>
            <a:ext cx="249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ыгун-трусиш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вост-коротыш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зки с косинк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шки вдоль спин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ежка в два цвета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зиму, на ле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Широколистве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58760" y="2871720"/>
            <a:ext cx="3821040" cy="2746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64000" y="3213000"/>
            <a:ext cx="331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бан   Барсук   Ёж Сой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443280" y="364500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3645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3645000"/>
            <a:ext cx="865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876720" y="3645000"/>
            <a:ext cx="142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4:42:01Z</dcterms:created>
  <dc:creator>Admin</dc:creator>
  <dc:description/>
  <dc:language>en-US</dc:language>
  <cp:lastModifiedBy>Admin</cp:lastModifiedBy>
  <dcterms:modified xsi:type="dcterms:W3CDTF">2010-08-11T13:52:09Z</dcterms:modified>
  <cp:revision>5</cp:revision>
  <dc:subject/>
  <dc:title>Животный Мир      Подмосковья</dc:title>
</cp:coreProperties>
</file>