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13.jpeg" ContentType="image/jpeg"/>
  <Override PartName="/ppt/media/image23.png" ContentType="image/png"/>
  <Override PartName="/ppt/media/image10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9.png" ContentType="image/png"/>
  <Override PartName="/ppt/media/image30.jpeg" ContentType="image/jpeg"/>
  <Override PartName="/ppt/media/image31.png" ContentType="image/png"/>
  <Override PartName="/ppt/media/image12.jpeg" ContentType="image/jpeg"/>
  <Override PartName="/ppt/media/image4.png" ContentType="image/png"/>
  <Override PartName="/ppt/media/image1.gif" ContentType="image/gif"/>
  <Override PartName="/ppt/media/image27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29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A30-B827-45F3-97D4-7E29E047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232-0D77-4904-9448-466B4316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90A1-76C2-4B1F-9C45-C494C8581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948-4476-4E04-A319-7E5303CD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809-B414-4564-9BE8-FD2751F2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6CC8-DDA1-4A04-87BE-C9AF190F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CCD0-DD44-40E9-96E7-6478D8B4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8794-D61B-4E8E-AF06-4D351A42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15C9-D372-4DA7-BB05-89955E70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43B-B983-481E-B8A3-2BF1D406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EF7-EEB6-40F3-AAC7-68351239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1E2-0AC9-48E1-B56E-35E9C588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254B-ED2A-4693-AEB6-16874B9E9F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9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go.mail.ru/frame.html?&amp;imgurl=http%3A%2F%2Fderevozhyttya.narod.ru%2Fderevo01.jpg&amp;pageurl=http%3A%2F%2Fderevozhyttya.narod.ru%2F&amp;id=91442793&amp;iid=6&amp;imgwidth=364&amp;imgheight=300&amp;imgsize=24196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go.mail.ru/frame.html?&amp;imgurl=http%3A%2F%2Fderevozhyttya.narod.ru%2Fderevo01.jpg&amp;pageurl=http%3A%2F%2Fderevozhyttya.narod.ru%2F&amp;id=91442793&amp;iid=6&amp;imgwidth=364&amp;imgheight=300&amp;imgsize=24196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go.mail.ru/frame.html?&amp;imgurl=http%3A%2F%2Fmarina-miv.ucoz.ru%2F_ph%2F25%2F2%2F27314647.gif&amp;pageurl=http%3A%2F%2Fmarina-miv.ucoz.ru%2Fphoto%2F25-0-3434&amp;id=88434711&amp;iid=0&amp;imgwidth=140&amp;imgheight=158&amp;imgsize=9620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go.mail.ru/frame.html?&amp;imgurl=http%3A%2F%2Fmarina-miv.ucoz.ru%2F_ph%2F25%2F2%2F27314647.gif&amp;pageurl=http%3A%2F%2Fmarina-miv.ucoz.ru%2Fphoto%2F25-0-3434&amp;id=88434711&amp;iid=0&amp;imgwidth=140&amp;imgheight=158&amp;imgsize=9620" TargetMode="External"/><Relationship Id="rId9" Type="http://schemas.openxmlformats.org/officeDocument/2006/relationships/image" Target="../media/image14.jpeg"/><Relationship Id="rId10" Type="http://schemas.openxmlformats.org/officeDocument/2006/relationships/hyperlink" Target="http://go.mail.ru/frame.html?&amp;imgurl=http%3A%2F%2Fmarina-miv.ucoz.ru%2F_ph%2F25%2F2%2F27314647.gif&amp;pageurl=http%3A%2F%2Fmarina-miv.ucoz.ru%2Fphoto%2F25-0-3434&amp;id=88434711&amp;iid=0&amp;imgwidth=140&amp;imgheight=158&amp;imgsize=9620" TargetMode="External"/><Relationship Id="rId11" Type="http://schemas.openxmlformats.org/officeDocument/2006/relationships/image" Target="../media/image14.jpeg"/><Relationship Id="rId12" Type="http://schemas.openxmlformats.org/officeDocument/2006/relationships/hyperlink" Target="http://go.mail.ru/frame.html?&amp;imgurl=http%3A%2F%2Fi048.radikal.ru%2F0712%2F0e%2F802930af84a6x.jpg&amp;pageurl=http%3A%2F%2Fwin-web.ru%2Fclip%2Fopen%2Ftrees_7.html&amp;id=73416181&amp;iid=6&amp;imgwidth=394&amp;imgheight=400&amp;imgsize=19905" TargetMode="External"/><Relationship Id="rId13" Type="http://schemas.openxmlformats.org/officeDocument/2006/relationships/image" Target="../media/image15.jpeg"/><Relationship Id="rId14" Type="http://schemas.openxmlformats.org/officeDocument/2006/relationships/hyperlink" Target="http://go.mail.ru/frame.html?&amp;imgurl=http%3A%2F%2Fi048.radikal.ru%2F0712%2F0e%2F802930af84a6x.jpg&amp;pageurl=http%3A%2F%2Fwin-web.ru%2Fclip%2Fopen%2Ftrees_7.html&amp;id=73416181&amp;iid=6&amp;imgwidth=394&amp;imgheight=400&amp;imgsize=19905" TargetMode="External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3.jpeg"/><Relationship Id="rId18" Type="http://schemas.openxmlformats.org/officeDocument/2006/relationships/image" Target="../media/image15.jpe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250920" y="189000"/>
            <a:ext cx="777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99"/>
                </a:solidFill>
                <a:latin typeface="Arial Black"/>
              </a:rPr>
              <a:t>Четвертое   ф…р…ля.                       Кла…..ная р…бота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a213"/>
          <p:cNvPicPr/>
          <p:nvPr/>
        </p:nvPicPr>
        <p:blipFill>
          <a:blip r:embed="rId1"/>
          <a:stretch/>
        </p:blipFill>
        <p:spPr>
          <a:xfrm>
            <a:off x="6516720" y="476280"/>
            <a:ext cx="2808360" cy="2457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152280" y="2565360"/>
            <a:ext cx="8991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Начинается урок,</a:t>
            </a:r>
            <a:br>
              <a:rPr sz="4400"/>
            </a:b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Он пойдёт ребятам впрок.</a:t>
            </a:r>
            <a:br>
              <a:rPr sz="4400"/>
            </a:b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Будем знания добывать.</a:t>
            </a:r>
            <a:br>
              <a:rPr sz="4400"/>
            </a:br>
            <a:r>
              <a:rPr b="1" lang="ru-RU" sz="4400" spc="-1" strike="noStrike">
                <a:solidFill>
                  <a:srgbClr val="ff0066"/>
                </a:solidFill>
                <a:latin typeface="Verdana"/>
              </a:rPr>
              <a:t>Чтоб с успехом                применять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5061240" y="-452520"/>
            <a:ext cx="72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6121440" y="-458640"/>
            <a:ext cx="7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1626840" y="312840"/>
            <a:ext cx="126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66"/>
                </a:solidFill>
                <a:latin typeface="Times New Roman"/>
              </a:rPr>
              <a:t>с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4427640" y="289080"/>
            <a:ext cx="79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66"/>
                </a:solidFill>
                <a:latin typeface="Times New Roman"/>
              </a:rPr>
              <a:t>а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pronom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4"/>
          <p:cNvSpPr/>
          <p:nvPr/>
        </p:nvSpPr>
        <p:spPr>
          <a:xfrm>
            <a:off x="1551240" y="260280"/>
            <a:ext cx="55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Учебный центр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26920" y="3429000"/>
          <a:ext cx="7993080" cy="1432080"/>
        </p:xfrm>
        <a:graphic>
          <a:graphicData uri="http://schemas.openxmlformats.org/drawingml/2006/table">
            <a:tbl>
              <a:tblPr/>
              <a:tblGrid>
                <a:gridCol w="7993080"/>
              </a:tblGrid>
              <a:tr h="14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чебник с.22  упр. 3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54" name="Picture 73" descr="Рисунок32"/>
          <p:cNvPicPr/>
          <p:nvPr/>
        </p:nvPicPr>
        <p:blipFill>
          <a:blip r:embed="rId2"/>
          <a:stretch/>
        </p:blipFill>
        <p:spPr>
          <a:xfrm>
            <a:off x="6516720" y="1557360"/>
            <a:ext cx="2400120" cy="18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Рисунок92"/>
          <p:cNvPicPr/>
          <p:nvPr/>
        </p:nvPicPr>
        <p:blipFill>
          <a:blip r:embed="rId1"/>
          <a:stretch/>
        </p:blipFill>
        <p:spPr>
          <a:xfrm>
            <a:off x="0" y="836640"/>
            <a:ext cx="2371680" cy="2104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3"/>
          <p:cNvSpPr/>
          <p:nvPr/>
        </p:nvSpPr>
        <p:spPr>
          <a:xfrm>
            <a:off x="360360" y="2852640"/>
            <a:ext cx="878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99"/>
                </a:solidFill>
                <a:latin typeface="Times New Roman"/>
              </a:rPr>
              <a:t>Летом Коля отдыха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99"/>
                </a:solidFill>
                <a:latin typeface="Times New Roman"/>
              </a:rPr>
              <a:t>у бабушк… в деревн…</a:t>
            </a: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363840" y="5651640"/>
            <a:ext cx="4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3708360" y="3357720"/>
            <a:ext cx="857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742160" y="3284640"/>
            <a:ext cx="8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829440" y="3573360"/>
            <a:ext cx="285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Times New Roman"/>
              </a:rPr>
              <a:t>1 скл. Р.п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3637440" y="3141720"/>
            <a:ext cx="10065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700" spc="-1" strike="noStrike">
                <a:solidFill>
                  <a:srgbClr val="ff0066"/>
                </a:solidFill>
                <a:latin typeface="Times New Roman"/>
              </a:rPr>
              <a:t>и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5"/>
          <p:cNvSpPr/>
          <p:nvPr/>
        </p:nvSpPr>
        <p:spPr>
          <a:xfrm>
            <a:off x="4718520" y="3645000"/>
            <a:ext cx="280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Times New Roman"/>
              </a:rPr>
              <a:t>1 скл. П.п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7813080" y="3213000"/>
            <a:ext cx="840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7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292680" y="5445000"/>
            <a:ext cx="8847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Безударное падежное оконч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имени существительног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орфограмм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9" descr="i?id=80494729&amp;tov=3"/>
          <p:cNvPicPr/>
          <p:nvPr/>
        </p:nvPicPr>
        <p:blipFill>
          <a:blip r:embed="rId2"/>
          <a:stretch/>
        </p:blipFill>
        <p:spPr>
          <a:xfrm>
            <a:off x="7308720" y="4941720"/>
            <a:ext cx="140508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pronoms2"/>
          <p:cNvPicPr/>
          <p:nvPr/>
        </p:nvPicPr>
        <p:blipFill>
          <a:blip r:embed="rId1"/>
          <a:stretch/>
        </p:blipFill>
        <p:spPr>
          <a:xfrm>
            <a:off x="0" y="243000"/>
            <a:ext cx="4643280" cy="6615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pronoms2"/>
          <p:cNvPicPr/>
          <p:nvPr/>
        </p:nvPicPr>
        <p:blipFill>
          <a:blip r:embed="rId2"/>
          <a:stretch/>
        </p:blipFill>
        <p:spPr>
          <a:xfrm>
            <a:off x="4500720" y="243000"/>
            <a:ext cx="4643280" cy="661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324000" y="2637000"/>
          <a:ext cx="4560840" cy="3887640"/>
        </p:xfrm>
        <a:graphic>
          <a:graphicData uri="http://schemas.openxmlformats.org/drawingml/2006/table">
            <a:tbl>
              <a:tblPr/>
              <a:tblGrid>
                <a:gridCol w="4560840"/>
              </a:tblGrid>
              <a:tr h="38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ru-RU" sz="4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Знать</a:t>
                      </a: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кончания имени существительного </a:t>
                      </a:r>
                      <a:r>
                        <a:rPr b="1" lang="ru-RU" sz="4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по склонениям</a:t>
                      </a: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в нужном </a:t>
                      </a:r>
                      <a:r>
                        <a:rPr b="1" lang="ru-RU" sz="4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падеже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32"/>
          <p:cNvSpPr/>
          <p:nvPr/>
        </p:nvSpPr>
        <p:spPr>
          <a:xfrm>
            <a:off x="1836360" y="0"/>
            <a:ext cx="568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ул. Правильна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3"/>
          <p:cNvSpPr/>
          <p:nvPr/>
        </p:nvSpPr>
        <p:spPr>
          <a:xfrm>
            <a:off x="756720" y="177336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1 спосо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35"/>
          <p:cNvSpPr/>
          <p:nvPr/>
        </p:nvSpPr>
        <p:spPr>
          <a:xfrm>
            <a:off x="5436720" y="1773360"/>
            <a:ext cx="27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99"/>
                </a:solidFill>
                <a:latin typeface="Times New Roman"/>
              </a:rPr>
              <a:t>2 спосо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6"/>
          <p:cNvSpPr/>
          <p:nvPr/>
        </p:nvSpPr>
        <p:spPr>
          <a:xfrm>
            <a:off x="6157800" y="2637000"/>
            <a:ext cx="1780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200" spc="-1" strike="noStrike">
                <a:solidFill>
                  <a:srgbClr val="000099"/>
                </a:solidFill>
                <a:latin typeface="Times New Roman"/>
              </a:rPr>
              <a:t>?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64000" y="2637000"/>
          <a:ext cx="3456000" cy="3870000"/>
        </p:xfrm>
        <a:graphic>
          <a:graphicData uri="http://schemas.openxmlformats.org/drawingml/2006/table">
            <a:tbl>
              <a:tblPr/>
              <a:tblGrid>
                <a:gridCol w="3456000"/>
              </a:tblGrid>
              <a:tr h="3875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роверить окончание с помощью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опорных слов</a:t>
                      </a:r>
                      <a:r>
                        <a:rPr b="1" lang="ru-RU" sz="4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 каждого склонения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pronom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755640" y="1413000"/>
          <a:ext cx="1944720" cy="100620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ск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3419640" y="1413000"/>
          <a:ext cx="1871640" cy="1008000"/>
        </p:xfrm>
        <a:graphic>
          <a:graphicData uri="http://schemas.openxmlformats.org/drawingml/2006/table">
            <a:tbl>
              <a:tblPr/>
              <a:tblGrid>
                <a:gridCol w="187164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ск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5867280" y="1413000"/>
          <a:ext cx="1944720" cy="1008000"/>
        </p:xfrm>
        <a:graphic>
          <a:graphicData uri="http://schemas.openxmlformats.org/drawingml/2006/table">
            <a:tbl>
              <a:tblPr/>
              <a:tblGrid>
                <a:gridCol w="194472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скл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539640" y="3213000"/>
          <a:ext cx="2305080" cy="2103480"/>
        </p:xfrm>
        <a:graphic>
          <a:graphicData uri="http://schemas.openxmlformats.org/drawingml/2006/table">
            <a:tbl>
              <a:tblPr/>
              <a:tblGrid>
                <a:gridCol w="2305080"/>
              </a:tblGrid>
              <a:tr h="21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стен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земля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3276720" y="3284640"/>
          <a:ext cx="2232000" cy="21034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21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стол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окн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940360" y="3284640"/>
          <a:ext cx="2089080" cy="2103480"/>
        </p:xfrm>
        <a:graphic>
          <a:graphicData uri="http://schemas.openxmlformats.org/drawingml/2006/table">
            <a:tbl>
              <a:tblPr/>
              <a:tblGrid>
                <a:gridCol w="2089080"/>
              </a:tblGrid>
              <a:tr h="21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рожь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степь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1" name="Text Box 123"/>
          <p:cNvSpPr/>
          <p:nvPr/>
        </p:nvSpPr>
        <p:spPr>
          <a:xfrm>
            <a:off x="2053440" y="0"/>
            <a:ext cx="5025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Поликлини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Рисунок92"/>
          <p:cNvPicPr/>
          <p:nvPr/>
        </p:nvPicPr>
        <p:blipFill>
          <a:blip r:embed="rId1"/>
          <a:stretch/>
        </p:blipFill>
        <p:spPr>
          <a:xfrm>
            <a:off x="0" y="836640"/>
            <a:ext cx="2371680" cy="21049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360360" y="2852640"/>
            <a:ext cx="878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99"/>
                </a:solidFill>
                <a:latin typeface="Times New Roman"/>
              </a:rPr>
              <a:t>Летом Коля отдыха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99"/>
                </a:solidFill>
                <a:latin typeface="Times New Roman"/>
              </a:rPr>
              <a:t>у бабушк… в деревн…</a:t>
            </a: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363840" y="5651640"/>
            <a:ext cx="4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708360" y="3357720"/>
            <a:ext cx="857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7958160" y="3284640"/>
            <a:ext cx="8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360" y="3429000"/>
            <a:ext cx="3964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Times New Roman"/>
              </a:rPr>
              <a:t>1 скл. у земл</a:t>
            </a:r>
            <a:r>
              <a:rPr b="1" i="1" lang="ru-RU" sz="6600" spc="-1" strike="noStrike">
                <a:solidFill>
                  <a:srgbClr val="ff0066"/>
                </a:solidFill>
                <a:latin typeface="Times New Roman"/>
              </a:rPr>
              <a:t>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3637440" y="3141720"/>
            <a:ext cx="10065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700" spc="-1" strike="noStrike">
                <a:solidFill>
                  <a:srgbClr val="ff0066"/>
                </a:solidFill>
                <a:latin typeface="Times New Roman"/>
              </a:rPr>
              <a:t>и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573440" y="3357720"/>
            <a:ext cx="375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Times New Roman"/>
              </a:rPr>
              <a:t>1 скл.в земл</a:t>
            </a:r>
            <a:r>
              <a:rPr b="1" i="1" lang="ru-RU" sz="72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8029080" y="3213000"/>
            <a:ext cx="8406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7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292680" y="5445000"/>
            <a:ext cx="8847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Безударное падежное оконч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имени существительног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орфограмм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3" descr="i?id=80494729&amp;tov=3"/>
          <p:cNvPicPr/>
          <p:nvPr/>
        </p:nvPicPr>
        <p:blipFill>
          <a:blip r:embed="rId2"/>
          <a:stretch/>
        </p:blipFill>
        <p:spPr>
          <a:xfrm>
            <a:off x="7308720" y="4941720"/>
            <a:ext cx="140508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100"/>
          <p:cNvGrpSpPr/>
          <p:nvPr/>
        </p:nvGrpSpPr>
        <p:grpSpPr>
          <a:xfrm>
            <a:off x="4500720" y="981000"/>
            <a:ext cx="4823640" cy="2663640"/>
            <a:chOff x="4500720" y="981000"/>
            <a:chExt cx="4823640" cy="2663640"/>
          </a:xfrm>
        </p:grpSpPr>
        <p:sp>
          <p:nvSpPr>
            <p:cNvPr id="194" name="Rectangle 101"/>
            <p:cNvSpPr/>
            <p:nvPr/>
          </p:nvSpPr>
          <p:spPr>
            <a:xfrm>
              <a:off x="5123160" y="2122560"/>
              <a:ext cx="3578400" cy="15220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Пишу окончани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как у опорног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слова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AutoShape 102"/>
            <p:cNvSpPr/>
            <p:nvPr/>
          </p:nvSpPr>
          <p:spPr>
            <a:xfrm>
              <a:off x="4500720" y="981000"/>
              <a:ext cx="4823640" cy="12366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Text Box 74"/>
          <p:cNvSpPr/>
          <p:nvPr/>
        </p:nvSpPr>
        <p:spPr>
          <a:xfrm>
            <a:off x="973800" y="0"/>
            <a:ext cx="760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Магазин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 «Алгоритм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Group 93"/>
          <p:cNvGrpSpPr/>
          <p:nvPr/>
        </p:nvGrpSpPr>
        <p:grpSpPr>
          <a:xfrm>
            <a:off x="4319640" y="3645000"/>
            <a:ext cx="4823640" cy="2663280"/>
            <a:chOff x="4319640" y="3645000"/>
            <a:chExt cx="4823640" cy="2663280"/>
          </a:xfrm>
        </p:grpSpPr>
        <p:sp>
          <p:nvSpPr>
            <p:cNvPr id="198" name="Rectangle 94"/>
            <p:cNvSpPr/>
            <p:nvPr/>
          </p:nvSpPr>
          <p:spPr>
            <a:xfrm>
              <a:off x="4942080" y="4786200"/>
              <a:ext cx="3578400" cy="15220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Подбираю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опорное слово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AutoShape 95"/>
            <p:cNvSpPr/>
            <p:nvPr/>
          </p:nvSpPr>
          <p:spPr>
            <a:xfrm>
              <a:off x="4319640" y="3645000"/>
              <a:ext cx="4823640" cy="12366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Group 99"/>
          <p:cNvGrpSpPr/>
          <p:nvPr/>
        </p:nvGrpSpPr>
        <p:grpSpPr>
          <a:xfrm>
            <a:off x="179280" y="1052640"/>
            <a:ext cx="4824360" cy="2674800"/>
            <a:chOff x="179280" y="1052640"/>
            <a:chExt cx="4824360" cy="2674800"/>
          </a:xfrm>
        </p:grpSpPr>
        <p:sp>
          <p:nvSpPr>
            <p:cNvPr id="201" name="Rectangle 82"/>
            <p:cNvSpPr/>
            <p:nvPr/>
          </p:nvSpPr>
          <p:spPr>
            <a:xfrm>
              <a:off x="826920" y="2205000"/>
              <a:ext cx="3579840" cy="152244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Определяю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склонени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AutoShape 83"/>
            <p:cNvSpPr/>
            <p:nvPr/>
          </p:nvSpPr>
          <p:spPr>
            <a:xfrm>
              <a:off x="179280" y="1052640"/>
              <a:ext cx="4824360" cy="12366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Group 96"/>
          <p:cNvGrpSpPr/>
          <p:nvPr/>
        </p:nvGrpSpPr>
        <p:grpSpPr>
          <a:xfrm>
            <a:off x="0" y="3933720"/>
            <a:ext cx="4823640" cy="2663640"/>
            <a:chOff x="0" y="3933720"/>
            <a:chExt cx="4823640" cy="2663640"/>
          </a:xfrm>
        </p:grpSpPr>
        <p:sp>
          <p:nvSpPr>
            <p:cNvPr id="204" name="Rectangle 97"/>
            <p:cNvSpPr/>
            <p:nvPr/>
          </p:nvSpPr>
          <p:spPr>
            <a:xfrm>
              <a:off x="622440" y="5075280"/>
              <a:ext cx="3578400" cy="15220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Ставлю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существительное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ru-RU" sz="3600" spc="-1" strike="noStrike">
                  <a:solidFill>
                    <a:srgbClr val="ffffff"/>
                  </a:solidFill>
                  <a:latin typeface="Times New Roman"/>
                </a:rPr>
                <a:t>в н.ф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AutoShape 98"/>
            <p:cNvSpPr/>
            <p:nvPr/>
          </p:nvSpPr>
          <p:spPr>
            <a:xfrm>
              <a:off x="0" y="3933720"/>
              <a:ext cx="4823640" cy="123660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6" name="Picture 113" descr="i?id=10335062&amp;tov=3"/>
          <p:cNvPicPr/>
          <p:nvPr/>
        </p:nvPicPr>
        <p:blipFill>
          <a:blip r:embed="rId1"/>
          <a:stretch/>
        </p:blipFill>
        <p:spPr>
          <a:xfrm>
            <a:off x="324000" y="2349360"/>
            <a:ext cx="1946160" cy="30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"/>
          <p:cNvGraphicFramePr/>
          <p:nvPr/>
        </p:nvGraphicFramePr>
        <p:xfrm>
          <a:off x="2411280" y="620640"/>
          <a:ext cx="792360" cy="6089760"/>
        </p:xfrm>
        <a:graphic>
          <a:graphicData uri="http://schemas.openxmlformats.org/drawingml/2006/table">
            <a:tbl>
              <a:tblPr/>
              <a:tblGrid>
                <a:gridCol w="792360"/>
              </a:tblGrid>
              <a:tr h="6123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2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3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4.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58382E-006 L 0.24409 -0.62405 E">
                                      <p:cBhvr>
                                        <p:cTn id="554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12139E-006 L 0.22048 -0.00578 E">
                                      <p:cBhvr>
                                        <p:cTn id="558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4046E-006 L -0.2283 -0.18358 E">
                                      <p:cBhvr>
                                        <p:cTn id="562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23 0.12047 L -0.26372 0.45619 E">
                                      <p:cBhvr>
                                        <p:cTn id="56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pronoms2"/>
          <p:cNvPicPr/>
          <p:nvPr/>
        </p:nvPicPr>
        <p:blipFill>
          <a:blip r:embed="rId1"/>
          <a:stretch/>
        </p:blipFill>
        <p:spPr>
          <a:xfrm>
            <a:off x="324000" y="1773360"/>
            <a:ext cx="2736720" cy="3833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966" descr="pronoms2"/>
          <p:cNvPicPr/>
          <p:nvPr/>
        </p:nvPicPr>
        <p:blipFill>
          <a:blip r:embed="rId2"/>
          <a:stretch/>
        </p:blipFill>
        <p:spPr>
          <a:xfrm>
            <a:off x="5076720" y="981000"/>
            <a:ext cx="2808360" cy="2805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967" descr="pronoms2"/>
          <p:cNvPicPr/>
          <p:nvPr/>
        </p:nvPicPr>
        <p:blipFill>
          <a:blip r:embed="rId3"/>
          <a:stretch/>
        </p:blipFill>
        <p:spPr>
          <a:xfrm>
            <a:off x="5148360" y="4365720"/>
            <a:ext cx="3095640" cy="23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3276720" y="1125360"/>
          <a:ext cx="1224000" cy="539928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68360" y="4383000"/>
          <a:ext cx="2448000" cy="912960"/>
        </p:xfrm>
        <a:graphic>
          <a:graphicData uri="http://schemas.openxmlformats.org/drawingml/2006/table">
            <a:tbl>
              <a:tblPr/>
              <a:tblGrid>
                <a:gridCol w="2448000"/>
              </a:tblGrid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я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5148360" y="2382840"/>
          <a:ext cx="3527280" cy="914400"/>
        </p:xfrm>
        <a:graphic>
          <a:graphicData uri="http://schemas.openxmlformats.org/drawingml/2006/table">
            <a:tbl>
              <a:tblPr/>
              <a:tblGrid>
                <a:gridCol w="3527280"/>
              </a:tblGrid>
              <a:tr h="91440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бушк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653080" y="5607000"/>
          <a:ext cx="2232000" cy="91296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9129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яд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pronoms2"/>
          <p:cNvPicPr/>
          <p:nvPr/>
        </p:nvPicPr>
        <p:blipFill>
          <a:blip r:embed="rId1"/>
          <a:stretch/>
        </p:blipFill>
        <p:spPr>
          <a:xfrm>
            <a:off x="5076720" y="981000"/>
            <a:ext cx="3706920" cy="2781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88" descr="pronoms2"/>
          <p:cNvPicPr/>
          <p:nvPr/>
        </p:nvPicPr>
        <p:blipFill>
          <a:blip r:embed="rId2"/>
          <a:stretch/>
        </p:blipFill>
        <p:spPr>
          <a:xfrm>
            <a:off x="611280" y="981000"/>
            <a:ext cx="3708360" cy="2781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89" descr="i?id=78272320&amp;tov=3"/>
          <p:cNvPicPr/>
          <p:nvPr/>
        </p:nvPicPr>
        <p:blipFill>
          <a:blip r:embed="rId3"/>
          <a:stretch/>
        </p:blipFill>
        <p:spPr>
          <a:xfrm>
            <a:off x="324000" y="1052640"/>
            <a:ext cx="1409400" cy="2071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90" descr="i?id=95998571&amp;tov=7"/>
          <p:cNvPicPr/>
          <p:nvPr/>
        </p:nvPicPr>
        <p:blipFill>
          <a:blip r:embed="rId4"/>
          <a:stretch/>
        </p:blipFill>
        <p:spPr>
          <a:xfrm>
            <a:off x="6877080" y="981000"/>
            <a:ext cx="1697040" cy="237672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193"/>
          <p:cNvSpPr/>
          <p:nvPr/>
        </p:nvSpPr>
        <p:spPr>
          <a:xfrm>
            <a:off x="2844720" y="2492280"/>
            <a:ext cx="13953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95"/>
          <p:cNvSpPr/>
          <p:nvPr/>
        </p:nvSpPr>
        <p:spPr>
          <a:xfrm>
            <a:off x="7627320" y="2565360"/>
            <a:ext cx="15141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2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1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96"/>
          <p:cNvSpPr/>
          <p:nvPr/>
        </p:nvSpPr>
        <p:spPr>
          <a:xfrm>
            <a:off x="2341440" y="5013360"/>
            <a:ext cx="383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на дуб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00"/>
          <p:cNvSpPr/>
          <p:nvPr/>
        </p:nvSpPr>
        <p:spPr>
          <a:xfrm>
            <a:off x="1765080" y="4941720"/>
            <a:ext cx="55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от злост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02"/>
          <p:cNvSpPr/>
          <p:nvPr/>
        </p:nvSpPr>
        <p:spPr>
          <a:xfrm>
            <a:off x="2844360" y="4941720"/>
            <a:ext cx="324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в пол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04"/>
          <p:cNvSpPr/>
          <p:nvPr/>
        </p:nvSpPr>
        <p:spPr>
          <a:xfrm>
            <a:off x="2557800" y="5013360"/>
            <a:ext cx="441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из бочк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06"/>
          <p:cNvSpPr/>
          <p:nvPr/>
        </p:nvSpPr>
        <p:spPr>
          <a:xfrm>
            <a:off x="2774160" y="5084640"/>
            <a:ext cx="357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в озер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08"/>
          <p:cNvSpPr/>
          <p:nvPr/>
        </p:nvSpPr>
        <p:spPr>
          <a:xfrm>
            <a:off x="2557080" y="5084640"/>
            <a:ext cx="385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на вол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10"/>
          <p:cNvSpPr/>
          <p:nvPr/>
        </p:nvSpPr>
        <p:spPr>
          <a:xfrm>
            <a:off x="2270160" y="5302080"/>
            <a:ext cx="419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в зелен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11"/>
          <p:cNvSpPr/>
          <p:nvPr/>
        </p:nvSpPr>
        <p:spPr>
          <a:xfrm>
            <a:off x="1044000" y="-73080"/>
            <a:ext cx="76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ул. Существительна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13"/>
          <p:cNvSpPr/>
          <p:nvPr/>
        </p:nvSpPr>
        <p:spPr>
          <a:xfrm>
            <a:off x="2701800" y="5013360"/>
            <a:ext cx="3254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99"/>
                </a:solidFill>
                <a:latin typeface="Times New Roman"/>
              </a:rPr>
              <a:t>у дич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149 -0.1133 L -0.27257 -0.23908 E">
                                      <p:cBhvr>
                                        <p:cTn id="613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88 -0.11306 L 0.24757 -0.24948 E">
                                      <p:cBhvr>
                                        <p:cTn id="629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29 -0.02936 L -0.19358 -0.18659 E">
                                      <p:cBhvr>
                                        <p:cTn id="645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54 -0.0504 L 0.16754 -0.19722 E">
                                      <p:cBhvr>
                                        <p:cTn id="661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827 -0.01896 L -0.29011 -0.20763 E">
                                      <p:cBhvr>
                                        <p:cTn id="677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7552 -0.23075 E">
                                      <p:cBhvr>
                                        <p:cTn id="693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64 -0.01873 L 0.22725 -0.17618 E">
                                      <p:cBhvr>
                                        <p:cTn id="709" dur="20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611 -0.13642 E">
                                      <p:cBhvr>
                                        <p:cTn id="725" dur="2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pronom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324000" y="2133720"/>
          <a:ext cx="6553080" cy="4248000"/>
        </p:xfrm>
        <a:graphic>
          <a:graphicData uri="http://schemas.openxmlformats.org/drawingml/2006/table">
            <a:tbl>
              <a:tblPr/>
              <a:tblGrid>
                <a:gridCol w="6553080"/>
              </a:tblGrid>
              <a:tr h="42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На рябин.., в газет..,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 озер.., в тетрад…,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з берлог.., на кедр..,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о глад.., на опушк..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2" name="Text Box 440"/>
          <p:cNvSpPr/>
          <p:nvPr/>
        </p:nvSpPr>
        <p:spPr>
          <a:xfrm>
            <a:off x="1979640" y="0"/>
            <a:ext cx="576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Фабрика слов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448"/>
          <p:cNvSpPr/>
          <p:nvPr/>
        </p:nvSpPr>
        <p:spPr>
          <a:xfrm>
            <a:off x="3471840" y="114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49"/>
          <p:cNvSpPr/>
          <p:nvPr/>
        </p:nvSpPr>
        <p:spPr>
          <a:xfrm>
            <a:off x="1258920" y="981000"/>
            <a:ext cx="590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cc00"/>
                </a:solidFill>
                <a:latin typeface="Times New Roman"/>
              </a:rPr>
              <a:t>Нарисуй графи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7236000" y="189000"/>
          <a:ext cx="1476360" cy="6669000"/>
        </p:xfrm>
        <a:graphic>
          <a:graphicData uri="http://schemas.openxmlformats.org/drawingml/2006/table">
            <a:tbl>
              <a:tblPr/>
              <a:tblGrid>
                <a:gridCol w="1476360"/>
              </a:tblGrid>
              <a:tr h="66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5400" spc="-1" strike="noStrike">
                          <a:solidFill>
                            <a:srgbClr val="00cc00"/>
                          </a:solidFill>
                          <a:latin typeface="Times New Roman"/>
                        </a:rPr>
                        <a:t>е   и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6" name="Oval 496"/>
          <p:cNvSpPr/>
          <p:nvPr/>
        </p:nvSpPr>
        <p:spPr>
          <a:xfrm>
            <a:off x="7380360" y="1197000"/>
            <a:ext cx="21600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Oval 497"/>
          <p:cNvSpPr/>
          <p:nvPr/>
        </p:nvSpPr>
        <p:spPr>
          <a:xfrm>
            <a:off x="7380360" y="2708280"/>
            <a:ext cx="21600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Oval 498"/>
          <p:cNvSpPr/>
          <p:nvPr/>
        </p:nvSpPr>
        <p:spPr>
          <a:xfrm>
            <a:off x="8244000" y="4437000"/>
            <a:ext cx="21564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Oval 499"/>
          <p:cNvSpPr/>
          <p:nvPr/>
        </p:nvSpPr>
        <p:spPr>
          <a:xfrm>
            <a:off x="8244000" y="3645000"/>
            <a:ext cx="215640" cy="21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Oval 500"/>
          <p:cNvSpPr/>
          <p:nvPr/>
        </p:nvSpPr>
        <p:spPr>
          <a:xfrm>
            <a:off x="7380360" y="1989000"/>
            <a:ext cx="21600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Oval 501"/>
          <p:cNvSpPr/>
          <p:nvPr/>
        </p:nvSpPr>
        <p:spPr>
          <a:xfrm>
            <a:off x="7451640" y="5373720"/>
            <a:ext cx="21600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Oval 502"/>
          <p:cNvSpPr/>
          <p:nvPr/>
        </p:nvSpPr>
        <p:spPr>
          <a:xfrm>
            <a:off x="8317080" y="5950080"/>
            <a:ext cx="215640" cy="215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Oval 503"/>
          <p:cNvSpPr/>
          <p:nvPr/>
        </p:nvSpPr>
        <p:spPr>
          <a:xfrm>
            <a:off x="7451640" y="6381720"/>
            <a:ext cx="216000" cy="216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504"/>
          <p:cNvSpPr/>
          <p:nvPr/>
        </p:nvSpPr>
        <p:spPr>
          <a:xfrm>
            <a:off x="7451640" y="1413000"/>
            <a:ext cx="0" cy="57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505"/>
          <p:cNvSpPr/>
          <p:nvPr/>
        </p:nvSpPr>
        <p:spPr>
          <a:xfrm>
            <a:off x="7451640" y="220500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506"/>
          <p:cNvSpPr/>
          <p:nvPr/>
        </p:nvSpPr>
        <p:spPr>
          <a:xfrm>
            <a:off x="7524720" y="2852640"/>
            <a:ext cx="792360" cy="792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07"/>
          <p:cNvSpPr/>
          <p:nvPr/>
        </p:nvSpPr>
        <p:spPr>
          <a:xfrm>
            <a:off x="8317080" y="3860640"/>
            <a:ext cx="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508"/>
          <p:cNvSpPr/>
          <p:nvPr/>
        </p:nvSpPr>
        <p:spPr>
          <a:xfrm flipH="1">
            <a:off x="7596360" y="4581360"/>
            <a:ext cx="720720" cy="86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509"/>
          <p:cNvSpPr/>
          <p:nvPr/>
        </p:nvSpPr>
        <p:spPr>
          <a:xfrm>
            <a:off x="7667640" y="5589720"/>
            <a:ext cx="6494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510"/>
          <p:cNvSpPr/>
          <p:nvPr/>
        </p:nvSpPr>
        <p:spPr>
          <a:xfrm flipH="1">
            <a:off x="7667640" y="6093000"/>
            <a:ext cx="649440" cy="36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512"/>
          <p:cNvSpPr/>
          <p:nvPr/>
        </p:nvSpPr>
        <p:spPr>
          <a:xfrm>
            <a:off x="8288280" y="5373720"/>
            <a:ext cx="8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600" spc="-1" strike="noStrike">
                <a:solidFill>
                  <a:srgbClr val="ff0066"/>
                </a:solidFill>
                <a:latin typeface="Times New Roman"/>
              </a:rPr>
              <a:t>5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4" descr="YD9A0CALEK2IRCA5TDD5KCARU1HYJCA8DQ1N7CAYIGVAICABM3U65CAAPN09NCAI400X0CAT0CBY2CANXWVFYCAG7HL77CADC8IGJCA5BQPBPCAYS1XM1CAM45EZDCAY03GYACA01DVY0CANTYL09CAONA972"/>
          <p:cNvPicPr/>
          <p:nvPr/>
        </p:nvPicPr>
        <p:blipFill>
          <a:blip r:embed="rId1"/>
          <a:stretch/>
        </p:blipFill>
        <p:spPr>
          <a:xfrm>
            <a:off x="0" y="0"/>
            <a:ext cx="9325080" cy="69944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5"/>
          <p:cNvSpPr/>
          <p:nvPr/>
        </p:nvSpPr>
        <p:spPr>
          <a:xfrm>
            <a:off x="1042920" y="404640"/>
            <a:ext cx="70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99"/>
                </a:solidFill>
                <a:latin typeface="Monotype Corsiva"/>
              </a:rPr>
              <a:t>Д</a:t>
            </a:r>
            <a:r>
              <a:rPr b="0" lang="ru-RU" sz="5400" spc="-1" strike="noStrike">
                <a:solidFill>
                  <a:srgbClr val="000099"/>
                </a:solidFill>
                <a:latin typeface="Arial"/>
              </a:rPr>
              <a:t>омашнее зад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7"/>
          <p:cNvGrpSpPr/>
          <p:nvPr/>
        </p:nvGrpSpPr>
        <p:grpSpPr>
          <a:xfrm>
            <a:off x="2544840" y="1197000"/>
            <a:ext cx="4235400" cy="5398920"/>
            <a:chOff x="2544840" y="1197000"/>
            <a:chExt cx="4235400" cy="5398920"/>
          </a:xfrm>
        </p:grpSpPr>
        <p:pic>
          <p:nvPicPr>
            <p:cNvPr id="257" name="Picture 8" descr="4"/>
            <p:cNvPicPr/>
            <p:nvPr/>
          </p:nvPicPr>
          <p:blipFill>
            <a:blip r:embed="rId2"/>
            <a:stretch/>
          </p:blipFill>
          <p:spPr>
            <a:xfrm>
              <a:off x="2544840" y="1197000"/>
              <a:ext cx="4235400" cy="53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Text Box 9"/>
            <p:cNvSpPr/>
            <p:nvPr/>
          </p:nvSpPr>
          <p:spPr>
            <a:xfrm>
              <a:off x="3993840" y="1911240"/>
              <a:ext cx="2441880" cy="596160"/>
            </a:xfrm>
            <a:prstGeom prst="rect">
              <a:avLst/>
            </a:prstGeom>
            <a:solidFill>
              <a:srgbClr val="1486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pronom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6"/>
          <p:cNvSpPr/>
          <p:nvPr/>
        </p:nvSpPr>
        <p:spPr>
          <a:xfrm>
            <a:off x="901440" y="260280"/>
            <a:ext cx="7476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66"/>
                </a:solidFill>
                <a:latin typeface="Times New Roman"/>
              </a:rPr>
              <a:t>Урок-путешестви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857" descr="pronoms2"/>
          <p:cNvPicPr/>
          <p:nvPr/>
        </p:nvPicPr>
        <p:blipFill>
          <a:blip r:embed="rId1"/>
          <a:stretch/>
        </p:blipFill>
        <p:spPr>
          <a:xfrm>
            <a:off x="2771640" y="1628640"/>
            <a:ext cx="2449800" cy="1838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58" descr="pronoms2"/>
          <p:cNvPicPr/>
          <p:nvPr/>
        </p:nvPicPr>
        <p:blipFill>
          <a:blip r:embed="rId2"/>
          <a:stretch/>
        </p:blipFill>
        <p:spPr>
          <a:xfrm>
            <a:off x="324000" y="2781360"/>
            <a:ext cx="2555640" cy="1917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859" descr="pronoms2"/>
          <p:cNvPicPr/>
          <p:nvPr/>
        </p:nvPicPr>
        <p:blipFill>
          <a:blip r:embed="rId3"/>
          <a:stretch/>
        </p:blipFill>
        <p:spPr>
          <a:xfrm>
            <a:off x="5076720" y="907920"/>
            <a:ext cx="1871640" cy="1403640"/>
          </a:xfrm>
          <a:prstGeom prst="rect">
            <a:avLst/>
          </a:prstGeom>
          <a:ln w="0">
            <a:noFill/>
          </a:ln>
        </p:spPr>
      </p:pic>
      <p:sp>
        <p:nvSpPr>
          <p:cNvPr id="53" name="Line 1860"/>
          <p:cNvSpPr/>
          <p:nvPr/>
        </p:nvSpPr>
        <p:spPr>
          <a:xfrm flipV="1">
            <a:off x="0" y="1268280"/>
            <a:ext cx="9144000" cy="482472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861"/>
          <p:cNvSpPr/>
          <p:nvPr/>
        </p:nvSpPr>
        <p:spPr>
          <a:xfrm flipV="1">
            <a:off x="1619280" y="2565360"/>
            <a:ext cx="7524720" cy="429264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862"/>
          <p:cNvSpPr/>
          <p:nvPr/>
        </p:nvSpPr>
        <p:spPr>
          <a:xfrm>
            <a:off x="324000" y="0"/>
            <a:ext cx="783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ff0066"/>
                </a:solidFill>
                <a:latin typeface="Times New Roman"/>
              </a:rPr>
              <a:t>ул. Каллиграфическа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864"/>
          <p:cNvSpPr/>
          <p:nvPr/>
        </p:nvSpPr>
        <p:spPr>
          <a:xfrm>
            <a:off x="972720" y="530208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Arial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866"/>
          <p:cNvSpPr/>
          <p:nvPr/>
        </p:nvSpPr>
        <p:spPr>
          <a:xfrm>
            <a:off x="1909800" y="479736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868"/>
          <p:cNvSpPr/>
          <p:nvPr/>
        </p:nvSpPr>
        <p:spPr>
          <a:xfrm>
            <a:off x="2918520" y="4149720"/>
            <a:ext cx="10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Arial"/>
              </a:rPr>
              <a:t>ж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870"/>
          <p:cNvSpPr/>
          <p:nvPr/>
        </p:nvSpPr>
        <p:spPr>
          <a:xfrm>
            <a:off x="6086160" y="25653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872"/>
          <p:cNvSpPr/>
          <p:nvPr/>
        </p:nvSpPr>
        <p:spPr>
          <a:xfrm>
            <a:off x="3925800" y="35733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Arial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874"/>
          <p:cNvSpPr/>
          <p:nvPr/>
        </p:nvSpPr>
        <p:spPr>
          <a:xfrm>
            <a:off x="5005440" y="299736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76"/>
          <p:cNvSpPr/>
          <p:nvPr/>
        </p:nvSpPr>
        <p:spPr>
          <a:xfrm>
            <a:off x="7021080" y="191628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ffff"/>
                </a:solidFill>
                <a:latin typeface="Arial"/>
              </a:rPr>
              <a:t>р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877" descr="i?id=7157369&amp;tov=0"/>
          <p:cNvPicPr/>
          <p:nvPr/>
        </p:nvPicPr>
        <p:blipFill>
          <a:blip r:embed="rId4"/>
          <a:stretch/>
        </p:blipFill>
        <p:spPr>
          <a:xfrm>
            <a:off x="6516720" y="4292640"/>
            <a:ext cx="1735200" cy="2376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878"/>
          <p:cNvSpPr/>
          <p:nvPr/>
        </p:nvSpPr>
        <p:spPr>
          <a:xfrm>
            <a:off x="6445080" y="2060640"/>
            <a:ext cx="43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2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908000" y="1197000"/>
            <a:ext cx="26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ж.р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637600" y="1197000"/>
            <a:ext cx="20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ahoma"/>
              </a:rPr>
              <a:t>м.р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916360" y="3645000"/>
            <a:ext cx="1368360" cy="1079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3300"/>
                </a:solidFill>
                <a:latin typeface="Tahoma"/>
              </a:rPr>
              <a:t>-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4859280" y="3645000"/>
            <a:ext cx="1368360" cy="1079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3300"/>
                </a:solidFill>
                <a:latin typeface="Tahoma"/>
              </a:rPr>
              <a:t>-я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6"/>
          <p:cNvSpPr/>
          <p:nvPr/>
        </p:nvSpPr>
        <p:spPr>
          <a:xfrm>
            <a:off x="2700360" y="2276640"/>
            <a:ext cx="1150920" cy="1439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7"/>
          <p:cNvSpPr/>
          <p:nvPr/>
        </p:nvSpPr>
        <p:spPr>
          <a:xfrm>
            <a:off x="3059280" y="2133720"/>
            <a:ext cx="2233440" cy="1439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8"/>
          <p:cNvSpPr/>
          <p:nvPr/>
        </p:nvSpPr>
        <p:spPr>
          <a:xfrm flipH="1">
            <a:off x="3780000" y="2276640"/>
            <a:ext cx="2304720" cy="1368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9"/>
          <p:cNvSpPr/>
          <p:nvPr/>
        </p:nvSpPr>
        <p:spPr>
          <a:xfrm flipH="1">
            <a:off x="5148360" y="2205000"/>
            <a:ext cx="1008000" cy="14414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1476360" y="404640"/>
            <a:ext cx="6372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3300"/>
                </a:solidFill>
                <a:latin typeface="Tahoma"/>
              </a:rPr>
              <a:t>1 склонени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1" descr="i?id=30285647&amp;tov=6"/>
          <p:cNvPicPr/>
          <p:nvPr/>
        </p:nvPicPr>
        <p:blipFill>
          <a:blip r:embed="rId1"/>
          <a:stretch/>
        </p:blipFill>
        <p:spPr>
          <a:xfrm>
            <a:off x="3924360" y="4724280"/>
            <a:ext cx="1319040" cy="158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pronoms2"/>
          <p:cNvPicPr/>
          <p:nvPr/>
        </p:nvPicPr>
        <p:blipFill>
          <a:blip r:embed="rId2"/>
          <a:stretch/>
        </p:blipFill>
        <p:spPr>
          <a:xfrm>
            <a:off x="755640" y="620640"/>
            <a:ext cx="7704000" cy="577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1763640" y="2838600"/>
          <a:ext cx="3529080" cy="402264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…стр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х…дьба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60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т…на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28"/>
          <p:cNvSpPr/>
          <p:nvPr/>
        </p:nvSpPr>
        <p:spPr>
          <a:xfrm>
            <a:off x="1834920" y="4869000"/>
            <a:ext cx="2552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зел...н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9"/>
          <p:cNvSpPr/>
          <p:nvPr/>
        </p:nvSpPr>
        <p:spPr>
          <a:xfrm>
            <a:off x="1117080" y="-243000"/>
            <a:ext cx="720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Times New Roman"/>
              </a:rPr>
              <a:t>ул.Орфографическа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2342160" y="263700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cc99"/>
                </a:solidFill>
                <a:latin typeface="Times New Roman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40"/>
          <p:cNvSpPr/>
          <p:nvPr/>
        </p:nvSpPr>
        <p:spPr>
          <a:xfrm>
            <a:off x="2845440" y="566892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cc99"/>
                </a:solidFill>
                <a:latin typeface="Times New Roman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2"/>
          <p:cNvSpPr/>
          <p:nvPr/>
        </p:nvSpPr>
        <p:spPr>
          <a:xfrm>
            <a:off x="2918520" y="4724280"/>
            <a:ext cx="5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cc99"/>
                </a:solidFill>
                <a:latin typeface="Times New Roman"/>
              </a:rPr>
              <a:t>е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6"/>
          <p:cNvSpPr/>
          <p:nvPr/>
        </p:nvSpPr>
        <p:spPr>
          <a:xfrm>
            <a:off x="2270160" y="3645000"/>
            <a:ext cx="63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cc99"/>
                </a:solidFill>
                <a:latin typeface="Times New Roman"/>
              </a:rPr>
              <a:t>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17"/>
          <p:cNvSpPr/>
          <p:nvPr/>
        </p:nvSpPr>
        <p:spPr>
          <a:xfrm>
            <a:off x="757080" y="836640"/>
            <a:ext cx="16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1 скл</a:t>
            </a: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9"/>
          <p:cNvSpPr/>
          <p:nvPr/>
        </p:nvSpPr>
        <p:spPr>
          <a:xfrm>
            <a:off x="3852720" y="1413000"/>
            <a:ext cx="16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2 скл</a:t>
            </a: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1"/>
          <p:cNvSpPr/>
          <p:nvPr/>
        </p:nvSpPr>
        <p:spPr>
          <a:xfrm>
            <a:off x="6445080" y="981000"/>
            <a:ext cx="16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imes New Roman"/>
              </a:rPr>
              <a:t>3 скл</a:t>
            </a: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22"/>
          <p:cNvSpPr/>
          <p:nvPr/>
        </p:nvSpPr>
        <p:spPr>
          <a:xfrm>
            <a:off x="1113840" y="0"/>
            <a:ext cx="6924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лагерь </a:t>
            </a:r>
            <a:r>
              <a:rPr b="1" i="1" lang="ru-RU" sz="6000" spc="-1" strike="noStrike">
                <a:solidFill>
                  <a:srgbClr val="ff0066"/>
                </a:solidFill>
                <a:latin typeface="Times New Roman"/>
              </a:rPr>
              <a:t>«Склонения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3"/>
          <p:cNvSpPr/>
          <p:nvPr/>
        </p:nvSpPr>
        <p:spPr>
          <a:xfrm>
            <a:off x="684720" y="5373720"/>
            <a:ext cx="2601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</a:rPr>
              <a:t>в окн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5"/>
          <p:cNvSpPr/>
          <p:nvPr/>
        </p:nvSpPr>
        <p:spPr>
          <a:xfrm>
            <a:off x="971640" y="5445000"/>
            <a:ext cx="343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</a:rPr>
              <a:t>у сосн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7"/>
          <p:cNvSpPr/>
          <p:nvPr/>
        </p:nvSpPr>
        <p:spPr>
          <a:xfrm>
            <a:off x="972360" y="5300640"/>
            <a:ext cx="2928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</a:rPr>
              <a:t>в тиш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29"/>
          <p:cNvSpPr/>
          <p:nvPr/>
        </p:nvSpPr>
        <p:spPr>
          <a:xfrm>
            <a:off x="1188000" y="5229360"/>
            <a:ext cx="2571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</a:rPr>
              <a:t>на дн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31"/>
          <p:cNvSpPr/>
          <p:nvPr/>
        </p:nvSpPr>
        <p:spPr>
          <a:xfrm>
            <a:off x="756000" y="5300640"/>
            <a:ext cx="336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</a:rPr>
              <a:t>в стран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33"/>
          <p:cNvSpPr/>
          <p:nvPr/>
        </p:nvSpPr>
        <p:spPr>
          <a:xfrm>
            <a:off x="1042920" y="5373720"/>
            <a:ext cx="311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</a:rPr>
              <a:t>на цеп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35"/>
          <p:cNvSpPr/>
          <p:nvPr/>
        </p:nvSpPr>
        <p:spPr>
          <a:xfrm>
            <a:off x="972360" y="5445000"/>
            <a:ext cx="264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</a:rPr>
              <a:t>у кон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37"/>
          <p:cNvSpPr/>
          <p:nvPr/>
        </p:nvSpPr>
        <p:spPr>
          <a:xfrm>
            <a:off x="901080" y="5373720"/>
            <a:ext cx="330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</a:rPr>
              <a:t>в глуши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39"/>
          <p:cNvSpPr/>
          <p:nvPr/>
        </p:nvSpPr>
        <p:spPr>
          <a:xfrm>
            <a:off x="179280" y="5229360"/>
            <a:ext cx="3184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cc"/>
                </a:solidFill>
                <a:latin typeface="Times New Roman"/>
              </a:rPr>
              <a:t>с Ильёй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43" descr="pronoms2"/>
          <p:cNvPicPr/>
          <p:nvPr/>
        </p:nvPicPr>
        <p:blipFill>
          <a:blip r:embed="rId1"/>
          <a:stretch/>
        </p:blipFill>
        <p:spPr>
          <a:xfrm>
            <a:off x="395280" y="1628640"/>
            <a:ext cx="2735280" cy="2052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4" descr="pronoms2"/>
          <p:cNvPicPr/>
          <p:nvPr/>
        </p:nvPicPr>
        <p:blipFill>
          <a:blip r:embed="rId2"/>
          <a:stretch/>
        </p:blipFill>
        <p:spPr>
          <a:xfrm>
            <a:off x="3132000" y="2133720"/>
            <a:ext cx="2772000" cy="2079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5" descr="pronoms2"/>
          <p:cNvPicPr/>
          <p:nvPr/>
        </p:nvPicPr>
        <p:blipFill>
          <a:blip r:embed="rId3"/>
          <a:stretch/>
        </p:blipFill>
        <p:spPr>
          <a:xfrm>
            <a:off x="5940360" y="1700280"/>
            <a:ext cx="295272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7 -0.03815 L 0.26719 -0.28994 E">
                                      <p:cBhvr>
                                        <p:cTn id="15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351 -0.04856 L -0.0757 -0.47861 E">
                                      <p:cBhvr>
                                        <p:cTn id="166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386 -3.12139E-006 L 0.60868 -0.43653 E">
                                      <p:cBhvr>
                                        <p:cTn id="18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25 0.02497 L 0.2217 -0.31075 E">
                                      <p:cBhvr>
                                        <p:cTn id="194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455 -0.04832 L -0.02656 -0.48902 E">
                                      <p:cBhvr>
                                        <p:cTn id="20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78 -0.01711 L 0.53837 -0.45757 E">
                                      <p:cBhvr>
                                        <p:cTn id="222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-0.00648 L 0.2408 -0.3422 E">
                                      <p:cBhvr>
                                        <p:cTn id="23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5903 -0.44046 E">
                                      <p:cBhvr>
                                        <p:cTn id="25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6 -0.03792 L -0.00087 -0.52046 E">
                                      <p:cBhvr>
                                        <p:cTn id="264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-898920" y="0"/>
            <a:ext cx="827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      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Аллея предложени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395280" y="2781360"/>
            <a:ext cx="8137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6"/>
          <p:cNvSpPr/>
          <p:nvPr/>
        </p:nvSpPr>
        <p:spPr>
          <a:xfrm flipV="1">
            <a:off x="250920" y="5229360"/>
            <a:ext cx="80661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7" descr="i?id=736166&amp;tov=4"/>
          <p:cNvPicPr/>
          <p:nvPr/>
        </p:nvPicPr>
        <p:blipFill>
          <a:blip r:embed="rId1"/>
          <a:stretch/>
        </p:blipFill>
        <p:spPr>
          <a:xfrm>
            <a:off x="7451640" y="333360"/>
            <a:ext cx="1476360" cy="22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i?id=91442793&amp;tov=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5229360"/>
            <a:ext cx="1333440" cy="1382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i?id=91442793&amp;tov=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588000" y="5229360"/>
            <a:ext cx="1333800" cy="1296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i?id=88434711&amp;tov=0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39640" y="5300640"/>
            <a:ext cx="1181160" cy="1333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i?id=88434711&amp;tov=0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95280" y="1341360"/>
            <a:ext cx="1181160" cy="1333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i?id=88434711&amp;tov=0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6084720" y="1341360"/>
            <a:ext cx="1181160" cy="1333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i?id=73416181&amp;tov=6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1692360" y="1341360"/>
            <a:ext cx="1305000" cy="1333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i?id=73416181&amp;tov=6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5076720" y="5229360"/>
            <a:ext cx="1305000" cy="1333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i?id=73416181&amp;tov=6"/>
          <p:cNvPicPr/>
          <p:nvPr/>
        </p:nvPicPr>
        <p:blipFill>
          <a:blip r:embed="rId16"/>
          <a:stretch/>
        </p:blipFill>
        <p:spPr>
          <a:xfrm>
            <a:off x="1908000" y="5300640"/>
            <a:ext cx="1305000" cy="1333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i?id=91442793&amp;tov=6"/>
          <p:cNvPicPr/>
          <p:nvPr/>
        </p:nvPicPr>
        <p:blipFill>
          <a:blip r:embed="rId17"/>
          <a:stretch/>
        </p:blipFill>
        <p:spPr>
          <a:xfrm>
            <a:off x="3132000" y="1268280"/>
            <a:ext cx="1333800" cy="1382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i?id=73416181&amp;tov=6"/>
          <p:cNvPicPr/>
          <p:nvPr/>
        </p:nvPicPr>
        <p:blipFill>
          <a:blip r:embed="rId18"/>
          <a:stretch/>
        </p:blipFill>
        <p:spPr>
          <a:xfrm>
            <a:off x="4643280" y="1341360"/>
            <a:ext cx="1305000" cy="13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1"/>
          <p:cNvSpPr/>
          <p:nvPr/>
        </p:nvSpPr>
        <p:spPr>
          <a:xfrm>
            <a:off x="-360" y="2995560"/>
            <a:ext cx="921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Бабушка, Коля , отдыхал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в, летом, у, деревня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Рисунок92"/>
          <p:cNvPicPr/>
          <p:nvPr/>
        </p:nvPicPr>
        <p:blipFill>
          <a:blip r:embed="rId1"/>
          <a:stretch/>
        </p:blipFill>
        <p:spPr>
          <a:xfrm>
            <a:off x="0" y="836640"/>
            <a:ext cx="2371680" cy="21049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360360" y="3573360"/>
            <a:ext cx="878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99"/>
                </a:solidFill>
                <a:latin typeface="Times New Roman"/>
              </a:rPr>
              <a:t>Летом Коля отдыха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99"/>
                </a:solidFill>
                <a:latin typeface="Times New Roman"/>
              </a:rPr>
              <a:t>у бабушк… в деревн…</a:t>
            </a:r>
            <a:r>
              <a:rPr b="1" i="1" lang="ru-RU" sz="6000" spc="-1" strike="noStrike">
                <a:solidFill>
                  <a:srgbClr val="000099"/>
                </a:solidFill>
                <a:latin typeface="Times New Roman"/>
              </a:rPr>
              <a:t> 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363840" y="5651640"/>
            <a:ext cx="48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853080" y="429264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66"/>
                </a:solidFill>
                <a:latin typeface="Times New Roman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3851280" y="4292640"/>
            <a:ext cx="80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3"/>
          <p:cNvSpPr/>
          <p:nvPr/>
        </p:nvSpPr>
        <p:spPr>
          <a:xfrm>
            <a:off x="7886520" y="4292640"/>
            <a:ext cx="67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66"/>
                </a:solidFill>
                <a:latin typeface="Times New Roman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7886880" y="422100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66"/>
                </a:solidFill>
                <a:latin typeface="Times New Roman"/>
              </a:rPr>
              <a:t>и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852720" y="4221000"/>
            <a:ext cx="8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7886520" y="4149720"/>
            <a:ext cx="8542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ff0066"/>
                </a:solidFill>
                <a:latin typeface="Times New Roman"/>
              </a:rPr>
              <a:t>?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2302560" y="476280"/>
            <a:ext cx="61182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                    </a:t>
            </a: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Тем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«Правописание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падежных оконча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   </a:t>
            </a: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имён существительных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1 склонения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pronoms2"/>
          <p:cNvPicPr/>
          <p:nvPr/>
        </p:nvPicPr>
        <p:blipFill>
          <a:blip r:embed="rId1"/>
          <a:stretch/>
        </p:blipFill>
        <p:spPr>
          <a:xfrm>
            <a:off x="324000" y="1773360"/>
            <a:ext cx="2736720" cy="38336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2965"/>
          <p:cNvSpPr/>
          <p:nvPr/>
        </p:nvSpPr>
        <p:spPr>
          <a:xfrm>
            <a:off x="543600" y="65160"/>
            <a:ext cx="866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Times New Roman"/>
              </a:rPr>
              <a:t>Санаторий </a:t>
            </a:r>
            <a:r>
              <a:rPr b="1" lang="ru-RU" sz="6000" spc="-1" strike="noStrike">
                <a:solidFill>
                  <a:srgbClr val="ff0066"/>
                </a:solidFill>
                <a:latin typeface="Times New Roman"/>
              </a:rPr>
              <a:t>«Падежный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966" descr="pronoms2"/>
          <p:cNvPicPr/>
          <p:nvPr/>
        </p:nvPicPr>
        <p:blipFill>
          <a:blip r:embed="rId2"/>
          <a:stretch/>
        </p:blipFill>
        <p:spPr>
          <a:xfrm>
            <a:off x="5076720" y="981000"/>
            <a:ext cx="2808360" cy="28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967" descr="pronoms2"/>
          <p:cNvPicPr/>
          <p:nvPr/>
        </p:nvPicPr>
        <p:blipFill>
          <a:blip r:embed="rId3"/>
          <a:stretch/>
        </p:blipFill>
        <p:spPr>
          <a:xfrm>
            <a:off x="5148360" y="4365720"/>
            <a:ext cx="3095640" cy="23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3276720" y="1125360"/>
          <a:ext cx="1224000" cy="5399280"/>
        </p:xfrm>
        <a:graphic>
          <a:graphicData uri="http://schemas.openxmlformats.org/drawingml/2006/table">
            <a:tbl>
              <a:tblPr/>
              <a:tblGrid>
                <a:gridCol w="1224000"/>
              </a:tblGrid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Д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В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.п.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395280" y="3645000"/>
          <a:ext cx="2016000" cy="912600"/>
        </p:xfrm>
        <a:graphic>
          <a:graphicData uri="http://schemas.openxmlformats.org/drawingml/2006/table">
            <a:tbl>
              <a:tblPr/>
              <a:tblGrid>
                <a:gridCol w="2016000"/>
              </a:tblGrid>
              <a:tr h="91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6372360" y="981000"/>
          <a:ext cx="2303280" cy="912960"/>
        </p:xfrm>
        <a:graphic>
          <a:graphicData uri="http://schemas.openxmlformats.org/drawingml/2006/table">
            <a:tbl>
              <a:tblPr/>
              <a:tblGrid>
                <a:gridCol w="2303280"/>
              </a:tblGrid>
              <a:tr h="9129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стр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5003640" y="3933720"/>
          <a:ext cx="2232360" cy="912960"/>
        </p:xfrm>
        <a:graphic>
          <a:graphicData uri="http://schemas.openxmlformats.org/drawingml/2006/table">
            <a:tbl>
              <a:tblPr/>
              <a:tblGrid>
                <a:gridCol w="2232360"/>
              </a:tblGrid>
              <a:tr h="9129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мля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348000" y="1413000"/>
            <a:ext cx="133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И.п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3349800" y="2349360"/>
            <a:ext cx="129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.п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350520" y="3284640"/>
            <a:ext cx="132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Д.п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348000" y="4149720"/>
            <a:ext cx="14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В.п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348000" y="5084640"/>
            <a:ext cx="133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Т.п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349800" y="5877000"/>
            <a:ext cx="132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.п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529560" y="0"/>
            <a:ext cx="822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Окончания имен существительны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                 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1-го склон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005080" y="126828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6373440" y="1268280"/>
            <a:ext cx="880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5005080" y="2276640"/>
            <a:ext cx="108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6373800" y="2276640"/>
            <a:ext cx="90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03640" y="3141720"/>
            <a:ext cx="86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05080" y="400536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6445080" y="4005360"/>
            <a:ext cx="1086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ю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4861080" y="5013360"/>
            <a:ext cx="136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о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6445440" y="5013360"/>
            <a:ext cx="132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-ей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5078160" y="5851440"/>
            <a:ext cx="85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Arial"/>
              </a:rPr>
              <a:t>-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19" descr="i?id=98463916&amp;tov=3"/>
          <p:cNvPicPr/>
          <p:nvPr/>
        </p:nvPicPr>
        <p:blipFill>
          <a:blip r:embed="rId1"/>
          <a:stretch/>
        </p:blipFill>
        <p:spPr>
          <a:xfrm>
            <a:off x="539640" y="2924280"/>
            <a:ext cx="2197080" cy="2155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i?id=17229037&amp;tov=0"/>
          <p:cNvPicPr/>
          <p:nvPr/>
        </p:nvPicPr>
        <p:blipFill>
          <a:blip r:embed="rId2"/>
          <a:stretch/>
        </p:blipFill>
        <p:spPr>
          <a:xfrm>
            <a:off x="250920" y="692280"/>
            <a:ext cx="1727280" cy="865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3:20:52Z</dcterms:created>
  <dc:creator>Mamontova</dc:creator>
  <dc:description/>
  <dc:language>en-US</dc:language>
  <cp:lastModifiedBy>пользователь</cp:lastModifiedBy>
  <dcterms:modified xsi:type="dcterms:W3CDTF">2015-02-03T12:52:54Z</dcterms:modified>
  <cp:revision>56</cp:revision>
  <dc:subject/>
  <dc:title>Презентация PowerPoint</dc:title>
</cp:coreProperties>
</file>