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9.wmf" ContentType="image/x-wmf"/>
  <Override PartName="/ppt/media/image5.jpeg" ContentType="image/jpeg"/>
  <Override PartName="/ppt/media/image20.wmf" ContentType="image/x-wmf"/>
  <Override PartName="/ppt/media/image12.wmf" ContentType="image/x-wmf"/>
  <Override PartName="/ppt/media/image11.jpeg" ContentType="image/jpeg"/>
  <Override PartName="/ppt/media/image23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4.wmf" ContentType="image/x-wmf"/>
  <Override PartName="/ppt/media/image1.png" ContentType="image/png"/>
  <Override PartName="/ppt/media/image3.png" ContentType="image/png"/>
  <Override PartName="/ppt/media/image22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8.png" ContentType="image/png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AC1E-58FB-437C-A1C0-227D9316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5EE6-2AF6-4CB4-BD3B-3C15E58A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488-F791-422B-9A5C-9881E919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36F-4B41-4A35-AC54-94C7F32A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9D1-08D1-45EE-9982-0C49F036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1A3C-B321-4714-8CF5-90111808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A09F-2462-4874-92B1-51CC24EE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7B2E-522A-4860-BFF1-43C83ACB7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9D1-F1D5-465F-953B-AFFA73FD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688-F0E2-446E-A2EF-BB944D64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60E9-4213-40EF-812D-C6062EBC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B212-4521-48DE-BC53-E1852D86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3194-7DC9-414D-9624-3AE1359CD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18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wm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6280" y="1628640"/>
            <a:ext cx="8569440" cy="32630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ury Gothic"/>
              </a:rPr>
              <a:t>СЛОВА</a:t>
            </a:r>
            <a:r>
              <a:rPr b="1" lang="en-US" sz="80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3300"/>
                </a:solidFill>
                <a:latin typeface="Century Gothic"/>
              </a:rPr>
              <a:t>АНТОНИМ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Century Gothic"/>
              </a:rPr>
              <a:t>(ПРОТИВОПОЛОЖНОСТИ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83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404640"/>
          <a:ext cx="3816360" cy="309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3816360" cy="30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19600" y="1773360"/>
          <a:ext cx="4173480" cy="41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19600" y="1773360"/>
                    <a:ext cx="417348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 txBox="1"/>
          <p:nvPr/>
        </p:nvSpPr>
        <p:spPr>
          <a:xfrm>
            <a:off x="395280" y="3716280"/>
            <a:ext cx="302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ИСЛ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076720" y="5950080"/>
            <a:ext cx="324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СЛАД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43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50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50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2697120" y="189000"/>
          <a:ext cx="4395960" cy="64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97120" y="189000"/>
                    <a:ext cx="439596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 txBox="1"/>
          <p:nvPr/>
        </p:nvSpPr>
        <p:spPr>
          <a:xfrm>
            <a:off x="179280" y="189000"/>
            <a:ext cx="3456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ДЕВОЧ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445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9280" y="18900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ЬЧ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46480" y="189000"/>
          <a:ext cx="2657520" cy="648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46480" y="189000"/>
                    <a:ext cx="2657520" cy="64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397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08000" y="260280"/>
          <a:ext cx="3752640" cy="547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3752640" cy="547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415200" y="189000"/>
          <a:ext cx="2333520" cy="568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15200" y="189000"/>
                    <a:ext cx="23335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 txBox="1"/>
          <p:nvPr/>
        </p:nvSpPr>
        <p:spPr>
          <a:xfrm>
            <a:off x="324000" y="5877000"/>
            <a:ext cx="3671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СМЕЁТС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580000" y="6035760"/>
            <a:ext cx="324000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cc"/>
                </a:solidFill>
                <a:latin typeface="Century Gothic"/>
              </a:rPr>
              <a:t>ПЛАЧЕ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cc"/>
              </a:solidFill>
              <a:latin typeface="Century Gothic"/>
              <a:ea typeface="Century Gothic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599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500" autoRev="1" fill="hold"/>
                                        <p:tgtEl>
                                          <p:spTgt spid="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5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5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5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908000" y="1353960"/>
          <a:ext cx="6048720" cy="509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353960"/>
                    <a:ext cx="6048720" cy="50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 txBox="1"/>
          <p:nvPr/>
        </p:nvSpPr>
        <p:spPr>
          <a:xfrm>
            <a:off x="179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УЧЕН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397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198960" y="404640"/>
          <a:ext cx="3389040" cy="626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98960" y="404640"/>
                    <a:ext cx="3389040" cy="62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 txBox="1"/>
          <p:nvPr/>
        </p:nvSpPr>
        <p:spPr>
          <a:xfrm>
            <a:off x="179280" y="189000"/>
            <a:ext cx="360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ХУЛИГА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44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08000" y="907920"/>
          <a:ext cx="496872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907920"/>
                    <a:ext cx="496872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6404040" y="836640"/>
          <a:ext cx="2493720" cy="46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4040" y="836640"/>
                    <a:ext cx="2493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 txBox="1"/>
          <p:nvPr/>
        </p:nvSpPr>
        <p:spPr>
          <a:xfrm>
            <a:off x="468360" y="5821200"/>
            <a:ext cx="3456000" cy="7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ДОБРЫ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43640" y="581652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entury Gothic"/>
              </a:rPr>
              <a:t>ЗЛ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entury Gothic"/>
              <a:ea typeface="Century Gothic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606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500" autoRev="1" fill="hold"/>
                                        <p:tgtEl>
                                          <p:spTgt spid="1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26">
                                  <p:stCondLst>
                                    <p:cond delay="4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" dur="5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 txBox="1"/>
          <p:nvPr/>
        </p:nvSpPr>
        <p:spPr>
          <a:xfrm>
            <a:off x="179280" y="26028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НОЧ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383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7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3672000" cy="35355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79280" y="260280"/>
            <a:ext cx="23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ДЕН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3275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0"/>
          <a:ext cx="9144000" cy="68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508720" y="3346560"/>
            <a:ext cx="3382920" cy="325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643280" y="189000"/>
            <a:ext cx="2953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latin typeface="Century Gothic"/>
              </a:rPr>
              <a:t>ТЕМНО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000000"/>
              </a:solidFill>
              <a:latin typeface="Century Gothic"/>
              <a:ea typeface="Century Goth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619280" y="6021360"/>
            <a:ext cx="316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 Gothic"/>
              </a:rPr>
              <a:t>СВЕТЛО</a:t>
            </a:r>
            <a:endParaRPr b="1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 Gothic"/>
              <a:ea typeface="Century Gothic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4528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100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26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506520"/>
            <a:ext cx="7777440" cy="6140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79280" y="189000"/>
            <a:ext cx="2160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СЛ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867564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389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755640" y="2060640"/>
          <a:ext cx="7488360" cy="27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48836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 txBox="1"/>
          <p:nvPr/>
        </p:nvSpPr>
        <p:spPr>
          <a:xfrm>
            <a:off x="324000" y="333360"/>
            <a:ext cx="3816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Ш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459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1" repeatCount="3000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033 0.00231 C 0.08334 0.00231 0.14862 0.0875 0.14862 0.19236 C 0.14862 0.29699 0.08334 0.38263 0.0033 0.38263 C -0.07673 0.38263 -0.14166 0.29699 -0.14166 0.19236 C -0.14166 0.0875 -0.07673 0.00231 0.0033 0.00231 Z">
                                      <p:cBhvr>
                                        <p:cTn id="190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0920" y="2133720"/>
          <a:ext cx="4535640" cy="24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4535640" cy="24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 txBox="1"/>
          <p:nvPr/>
        </p:nvSpPr>
        <p:spPr>
          <a:xfrm>
            <a:off x="324000" y="333360"/>
            <a:ext cx="338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УЛИ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494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1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98" dur="5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755640" y="404640"/>
          <a:ext cx="561672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04640"/>
                    <a:ext cx="561672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3995640" y="3789360"/>
          <a:ext cx="3456000" cy="18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789360"/>
                    <a:ext cx="3456000" cy="18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 txBox="1"/>
          <p:nvPr/>
        </p:nvSpPr>
        <p:spPr>
          <a:xfrm>
            <a:off x="1114560" y="2781360"/>
            <a:ext cx="309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Century Gothic"/>
              </a:rPr>
              <a:t>БЫСТР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Century Gothic"/>
              <a:ea typeface="Century Gothi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11640" y="6021360"/>
            <a:ext cx="3816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Century Gothic"/>
              </a:rPr>
              <a:t>МЕДЛЕНН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Century Gothic"/>
              <a:ea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5295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1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7101 4.07407E-006 C 0.00294999999999999 4.07407E-006 0.06302 0.07963 0.06302 0.17801 C 0.06302 0.27592 0.00294999999999999 0.35601 -0.07101 0.35601 C -0.1448 0.35601 -0.20469 0.27592 -0.20469 0.17801 C -0.20469 0.07963 -0.1448 4.07407E-006 -0.07101 4.07407E-006 Z">
                                      <p:cBhvr>
                                        <p:cTn id="206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1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.04271 1.85185E-006 C 0.08802 1.85185E-006 0.125 0.04676 0.125 0.10416 C 0.125 0.16157 0.08802 0.20856 0.04271 0.20856 C -0.00261 0.20856 -0.03941 0.16157 -0.03941 0.10416 C -0.03941 0.04676 -0.00261 1.85185E-006 0.04271 1.85185E-006 Z">
                                      <p:cBhvr>
                                        <p:cTn id="208" dur="5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24000" y="530064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Ольга Климо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720" y="59500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 скачали эту работу на сайте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ki.rdf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556000" y="836640"/>
            <a:ext cx="4176720" cy="36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2232000" cy="1800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79280" y="189000"/>
            <a:ext cx="2808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КОМА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737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39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0.04667 0.028 0.08267 0.062 0.08267 C 0.097 0.08267 0.125 0.04667 0.125 0 C 0.125 -0.04667 0.153 -0.08267 0.188 -0.08267 C 0.222 -0.08267 0.25 -0.04667 0.25 0 E">
                                      <p:cBhvr>
                                        <p:cTn id="20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771640" y="914400"/>
            <a:ext cx="6012000" cy="4746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826920" y="189000"/>
            <a:ext cx="1513080" cy="1220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490920" y="5300640"/>
            <a:ext cx="5473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БОЛЬШО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9280" y="1484280"/>
            <a:ext cx="2737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ЕНЬ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578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1000" autoRev="1" fill="hold"/>
                                        <p:tgtEl>
                                          <p:spTgt spid="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0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10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>
                                  <p:stCondLst>
                                    <p:cond delay="3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10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481640" y="260280"/>
          <a:ext cx="4051080" cy="640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81640" y="260280"/>
                    <a:ext cx="4051080" cy="64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 txBox="1"/>
          <p:nvPr/>
        </p:nvSpPr>
        <p:spPr>
          <a:xfrm>
            <a:off x="179280" y="189000"/>
            <a:ext cx="4032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УЖЧИН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52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79280" y="189000"/>
            <a:ext cx="352908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МАЛЬЧИ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22560" y="2997360"/>
          <a:ext cx="1441440" cy="360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22560" y="2997360"/>
                    <a:ext cx="144144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18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971640" y="115920"/>
          <a:ext cx="4189320" cy="662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15920"/>
                    <a:ext cx="4189320" cy="66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77080" y="2676600"/>
          <a:ext cx="1441440" cy="361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77080" y="2676600"/>
                    <a:ext cx="144144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 txBox="1"/>
          <p:nvPr/>
        </p:nvSpPr>
        <p:spPr>
          <a:xfrm>
            <a:off x="106200" y="4797360"/>
            <a:ext cx="29530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Impact"/>
              </a:rPr>
              <a:t>ВЫСОКИЙ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Impact"/>
              <a:ea typeface="Impac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96000" y="6165720"/>
            <a:ext cx="31669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Impact"/>
              </a:rPr>
              <a:t>низки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634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58920" y="976320"/>
          <a:ext cx="669780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976320"/>
                    <a:ext cx="669780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 txBox="1"/>
          <p:nvPr/>
        </p:nvSpPr>
        <p:spPr>
          <a:xfrm>
            <a:off x="179280" y="189000"/>
            <a:ext cx="295272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ЛИМО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8839080" y="-458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3344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050920" y="981000"/>
          <a:ext cx="561204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981000"/>
                    <a:ext cx="561204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 txBox="1"/>
          <p:nvPr/>
        </p:nvSpPr>
        <p:spPr>
          <a:xfrm>
            <a:off x="179280" y="189000"/>
            <a:ext cx="2664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Century Gothic"/>
              </a:rPr>
              <a:t>АРБУ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Century Gothic"/>
              <a:ea typeface="Century Gothic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88390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355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08:43:12Z</dcterms:created>
  <dc:creator>Ольга</dc:creator>
  <dc:description/>
  <dc:language>en-US</dc:language>
  <cp:lastModifiedBy>vvv</cp:lastModifiedBy>
  <dcterms:modified xsi:type="dcterms:W3CDTF">2008-06-08T17:01:41Z</dcterms:modified>
  <cp:revision>38</cp:revision>
  <dc:subject/>
  <dc:title>Слайд 1</dc:title>
</cp:coreProperties>
</file>