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9.wmf" ContentType="image/x-wmf"/>
  <Override PartName="/ppt/media/image5.jpeg" ContentType="image/jpeg"/>
  <Override PartName="/ppt/media/image20.wmf" ContentType="image/x-wmf"/>
  <Override PartName="/ppt/media/image12.wmf" ContentType="image/x-wmf"/>
  <Override PartName="/ppt/media/image11.jpeg" ContentType="image/jpeg"/>
  <Override PartName="/ppt/media/image23.wmf" ContentType="image/x-wmf"/>
  <Override PartName="/ppt/media/image21.wmf" ContentType="image/x-wmf"/>
  <Override PartName="/ppt/media/image19.wmf" ContentType="image/x-wmf"/>
  <Override PartName="/ppt/media/image18.gif" ContentType="image/gif"/>
  <Override PartName="/ppt/media/image17.wmf" ContentType="image/x-wmf"/>
  <Override PartName="/ppt/media/image14.wmf" ContentType="image/x-wmf"/>
  <Override PartName="/ppt/media/image1.png" ContentType="image/png"/>
  <Override PartName="/ppt/media/image3.png" ContentType="image/png"/>
  <Override PartName="/ppt/media/image22.jpeg" ContentType="image/jpeg"/>
  <Override PartName="/ppt/media/image15.wmf" ContentType="image/x-wmf"/>
  <Override PartName="/ppt/media/image4.gif" ContentType="image/gif"/>
  <Override PartName="/ppt/media/image7.wmf" ContentType="image/x-wmf"/>
  <Override PartName="/ppt/media/image8.png" ContentType="image/png"/>
  <Override PartName="/ppt/media/image1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4317-ACCC-4557-A516-3E9FA82F0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AD1A-08CC-4DA3-8BCC-00835CFB5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78AC-D8F9-4160-BDB9-50532C08D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7F36-7801-4927-A8D5-9CF477CB9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5C07-0609-422A-990F-35F32E4D2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C7CB-CA74-40AC-8323-D501804BB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36CA-57BD-4F3E-9D51-C009BEB74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2684-F2A3-4DA4-85B9-E0823DFC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AFFF-7B36-4902-A90B-176FA750B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5771-AD62-4F21-9DBF-79A6995C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2EF6-9553-4096-972F-9C556838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F228-0CB8-4C3E-8C38-68976067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64717-E7B6-4D87-B2E1-9EB44E0A7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gi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18.gi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6280" y="1628640"/>
            <a:ext cx="8569440" cy="32630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Century Gothic"/>
              </a:rPr>
              <a:t>СЛОВА</a:t>
            </a:r>
            <a:r>
              <a:rPr b="1" lang="en-US" sz="8000" spc="-1" strike="noStrike">
                <a:solidFill>
                  <a:srgbClr val="ffff00"/>
                </a:solidFill>
                <a:latin typeface="Century Gothic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Century Gothic"/>
              </a:rPr>
              <a:t>АНТОНИМ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Century Gothic"/>
              </a:rPr>
              <a:t>(ПРОТИВОПОЛОЖНОСТИ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839080" y="-458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483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24000" y="404640"/>
          <a:ext cx="3816360" cy="309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404640"/>
                    <a:ext cx="3816360" cy="30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4719600" y="1773360"/>
          <a:ext cx="4173480" cy="4176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19600" y="1773360"/>
                    <a:ext cx="417348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 txBox="1"/>
          <p:nvPr/>
        </p:nvSpPr>
        <p:spPr>
          <a:xfrm>
            <a:off x="395280" y="3716280"/>
            <a:ext cx="3024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entury Gothic"/>
              </a:rPr>
              <a:t>КИСЛЫ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entury Gothic"/>
              <a:ea typeface="Century Gothic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076720" y="5950080"/>
            <a:ext cx="3240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Century Gothic"/>
              </a:rPr>
              <a:t>СЛАДК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Century Gothic"/>
              <a:ea typeface="Century Gothic"/>
            </a:endParaRPr>
          </a:p>
        </p:txBody>
      </p:sp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8839080" y="-458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5434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" dur="500" autoRev="1" fill="hold"/>
                                        <p:tgtEl>
                                          <p:spTgt spid="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" dur="500" autoRev="1" fill="hold"/>
                                        <p:tgtEl>
                                          <p:spTgt spid="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26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" dur="500" autoRev="1" fill="hold"/>
                                        <p:tgtEl>
                                          <p:spTgt spid="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26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500" autoRev="1" fill="hold"/>
                                        <p:tgtEl>
                                          <p:spTgt spid="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2697120" y="189000"/>
          <a:ext cx="4395960" cy="640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97120" y="189000"/>
                    <a:ext cx="4395960" cy="64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 txBox="1"/>
          <p:nvPr/>
        </p:nvSpPr>
        <p:spPr>
          <a:xfrm>
            <a:off x="179280" y="189000"/>
            <a:ext cx="3456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Century Gothic"/>
              </a:rPr>
              <a:t>ДЕВОЧ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Century Gothic"/>
              <a:ea typeface="Century Gothic"/>
            </a:endParaRPr>
          </a:p>
        </p:txBody>
      </p:sp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8839080" y="-458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4459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79280" y="189000"/>
            <a:ext cx="35290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Century Gothic"/>
              </a:rPr>
              <a:t>МАЛЬЧИ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Century Gothic"/>
              <a:ea typeface="Century Gothic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146480" y="189000"/>
          <a:ext cx="2657520" cy="648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46480" y="189000"/>
                    <a:ext cx="2657520" cy="64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8839080" y="-458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397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108000" y="260280"/>
          <a:ext cx="3752640" cy="547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260280"/>
                    <a:ext cx="375264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6415200" y="189000"/>
          <a:ext cx="2333520" cy="5688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15200" y="189000"/>
                    <a:ext cx="2333520" cy="56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 txBox="1"/>
          <p:nvPr/>
        </p:nvSpPr>
        <p:spPr>
          <a:xfrm>
            <a:off x="324000" y="5877000"/>
            <a:ext cx="3671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entury Gothic"/>
              </a:rPr>
              <a:t>СМЕЁТС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entury Gothic"/>
              <a:ea typeface="Century Gothic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580000" y="6035760"/>
            <a:ext cx="3240000" cy="63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Century Gothic"/>
              </a:rPr>
              <a:t>ПЛАЧ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Century Gothic"/>
              <a:ea typeface="Century Gothic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8839080" y="-458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599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26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" dur="500" autoRev="1" fill="hold"/>
                                        <p:tgtEl>
                                          <p:spTgt spid="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0" nodeType="withEffect" fill="hold" presetClass="emph" presetID="26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" dur="500" autoRev="1" fill="hold"/>
                                        <p:tgtEl>
                                          <p:spTgt spid="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26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" dur="500" autoRev="1" fill="hold"/>
                                        <p:tgtEl>
                                          <p:spTgt spid="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6" nodeType="withEffect" fill="hold" presetClass="emph" presetID="26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" dur="500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1908000" y="1353960"/>
          <a:ext cx="6048720" cy="509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353960"/>
                    <a:ext cx="6048720" cy="509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 txBox="1"/>
          <p:nvPr/>
        </p:nvSpPr>
        <p:spPr>
          <a:xfrm>
            <a:off x="179280" y="189000"/>
            <a:ext cx="2952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Century Gothic"/>
              </a:rPr>
              <a:t>УЧЕНИ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Century Gothic"/>
              <a:ea typeface="Century Gothic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8839080" y="-458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397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3198960" y="404640"/>
          <a:ext cx="3389040" cy="626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98960" y="404640"/>
                    <a:ext cx="3389040" cy="62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 txBox="1"/>
          <p:nvPr/>
        </p:nvSpPr>
        <p:spPr>
          <a:xfrm>
            <a:off x="179280" y="189000"/>
            <a:ext cx="3600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Century Gothic"/>
              </a:rPr>
              <a:t>ХУЛИГА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Century Gothic"/>
              <a:ea typeface="Century Gothic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8839080" y="-458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" dur="4459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108000" y="907920"/>
          <a:ext cx="4968720" cy="467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907920"/>
                    <a:ext cx="4968720" cy="46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6404040" y="836640"/>
          <a:ext cx="2493720" cy="460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04040" y="836640"/>
                    <a:ext cx="249372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 txBox="1"/>
          <p:nvPr/>
        </p:nvSpPr>
        <p:spPr>
          <a:xfrm>
            <a:off x="468360" y="5821200"/>
            <a:ext cx="3456000" cy="7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entury Gothic"/>
              </a:rPr>
              <a:t>ДОБРЫ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entury Gothic"/>
              <a:ea typeface="Century Gothic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43640" y="5816520"/>
            <a:ext cx="2160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Century Gothic"/>
              </a:rPr>
              <a:t>ЗЛО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Century Gothic"/>
              <a:ea typeface="Century Gothic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8839080" y="-458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606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26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" dur="500" autoRev="1" fill="hold"/>
                                        <p:tgtEl>
                                          <p:spTgt spid="1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26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" dur="500" autoRev="1" fill="hold"/>
                                        <p:tgtEl>
                                          <p:spTgt spid="1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26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5" dur="500" autoRev="1" fill="hold"/>
                                        <p:tgtEl>
                                          <p:spTgt spid="1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26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8" dur="500" autoRev="1" fill="hold"/>
                                        <p:tgtEl>
                                          <p:spTgt spid="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 txBox="1"/>
          <p:nvPr/>
        </p:nvSpPr>
        <p:spPr>
          <a:xfrm>
            <a:off x="179280" y="260280"/>
            <a:ext cx="2305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Century Gothic"/>
              </a:rPr>
              <a:t>НОЧ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Century Gothic"/>
              <a:ea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8839080" y="-458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" dur="3832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0" y="0"/>
          <a:ext cx="9144000" cy="687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7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4932360" y="260280"/>
            <a:ext cx="3672000" cy="35355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179280" y="260280"/>
            <a:ext cx="2376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Century Gothic"/>
              </a:rPr>
              <a:t>ДЕН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Century Gothic"/>
              <a:ea typeface="Century Gothic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8839080" y="-458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0" dur="3275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0" y="0"/>
          <a:ext cx="9144000" cy="687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5508720" y="3346560"/>
            <a:ext cx="3382920" cy="32572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4643280" y="189000"/>
            <a:ext cx="2953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Century Gothic"/>
              </a:rPr>
              <a:t>ТЕМНО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Century Gothic"/>
              <a:ea typeface="Century Gothic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619280" y="6021360"/>
            <a:ext cx="3168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entury Gothic"/>
              </a:rPr>
              <a:t>СВЕТЛО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entury Gothic"/>
              <a:ea typeface="Century Gothic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8839080" y="-458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" dur="4528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26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9" dur="1000" autoRev="1" fill="hold"/>
                                        <p:tgtEl>
                                          <p:spTgt spid="1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0" nodeType="withEffect" fill="hold" presetClass="emph" presetID="26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2" dur="1000" autoRev="1" fill="hold"/>
                                        <p:tgtEl>
                                          <p:spTgt spid="1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39640" y="506520"/>
            <a:ext cx="7777440" cy="6140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179280" y="189000"/>
            <a:ext cx="2160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Century Gothic"/>
              </a:rPr>
              <a:t>СЛО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Century Gothic"/>
              <a:ea typeface="Century Gothic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8675640" y="-458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389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755640" y="2060640"/>
          <a:ext cx="7488360" cy="27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060640"/>
                    <a:ext cx="7488360" cy="27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 txBox="1"/>
          <p:nvPr/>
        </p:nvSpPr>
        <p:spPr>
          <a:xfrm>
            <a:off x="324000" y="333360"/>
            <a:ext cx="381636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Century Gothic"/>
              </a:rPr>
              <a:t>МАШИН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Century Gothic"/>
              <a:ea typeface="Century Gothic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8839080" y="-458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4459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9" nodeType="withEffect" fill="hold" presetClass="path" presetID="1" repeatCount="300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.0033 0.00231 C 0.08334 0.00231 0.14862 0.0875 0.14862 0.19236 C 0.14862 0.29699 0.08334 0.38263 0.0033 0.38263 C -0.07673 0.38263 -0.14166 0.29699 -0.14166 0.19236 C -0.14166 0.0875 -0.07673 0.00231 0.0033 0.00231 Z">
                                      <p:cBhvr>
                                        <p:cTn id="190" dur="1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0920" y="2133720"/>
          <a:ext cx="4535640" cy="24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2133720"/>
                    <a:ext cx="4535640" cy="24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 txBox="1"/>
          <p:nvPr/>
        </p:nvSpPr>
        <p:spPr>
          <a:xfrm>
            <a:off x="324000" y="333360"/>
            <a:ext cx="338436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Century Gothic"/>
              </a:rPr>
              <a:t>УЛИТ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Century Gothic"/>
              <a:ea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883908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6" dur="4946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7" nodeType="withEffect" fill="hold" presetClass="path" presetID="1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198" dur="5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755640" y="404640"/>
          <a:ext cx="5616720" cy="202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404640"/>
                    <a:ext cx="5616720" cy="20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3995640" y="3789360"/>
          <a:ext cx="3456000" cy="189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5640" y="3789360"/>
                    <a:ext cx="3456000" cy="18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 txBox="1"/>
          <p:nvPr/>
        </p:nvSpPr>
        <p:spPr>
          <a:xfrm>
            <a:off x="1114560" y="2781360"/>
            <a:ext cx="3097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Century Gothic"/>
              </a:rPr>
              <a:t>БЫСТР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Century Gothic"/>
              <a:ea typeface="Century Gothic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11640" y="6021360"/>
            <a:ext cx="381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Century Gothic"/>
              </a:rPr>
              <a:t>МЕДЛЕНН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Century Gothic"/>
              <a:ea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839080" y="-458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" dur="5295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5" nodeType="withEffect" fill="hold" presetClass="path" presetID="1" repeatCount="2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7101 4.07407E-006 C 0.00294999999999999 4.07407E-006 0.06302 0.07963 0.06302 0.17801 C 0.06302 0.27592 0.00294999999999999 0.35601 -0.07101 0.35601 C -0.1448 0.35601 -0.20469 0.27592 -0.20469 0.17801 C -0.20469 0.07963 -0.1448 4.07407E-006 -0.07101 4.07407E-006 Z">
                                      <p:cBhvr>
                                        <p:cTn id="206" dur="1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7" nodeType="withEffect" fill="hold" presetClass="path" presetID="1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0.04271 1.85185E-006 C 0.08802 1.85185E-006 0.125 0.04676 0.125 0.10416 C 0.125 0.16157 0.08802 0.20856 0.04271 0.20856 C -0.00261 0.20856 -0.03941 0.16157 -0.03941 0.10416 C -0.03941 0.04676 -0.00261 1.85185E-006 0.04271 1.85185E-006 Z">
                                      <p:cBhvr>
                                        <p:cTn id="208" dur="5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124000" y="5300640"/>
            <a:ext cx="47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втор: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Ольга Климов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116720" y="595008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 скачали эту работу на сайте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ki.rdf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556000" y="836640"/>
            <a:ext cx="4176720" cy="36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979640" y="2565360"/>
            <a:ext cx="2232000" cy="1800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179280" y="189000"/>
            <a:ext cx="2808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Century Gothic"/>
              </a:rPr>
              <a:t>КОМА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Century Gothic"/>
              <a:ea typeface="Century Gothic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8839080" y="-458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737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39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0.04667 0.028 0.08267 0.062 0.08267 C 0.097 0.08267 0.125 0.04667 0.125 0 C 0.125 -0.04667 0.153 -0.08267 0.188 -0.08267 C 0.222 -0.08267 0.25 -0.04667 0.25 0 E">
                                      <p:cBhvr>
                                        <p:cTn id="20" dur="3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771640" y="914400"/>
            <a:ext cx="6012000" cy="4746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826920" y="189000"/>
            <a:ext cx="1513080" cy="1220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3490920" y="5300640"/>
            <a:ext cx="547380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Century Gothic"/>
              </a:rPr>
              <a:t>БОЛЬШО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Century Gothic"/>
              <a:ea typeface="Century Gothic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79280" y="1484280"/>
            <a:ext cx="2737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Century Gothic"/>
              </a:rPr>
              <a:t>МАЛЕНЬК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Century Gothic"/>
              <a:ea typeface="Century Gothic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8839080" y="-458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5782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26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1000" autoRev="1" fill="hold"/>
                                        <p:tgtEl>
                                          <p:spTgt spid="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" nodeType="withEffect" fill="hold" presetClass="emph" presetID="26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1000" autoRev="1" fill="hold"/>
                                        <p:tgtEl>
                                          <p:spTgt spid="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26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1000" autoRev="1" fill="hold"/>
                                        <p:tgtEl>
                                          <p:spTgt spid="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6" nodeType="withEffect" fill="hold" presetClass="emph" presetID="26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1000" autoRev="1" fill="hold"/>
                                        <p:tgtEl>
                                          <p:spTgt spid="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4481640" y="260280"/>
          <a:ext cx="4051080" cy="640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81640" y="260280"/>
                    <a:ext cx="4051080" cy="64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 txBox="1"/>
          <p:nvPr/>
        </p:nvSpPr>
        <p:spPr>
          <a:xfrm>
            <a:off x="179280" y="189000"/>
            <a:ext cx="4032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Century Gothic"/>
              </a:rPr>
              <a:t>МУЖЧИН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Century Gothic"/>
              <a:ea typeface="Century Gothic"/>
            </a:endParaRPr>
          </a:p>
        </p:txBody>
      </p:sp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8839080" y="-458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4528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179280" y="189000"/>
            <a:ext cx="35290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Century Gothic"/>
              </a:rPr>
              <a:t>МАЛЬЧИ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Century Gothic"/>
              <a:ea typeface="Century Gothic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922560" y="2997360"/>
          <a:ext cx="1441440" cy="360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22560" y="2997360"/>
                    <a:ext cx="1441440" cy="36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8839080" y="-458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4180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971640" y="115920"/>
          <a:ext cx="4189320" cy="6626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115920"/>
                    <a:ext cx="4189320" cy="66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6877080" y="2676600"/>
          <a:ext cx="1441440" cy="3610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77080" y="2676600"/>
                    <a:ext cx="144144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 txBox="1"/>
          <p:nvPr/>
        </p:nvSpPr>
        <p:spPr>
          <a:xfrm>
            <a:off x="106200" y="4797360"/>
            <a:ext cx="295308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ВЫСОКИЙ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796000" y="6165720"/>
            <a:ext cx="31669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Impact"/>
              </a:rPr>
              <a:t>низки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Impact"/>
              <a:ea typeface="Impact"/>
            </a:endParaRPr>
          </a:p>
        </p:txBody>
      </p:sp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8839080" y="-458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6340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258920" y="976320"/>
          <a:ext cx="6697800" cy="543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8920" y="976320"/>
                    <a:ext cx="6697800" cy="54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 txBox="1"/>
          <p:nvPr/>
        </p:nvSpPr>
        <p:spPr>
          <a:xfrm>
            <a:off x="179280" y="189000"/>
            <a:ext cx="2952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Century Gothic"/>
              </a:rPr>
              <a:t>ЛИМО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Century Gothic"/>
              <a:ea typeface="Century Gothic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8839080" y="-458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3344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2050920" y="981000"/>
          <a:ext cx="5612040" cy="561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0920" y="981000"/>
                    <a:ext cx="5612040" cy="56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 txBox="1"/>
          <p:nvPr/>
        </p:nvSpPr>
        <p:spPr>
          <a:xfrm>
            <a:off x="179280" y="189000"/>
            <a:ext cx="26640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Century Gothic"/>
              </a:rPr>
              <a:t>АРБУЗ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Century Gothic"/>
              <a:ea typeface="Century Gothic"/>
            </a:endParaRPr>
          </a:p>
        </p:txBody>
      </p:sp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883908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3553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08:43:12Z</dcterms:created>
  <dc:creator>Ольга</dc:creator>
  <dc:description/>
  <dc:language>en-US</dc:language>
  <cp:lastModifiedBy>vvv</cp:lastModifiedBy>
  <dcterms:modified xsi:type="dcterms:W3CDTF">2008-06-08T17:01:41Z</dcterms:modified>
  <cp:revision>38</cp:revision>
  <dc:subject/>
  <dc:title>Слайд 1</dc:title>
</cp:coreProperties>
</file>