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A5EC-AE38-40CB-8A68-E6DD67261A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7766-8019-4C27-8136-F7D4D877AD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C9B-98DC-4E37-8676-FFFBA4FD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8EC-6A06-4BB8-9067-88D954A8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680-0BBD-43FB-B086-68BAF781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DBA-B248-45A3-A09E-D02EF03D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340-2656-4E00-B86E-BEF23EE2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04A-1FCF-4056-8F8E-5AFC19D5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D8E-68B4-49A6-BFD9-115CDFB7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3AC-E1B0-4AAE-BB97-623891F2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164-4378-4368-B9B9-1F74690A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393-CE15-47FD-B7E3-0FEAABA5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683-509A-4BB9-9815-759ABA47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1F8-E754-486D-B429-4226447F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244E-895A-4667-AB51-9EED2CB396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6bcf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6b6bcf"/>
                </a:solidFill>
                <a:latin typeface="Calibri"/>
              </a:rPr>
              <a:t>РОЛЬ ДЕТСКОГО КИНЕМАТОГРАФА В ДУХОВНО-НРАВСТВЕННОМ РАЗВИТИИ ДЕТЕЙ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История развития детского кин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98100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Кинопроизводство в России началось в 1920 год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«Новый Гулливер» (1935) - первый детский художественный филь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ru1.anyfad.com/items/t1@751836eb-92bf-4641-8aaf-08092a7dc642/Novyy-Gulliver-film-1935-g.jpg"/>
          <p:cNvPicPr/>
          <p:nvPr/>
        </p:nvPicPr>
        <p:blipFill>
          <a:blip r:embed="rId1"/>
          <a:stretch/>
        </p:blipFill>
        <p:spPr>
          <a:xfrm>
            <a:off x="6875640" y="981000"/>
            <a:ext cx="1944360" cy="288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img13.nnm.me/1/0/8/a/3/35e92dd99e03d14964130705a43.jpg"/>
          <p:cNvPicPr/>
          <p:nvPr/>
        </p:nvPicPr>
        <p:blipFill>
          <a:blip r:embed="rId2"/>
          <a:stretch/>
        </p:blipFill>
        <p:spPr>
          <a:xfrm>
            <a:off x="755640" y="3213000"/>
            <a:ext cx="345600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218880"/>
            <a:ext cx="9144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Александр Лукич Птушк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 ( 1900-1973г.г.) - советский кинорежиссёр, кинооператор, мультипликатор, сценарист, художник, мастер сказочного жанра в 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А. Л. Птушко 01.jpg"/>
          <p:cNvPicPr/>
          <p:nvPr/>
        </p:nvPicPr>
        <p:blipFill>
          <a:blip r:embed="rId1"/>
          <a:stretch/>
        </p:blipFill>
        <p:spPr>
          <a:xfrm>
            <a:off x="4788000" y="1844640"/>
            <a:ext cx="3313080" cy="22701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285840" y="2071800"/>
            <a:ext cx="464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935г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-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Новый Гулливер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936г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- 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Дети капитана Гранта»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оператор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939г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- 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Золотой ключи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946г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- 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Каменный цвето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956г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- 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Илья Муромец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964г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-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казка о потерянном времен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944640"/>
            <a:ext cx="558000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79280" y="836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Самый известный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 советский кинорежиссёр эт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 Александр Артурович Ро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 (1906-1973), автор 16 фильмов-сказок, наиболее известные из котор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Alexandr Rou 01.jpg"/>
          <p:cNvPicPr/>
          <p:nvPr/>
        </p:nvPicPr>
        <p:blipFill>
          <a:blip r:embed="rId1"/>
          <a:stretch/>
        </p:blipFill>
        <p:spPr>
          <a:xfrm>
            <a:off x="395280" y="2781360"/>
            <a:ext cx="2592360" cy="30970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2843280" y="1268280"/>
            <a:ext cx="63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987640" y="4351320"/>
            <a:ext cx="345600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3203640" y="2421000"/>
            <a:ext cx="6246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Arial"/>
              </a:rPr>
              <a:t> 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«Василиса Прекрасная» (1939)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«Морозко» (1964)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«Огонь, вода и… медные трубы» (1968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«Варвара-краса, длинная коса» (1969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2987640" y="3933720"/>
            <a:ext cx="4248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«Конек-Горбунок»(19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all-biography.ru/wp-content/uploads/2014/08/Grachevskij-Boris.jpg"/>
          <p:cNvPicPr/>
          <p:nvPr/>
        </p:nvPicPr>
        <p:blipFill>
          <a:blip r:embed="rId1"/>
          <a:stretch/>
        </p:blipFill>
        <p:spPr>
          <a:xfrm>
            <a:off x="142920" y="71424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81080" y="38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«Учиться, учиться и ещё раз учиться», «Я иду искать», «Чувствительная натура», «Новое поколение выбирает»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87280" y="764640"/>
            <a:ext cx="490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Борис Юрьевич Грачевский  (род.1949г.) – художественный руководитель и директор детского юмористического киножурнала «ЕРАЛАШ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Современный детский  кинематограф.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tushkan.tv/_nw/94/31283754.jpg"/>
          <p:cNvPicPr/>
          <p:nvPr/>
        </p:nvPicPr>
        <p:blipFill>
          <a:blip r:embed="rId1"/>
          <a:stretch/>
        </p:blipFill>
        <p:spPr>
          <a:xfrm>
            <a:off x="611280" y="1341360"/>
            <a:ext cx="278604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C:\Users\dns\Desktop\3131.jpg"/>
          <p:cNvPicPr/>
          <p:nvPr/>
        </p:nvPicPr>
        <p:blipFill>
          <a:blip r:embed="rId2"/>
          <a:stretch/>
        </p:blipFill>
        <p:spPr>
          <a:xfrm>
            <a:off x="4140360" y="1413000"/>
            <a:ext cx="2786040" cy="3714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108000" y="5373720"/>
            <a:ext cx="42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«Тайна Егора» (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Реж. Александра Ерофеева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3635280" y="5300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Летние приключения отчаянных (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4218840" y="558972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Реж. Борис Шварц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 Asus</cp:lastModifiedBy>
  <dcterms:modified xsi:type="dcterms:W3CDTF">2017-09-29T18:40:07Z</dcterms:modified>
  <cp:revision>843</cp:revision>
  <dc:subject/>
  <dc:title>Diapositiva 1</dc:title>
</cp:coreProperties>
</file>