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CC9A-75F4-4BBC-87ED-F9B302A463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60A4-45EC-4ED2-8487-6CD00D62423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0C9-FBF3-41FB-BC98-7D2DA3A7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783-5F90-43A0-9148-86B497A9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43C-B9AF-4B94-950C-82F39150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CF94-F38C-4E2E-8052-53A2C613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905A-731F-4D26-A772-447DA0E3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D95-5BF8-449E-9CE1-E12274E3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2B39-605B-4677-B691-F7F53FF9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88D-13EF-493C-B7ED-F1F1B47E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6E72-F817-4F7B-AAC4-7F194955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FE16-B78C-48A1-81D5-7481A2B3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245-E5AF-43AB-A125-AAE51EDFE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4E4-DD1A-449B-A59E-44DCCE35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51FD-D8D4-4A7A-BCF0-AF336B80B9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b6bcf"/>
                </a:solidFill>
                <a:latin typeface="Calibri"/>
              </a:rPr>
              <a:t>«</a:t>
            </a:r>
            <a:r>
              <a:rPr b="1" lang="ru-RU" sz="4400" spc="-1" strike="noStrike">
                <a:solidFill>
                  <a:srgbClr val="6b6bcf"/>
                </a:solidFill>
                <a:latin typeface="Calibri"/>
              </a:rPr>
              <a:t>РОЛЬ ДЕТСКОГО КИНЕМАТОГРАФА В ДУХОВНО-НРАВСТВЕННОМ РАЗВИТИИ ДЕТЕЙ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История развития детского кин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981000"/>
            <a:ext cx="712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Кинопроизводство в России началось в 1920 год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«Новый Гулливер» (1935) - первый детский художественный фильм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http://ru1.anyfad.com/items/t1@751836eb-92bf-4641-8aaf-08092a7dc642/Novyy-Gulliver-film-1935-g.jpg"/>
          <p:cNvPicPr/>
          <p:nvPr/>
        </p:nvPicPr>
        <p:blipFill>
          <a:blip r:embed="rId1"/>
          <a:stretch/>
        </p:blipFill>
        <p:spPr>
          <a:xfrm>
            <a:off x="6875640" y="981000"/>
            <a:ext cx="1944360" cy="2881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http://img13.nnm.me/1/0/8/a/3/35e92dd99e03d14964130705a43.jpg"/>
          <p:cNvPicPr/>
          <p:nvPr/>
        </p:nvPicPr>
        <p:blipFill>
          <a:blip r:embed="rId2"/>
          <a:stretch/>
        </p:blipFill>
        <p:spPr>
          <a:xfrm>
            <a:off x="755640" y="3213000"/>
            <a:ext cx="345600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0" y="218880"/>
            <a:ext cx="91440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Александр Лукич Птушко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 ( 1900-1973г.г.) - советский кинорежиссёр, кинооператор, мультипликатор, сценарист, художник, мастер сказочного жанра в ки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2" descr="А. Л. Птушко 01.jpg"/>
          <p:cNvPicPr/>
          <p:nvPr/>
        </p:nvPicPr>
        <p:blipFill>
          <a:blip r:embed="rId1"/>
          <a:stretch/>
        </p:blipFill>
        <p:spPr>
          <a:xfrm>
            <a:off x="4788000" y="1844640"/>
            <a:ext cx="3313080" cy="227016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285840" y="2071800"/>
            <a:ext cx="4646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935г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- «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Новый Гулливер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936г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-  «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Дети капитана Гранта»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(оператор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939г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-  «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Золотой ключи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946г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-  «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Каменный цвето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956г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-  «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Илья Муромец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1964г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  <a:ea typeface="Times New Roman"/>
              </a:rPr>
              <a:t> - «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Сказка о потерянном времен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944640"/>
            <a:ext cx="5580000" cy="3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"/>
          <p:cNvSpPr/>
          <p:nvPr/>
        </p:nvSpPr>
        <p:spPr>
          <a:xfrm>
            <a:off x="179280" y="83664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Самый известный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 советский кинорежиссёр эт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 Александр Артурович Роу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 (1906-1973), автор 16 фильмов-сказок, наиболее известные из которы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3" descr="Alexandr Rou 01.jpg"/>
          <p:cNvPicPr/>
          <p:nvPr/>
        </p:nvPicPr>
        <p:blipFill>
          <a:blip r:embed="rId1"/>
          <a:stretch/>
        </p:blipFill>
        <p:spPr>
          <a:xfrm>
            <a:off x="395280" y="2781360"/>
            <a:ext cx="2592360" cy="309708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2843280" y="1268280"/>
            <a:ext cx="63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987640" y="4351320"/>
            <a:ext cx="3456000" cy="27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6"/>
          <p:cNvSpPr/>
          <p:nvPr/>
        </p:nvSpPr>
        <p:spPr>
          <a:xfrm>
            <a:off x="3203640" y="2421000"/>
            <a:ext cx="6246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Calibri"/>
                <a:ea typeface="Arial"/>
              </a:rPr>
              <a:t> 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«Василиса Прекрасная» (1939),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«Морозко» (1964)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«Огонь, вода и… медные трубы» (1968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«Варвара-краса, длинная коса» (1969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8"/>
          <p:cNvSpPr/>
          <p:nvPr/>
        </p:nvSpPr>
        <p:spPr>
          <a:xfrm>
            <a:off x="2987640" y="3933720"/>
            <a:ext cx="4248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«Конек-Горбунок»(194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all-biography.ru/wp-content/uploads/2014/08/Grachevskij-Boris.jpg"/>
          <p:cNvPicPr/>
          <p:nvPr/>
        </p:nvPicPr>
        <p:blipFill>
          <a:blip r:embed="rId1"/>
          <a:stretch/>
        </p:blipFill>
        <p:spPr>
          <a:xfrm>
            <a:off x="142920" y="714240"/>
            <a:ext cx="2857320" cy="28576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181080" y="38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«Учиться, учиться и ещё раз учиться», «Я иду искать», «Чувствительная натура», «Новое поколение выбирает»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987280" y="764640"/>
            <a:ext cx="490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Борис Юрьевич Грачевский  (род.1949г.) – художественный руководитель и директор детского юмористического киножурнала «ЕРАЛАШ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660066"/>
                </a:solidFill>
                <a:latin typeface="Arial"/>
                <a:ea typeface="Arial"/>
              </a:rPr>
              <a:t>Современный детский  кинематограф.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ttp://tushkan.tv/_nw/94/31283754.jpg"/>
          <p:cNvPicPr/>
          <p:nvPr/>
        </p:nvPicPr>
        <p:blipFill>
          <a:blip r:embed="rId1"/>
          <a:stretch/>
        </p:blipFill>
        <p:spPr>
          <a:xfrm>
            <a:off x="611280" y="1341360"/>
            <a:ext cx="2786040" cy="378612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C:\Users\dns\Desktop\3131.jpg"/>
          <p:cNvPicPr/>
          <p:nvPr/>
        </p:nvPicPr>
        <p:blipFill>
          <a:blip r:embed="rId2"/>
          <a:stretch/>
        </p:blipFill>
        <p:spPr>
          <a:xfrm>
            <a:off x="4140360" y="1413000"/>
            <a:ext cx="2786040" cy="3714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108000" y="5373720"/>
            <a:ext cx="42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«Тайна Егора» (20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Реж. Александра Ерофеева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3635280" y="5300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Летние приключения отчаянных (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4218840" y="558972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  <a:ea typeface="Arial"/>
              </a:rPr>
              <a:t>Реж. Борис Шварц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sus Asus</cp:lastModifiedBy>
  <dcterms:modified xsi:type="dcterms:W3CDTF">2017-09-29T18:40:07Z</dcterms:modified>
  <cp:revision>843</cp:revision>
  <dc:subject/>
  <dc:title>Diapositiva 1</dc:title>
</cp:coreProperties>
</file>