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20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4.png" ContentType="image/png"/>
  <Override PartName="/ppt/media/image3.png" ContentType="image/png"/>
  <Override PartName="/ppt/media/image23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25.png" ContentType="image/png"/>
  <Override PartName="/ppt/media/image2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043C-0614-4F1E-8F94-2B643B8F1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C995-304A-497F-BA38-45D20411B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C0F2-D97A-40DB-8D22-1A31B59A2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DD32-0CE7-429D-863B-E266C74DE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551E-B5A6-422A-B862-8575971C6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E682-2545-43BF-B3A0-A4CCC7A0C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F460-CADA-454F-A0F9-21505C81A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33B0-1E1B-4040-B554-A9C81F15A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5C7A-74C8-4213-A55D-261A60FA1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3D74-8C34-40AB-8255-7A1BE317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A9C0-103B-46AF-8955-81A806DF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B39E-FB14-4F5C-BE67-839A2C2B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1BCEF-6043-4CC8-A84A-671546778C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96640"/>
            <a:ext cx="7772400" cy="2376360"/>
          </a:xfrm>
          <a:prstGeom prst="rect">
            <a:avLst/>
          </a:prstGeom>
          <a:gradFill rotWithShape="0">
            <a:gsLst>
              <a:gs pos="0">
                <a:srgbClr val="eaffbe"/>
              </a:gs>
              <a:gs pos="100000">
                <a:srgbClr val="f9ffec"/>
              </a:gs>
            </a:gsLst>
            <a:lin ang="16200000"/>
          </a:gradFill>
          <a:ln w="9360">
            <a:solidFill>
              <a:srgbClr val="bfd39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Arial Black"/>
                <a:ea typeface="Aharoni"/>
              </a:rPr>
              <a:t>Кейс – стади</a:t>
            </a:r>
            <a:br>
              <a:rPr sz="4400"/>
            </a:br>
            <a:r>
              <a:rPr b="0" lang="en-US" sz="4400" spc="-1" strike="noStrike">
                <a:solidFill>
                  <a:srgbClr val="00b050"/>
                </a:solidFill>
                <a:latin typeface="Aharoni"/>
                <a:ea typeface="Aharoni"/>
              </a:rPr>
              <a:t>case-stu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950080"/>
            <a:ext cx="6400800" cy="9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2016 г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-30600"/>
            <a:ext cx="8785440" cy="1079640"/>
          </a:xfrm>
          <a:prstGeom prst="rect">
            <a:avLst/>
          </a:prstGeom>
          <a:gradFill rotWithShape="0">
            <a:gsLst>
              <a:gs pos="0">
                <a:srgbClr val="eaffbe"/>
              </a:gs>
              <a:gs pos="100000">
                <a:srgbClr val="f9ffec"/>
              </a:gs>
            </a:gsLst>
            <a:lin ang="16200000"/>
          </a:gradFill>
          <a:ln w="9360">
            <a:solidFill>
              <a:srgbClr val="bfd39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ение рассказа И. Соколова-Микитова «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двежья семь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79280" y="1196640"/>
            <a:ext cx="8856720" cy="5545080"/>
          </a:xfrm>
          <a:prstGeom prst="rect">
            <a:avLst/>
          </a:prstGeom>
          <a:gradFill rotWithShape="0">
            <a:gsLst>
              <a:gs pos="0">
                <a:srgbClr val="eaffbe"/>
              </a:gs>
              <a:gs pos="100000">
                <a:srgbClr val="f9ffec"/>
              </a:gs>
            </a:gsLst>
            <a:lin ang="16200000"/>
          </a:gradFill>
          <a:ln w="9360">
            <a:solidFill>
              <a:srgbClr val="bfd39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освещенную солнцем поляну вывела медведица своих маленьких медвежат. Испугалась медведей быстрая куница. Остановилась, слушает осторожная медведица: всё ли спокойно в лесу? Жмутся к матери маленькие медвежата. Страшно им в огромном лесу. Только недавно выбрались из тёплой берлоги. Прислушиваются медвежата, как шумит ветер в высоких лесных вершинах, как пересвистываются и поют невидимые птицы, а на сухой сосновой макушке дятел выстукивает барабанную дробь. Поздней зимою, в берлоге, родились у медведицы эти мохнатые медвежата. Тепло им было в закрытой берлоге; сладко почмокивая, сосали они материнское молоко. Забравшись под брюхо медведицы, крепко спали. Вывела медведица своих медвежат в лес. Будут они теперь привыкать к родному лесу, играть и кувыркаться по мягким кочкам, взбираться на деревья. Трудно увидеть медведей. Далеко слышит и чует медведица. Не увидишь и не услышишь, как уйдут, тихо скроются в тёмном лесу чуткие звери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C:\Users\Dell\Desktop\wR4RBUnqc0Q.jpg"/>
          <p:cNvPicPr/>
          <p:nvPr/>
        </p:nvPicPr>
        <p:blipFill>
          <a:blip r:embed="rId1"/>
          <a:stretch/>
        </p:blipFill>
        <p:spPr>
          <a:xfrm>
            <a:off x="5724360" y="5157720"/>
            <a:ext cx="324036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59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  <a:ea typeface="Aharoni"/>
              </a:rPr>
              <a:t>СПАСИБО 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ial Black"/>
                <a:ea typeface="Aharoni"/>
              </a:rPr>
              <a:t>ЗА 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ial Black"/>
                <a:ea typeface="Aharoni"/>
              </a:rPr>
              <a:t>ВНИМАНИЕ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1" descr="C:\Users\Dell\Desktop\VG.png"/>
          <p:cNvPicPr/>
          <p:nvPr/>
        </p:nvPicPr>
        <p:blipFill>
          <a:blip r:embed="rId1"/>
          <a:stretch/>
        </p:blipFill>
        <p:spPr>
          <a:xfrm>
            <a:off x="2664000" y="3789360"/>
            <a:ext cx="381600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412640"/>
            <a:ext cx="8229600" cy="5329080"/>
          </a:xfrm>
          <a:prstGeom prst="rect">
            <a:avLst/>
          </a:prstGeom>
          <a:gradFill rotWithShape="0">
            <a:gsLst>
              <a:gs pos="0">
                <a:srgbClr val="eaffbe"/>
              </a:gs>
              <a:gs pos="100000">
                <a:srgbClr val="f9ffec"/>
              </a:gs>
            </a:gsLst>
            <a:lin ang="16200000"/>
          </a:gradFill>
          <a:ln w="9360">
            <a:solidFill>
              <a:srgbClr val="bfd39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зрастная группа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старший дошкольный возрас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Расширить знания детей о медведях. Систематизировать знания детей по теме: «Медведи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сти цикл мероприятий, посвященных медведям, их классификация, среда обитания, повадки,  предпочтения в еде и образе жизни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чь родителей к активному участию в кейс - стади для закрепления полученных знаний дома, на прогулках, при домашнем чтении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ть условия в группе для формирования знаний  и  изучения медведей, а также для самостоятельной  деятельности детей по данной теме;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 интерес к диким животным, развивать любознательность, интерес и стремление изучать природу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407880" y="25560"/>
            <a:ext cx="8328240" cy="1334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C:\Users\Dell\Desktop\-5J7gOBbq94.jpg"/>
          <p:cNvPicPr/>
          <p:nvPr/>
        </p:nvPicPr>
        <p:blipFill>
          <a:blip r:embed="rId2"/>
          <a:stretch/>
        </p:blipFill>
        <p:spPr>
          <a:xfrm>
            <a:off x="7093080" y="25560"/>
            <a:ext cx="1865160" cy="1249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C:\Users\Dell\Desktop\-5J7gOBbq94.jpg"/>
          <p:cNvPicPr/>
          <p:nvPr/>
        </p:nvPicPr>
        <p:blipFill>
          <a:blip r:embed="rId3"/>
          <a:stretch/>
        </p:blipFill>
        <p:spPr>
          <a:xfrm>
            <a:off x="142920" y="25560"/>
            <a:ext cx="198108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gradFill rotWithShape="0">
            <a:gsLst>
              <a:gs pos="0">
                <a:srgbClr val="eaffbe"/>
              </a:gs>
              <a:gs pos="100000">
                <a:srgbClr val="f9ffec"/>
              </a:gs>
            </a:gsLst>
            <a:lin ang="16200000"/>
          </a:gradFill>
          <a:ln w="9360">
            <a:solidFill>
              <a:srgbClr val="bfd39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лан мероприятий с детьм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196640"/>
            <a:ext cx="8229600" cy="5545080"/>
          </a:xfrm>
          <a:prstGeom prst="rect">
            <a:avLst/>
          </a:prstGeom>
          <a:gradFill rotWithShape="0">
            <a:gsLst>
              <a:gs pos="0">
                <a:srgbClr val="eaffbe"/>
              </a:gs>
              <a:gs pos="100000">
                <a:srgbClr val="f9ffec"/>
              </a:gs>
            </a:gsLst>
            <a:lin ang="16200000"/>
          </a:gradFill>
          <a:ln w="9360">
            <a:solidFill>
              <a:srgbClr val="bfd39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учивание пальчиковой гимнастика «Мишка в лесу»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ение рассказа М. Пришвина «Медведь» (беседа по рассказу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мотр репродукции А Комарова. «Гималайский Медведь» (составление творческих рассказов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еда по картине Шишкина «Утро в сосновом лесу»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ование акварельными красками. Темы на выбор: «Белый медведь», «Бурый медведь», «Бамбуковый медведь»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сказ рассказа В. Бианки «Купание медвежат»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ятие «Детям о медведях»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Знакомство с пословицами о медведях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оставление рассказа описания о медведях с помощью  опорных картинок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учивание считалочка «Два медведя»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Хороводная игра «Медведь»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учивание  колыбельной медведицы «Умка» (Слова: Ю. Яковлев, Музыка: Е. Крылатов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нятие по экологической безопасности «В гостях у Маши и Медведя»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учивание физкультминутки «Медвежата в чаще жили»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Заучивание стихотворения В. Орлова «Почему медведь зимой спит?» с использованием приёмов мнемотехники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гадывание загадок о медведях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.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подвижной игры « У медведя во бору»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Коллективна работа (поделка из пластилина) «Медвежий заповедник»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роект Музей «Медвежонок» (мини-музей в детском саду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.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ценировка русско-народной сказки «Три медведя»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eaffbe"/>
              </a:gs>
              <a:gs pos="100000">
                <a:srgbClr val="f9ffec"/>
              </a:gs>
            </a:gsLst>
            <a:lin ang="16200000"/>
          </a:gradFill>
          <a:ln w="9360">
            <a:solidFill>
              <a:srgbClr val="bfd39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лан мероприятий с родителями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gradFill rotWithShape="0">
            <a:gsLst>
              <a:gs pos="0">
                <a:srgbClr val="eaffbe"/>
              </a:gs>
              <a:gs pos="100000">
                <a:srgbClr val="f9ffec"/>
              </a:gs>
            </a:gsLst>
            <a:lin ang="16200000"/>
          </a:gradFill>
          <a:ln w="9360">
            <a:solidFill>
              <a:srgbClr val="bfd39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 родителей с предстоящей работой над кейс - стад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ление плаката «Классификация медведей, среда их обитания»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еда с родителями на тему: «Интересные факты о медведях»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ление настольных дидактических игр на тему: «Медведи»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бор вырезок с изображением медведей из журналов, альбомов, книг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родительского уголка: «На прогулку в лес с детьми»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ление папки – передвижки: «Лесной царь-бурый медведь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ер класс для родителей: «Медвежья поляна» (поделки из фетра, пластилина, бумаги, картона, природного материала и др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gradFill rotWithShape="0">
            <a:gsLst>
              <a:gs pos="0">
                <a:srgbClr val="eaffbe"/>
              </a:gs>
              <a:gs pos="100000">
                <a:srgbClr val="f9ffec"/>
              </a:gs>
            </a:gsLst>
            <a:lin ang="16200000"/>
          </a:gradFill>
          <a:ln w="9360">
            <a:solidFill>
              <a:srgbClr val="bfd39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тение отрывка из рассказа М. Пришвина  «Медведь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268280"/>
            <a:ext cx="8229600" cy="4824720"/>
          </a:xfrm>
          <a:prstGeom prst="rect">
            <a:avLst/>
          </a:prstGeom>
          <a:gradFill rotWithShape="0">
            <a:gsLst>
              <a:gs pos="0">
                <a:srgbClr val="eaffbe"/>
              </a:gs>
              <a:gs pos="100000">
                <a:srgbClr val="f9ffec"/>
              </a:gs>
            </a:gsLst>
            <a:lin ang="16200000"/>
          </a:gradFill>
          <a:ln w="9360">
            <a:solidFill>
              <a:srgbClr val="bfd39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е думают, будто пойти только в лес, где много медведей, и так они вот и набросятся, и съедят тебя, и останутся от козлика ножки да рожки. Такая это неправда! Медведи, как и всякий зверь, ходят по лесу с великой осторожностью а, зачуяв человека, так удирают от него, что не только всего зверя, а не увидишь даже и мелькнувшего хвостика. Мне очень хотелось застать медведя за едой, где-нибудь на полянке, или на рыбной ловле на берегу реки, или на отдыхе. Имея на всякий случай оружие, я старался ходить по лесу так же осторожно, как звери, затаивался возле тёплых следов; не раз мне казалось, будто мне даже и пахло медведем... Но самого медведя, сколько я ни ходил, встретить мне и тот раз так и не удалось. Забрав свои мешки, сел я в лодку и поплыл. А как раз против места, где я сел в лодку, на том берегу, очень крутом и высоком, в маленькой избушке жил один промысловый охотник. Через какой-нибудь час или два этот охотник поехал на своей лодке вниз по Коде, нагнал меня и застал в той избушке на полпути, где все останавливаются. Он-то вот и рассказал мне, что со своего берега видел медведя, как он вымахнул из тайги как раз против того места, откуда я вышел к своей лодке. Досадно мне стало на себя, что я подшумел медведя. Но охотник мне ещё рассказал, что медведь не только ускользнул от моего глаза, но ещё и надо мной посмеялся... Он, оказывается, очень недалеко от меня отбежал, спрятался за выворотень и оттуда, стоя на задних лапах, наблюдал меня: и как я вышел из леса, и как садился в лодку и поплы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Заголовок 1"/>
          <p:cNvSpPr/>
          <p:nvPr/>
        </p:nvSpPr>
        <p:spPr>
          <a:xfrm>
            <a:off x="971640" y="6021360"/>
            <a:ext cx="7704000" cy="727200"/>
          </a:xfrm>
          <a:prstGeom prst="rect">
            <a:avLst/>
          </a:prstGeom>
          <a:solidFill>
            <a:srgbClr val="c3d69b"/>
          </a:solidFill>
          <a:ln w="25560">
            <a:solidFill>
              <a:srgbClr val="8f9d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Задание: Как вы думаете, почему медведь спрятался от человека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eaffbe"/>
              </a:gs>
              <a:gs pos="100000">
                <a:srgbClr val="f9ffec"/>
              </a:gs>
            </a:gsLst>
            <a:lin ang="16200000"/>
          </a:gradFill>
          <a:ln w="9360">
            <a:solidFill>
              <a:srgbClr val="bfd39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все медведи боятся человека. Есть такие которые дружат с людь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C:\Users\abalsyavichyus\Desktop\Zk1UvVwX3Pk.jpg"/>
          <p:cNvPicPr/>
          <p:nvPr/>
        </p:nvPicPr>
        <p:blipFill>
          <a:blip r:embed="rId1"/>
          <a:stretch/>
        </p:blipFill>
        <p:spPr>
          <a:xfrm>
            <a:off x="101520" y="4343400"/>
            <a:ext cx="2511360" cy="2459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Users\abalsyavichyus\Desktop\1ZylISn6RW8.jpg"/>
          <p:cNvPicPr/>
          <p:nvPr/>
        </p:nvPicPr>
        <p:blipFill>
          <a:blip r:embed="rId2"/>
          <a:stretch/>
        </p:blipFill>
        <p:spPr>
          <a:xfrm>
            <a:off x="3193920" y="3984480"/>
            <a:ext cx="2987640" cy="3013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C:\Users\abalsyavichyus\Desktop\Uzah84vv1cU.jpg"/>
          <p:cNvPicPr/>
          <p:nvPr/>
        </p:nvPicPr>
        <p:blipFill>
          <a:blip r:embed="rId3"/>
          <a:stretch/>
        </p:blipFill>
        <p:spPr>
          <a:xfrm>
            <a:off x="6064200" y="3844800"/>
            <a:ext cx="3079800" cy="3036960"/>
          </a:xfrm>
          <a:prstGeom prst="rect">
            <a:avLst/>
          </a:prstGeom>
          <a:ln w="0">
            <a:noFill/>
          </a:ln>
        </p:spPr>
      </p:pic>
      <p:sp>
        <p:nvSpPr>
          <p:cNvPr id="58" name="Скругленный прямоугольник 3"/>
          <p:cNvSpPr/>
          <p:nvPr/>
        </p:nvSpPr>
        <p:spPr>
          <a:xfrm>
            <a:off x="100080" y="1773360"/>
            <a:ext cx="2738520" cy="242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урые медведи считают, что человек опасен и стараются его избегать, однако медведица будет  пытаться защитить своих медвежа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Скругленный прямоугольник 8"/>
          <p:cNvSpPr/>
          <p:nvPr/>
        </p:nvSpPr>
        <p:spPr>
          <a:xfrm>
            <a:off x="3324240" y="1579680"/>
            <a:ext cx="2739960" cy="242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елые медведи не боятся встречи с людьми, однако людям с ними лучше не встречаться, так как белые медведи считаются самыми агрессивным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Скругленный прямоугольник 9"/>
          <p:cNvSpPr/>
          <p:nvPr/>
        </p:nvSpPr>
        <p:spPr>
          <a:xfrm>
            <a:off x="6404040" y="1579680"/>
            <a:ext cx="2739960" cy="242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 встреча с пандой совсем не опасна! Эти медведи очень дружелюбн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Скругленный прямоугольник 10"/>
          <p:cNvSpPr/>
          <p:nvPr/>
        </p:nvSpPr>
        <p:spPr>
          <a:xfrm>
            <a:off x="912960" y="1773360"/>
            <a:ext cx="4824360" cy="4873680"/>
          </a:xfrm>
          <a:custGeom>
            <a:avLst/>
            <a:gdLst>
              <a:gd name="textAreaLeft" fmla="*/ 235440 w 4824360"/>
              <a:gd name="textAreaRight" fmla="*/ 4588920 w 4824360"/>
              <a:gd name="textAreaTop" fmla="*/ 235440 h 4873680"/>
              <a:gd name="textAreaBottom" fmla="*/ 4638240 h 4873680"/>
            </a:gdLst>
            <a:ahLst/>
            <a:rect l="textAreaLeft" t="textAreaTop" r="textAreaRight" b="textAreaBottom"/>
            <a:pathLst>
              <a:path w="21600" h="21821">
                <a:moveTo>
                  <a:pt x="3600" y="0"/>
                </a:moveTo>
                <a:arcTo wR="3600" hR="3600" stAng="16200000" swAng="-5400000"/>
                <a:lnTo>
                  <a:pt x="0" y="18221"/>
                </a:lnTo>
                <a:arcTo wR="3600" hR="3600" stAng="10800000" swAng="-5400000"/>
                <a:lnTo>
                  <a:pt x="18000" y="2182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анда — это не игрушка!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анда — это ведь медведь!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 него смешные ушки,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юбит он смешно сидеть!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лапках черных он сжимает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ебель вкусного бамбука,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жует себе, не зная,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то бывает в мире скука.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 играет, то дремает,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 на веточке качается,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 братишку обнимает,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 на кресле спать пытается.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зоопарке очень любят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е бамбуковых медведей,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равятся они всем людям,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зрослым, и конечно, детям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920" y="0"/>
            <a:ext cx="4968720" cy="574560"/>
          </a:xfrm>
          <a:prstGeom prst="rect">
            <a:avLst/>
          </a:prstGeom>
          <a:gradFill rotWithShape="0">
            <a:gsLst>
              <a:gs pos="0">
                <a:srgbClr val="eaffbe"/>
              </a:gs>
              <a:gs pos="100000">
                <a:srgbClr val="f9ffec"/>
              </a:gs>
            </a:gsLst>
            <a:lin ang="16200000"/>
          </a:gradFill>
          <a:ln w="9360">
            <a:solidFill>
              <a:srgbClr val="bfd39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ги медведям добраться до своего д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6" descr="C:\Users\abalsyavichyus\Desktop\Рисунок1.jpg"/>
          <p:cNvPicPr/>
          <p:nvPr/>
        </p:nvPicPr>
        <p:blipFill>
          <a:blip r:embed="rId1"/>
          <a:stretch/>
        </p:blipFill>
        <p:spPr>
          <a:xfrm>
            <a:off x="131760" y="4724280"/>
            <a:ext cx="2087640" cy="19576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64" name="Picture 9" descr="C:\Users\abalsyavichyus\Desktop\sMCJGuo20Uo.jpg"/>
          <p:cNvPicPr/>
          <p:nvPr/>
        </p:nvPicPr>
        <p:blipFill>
          <a:blip r:embed="rId2"/>
          <a:stretch/>
        </p:blipFill>
        <p:spPr>
          <a:xfrm>
            <a:off x="5332320" y="4761000"/>
            <a:ext cx="3225960" cy="19461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65" name="Picture 7" descr="C:\Users\abalsyavichyus\Desktop\M5s7nRMl_NI.jpg"/>
          <p:cNvPicPr/>
          <p:nvPr/>
        </p:nvPicPr>
        <p:blipFill>
          <a:blip r:embed="rId3"/>
          <a:stretch/>
        </p:blipFill>
        <p:spPr>
          <a:xfrm>
            <a:off x="2411280" y="4756320"/>
            <a:ext cx="2700360" cy="19508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66" name="Прямоугольник 3"/>
          <p:cNvSpPr/>
          <p:nvPr/>
        </p:nvSpPr>
        <p:spPr>
          <a:xfrm>
            <a:off x="5003640" y="169920"/>
            <a:ext cx="4284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eece1"/>
                </a:solidFill>
                <a:latin typeface="Calibri"/>
              </a:rPr>
              <a:t>Известно, что водятся панды в Кита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eece1"/>
                </a:solidFill>
                <a:latin typeface="Calibri"/>
              </a:rPr>
              <a:t>В бамбуковых джунглях они обитают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eece1"/>
                </a:solidFill>
                <a:latin typeface="Calibri"/>
              </a:rPr>
              <a:t>На склонах нагорья с названием Тибе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eece1"/>
                </a:solidFill>
                <a:latin typeface="Calibri"/>
              </a:rPr>
              <a:t>Проросший бамбук – их обычный обед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eece1"/>
                </a:solidFill>
                <a:latin typeface="Calibri"/>
              </a:rPr>
              <a:t>Богаты природой чилийские Анды 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eece1"/>
                </a:solidFill>
                <a:latin typeface="Calibri"/>
              </a:rPr>
              <a:t>Но всё же не могут похвастаться пандо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eece1"/>
                </a:solidFill>
                <a:latin typeface="Calibri"/>
              </a:rPr>
              <a:t>В обеих Америках – как ни крути 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eece1"/>
                </a:solidFill>
                <a:latin typeface="Calibri"/>
              </a:rPr>
              <a:t>Нам в дикой природе её не най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eece1"/>
                </a:solidFill>
                <a:latin typeface="Calibri"/>
              </a:rPr>
              <a:t>Облазишь леса и Карпат, и Кавказа 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eece1"/>
                </a:solidFill>
                <a:latin typeface="Calibri"/>
              </a:rPr>
              <a:t>Но так же не встретишься с пандой ни разу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eece1"/>
                </a:solidFill>
                <a:latin typeface="Calibri"/>
              </a:rPr>
              <a:t>Повсюду написано, где ни читай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eece1"/>
                </a:solidFill>
                <a:latin typeface="Calibri"/>
              </a:rPr>
              <a:t>«Среда обитания – горный Китай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7"/>
          <p:cNvSpPr/>
          <p:nvPr/>
        </p:nvSpPr>
        <p:spPr>
          <a:xfrm>
            <a:off x="34920" y="692280"/>
            <a:ext cx="2771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чаще леса, где кругом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ишина да бурелом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етом ходит без дорог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зле сосен и берёз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 зимой он спит в берлог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 мороза прячет нос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н в берлоге спит зим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 большущею сосной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 когда придёт весн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сыпается от с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9"/>
          <p:cNvSpPr/>
          <p:nvPr/>
        </p:nvSpPr>
        <p:spPr>
          <a:xfrm>
            <a:off x="2916360" y="574560"/>
            <a:ext cx="2087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Где-то на белом свете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ам, где всегда мороз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рутся спиной медвед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 земную ось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имо плывут столетья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пят подо льдом моря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рутся об ось медведи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Вертится земл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C:\Users\abalsyavichyus\Desktop\Zk1UvVwX3Pk.jpg"/>
          <p:cNvPicPr/>
          <p:nvPr/>
        </p:nvPicPr>
        <p:blipFill>
          <a:blip r:embed="rId4"/>
          <a:stretch/>
        </p:blipFill>
        <p:spPr>
          <a:xfrm>
            <a:off x="7613640" y="5781600"/>
            <a:ext cx="944640" cy="925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abalsyavichyus\Desktop\1ZylISn6RW8.jpg"/>
          <p:cNvPicPr/>
          <p:nvPr/>
        </p:nvPicPr>
        <p:blipFill>
          <a:blip r:embed="rId5"/>
          <a:stretch/>
        </p:blipFill>
        <p:spPr>
          <a:xfrm>
            <a:off x="1116000" y="5564160"/>
            <a:ext cx="1123920" cy="1133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C:\Users\abalsyavichyus\Desktop\Uzah84vv1cU.jpg"/>
          <p:cNvPicPr/>
          <p:nvPr/>
        </p:nvPicPr>
        <p:blipFill>
          <a:blip r:embed="rId6"/>
          <a:stretch/>
        </p:blipFill>
        <p:spPr>
          <a:xfrm>
            <a:off x="3844800" y="5564160"/>
            <a:ext cx="11588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48148E-006 L 0.30069 0.00509 E">
                                      <p:cBhvr>
                                        <p:cTn id="54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4 0.0044 L 0.40243 0.00879 E">
                                      <p:cBhvr>
                                        <p:cTn id="56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2.22222E-006 L -0.73281 -0.01504 E">
                                      <p:cBhvr>
                                        <p:cTn id="58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gradFill rotWithShape="0">
            <a:gsLst>
              <a:gs pos="0">
                <a:srgbClr val="eaffbe"/>
              </a:gs>
              <a:gs pos="100000">
                <a:srgbClr val="f9ffec"/>
              </a:gs>
            </a:gsLst>
            <a:lin ang="16200000"/>
          </a:gradFill>
          <a:ln w="9360">
            <a:solidFill>
              <a:srgbClr val="bfd39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моги медведям добраться до их любимых лакомств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C:\Users\Dell\Desktop\labirint_dlya_detey4.jpg"/>
          <p:cNvPicPr/>
          <p:nvPr/>
        </p:nvPicPr>
        <p:blipFill>
          <a:blip r:embed="rId1"/>
          <a:stretch/>
        </p:blipFill>
        <p:spPr>
          <a:xfrm>
            <a:off x="2843280" y="1955880"/>
            <a:ext cx="5317920" cy="4927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C:\Users\Dell\Desktop\27225718-Brown-bear-polar-bear-panda-Cartoon-characters-Vector-illustration--Stock-Photo.jpg"/>
          <p:cNvPicPr/>
          <p:nvPr/>
        </p:nvPicPr>
        <p:blipFill>
          <a:blip r:embed="rId2"/>
          <a:stretch/>
        </p:blipFill>
        <p:spPr>
          <a:xfrm>
            <a:off x="2847960" y="1146240"/>
            <a:ext cx="1457280" cy="1457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C:\Users\Dell\Desktop\27225718-Brown-bear-polar-bear-panda-Cartoon-characters-Vector-illustration--Stock-Photo.jpg"/>
          <p:cNvPicPr/>
          <p:nvPr/>
        </p:nvPicPr>
        <p:blipFill>
          <a:blip r:embed="rId3"/>
          <a:stretch/>
        </p:blipFill>
        <p:spPr>
          <a:xfrm>
            <a:off x="3824280" y="1058760"/>
            <a:ext cx="1495440" cy="1427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C:\Users\Dell\Desktop\27225718-Brown-bear-polar-bear-panda-Cartoon-characters-Vector-illustration--Stock-Photo.jpg"/>
          <p:cNvPicPr/>
          <p:nvPr/>
        </p:nvPicPr>
        <p:blipFill>
          <a:blip r:embed="rId4"/>
          <a:stretch/>
        </p:blipFill>
        <p:spPr>
          <a:xfrm>
            <a:off x="2308320" y="1968480"/>
            <a:ext cx="1071360" cy="1460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Users\cronus\Desktop\ribka116.png"/>
          <p:cNvPicPr/>
          <p:nvPr/>
        </p:nvPicPr>
        <p:blipFill>
          <a:blip r:embed="rId5"/>
          <a:stretch/>
        </p:blipFill>
        <p:spPr>
          <a:xfrm>
            <a:off x="6372360" y="5886360"/>
            <a:ext cx="1255680" cy="6447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C:\Users\cronus\Desktop\0_9d0ed_4a375246_S.png"/>
          <p:cNvPicPr/>
          <p:nvPr/>
        </p:nvPicPr>
        <p:blipFill>
          <a:blip r:embed="rId6"/>
          <a:stretch/>
        </p:blipFill>
        <p:spPr>
          <a:xfrm rot="3299400">
            <a:off x="2400840" y="5736240"/>
            <a:ext cx="1592280" cy="1590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C:\Users\cronus\Desktop\clp466797.jpg"/>
          <p:cNvPicPr/>
          <p:nvPr/>
        </p:nvPicPr>
        <p:blipFill>
          <a:blip r:embed="rId7"/>
          <a:stretch/>
        </p:blipFill>
        <p:spPr>
          <a:xfrm>
            <a:off x="1727280" y="3860640"/>
            <a:ext cx="1849320" cy="18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728720"/>
          </a:xfrm>
          <a:prstGeom prst="rect">
            <a:avLst/>
          </a:prstGeom>
          <a:gradFill rotWithShape="0">
            <a:gsLst>
              <a:gs pos="0">
                <a:srgbClr val="eaffbe"/>
              </a:gs>
              <a:gs pos="100000">
                <a:srgbClr val="f9ffec"/>
              </a:gs>
            </a:gsLst>
            <a:lin ang="16200000"/>
          </a:gradFill>
          <a:ln w="9360">
            <a:solidFill>
              <a:srgbClr val="bfd39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смотр видео – материала: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усская народная сказка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«Маша и медведь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5" descr="C:\Users\Dell\Desktop\maxresdefault (1).jpg"/>
          <p:cNvPicPr/>
          <p:nvPr/>
        </p:nvPicPr>
        <p:blipFill>
          <a:blip r:embed="rId1"/>
          <a:stretch/>
        </p:blipFill>
        <p:spPr>
          <a:xfrm>
            <a:off x="6308640" y="5046840"/>
            <a:ext cx="2727360" cy="1726920"/>
          </a:xfrm>
          <a:prstGeom prst="rect">
            <a:avLst/>
          </a:prstGeom>
          <a:ln w="25560">
            <a:solidFill>
              <a:srgbClr val="b66d31"/>
            </a:solidFill>
            <a:miter/>
          </a:ln>
        </p:spPr>
      </p:pic>
      <p:pic>
        <p:nvPicPr>
          <p:cNvPr id="82" name="Picture 1" descr="C:\Users\Dell\Desktop\Машенька-и-медведь.-Русская-народная-сказка..jpg"/>
          <p:cNvPicPr/>
          <p:nvPr/>
        </p:nvPicPr>
        <p:blipFill>
          <a:blip r:embed="rId2"/>
          <a:stretch/>
        </p:blipFill>
        <p:spPr>
          <a:xfrm>
            <a:off x="3986280" y="4363920"/>
            <a:ext cx="2530440" cy="1605240"/>
          </a:xfrm>
          <a:prstGeom prst="rect">
            <a:avLst/>
          </a:prstGeom>
          <a:ln w="25560">
            <a:solidFill>
              <a:srgbClr val="b66d31"/>
            </a:solidFill>
            <a:miter/>
          </a:ln>
        </p:spPr>
      </p:pic>
      <p:pic>
        <p:nvPicPr>
          <p:cNvPr id="83" name="Picture 3" descr="C:\Users\Dell\Desktop\images.jpg"/>
          <p:cNvPicPr/>
          <p:nvPr/>
        </p:nvPicPr>
        <p:blipFill>
          <a:blip r:embed="rId3"/>
          <a:stretch/>
        </p:blipFill>
        <p:spPr>
          <a:xfrm>
            <a:off x="1547640" y="3632040"/>
            <a:ext cx="2592720" cy="1876680"/>
          </a:xfrm>
          <a:prstGeom prst="rect">
            <a:avLst/>
          </a:prstGeom>
          <a:ln w="25560">
            <a:solidFill>
              <a:srgbClr val="b66d31"/>
            </a:solidFill>
            <a:miter/>
          </a:ln>
        </p:spPr>
      </p:pic>
      <p:pic>
        <p:nvPicPr>
          <p:cNvPr id="84" name="Picture 4" descr="C:\Users\Dell\Desktop\45.jpg"/>
          <p:cNvPicPr/>
          <p:nvPr/>
        </p:nvPicPr>
        <p:blipFill>
          <a:blip r:embed="rId4"/>
          <a:stretch/>
        </p:blipFill>
        <p:spPr>
          <a:xfrm>
            <a:off x="179280" y="1924200"/>
            <a:ext cx="2916360" cy="1755720"/>
          </a:xfrm>
          <a:prstGeom prst="rect">
            <a:avLst/>
          </a:prstGeom>
          <a:ln w="25560">
            <a:solidFill>
              <a:srgbClr val="f7964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2T09:39:33Z</dcterms:created>
  <dc:creator>Dell</dc:creator>
  <dc:description/>
  <dc:language>en-US</dc:language>
  <cp:lastModifiedBy>ohranatruda</cp:lastModifiedBy>
  <dcterms:modified xsi:type="dcterms:W3CDTF">2017-09-29T03:48:40Z</dcterms:modified>
  <cp:revision>40</cp:revision>
  <dc:subject/>
  <dc:title>Кейс – стади (case-stadi)</dc:title>
</cp:coreProperties>
</file>