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B75-C17D-4046-AAEF-4FE15330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A0F-512C-4C3E-9CA4-3B46A35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AF5-6735-456E-B651-3A486BB6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B74-83C1-45E0-A073-3329504E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960-3987-4F86-BED1-55A785C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854-2051-4EE3-8958-1E3E2D0C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596-871D-4748-A486-FBC500A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D53-F11B-47A1-95CC-7262875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580-27B7-49AD-8C24-230B4A8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71F-C1A2-49B8-9702-3ADABED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4CE-D338-4398-AAB6-93F83F8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F4F-F04D-43F5-903B-B634ED5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FFC0-B74F-41E7-B694-9CCE14121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237636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  <a:ea typeface="Aharoni"/>
              </a:rPr>
              <a:t>Кейс – стади</a:t>
            </a: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case-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-30600"/>
            <a:ext cx="8785440" cy="10796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ение рассказа И. Соколова-Микитова «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жья сем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вещенную солнцем поляну вывела медведица своих маленьких медвежат. Испугалась медведей быстрая куница. Остановилась, слушает осторожная медведица: всё ли спокойно в лесу? Жмутся к матери маленькие медвежата. Страшно им в огромном лесу. Только недавно выбрались из тёплой берлоги. Прислушиваются медвежата, как шумит ветер в высоких лесных вершинах, как пересвистываются и поют невидимые птицы, а на сухой сосновой макушке дятел выстукивает барабанную дробь. Поздней зимою, в берлоге, родились у медведицы эти мохнатые медвежата. Тепло им было в закрытой берлоге; сладко почмокивая, сосали они материнское молоко. Забравшись под брюхо медведицы, крепко спали. Вывела медведица своих медвежат в лес. Будут они теперь привыкать к родному лесу, играть и кувыркаться по мягким кочкам, взбираться на деревья. Трудно увидеть медведей. Далеко слышит и чует медведица. Не увидишь и не услышишь, как уйдут, тихо скроются в тёмном лесу чуткие звер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Dell\Desktop\wR4RBUnqc0Q.jpg"/>
          <p:cNvPicPr/>
          <p:nvPr/>
        </p:nvPicPr>
        <p:blipFill>
          <a:blip r:embed="rId1"/>
          <a:stretch/>
        </p:blipFill>
        <p:spPr>
          <a:xfrm>
            <a:off x="5724360" y="5157720"/>
            <a:ext cx="324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З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C:\Users\Dell\Desktop\VG.png"/>
          <p:cNvPicPr/>
          <p:nvPr/>
        </p:nvPicPr>
        <p:blipFill>
          <a:blip r:embed="rId1"/>
          <a:stretch/>
        </p:blipFill>
        <p:spPr>
          <a:xfrm>
            <a:off x="2664000" y="3789360"/>
            <a:ext cx="3816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12640"/>
            <a:ext cx="8229600" cy="5329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растная групп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рший дошкольный возрас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ширить знания детей о медведях. Систематизировать знания детей по теме: «Медвед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цикл мероприятий, посвященных медведям, их классификация, среда обитания, повадки,  предпочтения в еде и образе жизн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активному участию в кейс - стади для закрепления полученных знаний дома, на прогулках, при домашнем чтени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в группе для формирования знаний  и  изучения медведей, а также для самостоятельной  деятельности детей по данной теме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диким животным, развивать любознательность, интерес и стремление изучать природ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07880" y="25560"/>
            <a:ext cx="8328240" cy="133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Dell\Desktop\-5J7gOBbq94.jpg"/>
          <p:cNvPicPr/>
          <p:nvPr/>
        </p:nvPicPr>
        <p:blipFill>
          <a:blip r:embed="rId2"/>
          <a:stretch/>
        </p:blipFill>
        <p:spPr>
          <a:xfrm>
            <a:off x="7093080" y="25560"/>
            <a:ext cx="1865160" cy="124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ell\Desktop\-5J7gOBbq94.jpg"/>
          <p:cNvPicPr/>
          <p:nvPr/>
        </p:nvPicPr>
        <p:blipFill>
          <a:blip r:embed="rId3"/>
          <a:stretch/>
        </p:blipFill>
        <p:spPr>
          <a:xfrm>
            <a:off x="142920" y="25560"/>
            <a:ext cx="19810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мероприятий с деть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пальчиковой гимнастика «Мишка в лес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ассказа М. Пришвина «Медведь» (беседа по рассказу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репродукции А Комарова. «Гималайский Медведь» (составление творческих рассказов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картине Шишкина «Утро в сосновом лес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акварельными красками. Темы на выбор: «Белый медведь», «Бурый медведь», «Бамбуковый медведь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рассказа В. Бианки «Купание медвежат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«Детям о медведях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комство с пословицами о медведя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ставление рассказа описания о медведях с помощью  опорных картин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читалочка «Два медведя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ороводная игра «Медведь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 колыбельной медведицы «Умка» (Слова: Ю. Яковлев, Музыка: Е. Крылатов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экологической безопасности «В гостях у Маши и Медведя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физкультминутки «Медвежата в чаще жили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учивание стихотворения В. Орлова «Почему медведь зимой спит?» с использованием приёмов мнемотехни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 о медведя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одвижной игры « У медведя во бор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оллективна работа (поделка из пластилина) «Медвежий заповедник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Музей «Медвежонок» (мини-музей в детском саду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а русско-народной сказки «Три медведя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н мероприятий с родителя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одителей с предстоящей работой над кейс - стад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лаката «Классификация медведей, среда их обитания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 на тему: «Интересные факты о медведях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астольных дидактических игр на тему: «Медвед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вырезок с изображением медведей из журналов, альбомов, книг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одительского уголка: «На прогулку в лес с детьми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апки – передвижки: «Лесной царь-бурый медвед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класс для родителей: «Медвежья поляна» (поделки из фетра, пластилина, бумаги, картона, природного материала и др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ение отрывка из рассказа М. Пришвина  «Медвед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8229600" cy="48247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думают, будто пойти только в лес, где много медведей, и так они вот и набросятся, и съедят тебя, и останутся от козлика ножки да рожки. Такая это неправда! Медведи, как и всякий зверь, ходят по лесу с великой осторожностью а, зачуяв человека, так удирают от него, что не только всего зверя, а не увидишь даже и мелькнувшего хвостика. Мне очень хотелось застать медведя за едой, где-нибудь на полянке, или на рыбной ловле на берегу реки, или на отдыхе. Имея на всякий случай оружие, я старался ходить по лесу так же осторожно, как звери, затаивался возле тёплых следов; не раз мне казалось, будто мне даже и пахло медведем... Но самого медведя, сколько я ни ходил, встретить мне и тот раз так и не удалось. Забрав свои мешки, сел я в лодку и поплыл. А как раз против места, где я сел в лодку, на том берегу, очень крутом и высоком, в маленькой избушке жил один промысловый охотник. Через какой-нибудь час или два этот охотник поехал на своей лодке вниз по Коде, нагнал меня и застал в той избушке на полпути, где все останавливаются. Он-то вот и рассказал мне, что со своего берега видел медведя, как он вымахнул из тайги как раз против того места, откуда я вышел к своей лодке. Досадно мне стало на себя, что я подшумел медведя. Но охотник мне ещё рассказал, что медведь не только ускользнул от моего глаза, но ещё и надо мной посмеялся... Он, оказывается, очень недалеко от меня отбежал, спрятался за выворотень и оттуда, стоя на задних лапах, наблюдал меня: и как я вышел из леса, и как садился в лодку и поплы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971640" y="6021360"/>
            <a:ext cx="7704000" cy="727200"/>
          </a:xfrm>
          <a:prstGeom prst="rect">
            <a:avLst/>
          </a:prstGeom>
          <a:solidFill>
            <a:srgbClr val="c3d69b"/>
          </a:solidFill>
          <a:ln w="25560">
            <a:solidFill>
              <a:srgbClr val="8f9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: Как вы думаете, почему медведь спрятался от человек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медведи боятся человека. Есть такие которые дружат с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abalsyavichyus\Desktop\Zk1UvVwX3Pk.jpg"/>
          <p:cNvPicPr/>
          <p:nvPr/>
        </p:nvPicPr>
        <p:blipFill>
          <a:blip r:embed="rId1"/>
          <a:stretch/>
        </p:blipFill>
        <p:spPr>
          <a:xfrm>
            <a:off x="101520" y="4343400"/>
            <a:ext cx="2511360" cy="245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balsyavichyus\Desktop\1ZylISn6RW8.jpg"/>
          <p:cNvPicPr/>
          <p:nvPr/>
        </p:nvPicPr>
        <p:blipFill>
          <a:blip r:embed="rId2"/>
          <a:stretch/>
        </p:blipFill>
        <p:spPr>
          <a:xfrm>
            <a:off x="3193920" y="3984480"/>
            <a:ext cx="2987640" cy="301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balsyavichyus\Desktop\Uzah84vv1cU.jpg"/>
          <p:cNvPicPr/>
          <p:nvPr/>
        </p:nvPicPr>
        <p:blipFill>
          <a:blip r:embed="rId3"/>
          <a:stretch/>
        </p:blipFill>
        <p:spPr>
          <a:xfrm>
            <a:off x="6064200" y="3844800"/>
            <a:ext cx="3079800" cy="303696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3"/>
          <p:cNvSpPr/>
          <p:nvPr/>
        </p:nvSpPr>
        <p:spPr>
          <a:xfrm>
            <a:off x="100080" y="1773360"/>
            <a:ext cx="273852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рые медведи считают, что человек опасен и стараются его избегать, однако медведица будет  пытаться защитить своих медвеж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8"/>
          <p:cNvSpPr/>
          <p:nvPr/>
        </p:nvSpPr>
        <p:spPr>
          <a:xfrm>
            <a:off x="3324240" y="1579680"/>
            <a:ext cx="273996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лые медведи не боятся встречи с людьми, однако людям с ними лучше не встречаться, так как белые медведи считаются самыми агрессив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9"/>
          <p:cNvSpPr/>
          <p:nvPr/>
        </p:nvSpPr>
        <p:spPr>
          <a:xfrm>
            <a:off x="6404040" y="1579680"/>
            <a:ext cx="273996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стреча с пандой совсем не опасна! Эти медведи очень дружелюб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10"/>
          <p:cNvSpPr/>
          <p:nvPr/>
        </p:nvSpPr>
        <p:spPr>
          <a:xfrm>
            <a:off x="912960" y="1773360"/>
            <a:ext cx="4824360" cy="4873680"/>
          </a:xfrm>
          <a:custGeom>
            <a:avLst/>
            <a:gdLst>
              <a:gd name="textAreaLeft" fmla="*/ 235440 w 4824360"/>
              <a:gd name="textAreaRight" fmla="*/ 4588920 w 4824360"/>
              <a:gd name="textAreaTop" fmla="*/ 235440 h 4873680"/>
              <a:gd name="textAreaBottom" fmla="*/ 4638240 h 4873680"/>
            </a:gdLst>
            <a:ahLst/>
            <a:rect l="textAreaLeft" t="textAreaTop" r="textAreaRight" b="textAreaBottom"/>
            <a:pathLst>
              <a:path w="21600" h="21821">
                <a:moveTo>
                  <a:pt x="3600" y="0"/>
                </a:moveTo>
                <a:arcTo wR="3600" hR="3600" stAng="16200000" swAng="-5400000"/>
                <a:lnTo>
                  <a:pt x="0" y="18221"/>
                </a:lnTo>
                <a:arcTo wR="3600" hR="3600" stAng="10800000" swAng="-5400000"/>
                <a:lnTo>
                  <a:pt x="18000" y="218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да — это не игрушка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да — это ведь медведь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го смешные ушки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 он смешно сидеть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апках черных он сжимает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бель вкусного бамбук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жует себе, не зная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бывает в мире скук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играет, то дрем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 веточке качается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братишку обним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 кресле спать пытается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оопарке очень любят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амбуковых медведей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равятся они всем людям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м, и конечно, детя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4968720" cy="57456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 медведям добраться до своего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abalsyavichyus\Desktop\Рисунок1.jpg"/>
          <p:cNvPicPr/>
          <p:nvPr/>
        </p:nvPicPr>
        <p:blipFill>
          <a:blip r:embed="rId1"/>
          <a:stretch/>
        </p:blipFill>
        <p:spPr>
          <a:xfrm>
            <a:off x="131760" y="4724280"/>
            <a:ext cx="2087640" cy="1957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" name="Picture 9" descr="C:\Users\abalsyavichyus\Desktop\sMCJGuo20Uo.jpg"/>
          <p:cNvPicPr/>
          <p:nvPr/>
        </p:nvPicPr>
        <p:blipFill>
          <a:blip r:embed="rId2"/>
          <a:stretch/>
        </p:blipFill>
        <p:spPr>
          <a:xfrm>
            <a:off x="5332320" y="4761000"/>
            <a:ext cx="3225960" cy="194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5" name="Picture 7" descr="C:\Users\abalsyavichyus\Desktop\M5s7nRMl_NI.jpg"/>
          <p:cNvPicPr/>
          <p:nvPr/>
        </p:nvPicPr>
        <p:blipFill>
          <a:blip r:embed="rId3"/>
          <a:stretch/>
        </p:blipFill>
        <p:spPr>
          <a:xfrm>
            <a:off x="2411280" y="4756320"/>
            <a:ext cx="2700360" cy="1950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6" name="Прямоугольник 3"/>
          <p:cNvSpPr/>
          <p:nvPr/>
        </p:nvSpPr>
        <p:spPr>
          <a:xfrm>
            <a:off x="5003640" y="169920"/>
            <a:ext cx="42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Известно, что водятся панды в Кита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В бамбуковых джунглях они обитаю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а склонах нагорья с названием Тиб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росший бамбук – их обычный обе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Богаты природой чилийские Анды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о всё же не могут похвастаться панд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В обеих Америках – как ни крути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ам в дикой природе её не най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Облазишь леса и Карпат, и Кавказ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о так же не встретишься с пандой ни раз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овсюду написано, где ни чита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«Среда обитания – горный Кита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34920" y="692280"/>
            <a:ext cx="277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чаще леса, где круг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шина да бурел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м ходит без 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ле сосен и берё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имой он спит в берлог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мороза прячет но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 берлоге спит зим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большущею сос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огда придёт вес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ыпается от с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916360" y="574560"/>
            <a:ext cx="208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-то на белом св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м, где всегда моро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утся спиной медвед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 земную о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мо плывут столет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ят подо льдом мор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утся об ось медвед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тится зем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abalsyavichyus\Desktop\Zk1UvVwX3Pk.jpg"/>
          <p:cNvPicPr/>
          <p:nvPr/>
        </p:nvPicPr>
        <p:blipFill>
          <a:blip r:embed="rId4"/>
          <a:stretch/>
        </p:blipFill>
        <p:spPr>
          <a:xfrm>
            <a:off x="7613640" y="5781600"/>
            <a:ext cx="944640" cy="92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balsyavichyus\Desktop\1ZylISn6RW8.jpg"/>
          <p:cNvPicPr/>
          <p:nvPr/>
        </p:nvPicPr>
        <p:blipFill>
          <a:blip r:embed="rId5"/>
          <a:stretch/>
        </p:blipFill>
        <p:spPr>
          <a:xfrm>
            <a:off x="1116000" y="5564160"/>
            <a:ext cx="112392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abalsyavichyus\Desktop\Uzah84vv1cU.jpg"/>
          <p:cNvPicPr/>
          <p:nvPr/>
        </p:nvPicPr>
        <p:blipFill>
          <a:blip r:embed="rId6"/>
          <a:stretch/>
        </p:blipFill>
        <p:spPr>
          <a:xfrm>
            <a:off x="3844800" y="5564160"/>
            <a:ext cx="115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0069 0.00509 E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44 L 0.40243 0.00879 E">
                                      <p:cBhvr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73281 -0.01504 E">
                                      <p:cBhvr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оги медведям добраться до их любимых лакомст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Dell\Desktop\labirint_dlya_detey4.jpg"/>
          <p:cNvPicPr/>
          <p:nvPr/>
        </p:nvPicPr>
        <p:blipFill>
          <a:blip r:embed="rId1"/>
          <a:stretch/>
        </p:blipFill>
        <p:spPr>
          <a:xfrm>
            <a:off x="2843280" y="1955880"/>
            <a:ext cx="5317920" cy="492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Dell\Desktop\27225718-Brown-bear-polar-bear-panda-Cartoon-characters-Vector-illustration--Stock-Photo.jpg"/>
          <p:cNvPicPr/>
          <p:nvPr/>
        </p:nvPicPr>
        <p:blipFill>
          <a:blip r:embed="rId2"/>
          <a:stretch/>
        </p:blipFill>
        <p:spPr>
          <a:xfrm>
            <a:off x="2847960" y="114624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Dell\Desktop\27225718-Brown-bear-polar-bear-panda-Cartoon-characters-Vector-illustration--Stock-Photo.jpg"/>
          <p:cNvPicPr/>
          <p:nvPr/>
        </p:nvPicPr>
        <p:blipFill>
          <a:blip r:embed="rId3"/>
          <a:stretch/>
        </p:blipFill>
        <p:spPr>
          <a:xfrm>
            <a:off x="3824280" y="1058760"/>
            <a:ext cx="1495440" cy="142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Dell\Desktop\27225718-Brown-bear-polar-bear-panda-Cartoon-characters-Vector-illustration--Stock-Photo.jpg"/>
          <p:cNvPicPr/>
          <p:nvPr/>
        </p:nvPicPr>
        <p:blipFill>
          <a:blip r:embed="rId4"/>
          <a:stretch/>
        </p:blipFill>
        <p:spPr>
          <a:xfrm>
            <a:off x="2308320" y="1968480"/>
            <a:ext cx="1071360" cy="14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cronus\Desktop\ribka116.png"/>
          <p:cNvPicPr/>
          <p:nvPr/>
        </p:nvPicPr>
        <p:blipFill>
          <a:blip r:embed="rId5"/>
          <a:stretch/>
        </p:blipFill>
        <p:spPr>
          <a:xfrm>
            <a:off x="6372360" y="5886360"/>
            <a:ext cx="1255680" cy="64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cronus\Desktop\0_9d0ed_4a375246_S.png"/>
          <p:cNvPicPr/>
          <p:nvPr/>
        </p:nvPicPr>
        <p:blipFill>
          <a:blip r:embed="rId6"/>
          <a:stretch/>
        </p:blipFill>
        <p:spPr>
          <a:xfrm rot="3299400">
            <a:off x="2400840" y="5736240"/>
            <a:ext cx="1592280" cy="1590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cronus\Desktop\clp466797.jpg"/>
          <p:cNvPicPr/>
          <p:nvPr/>
        </p:nvPicPr>
        <p:blipFill>
          <a:blip r:embed="rId7"/>
          <a:stretch/>
        </p:blipFill>
        <p:spPr>
          <a:xfrm>
            <a:off x="1727280" y="3860640"/>
            <a:ext cx="18493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7287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смотр видео – материала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народная сказ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Маша и медвед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Dell\Desktop\maxresdefault (1).jpg"/>
          <p:cNvPicPr/>
          <p:nvPr/>
        </p:nvPicPr>
        <p:blipFill>
          <a:blip r:embed="rId1"/>
          <a:stretch/>
        </p:blipFill>
        <p:spPr>
          <a:xfrm>
            <a:off x="6308640" y="5046840"/>
            <a:ext cx="2727360" cy="172692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2" name="Picture 1" descr="C:\Users\Dell\Desktop\Машенька-и-медведь.-Русская-народная-сказка..jpg"/>
          <p:cNvPicPr/>
          <p:nvPr/>
        </p:nvPicPr>
        <p:blipFill>
          <a:blip r:embed="rId2"/>
          <a:stretch/>
        </p:blipFill>
        <p:spPr>
          <a:xfrm>
            <a:off x="3986280" y="4363920"/>
            <a:ext cx="2530440" cy="160524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3" name="Picture 3" descr="C:\Users\Dell\Desktop\images.jpg"/>
          <p:cNvPicPr/>
          <p:nvPr/>
        </p:nvPicPr>
        <p:blipFill>
          <a:blip r:embed="rId3"/>
          <a:stretch/>
        </p:blipFill>
        <p:spPr>
          <a:xfrm>
            <a:off x="1547640" y="3632040"/>
            <a:ext cx="2592720" cy="187668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4" name="Picture 4" descr="C:\Users\Dell\Desktop\45.jpg"/>
          <p:cNvPicPr/>
          <p:nvPr/>
        </p:nvPicPr>
        <p:blipFill>
          <a:blip r:embed="rId4"/>
          <a:stretch/>
        </p:blipFill>
        <p:spPr>
          <a:xfrm>
            <a:off x="179280" y="1924200"/>
            <a:ext cx="2916360" cy="1755720"/>
          </a:xfrm>
          <a:prstGeom prst="rect">
            <a:avLst/>
          </a:prstGeom>
          <a:ln w="2556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9:39:33Z</dcterms:created>
  <dc:creator>Dell</dc:creator>
  <dc:description/>
  <dc:language>en-US</dc:language>
  <cp:lastModifiedBy>ohranatruda</cp:lastModifiedBy>
  <dcterms:modified xsi:type="dcterms:W3CDTF">2017-09-29T03:48:40Z</dcterms:modified>
  <cp:revision>40</cp:revision>
  <dc:subject/>
  <dc:title>Кейс – стади (case-stadi)</dc:title>
</cp:coreProperties>
</file>