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8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7.jpeg" ContentType="image/jpeg"/>
  <Override PartName="/ppt/media/image11.png" ContentType="image/png"/>
  <Override PartName="/ppt/media/image13.png" ContentType="image/pn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AAF4-A59C-4129-B84B-24488EF96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0332-7112-4C7D-BCF5-3FE8B5753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DDEFD6-A8D7-4FD6-8FC4-B8CFCA024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CC26B7-610F-403A-B986-9424462A2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48EC73-C822-4869-B20D-D9C4218D2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661DAD-F45F-42ED-9AEC-D236CB366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26010E-F1D8-4E4C-8E33-E7972AECC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970E25-19A0-4EBB-9BA4-460B87521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E889D6-C00E-494A-8B36-8411C2CDD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D07A37-E935-423F-BEF1-E4899609C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B9721C-BF39-4CFB-92ED-91CCA1D33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FDF439-B2CD-414E-A6FE-CED59439A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B1D1-4A63-4AE4-8B5D-1DCC68FA5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4495A5-EA1D-4BC3-ABCB-07BC2E9C6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DFBF17-965B-4827-B1C1-DB4E62502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1A0796-839C-4FE3-B97F-DADA32F1C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1F21D6-7C61-4D53-AB50-0309B94B3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A14BCF-2BA1-45BE-A832-7B17F88C0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BA00FE-A97E-401A-A038-AFAC3B898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7D0E47-F311-4EF1-856D-24D3761EF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C383C7-6115-46A1-874C-A9A8935CA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3ADDC5-3FE4-40F5-BB17-DFDB6F1E4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D55372-54F5-4AAB-934D-E2C36DDA9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F3F5-5D3F-4CEC-8642-62A29D81A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8F535D-25F4-4F82-8A20-23DDB49C4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80BFEA-DCA0-427E-ADCC-D85D6F196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FCECA0-DE3D-4A03-82FC-1898F3A98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B521B6-02DB-4C52-8476-A0799E89B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893819-1A8A-45F7-A7BB-78B80071D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BFF9C7-0625-4EA3-BFD4-A4DEE4E64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60451D-DF26-4BED-BB76-B2C018A2D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0864FB-0E56-4CA4-9EA2-2DB0486F9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0DBCC5-FE4F-47B6-A029-D33CD7DBE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EAF3FC-8319-414E-B9FB-AFCD98C13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EB865-4B01-43B0-8AAB-CF5620361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6334D9-82B3-4EDE-BABE-BDF6FDE77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48F8F6-C83F-48A4-B188-0EC016C27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93B7EA-5645-4B54-A60B-BD43C81EF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A7439F-5E00-4CD5-A108-5FCBA70B1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30EB44-4A27-4D1C-A183-61D8BDA2E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3B5BA2-48C8-4CEA-8B14-69D33E925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2744DC-1984-437A-B1A5-E538CD86E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172675-12AF-4CC7-AD14-CDFD38FFE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A8C710-0A9E-4020-A5F4-10FE0CE86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85A66B-112F-4D1E-9CB5-B82D7E202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D135A-2BD7-4E3B-B158-511295F44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EE939B-7A63-41EE-AC86-624200977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F871D1-5214-4925-B22A-74F64004E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3C50AC-F818-4044-839B-A3A5697AF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C4B0DD-7949-47EA-A490-9B4684615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53BB88-4370-4629-BB3F-9E11C4886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7C0F4-C768-43B8-BD9C-DE9799D90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C1633-151C-4B9C-B6F4-709EB9C3E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9139E-8E9D-4BBA-B413-ED65015EF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5541E-13F6-48BD-B9B1-73E4FD966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B414C-0EB5-4F29-9290-E63AB238F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DC6B-372B-4AE6-AF9A-ABEB30D85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E9E91-EFAF-431F-B8C4-D6F2D6294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A8031-ACA5-44D8-A61B-4D8FC7DF1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5A1D4-173F-4894-821A-B5144E566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28808-1415-4711-9F59-E3308D1F2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831A0-B3BD-4496-90BF-D4315CFA2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2DABC1-C9E1-4A98-92CA-A44116F00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B55237-A874-40B0-B90F-D8EBA64E5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213D34-7F2E-437C-8C80-CD955AA53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FAA05F-16CB-44FE-A63F-C5060A748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749B56-2D8A-4649-AD40-2169AD50D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0F64-2E5B-4F28-88F4-7841579AC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814756-8F80-4E6F-BD74-D140B64A0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AE1B3B-4F10-4C15-AFE7-B3C5AFA4D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A2E989-9EA4-43BE-BA01-7A011F8FE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994259-8784-4474-925E-745455D31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0EB71B-8046-4982-87D8-2D13CBDCA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412F60-D868-444D-97E5-8C06059E2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08640C-91AC-4755-B03B-C1CD03EB9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55AF89-8117-474D-9FD7-0919D15BA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6D7321-7FC5-4529-AD96-730579596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A6B83E-3D42-4C6E-822A-B5CBD2743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24D1-B22B-4CDE-81A8-2D6556887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82CA91-12C7-4483-BB2E-6F608B479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953BE5-20DC-4BFE-8E7F-C92D632FC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4C4335-025E-4E75-9565-73DF9BA8A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1F2E30-B12F-4A4A-9E46-F0A2D0899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68474E-2DB1-4CBC-84D5-A345E9771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FBD42C-DF7D-4D27-A123-A41DBAB7F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039E4B-1CEE-438F-8ADA-0061809AB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3E7FF3-42E3-439F-AA8B-4DC75FEF9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525551-8A2A-4251-B0C5-A5D7D2359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B8839C-87F5-4DD6-8582-4283A14BA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46FB-44D1-4A7B-BCF4-C4D0041EC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399408-64E9-4854-9E46-68C43709F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EF696F-15D2-4CED-BE12-0ABB1AEF9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C2977B-78B8-44CA-B3BB-F0B83D50F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AD38DF-6F1E-44E9-A6A8-800E4A998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9CD2DC-0A02-481B-A3A7-A0D63DC45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4FD8D9-9763-4EA0-9344-1664CE42C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E6830A-4921-4417-BF70-B7412EA70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D928BC-265C-4593-8837-5ABDF55CB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09ECD9-7C3B-4E6F-AC65-F837F8683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16E399-C99A-4216-A749-922BE0181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EF3D-9196-4EFF-8407-154BA8C4A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137908-E358-466E-A2ED-71A220C41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D4C837-F67E-495F-8196-77ED7C3E5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73D178-650A-4ECB-B139-7FFD3A82C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E51110-7F8D-45EB-9221-C1541B2A6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887CFF-154F-49A7-80CD-4A86592BE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C4452F-67A2-4911-9F63-50BC9ECDB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9F490F-226A-42ED-96B5-FDD290060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4EF8E3-B1B1-43FC-B018-8068FD9B8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8437DA-0BA1-40E7-A06C-4CCF230BE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3962FE-ACF1-4F11-87E2-4C0C8A315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0AF8-A25B-4F1C-A7C5-EBAC6412A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685216-AC66-4342-9FBC-0255DCB3F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4A2B2A-7120-4707-ABFC-D97FDA513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85A3BB-FD81-45BC-A2AD-92762F54B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971269-A731-4B09-B91D-56276160F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B6D8D5-8111-48B8-B268-C969CC515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E66617-8D5E-467A-8F52-F8053D6BF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EBD172-AC87-40AE-B933-0C83AB4F0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AB5B09-787B-42B7-90CE-561DA94D5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4A68FC-CA76-4ED9-8290-0D6ABF2FB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AABFA3-BA9B-40E1-AE14-832E512BE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D768-49E6-483A-8CAA-69AFC01E8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C46176-C4B3-4B47-B2A9-84DEAF37F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391B7F-A006-42B7-81E5-5AE1BB359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6500E4-B0D8-489D-8A50-922CAF4B4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7D9106-A69D-467F-9EAB-781DAABE6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11DDC1-651F-4D31-B743-9E43DB3EA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36B334-856B-4820-950B-57752CEAD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F053F2-05BB-4594-9734-64D7A065F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DE4EAC-7117-458C-B5F3-A6B871CAD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714C5F-FFFF-4E32-A5BC-E23603566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1011EE-204D-4B56-9578-40F4571E9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55E3-3CF6-44B3-81A2-4279E3258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409431-1752-449B-9E99-CDC61BA23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3B474D-B11C-4D45-BB1C-202DFF4A2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A31B40-B075-492C-BB64-5C79FE93D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A4D293-99AA-4A02-AA9A-D061AB5AC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8AA99F-6B6D-4B48-8272-4C83BC8C6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A6DC95-6D2A-4948-AC6E-B73835F4F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1F7F32-F3F1-4960-9441-C9099DDB9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46D93A-05A6-4FC2-AAE9-7CA02BEF1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BC9EE3-DC8A-4A07-AFEF-2058140EA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21F1EF-DF65-41D1-947A-FDD9B620D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dc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>
                <a:gd name="textAreaLeft" fmla="*/ 0 w 7122960"/>
                <a:gd name="textAreaRight" fmla="*/ 7123320 w 7122960"/>
                <a:gd name="textAreaTop" fmla="*/ 0 h 1055520"/>
                <a:gd name="textAreaBottom" fmla="*/ 1055880 h 1055520"/>
              </a:gdLst>
              <a:ahLst/>
              <a:rect l="textAreaLeft" t="textAreaTop" r="textAreaRight" b="textAreaBottom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cc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>
                <a:gd name="textAreaLeft" fmla="*/ 0 w 7242120"/>
                <a:gd name="textAreaRight" fmla="*/ 7242480 w 7242120"/>
                <a:gd name="textAreaTop" fmla="*/ 0 h 1903320"/>
                <a:gd name="textAreaBottom" fmla="*/ 1903680 h 1903320"/>
              </a:gdLst>
              <a:ahLst/>
              <a:rect l="textAreaLeft" t="textAreaTop" r="textAreaRight" b="textAreaBottom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cc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5967C-4443-4AC9-8CA7-0BB2FE8941A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dc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CBF38-339B-4AAB-9552-FBDBA6391A7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dc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8F647-37CD-4EA6-A324-2C8747418C3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dc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F0DD7-BCFD-4133-A3FC-F8EA83982AF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dc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>
                <a:gd name="textAreaLeft" fmla="*/ 0 w 8183520"/>
                <a:gd name="textAreaRight" fmla="*/ 8183880 w 8183520"/>
                <a:gd name="textAreaTop" fmla="*/ 0 h 3657600"/>
                <a:gd name="textAreaBottom" fmla="*/ 3657960 h 3657600"/>
              </a:gdLst>
              <a:ahLst/>
              <a:rect l="textAreaLeft" t="textAreaTop" r="textAreaRight" b="textAreaBottom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cc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>
                <a:gd name="textAreaLeft" fmla="*/ 0 w 8458200"/>
                <a:gd name="textAreaRight" fmla="*/ 8458560 w 8458200"/>
                <a:gd name="textAreaTop" fmla="*/ 0 h 5856120"/>
                <a:gd name="textAreaBottom" fmla="*/ 5856480 h 5856120"/>
              </a:gdLst>
              <a:ahLst/>
              <a:rect l="textAreaLeft" t="textAreaTop" r="textAreaRight" b="textAreaBottom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cc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4F756-858B-46CA-B81C-3FB96948271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dc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D0EC9-8D15-481C-8D20-C26791E11B0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dc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C88AA-D680-4685-98B3-360A5618C79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dc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65327-9A80-47FC-A39E-3CED8B52114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dc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B1AA6-EF87-4EE9-B37A-FA8C0C80672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dc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211CB-0CD5-45D6-8A63-68DD2DAB7B4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dc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A0762-A8FF-41DC-B637-6718CEFF980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dc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DA407-5CFC-477B-B6A9-D25E90EF00C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99"/>
            </a:gs>
            <a:gs pos="100000">
              <a:srgbClr val="ffdc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395280" y="-243000"/>
            <a:ext cx="8362800" cy="590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8c0000"/>
                </a:solidFill>
                <a:latin typeface="Times New Roman"/>
              </a:rPr>
              <a:t>МЕТОДИЧЕСКИЕ ОСОБЕННОСТИ </a:t>
            </a:r>
            <a:br>
              <a:rPr sz="2800"/>
            </a:br>
            <a:r>
              <a:rPr b="1" lang="en-US" sz="2800" spc="-1" strike="noStrike">
                <a:solidFill>
                  <a:srgbClr val="8c0000"/>
                </a:solidFill>
                <a:latin typeface="Times New Roman"/>
              </a:rPr>
              <a:t>РАЗВИТИЯ ХУДОЖЕСТВЕННО-ИСПОЛНИТЕЛЬСКИХ НАВЫКОВ </a:t>
            </a:r>
            <a:br>
              <a:rPr sz="2800"/>
            </a:br>
            <a:r>
              <a:rPr b="1" lang="en-US" sz="2800" spc="-1" strike="noStrike">
                <a:solidFill>
                  <a:srgbClr val="8c0000"/>
                </a:solidFill>
                <a:latin typeface="Times New Roman"/>
              </a:rPr>
              <a:t>УЧАЩИХСЯ ДЕТСКИХ МУЗЫКАЛЬНЫХ ШКОЛ В КЛАССЕ ГИТАРНОГО АНСАМБЛЯ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   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68360" y="4581000"/>
            <a:ext cx="8229600" cy="19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99"/>
            </a:gs>
            <a:gs pos="100000">
              <a:srgbClr val="ffdc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c0000"/>
                </a:solidFill>
                <a:latin typeface="Times New Roman"/>
              </a:rPr>
              <a:t>Образовательные задачи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749"/>
              </a:spcBef>
              <a:buClr>
                <a:srgbClr val="8c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c0000"/>
                </a:solidFill>
                <a:latin typeface="Times New Roman"/>
              </a:rPr>
              <a:t>ознакомление с историей развит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c000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8c0000"/>
                </a:solidFill>
                <a:latin typeface="Times New Roman"/>
              </a:rPr>
              <a:t>игры на гитар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1749"/>
              </a:spcBef>
              <a:buClr>
                <a:srgbClr val="8c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c0000"/>
                </a:solidFill>
                <a:latin typeface="Times New Roman"/>
              </a:rPr>
              <a:t>обучение нотной грамот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1749"/>
              </a:spcBef>
              <a:buClr>
                <a:srgbClr val="8c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c0000"/>
                </a:solidFill>
                <a:latin typeface="Times New Roman"/>
              </a:rPr>
              <a:t>формирование исполнительских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c000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8c0000"/>
                </a:solidFill>
                <a:latin typeface="Times New Roman"/>
              </a:rPr>
              <a:t>навыков игры на гитар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1749"/>
              </a:spcBef>
              <a:buClr>
                <a:srgbClr val="8c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c0000"/>
                </a:solidFill>
                <a:latin typeface="Times New Roman"/>
              </a:rPr>
              <a:t>обучение основам коллективног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c000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8c0000"/>
                </a:solidFill>
                <a:latin typeface="Times New Roman"/>
              </a:rPr>
              <a:t>музицирова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split dir="in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99"/>
            </a:gs>
            <a:gs pos="100000">
              <a:srgbClr val="ffdc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30088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c0000"/>
                </a:solidFill>
                <a:latin typeface="Times New Roman"/>
                <a:ea typeface="Times New Roman"/>
              </a:rPr>
              <a:t>Воспитательные задачи</a:t>
            </a:r>
            <a:r>
              <a:rPr b="0" lang="en-US" sz="4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68000" y="1483920"/>
            <a:ext cx="8085240" cy="413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8c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c0000"/>
                </a:solidFill>
                <a:latin typeface="Times New Roman"/>
              </a:rPr>
              <a:t>воспитание потребности в музицирован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8c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c0000"/>
                </a:solidFill>
                <a:latin typeface="Times New Roman"/>
              </a:rPr>
              <a:t>воспитание навыка самостоятельных музыкальных заняти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8c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c0000"/>
                </a:solidFill>
                <a:latin typeface="Times New Roman"/>
              </a:rPr>
              <a:t>воспитание устойчивой мотивации к самопознанию и самоусовершенствованию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8c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c0000"/>
                </a:solidFill>
                <a:latin typeface="Times New Roman"/>
              </a:rPr>
              <a:t>воспитание коммуникативных качеств, культуры общения и поведения в коллектив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99"/>
            </a:gs>
            <a:gs pos="100000">
              <a:srgbClr val="ffdc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 rot="10800000">
            <a:off x="456480" y="188640"/>
            <a:ext cx="8218440" cy="85680"/>
          </a:xfrm>
          <a:prstGeom prst="rect">
            <a:avLst/>
          </a:prstGeom>
          <a:noFill/>
          <a:ln w="0">
            <a:noFill/>
          </a:ln>
        </p:spPr>
        <p:txBody>
          <a:bodyPr tIns="39960" bIns="399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                                  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720000"/>
                </a:solidFill>
                <a:latin typeface="Times New Roman"/>
              </a:rPr>
              <a:t>Спасибо за 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720000"/>
                </a:solidFill>
                <a:latin typeface="Times New Roman"/>
              </a:rPr>
              <a:t>внимание!</a:t>
            </a:r>
            <a:endParaRPr b="0" lang="en-US" sz="8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99"/>
            </a:gs>
            <a:gs pos="100000">
              <a:srgbClr val="ffdc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en-US" sz="4000" spc="-1" strike="noStrike">
                <a:solidFill>
                  <a:srgbClr val="ffffcc"/>
                </a:solidFill>
                <a:latin typeface="Tahoma"/>
              </a:rPr>
              <a:t>  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39640" y="62028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lnSpc>
                <a:spcPct val="100000"/>
              </a:lnSpc>
              <a:spcBef>
                <a:spcPts val="17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c0000"/>
                </a:solidFill>
                <a:latin typeface="Times New Roman"/>
              </a:rPr>
              <a:t>Цель исследования</a:t>
            </a:r>
            <a:r>
              <a:rPr b="0" lang="ru-RU" sz="2800" spc="-1" strike="noStrike">
                <a:solidFill>
                  <a:srgbClr val="8c0000"/>
                </a:solidFill>
                <a:latin typeface="Times New Roman"/>
              </a:rPr>
              <a:t> - выявление теоретико-методических основ образовательного процесса учащихся в классе гитарного ансамбля детской музыкальной школы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just">
              <a:lnSpc>
                <a:spcPct val="100000"/>
              </a:lnSpc>
              <a:spcBef>
                <a:spcPts val="17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c0000"/>
                </a:solidFill>
                <a:latin typeface="Times New Roman"/>
              </a:rPr>
              <a:t>Объект исследования</a:t>
            </a:r>
            <a:r>
              <a:rPr b="1" i="1" lang="ru-RU" sz="2800" spc="-1" strike="noStrike">
                <a:solidFill>
                  <a:srgbClr val="8c0000"/>
                </a:solidFill>
                <a:latin typeface="Times New Roman"/>
              </a:rPr>
              <a:t> – </a:t>
            </a:r>
            <a:r>
              <a:rPr b="0" lang="ru-RU" sz="2800" spc="-1" strike="noStrike">
                <a:solidFill>
                  <a:srgbClr val="8c0000"/>
                </a:solidFill>
                <a:latin typeface="Times New Roman"/>
              </a:rPr>
              <a:t>процесс обучения ансамблевому музицированию в системе детского музыкального образова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just">
              <a:lnSpc>
                <a:spcPct val="100000"/>
              </a:lnSpc>
              <a:spcBef>
                <a:spcPts val="17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c0000"/>
                </a:solidFill>
                <a:latin typeface="Times New Roman"/>
              </a:rPr>
              <a:t>Предмет исследования</a:t>
            </a:r>
            <a:r>
              <a:rPr b="1" i="1" lang="ru-RU" sz="2800" spc="-1" strike="noStrike">
                <a:solidFill>
                  <a:srgbClr val="8c0000"/>
                </a:solidFill>
                <a:latin typeface="Times New Roman"/>
              </a:rPr>
              <a:t> – </a:t>
            </a:r>
            <a:r>
              <a:rPr b="0" lang="ru-RU" sz="2800" spc="-1" strike="noStrike">
                <a:solidFill>
                  <a:srgbClr val="8c0000"/>
                </a:solidFill>
                <a:latin typeface="Times New Roman"/>
              </a:rPr>
              <a:t>дидактические и методические принципы обучения детей коллективному музицированию на гитар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split dir="in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99"/>
            </a:gs>
            <a:gs pos="100000">
              <a:srgbClr val="ffdc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c0000"/>
                </a:solidFill>
                <a:latin typeface="Times New Roman"/>
              </a:rPr>
              <a:t>Задачи исследовани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1874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c0000"/>
                </a:solidFill>
                <a:latin typeface="Times New Roman"/>
              </a:rPr>
              <a:t>Теоретический экскурс в историю музыкального исполнительства на гитаре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1874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c0000"/>
                </a:solidFill>
                <a:latin typeface="Times New Roman"/>
              </a:rPr>
              <a:t>Обзор методик преподавания гитарного искусства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1874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c0000"/>
                </a:solidFill>
                <a:latin typeface="Times New Roman"/>
              </a:rPr>
              <a:t>Изучение методических аспектов обучения гитарному ансамблю в системе детского музыкального образования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1874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c0000"/>
                </a:solidFill>
                <a:latin typeface="Times New Roman"/>
              </a:rPr>
              <a:t>Разработка авторской программы «Основы гитарного ансамбля»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99"/>
            </a:gs>
            <a:gs pos="100000">
              <a:srgbClr val="ffdc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763280" y="-4227840"/>
            <a:ext cx="14436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505" name="Picture 4" descr=""/>
          <p:cNvPicPr/>
          <p:nvPr/>
        </p:nvPicPr>
        <p:blipFill>
          <a:blip r:embed="rId1">
            <a:lum contrast="54000"/>
          </a:blip>
          <a:stretch/>
        </p:blipFill>
        <p:spPr>
          <a:xfrm>
            <a:off x="6227640" y="3573360"/>
            <a:ext cx="2381400" cy="3168720"/>
          </a:xfrm>
          <a:prstGeom prst="rect">
            <a:avLst/>
          </a:prstGeom>
          <a:ln w="38160">
            <a:solidFill>
              <a:srgbClr val="8c0000"/>
            </a:solidFill>
            <a:miter/>
          </a:ln>
        </p:spPr>
      </p:pic>
      <p:pic>
        <p:nvPicPr>
          <p:cNvPr id="506" name="Picture 5" descr="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539640" y="3716280"/>
            <a:ext cx="2376720" cy="2951280"/>
          </a:xfrm>
          <a:prstGeom prst="rect">
            <a:avLst/>
          </a:prstGeom>
          <a:ln w="38160">
            <a:solidFill>
              <a:srgbClr val="8c0000"/>
            </a:solidFill>
            <a:miter/>
          </a:ln>
        </p:spPr>
      </p:pic>
      <p:pic>
        <p:nvPicPr>
          <p:cNvPr id="507" name="Picture 6" descr=""/>
          <p:cNvPicPr/>
          <p:nvPr/>
        </p:nvPicPr>
        <p:blipFill>
          <a:blip r:embed="rId3">
            <a:lum contrast="6000"/>
          </a:blip>
          <a:stretch/>
        </p:blipFill>
        <p:spPr>
          <a:xfrm>
            <a:off x="539640" y="620640"/>
            <a:ext cx="2376720" cy="3097440"/>
          </a:xfrm>
          <a:prstGeom prst="rect">
            <a:avLst/>
          </a:prstGeom>
          <a:ln w="38160">
            <a:solidFill>
              <a:srgbClr val="8c0000"/>
            </a:solidFill>
            <a:miter/>
          </a:ln>
        </p:spPr>
      </p:pic>
      <p:pic>
        <p:nvPicPr>
          <p:cNvPr id="508" name="Picture 7" descr=""/>
          <p:cNvPicPr/>
          <p:nvPr/>
        </p:nvPicPr>
        <p:blipFill>
          <a:blip r:embed="rId4">
            <a:lum contrast="12000"/>
          </a:blip>
          <a:stretch/>
        </p:blipFill>
        <p:spPr>
          <a:xfrm>
            <a:off x="6227640" y="620640"/>
            <a:ext cx="2362320" cy="2970360"/>
          </a:xfrm>
          <a:prstGeom prst="rect">
            <a:avLst/>
          </a:prstGeom>
          <a:ln w="38160">
            <a:solidFill>
              <a:srgbClr val="8c0000"/>
            </a:solidFill>
            <a:miter/>
          </a:ln>
        </p:spPr>
      </p:pic>
      <p:sp>
        <p:nvSpPr>
          <p:cNvPr id="509" name="Text Box 11"/>
          <p:cNvSpPr/>
          <p:nvPr/>
        </p:nvSpPr>
        <p:spPr>
          <a:xfrm>
            <a:off x="539640" y="2852640"/>
            <a:ext cx="1944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0" name="Text Box 12"/>
          <p:cNvSpPr/>
          <p:nvPr/>
        </p:nvSpPr>
        <p:spPr>
          <a:xfrm>
            <a:off x="950760" y="2668680"/>
            <a:ext cx="1389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1" name="Text Box 13"/>
          <p:cNvSpPr/>
          <p:nvPr/>
        </p:nvSpPr>
        <p:spPr>
          <a:xfrm>
            <a:off x="2340000" y="0"/>
            <a:ext cx="51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60000"/>
                </a:solidFill>
                <a:latin typeface="Times New Roman"/>
              </a:rPr>
              <a:t>Зарубежные гитаристы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2" name="Text Box 14"/>
          <p:cNvSpPr/>
          <p:nvPr/>
        </p:nvSpPr>
        <p:spPr>
          <a:xfrm>
            <a:off x="6372360" y="6093000"/>
            <a:ext cx="2035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ФЕРНАНДО СОР </a:t>
            </a:r>
            <a:endParaRPr b="0" lang="en-US" sz="1600" spc="-1" strike="noStrike">
              <a:solidFill>
                <a:srgbClr val="ffffcc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</a:rPr>
              <a:t>1778-1839</a:t>
            </a:r>
            <a:endParaRPr b="0" lang="en-US" sz="1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3" name="Text Box 16"/>
          <p:cNvSpPr/>
          <p:nvPr/>
        </p:nvSpPr>
        <p:spPr>
          <a:xfrm>
            <a:off x="539640" y="6093000"/>
            <a:ext cx="23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Times New Roman"/>
              </a:rPr>
              <a:t>Маттео Каркасси </a:t>
            </a:r>
            <a:endParaRPr b="0" lang="en-US" sz="1800" spc="-1" strike="noStrike">
              <a:solidFill>
                <a:srgbClr val="ffffcc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Times New Roman"/>
              </a:rPr>
              <a:t>1792-1853</a:t>
            </a:r>
            <a:endParaRPr b="0" lang="en-US" sz="1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4" name="Text Box 18"/>
          <p:cNvSpPr/>
          <p:nvPr/>
        </p:nvSpPr>
        <p:spPr>
          <a:xfrm>
            <a:off x="1908000" y="3357720"/>
            <a:ext cx="1008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5" name="Text Box 19"/>
          <p:cNvSpPr/>
          <p:nvPr/>
        </p:nvSpPr>
        <p:spPr>
          <a:xfrm>
            <a:off x="539640" y="2997360"/>
            <a:ext cx="237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cc"/>
                </a:solidFill>
                <a:latin typeface="Times New Roman"/>
              </a:rPr>
              <a:t>Мауро Джулиани </a:t>
            </a:r>
            <a:endParaRPr b="0" lang="en-US" sz="1600" spc="-1" strike="noStrike">
              <a:solidFill>
                <a:srgbClr val="ffffcc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cc"/>
                </a:solidFill>
                <a:latin typeface="Times New Roman"/>
              </a:rPr>
              <a:t>1782-1829</a:t>
            </a:r>
            <a:endParaRPr b="0" lang="en-US" sz="1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6" name="Text Box 21"/>
          <p:cNvSpPr/>
          <p:nvPr/>
        </p:nvSpPr>
        <p:spPr>
          <a:xfrm>
            <a:off x="6156360" y="2781360"/>
            <a:ext cx="23032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Times New Roman"/>
              </a:rPr>
              <a:t>ФРАНСИСКО ТАРРЕГА-ЭШЕА</a:t>
            </a:r>
            <a:endParaRPr b="0" lang="en-US" sz="1400" spc="-1" strike="noStrike">
              <a:solidFill>
                <a:srgbClr val="ffffcc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cc3300"/>
                </a:solidFill>
                <a:latin typeface="Times New Roman"/>
              </a:rPr>
              <a:t>1852-1909</a:t>
            </a:r>
            <a:endParaRPr b="0" lang="en-US" sz="16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517" name="Picture 23" descr="Сеговия"/>
          <p:cNvPicPr/>
          <p:nvPr/>
        </p:nvPicPr>
        <p:blipFill>
          <a:blip r:embed="rId5"/>
          <a:stretch/>
        </p:blipFill>
        <p:spPr>
          <a:xfrm>
            <a:off x="3059280" y="981000"/>
            <a:ext cx="3025440" cy="3600360"/>
          </a:xfrm>
          <a:prstGeom prst="rect">
            <a:avLst/>
          </a:prstGeom>
          <a:ln w="38160">
            <a:solidFill>
              <a:srgbClr val="720000"/>
            </a:solidFill>
            <a:miter/>
          </a:ln>
        </p:spPr>
      </p:pic>
      <p:pic>
        <p:nvPicPr>
          <p:cNvPr id="518" name="Picture 24" descr="Сеговия"/>
          <p:cNvPicPr/>
          <p:nvPr/>
        </p:nvPicPr>
        <p:blipFill>
          <a:blip r:embed="rId6"/>
          <a:stretch/>
        </p:blipFill>
        <p:spPr>
          <a:xfrm>
            <a:off x="3059280" y="981000"/>
            <a:ext cx="3025440" cy="3600360"/>
          </a:xfrm>
          <a:prstGeom prst="rect">
            <a:avLst/>
          </a:prstGeom>
          <a:ln w="0">
            <a:noFill/>
          </a:ln>
        </p:spPr>
      </p:pic>
      <p:sp>
        <p:nvSpPr>
          <p:cNvPr id="519" name="Text Box 25"/>
          <p:cNvSpPr/>
          <p:nvPr/>
        </p:nvSpPr>
        <p:spPr>
          <a:xfrm>
            <a:off x="3203640" y="4724280"/>
            <a:ext cx="25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3300"/>
                </a:solidFill>
                <a:latin typeface="Times New Roman"/>
              </a:rPr>
              <a:t>Андрес Сеговия</a:t>
            </a:r>
            <a:br>
              <a:rPr sz="1600"/>
            </a:br>
            <a:r>
              <a:rPr b="1" lang="ru-RU" sz="1600" spc="-1" strike="noStrike">
                <a:solidFill>
                  <a:srgbClr val="cc3300"/>
                </a:solidFill>
                <a:latin typeface="Times New Roman"/>
              </a:rPr>
              <a:t>1893-1987</a:t>
            </a:r>
            <a:endParaRPr b="0" lang="en-US" sz="16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 spd="slow">
    <p:comb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99"/>
            </a:gs>
            <a:gs pos="100000">
              <a:srgbClr val="ffdc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5092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8c0000"/>
                </a:solidFill>
                <a:latin typeface="Times New Roman"/>
              </a:rPr>
              <a:t>Русские гитаристы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22" name="Picture 24" descr="sychra_1"/>
          <p:cNvPicPr/>
          <p:nvPr/>
        </p:nvPicPr>
        <p:blipFill>
          <a:blip r:embed="rId1"/>
          <a:stretch/>
        </p:blipFill>
        <p:spPr>
          <a:xfrm>
            <a:off x="3276720" y="3933720"/>
            <a:ext cx="2303280" cy="2806920"/>
          </a:xfrm>
          <a:prstGeom prst="rect">
            <a:avLst/>
          </a:prstGeom>
          <a:ln w="28440">
            <a:solidFill>
              <a:srgbClr val="720000"/>
            </a:solidFill>
            <a:miter/>
          </a:ln>
        </p:spPr>
      </p:pic>
      <p:pic>
        <p:nvPicPr>
          <p:cNvPr id="523" name="Picture 29" descr="i_k"/>
          <p:cNvPicPr/>
          <p:nvPr/>
        </p:nvPicPr>
        <p:blipFill>
          <a:blip r:embed="rId2"/>
          <a:stretch/>
        </p:blipFill>
        <p:spPr>
          <a:xfrm>
            <a:off x="6372360" y="907920"/>
            <a:ext cx="2376360" cy="2881440"/>
          </a:xfrm>
          <a:prstGeom prst="rect">
            <a:avLst/>
          </a:prstGeom>
          <a:ln w="28440">
            <a:solidFill>
              <a:srgbClr val="720000"/>
            </a:solidFill>
            <a:miter/>
          </a:ln>
        </p:spPr>
      </p:pic>
      <p:pic>
        <p:nvPicPr>
          <p:cNvPr id="524" name="Picture 31" descr="Agafoshin"/>
          <p:cNvPicPr/>
          <p:nvPr/>
        </p:nvPicPr>
        <p:blipFill>
          <a:blip r:embed="rId3"/>
          <a:stretch/>
        </p:blipFill>
        <p:spPr>
          <a:xfrm>
            <a:off x="250920" y="907920"/>
            <a:ext cx="2305080" cy="2880000"/>
          </a:xfrm>
          <a:prstGeom prst="rect">
            <a:avLst/>
          </a:prstGeom>
          <a:ln w="38160">
            <a:solidFill>
              <a:srgbClr val="8c0000"/>
            </a:solidFill>
            <a:miter/>
          </a:ln>
        </p:spPr>
      </p:pic>
      <p:pic>
        <p:nvPicPr>
          <p:cNvPr id="525" name="Picture 33" descr="x_0b6ff582"/>
          <p:cNvPicPr/>
          <p:nvPr/>
        </p:nvPicPr>
        <p:blipFill>
          <a:blip r:embed="rId4"/>
          <a:stretch/>
        </p:blipFill>
        <p:spPr>
          <a:xfrm>
            <a:off x="3348000" y="907920"/>
            <a:ext cx="2232000" cy="2881440"/>
          </a:xfrm>
          <a:prstGeom prst="rect">
            <a:avLst/>
          </a:prstGeom>
          <a:ln w="28440">
            <a:solidFill>
              <a:srgbClr val="993300"/>
            </a:solidFill>
            <a:miter/>
          </a:ln>
        </p:spPr>
      </p:pic>
      <p:pic>
        <p:nvPicPr>
          <p:cNvPr id="526" name="Picture 35" descr="Harisov"/>
          <p:cNvPicPr/>
          <p:nvPr/>
        </p:nvPicPr>
        <p:blipFill>
          <a:blip r:embed="rId5"/>
          <a:stretch/>
        </p:blipFill>
        <p:spPr>
          <a:xfrm>
            <a:off x="6372360" y="3933720"/>
            <a:ext cx="2376360" cy="2808360"/>
          </a:xfrm>
          <a:prstGeom prst="rect">
            <a:avLst/>
          </a:prstGeom>
          <a:ln w="28440">
            <a:solidFill>
              <a:srgbClr val="720000"/>
            </a:solidFill>
            <a:miter/>
          </a:ln>
        </p:spPr>
      </p:pic>
      <p:sp>
        <p:nvSpPr>
          <p:cNvPr id="527" name="AutoShape 3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8" name="AutoShape 41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9" name="AutoShape 43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530" name="Picture 45" descr="getImage?photoId=456471141452&amp;photoType=5"/>
          <p:cNvPicPr/>
          <p:nvPr/>
        </p:nvPicPr>
        <p:blipFill>
          <a:blip r:embed="rId6"/>
          <a:stretch/>
        </p:blipFill>
        <p:spPr>
          <a:xfrm>
            <a:off x="250920" y="3933720"/>
            <a:ext cx="2305080" cy="2808360"/>
          </a:xfrm>
          <a:prstGeom prst="rect">
            <a:avLst/>
          </a:prstGeom>
          <a:ln w="28440">
            <a:solidFill>
              <a:srgbClr val="720000"/>
            </a:solidFill>
            <a:miter/>
          </a:ln>
        </p:spPr>
      </p:pic>
      <p:sp>
        <p:nvSpPr>
          <p:cNvPr id="531" name="Text Box 46"/>
          <p:cNvSpPr/>
          <p:nvPr/>
        </p:nvSpPr>
        <p:spPr>
          <a:xfrm>
            <a:off x="324000" y="306864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99"/>
                </a:solidFill>
                <a:latin typeface="Times New Roman"/>
              </a:rPr>
              <a:t>Петр Агафошин</a:t>
            </a:r>
            <a:endParaRPr b="0" lang="en-US" sz="1800" spc="-1" strike="noStrike">
              <a:solidFill>
                <a:srgbClr val="ffffcc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99"/>
                </a:solidFill>
                <a:latin typeface="Times New Roman"/>
              </a:rPr>
              <a:t>1874-1950</a:t>
            </a:r>
            <a:endParaRPr b="0" lang="en-US" sz="1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2" name="Text Box 47"/>
          <p:cNvSpPr/>
          <p:nvPr/>
        </p:nvSpPr>
        <p:spPr>
          <a:xfrm>
            <a:off x="3203640" y="306864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Никита Кошкин</a:t>
            </a:r>
            <a:endParaRPr b="0" lang="en-US" sz="1800" spc="-1" strike="noStrike">
              <a:solidFill>
                <a:srgbClr val="ffffcc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1956</a:t>
            </a:r>
            <a:endParaRPr b="0" lang="en-US" sz="1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3" name="Text Box 48"/>
          <p:cNvSpPr/>
          <p:nvPr/>
        </p:nvSpPr>
        <p:spPr>
          <a:xfrm>
            <a:off x="179280" y="6093000"/>
            <a:ext cx="243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99"/>
                </a:solidFill>
                <a:latin typeface="Times New Roman"/>
              </a:rPr>
              <a:t>Александр Виницкий</a:t>
            </a:r>
            <a:endParaRPr b="0" lang="en-US" sz="1800" spc="-1" strike="noStrike">
              <a:solidFill>
                <a:srgbClr val="ffffcc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99"/>
                </a:solidFill>
                <a:latin typeface="Times New Roman"/>
              </a:rPr>
              <a:t>1950</a:t>
            </a:r>
            <a:endParaRPr b="0" lang="en-US" sz="1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Text Box 49"/>
          <p:cNvSpPr/>
          <p:nvPr/>
        </p:nvSpPr>
        <p:spPr>
          <a:xfrm>
            <a:off x="3203640" y="609300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99"/>
                </a:solidFill>
                <a:latin typeface="Times New Roman"/>
              </a:rPr>
              <a:t>Андрей Сихра</a:t>
            </a:r>
            <a:endParaRPr b="0" lang="en-US" sz="1800" spc="-1" strike="noStrike">
              <a:solidFill>
                <a:srgbClr val="ffffcc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99"/>
                </a:solidFill>
                <a:latin typeface="Times New Roman"/>
              </a:rPr>
              <a:t>1773-1850</a:t>
            </a:r>
            <a:endParaRPr b="0" lang="en-US" sz="1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5" name="Text Box 50"/>
          <p:cNvSpPr/>
          <p:nvPr/>
        </p:nvSpPr>
        <p:spPr>
          <a:xfrm>
            <a:off x="6300720" y="2852640"/>
            <a:ext cx="284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Александр Иванов-Крамской</a:t>
            </a:r>
            <a:endParaRPr b="0" lang="en-US" sz="1800" spc="-1" strike="noStrike">
              <a:solidFill>
                <a:srgbClr val="ffffcc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1912-1973</a:t>
            </a:r>
            <a:endParaRPr b="0" lang="en-US" sz="1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6" name="Text Box 51"/>
          <p:cNvSpPr/>
          <p:nvPr/>
        </p:nvSpPr>
        <p:spPr>
          <a:xfrm>
            <a:off x="6516720" y="602136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Виталий Харисов</a:t>
            </a:r>
            <a:endParaRPr b="0" lang="en-US" sz="1800" spc="-1" strike="noStrike">
              <a:solidFill>
                <a:srgbClr val="ffffcc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1962</a:t>
            </a:r>
            <a:endParaRPr b="0" lang="en-US" sz="1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 spd="slow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99"/>
            </a:gs>
            <a:gs pos="100000">
              <a:srgbClr val="ffdc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Скругленный прямоугольник 6" descr=""/>
          <p:cNvPicPr/>
          <p:nvPr/>
        </p:nvPicPr>
        <p:blipFill>
          <a:blip r:embed="rId1"/>
          <a:stretch/>
        </p:blipFill>
        <p:spPr>
          <a:xfrm>
            <a:off x="585720" y="4340160"/>
            <a:ext cx="2498760" cy="1560600"/>
          </a:xfrm>
          <a:prstGeom prst="rect">
            <a:avLst/>
          </a:prstGeom>
          <a:ln w="0">
            <a:noFill/>
          </a:ln>
        </p:spPr>
      </p:pic>
      <p:pic>
        <p:nvPicPr>
          <p:cNvPr id="538" name="Скругленный прямоугольник 7" descr=""/>
          <p:cNvPicPr/>
          <p:nvPr/>
        </p:nvPicPr>
        <p:blipFill>
          <a:blip r:embed="rId2"/>
          <a:stretch/>
        </p:blipFill>
        <p:spPr>
          <a:xfrm>
            <a:off x="3541680" y="4340160"/>
            <a:ext cx="2352600" cy="1487520"/>
          </a:xfrm>
          <a:prstGeom prst="rect">
            <a:avLst/>
          </a:prstGeom>
          <a:ln w="0">
            <a:noFill/>
          </a:ln>
        </p:spPr>
      </p:pic>
      <p:pic>
        <p:nvPicPr>
          <p:cNvPr id="539" name="Скругленный прямоугольник 8" descr=""/>
          <p:cNvPicPr/>
          <p:nvPr/>
        </p:nvPicPr>
        <p:blipFill>
          <a:blip r:embed="rId3"/>
          <a:stretch/>
        </p:blipFill>
        <p:spPr>
          <a:xfrm>
            <a:off x="6272280" y="4340160"/>
            <a:ext cx="2286000" cy="1487520"/>
          </a:xfrm>
          <a:prstGeom prst="rect">
            <a:avLst/>
          </a:prstGeom>
          <a:ln w="0">
            <a:noFill/>
          </a:ln>
        </p:spPr>
      </p:pic>
      <p:pic>
        <p:nvPicPr>
          <p:cNvPr id="540" name="Скругленный прямоугольник 9" descr=""/>
          <p:cNvPicPr/>
          <p:nvPr/>
        </p:nvPicPr>
        <p:blipFill>
          <a:blip r:embed="rId4"/>
          <a:stretch/>
        </p:blipFill>
        <p:spPr>
          <a:xfrm>
            <a:off x="579600" y="517680"/>
            <a:ext cx="7924680" cy="3236760"/>
          </a:xfrm>
          <a:prstGeom prst="rect">
            <a:avLst/>
          </a:prstGeom>
          <a:ln w="0">
            <a:noFill/>
          </a:ln>
        </p:spPr>
      </p:pic>
      <p:sp>
        <p:nvSpPr>
          <p:cNvPr id="541" name="Стрелка вниз 10"/>
          <p:cNvSpPr/>
          <p:nvPr/>
        </p:nvSpPr>
        <p:spPr>
          <a:xfrm rot="1200000">
            <a:off x="1688760" y="3736800"/>
            <a:ext cx="187200" cy="641520"/>
          </a:xfrm>
          <a:prstGeom prst="downArrow">
            <a:avLst>
              <a:gd name="adj1" fmla="val 50000"/>
              <a:gd name="adj2" fmla="val 50039"/>
            </a:avLst>
          </a:prstGeom>
          <a:solidFill>
            <a:srgbClr val="6a0400"/>
          </a:solidFill>
          <a:ln w="28440">
            <a:solidFill>
              <a:srgbClr val="57362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2" name=""/>
          <p:cNvSpPr txBox="1"/>
          <p:nvPr/>
        </p:nvSpPr>
        <p:spPr>
          <a:xfrm rot="20067600">
            <a:off x="7091640" y="3702240"/>
            <a:ext cx="85680" cy="673200"/>
          </a:xfrm>
          <a:prstGeom prst="rect">
            <a:avLst/>
          </a:prstGeom>
          <a:solidFill>
            <a:srgbClr val="6a0400"/>
          </a:solidFill>
          <a:ln w="28440">
            <a:solidFill>
              <a:srgbClr val="57362a"/>
            </a:solidFill>
            <a:round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3" name="Стрелка вниз 13"/>
          <p:cNvSpPr/>
          <p:nvPr/>
        </p:nvSpPr>
        <p:spPr>
          <a:xfrm>
            <a:off x="4572000" y="3716280"/>
            <a:ext cx="216000" cy="679680"/>
          </a:xfrm>
          <a:prstGeom prst="downArrow">
            <a:avLst>
              <a:gd name="adj1" fmla="val 50000"/>
              <a:gd name="adj2" fmla="val 49997"/>
            </a:avLst>
          </a:prstGeom>
          <a:solidFill>
            <a:srgbClr val="6a0400"/>
          </a:solidFill>
          <a:ln w="3240">
            <a:solidFill>
              <a:srgbClr val="8251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 spd="slow">
    <p:cover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99"/>
            </a:gs>
            <a:gs pos="100000">
              <a:srgbClr val="ffdc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c0000"/>
                </a:solidFill>
                <a:latin typeface="Times New Roman"/>
              </a:rPr>
              <a:t>Образовательные программы </a:t>
            </a:r>
            <a:br>
              <a:rPr sz="4000"/>
            </a:br>
            <a:r>
              <a:rPr b="1" lang="en-US" sz="4000" spc="-1" strike="noStrike">
                <a:solidFill>
                  <a:srgbClr val="8c0000"/>
                </a:solidFill>
                <a:latin typeface="Times New Roman"/>
              </a:rPr>
              <a:t>по гитарному ансамблю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17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c0000"/>
                </a:solidFill>
                <a:latin typeface="Times New Roman"/>
              </a:rPr>
              <a:t>А.М. Луценко   программа «Ансамбль» (шестиструнная гитара)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17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c0000"/>
                </a:solidFill>
                <a:latin typeface="Times New Roman"/>
              </a:rPr>
              <a:t>Н.В. Белова «Программа гитарного пнсамбля»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17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c0000"/>
                </a:solidFill>
                <a:latin typeface="Times New Roman"/>
              </a:rPr>
              <a:t>Е.В. Коннова «Программа ансамблевого музицирования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17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c0000"/>
                </a:solidFill>
                <a:latin typeface="Times New Roman"/>
              </a:rPr>
              <a:t>Н.В. Балашова и А.Ф. Константинова «Учебная программа по гитарному ансамблю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17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c0000"/>
                </a:solidFill>
                <a:latin typeface="Times New Roman"/>
              </a:rPr>
              <a:t>А.Виницкий, В.Манилов, В.Молотков Образовательная программа по ансамблю для шестиструнной гитары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99"/>
            </a:gs>
            <a:gs pos="100000">
              <a:srgbClr val="ffdc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755640" y="692280"/>
            <a:ext cx="7942320" cy="488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en-US" sz="5400" spc="-1" strike="noStrike">
                <a:solidFill>
                  <a:srgbClr val="8c0000"/>
                </a:solidFill>
                <a:latin typeface="Times New Roman"/>
              </a:rPr>
              <a:t>Лоскутова О.Г. </a:t>
            </a:r>
            <a:br>
              <a:rPr sz="5400"/>
            </a:br>
            <a:br>
              <a:rPr sz="5400"/>
            </a:br>
            <a:r>
              <a:rPr b="1" lang="en-US" sz="6000" spc="-1" strike="noStrike">
                <a:solidFill>
                  <a:srgbClr val="8c0000"/>
                </a:solidFill>
                <a:latin typeface="Times New Roman"/>
              </a:rPr>
              <a:t>ОСНОВЫ ГИТАРНОГО АНСАМБЛЯ</a:t>
            </a:r>
            <a:br>
              <a:rPr sz="5400"/>
            </a:br>
            <a:br>
              <a:rPr sz="5400"/>
            </a:br>
            <a:r>
              <a:rPr b="1" lang="en-US" sz="4800" spc="-1" strike="noStrike">
                <a:solidFill>
                  <a:srgbClr val="8c0000"/>
                </a:solidFill>
                <a:latin typeface="Times New Roman"/>
              </a:rPr>
              <a:t>авторская программа</a:t>
            </a:r>
            <a:r>
              <a:rPr b="0" lang="en-US" sz="4400" spc="-1" strike="noStrike">
                <a:solidFill>
                  <a:srgbClr val="8c0000"/>
                </a:solidFill>
                <a:latin typeface="Tahoma"/>
              </a:rPr>
              <a:t> </a:t>
            </a:r>
            <a:br>
              <a:rPr sz="4400"/>
            </a:br>
            <a:br>
              <a:rPr sz="4000"/>
            </a:b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transition spd="slow"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99"/>
            </a:gs>
            <a:gs pos="100000">
              <a:srgbClr val="ffdc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c0000"/>
                </a:solidFill>
                <a:latin typeface="Times New Roman"/>
              </a:rPr>
              <a:t>Цели программы</a:t>
            </a: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spcBef>
                <a:spcPts val="1749"/>
              </a:spcBef>
              <a:buClr>
                <a:srgbClr val="8c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0000"/>
                </a:solidFill>
                <a:latin typeface="Tahoma"/>
              </a:rPr>
              <a:t>развитие музыкально-творческих   способностей учащихс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spcBef>
                <a:spcPts val="1749"/>
              </a:spcBef>
              <a:buClr>
                <a:srgbClr val="8c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0000"/>
                </a:solidFill>
                <a:latin typeface="Tahoma"/>
              </a:rPr>
              <a:t>воспитание художественной и общей культуры школьников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spcBef>
                <a:spcPts val="1749"/>
              </a:spcBef>
              <a:buClr>
                <a:srgbClr val="8c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0000"/>
                </a:solidFill>
                <a:latin typeface="Tahoma"/>
              </a:rPr>
              <a:t>формирование готовности самообразованию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spcBef>
                <a:spcPts val="1749"/>
              </a:spcBef>
              <a:buClr>
                <a:srgbClr val="8c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0000"/>
                </a:solidFill>
                <a:latin typeface="Tahoma"/>
              </a:rPr>
              <a:t>выявление одаренных детей и подготовка их к дальнейшему профессиональному образованию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3T12:58:19Z</dcterms:created>
  <dc:creator>Elena Lisyuk</dc:creator>
  <dc:description/>
  <dc:language>en-US</dc:language>
  <cp:lastModifiedBy>Гость</cp:lastModifiedBy>
  <dcterms:modified xsi:type="dcterms:W3CDTF">2017-05-24T06:22:45Z</dcterms:modified>
  <cp:revision>166</cp:revision>
  <dc:subject/>
  <dc:title>История гитары</dc:title>
</cp:coreProperties>
</file>