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47B3-8153-43A2-BB86-40B40576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C20F-169C-4545-8F0A-4647CD74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F2E36-F522-4396-836C-C487D7B9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87936-21FF-4DF8-8FB9-0BD684D2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E6500-6223-4215-BC70-0898F6B9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71E3B-6529-497B-A2B9-292965EC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8082F-B6D9-4D42-9D01-B81F6E6B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3CFDE-3658-4E27-BB91-1D9D0B52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044EB-12F5-4870-8DEF-2B69CFCF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AAD31-4932-448A-B30C-6AF89AE4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2161C-517E-48D2-B001-7D2813AE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A790D-0E14-4814-BC3F-81147882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E52B-FAC2-490B-8D08-C8AE6D92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4B9AB-8777-452D-966D-7361CECA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2446C-FDF3-41C1-ADE9-526F6EFA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A8B4B-BE41-4AAF-ADD2-6FCD080D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EAAA0-BF7A-47F1-A5BE-9638375D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D4A82-F02E-497E-ADB8-1CB9A957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147B9-6CEE-4EBA-90BA-D0D0FB43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F88A0-D8C2-4A8A-AE66-5908ED1A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A385D-64E7-4B6E-94AA-F8E05000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8EF1A-384C-4208-B781-8602EE11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25FD5-6A99-4C80-9393-CDD804FF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82F1-B988-40DB-A77D-B9B13356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31BD6-204B-452D-9B85-001A72D6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4DD1B-1D96-4D3A-A565-CE44E0E3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0A4D2-25BD-4449-B8D1-87575E73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2B367-6518-478F-8F92-AEBF85C6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02EE4-231A-48FB-BEE3-B4A2BC1E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DB5E6-E3F1-42E6-ABF7-2943FC8D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E60EC-37D9-488C-B790-8951077F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47F1A-7459-49A9-A4CB-8E6F3E78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87902-52EE-4217-810F-B039664B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D96A0-698A-4045-8CD1-79A4692A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DAF9-A389-4534-A630-537A784A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812D0-2265-4294-8362-445B9236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95502-07CA-446B-8EBE-C96248E9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AF3A8-7BAC-438C-8607-111408D4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48417-11BE-4903-88C0-58D495DE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8C0AC-815E-4EE9-8052-7BDF6E5F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47317-6317-4EAA-A576-C403DA27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9F57B8-0D63-4F67-A2B4-7DE3FA21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5E2F9-A5C0-43B4-A140-7CF51992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7EBC4-F853-4800-82AC-95ADAE06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C37DE-CA07-4F2E-8883-0376F5D9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CBAE-7996-48E3-8338-089E7062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4D263C-2157-42FC-93A4-2E2E0B42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A3DDD-B354-442D-BDC4-C7706371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61BB2-E53F-4E29-9D7E-70E0B76E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813CF-4D7A-49CB-A278-A7CA7A11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15EB2A-54BE-43DC-8B8E-FEF30CBB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509A-EC34-44EF-9529-743617A4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50F1-15D6-4D5D-B63E-6F725E48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6374-CF86-45F3-B63E-7923E4E9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B4C6-6E9A-45C1-BF1E-9614A5A8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AC43-CB71-496B-B67E-0C36CF02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C221-820F-43CB-9253-37392E0B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D344-5164-4B2D-A8EC-BDA65D9B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3E28-1BB9-4CF7-A0FF-A842EF05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E464-80E8-445E-BFFC-C2C0C43A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B6A6-CB6A-4615-8A8F-09D02A7C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FA13-F538-47BC-8D1C-F656B3C7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3FC4E-BCA6-4B33-8834-BB83248E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B98B3-28FB-49CD-BDE6-234B3EA9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F9B72-8254-4F60-A6CC-F7ED31A9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72774-16A8-46DF-B282-9C8F41B7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8D094-B477-4211-98B3-AA7A1B93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3F11-6E09-4334-B3AC-306356C1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731BF-A213-4858-BD84-07A778E0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5684D-1CA8-4AFC-BF57-18E5EB39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4FC53-4213-420F-9A80-7BF3B37F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CDDD5-521F-43F2-8B86-D7FDD899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1A27C-94D1-45C3-92EB-E4D7D8F7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48D62-99AF-4EF8-910A-14E75B6E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B2D92-03A1-488B-B5A8-E5AB9762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9581E-68B6-4065-A672-0E4B4424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E6643-C53B-427D-86BC-CCBA7382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30CA0-7865-4864-AADC-E0C94AB6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A5F6-7172-414D-9351-BB267C86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FDA6D-8AF4-45E0-B405-08BE1929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32842-EC45-4E70-98B9-EB3DF5E8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2D18E-0369-4F3A-9193-11F89CEF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51B61-F2F7-480F-BB55-3B044E4F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753BD-6572-430A-955B-1BB8778E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228A9-E9F6-41D9-BFC2-072E97A2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436AC-D185-4D2C-A3DC-725917CC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AFC56-4D55-4831-A1CB-552F93BB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21F26-21A7-4982-B9A9-42953159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1A324-CD80-4028-B1A7-286A2238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23B0-133C-45C8-A998-568B2E8E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3BE5A-292A-479A-B406-71F3B78C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8DF38-CBD7-44D6-9AB2-4F60C01E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40B44-1B65-41DE-B7AB-8713597B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662CA-404A-49B1-B95B-8D5E3DB4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00395-C6AB-4B94-81A6-CA79B1A8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261F2-068B-422D-9260-77707A07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52A64-A74A-4444-B7D9-11B20917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2A06F-D2F3-421F-8861-44EFAE67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34B9F-C566-4167-9347-A1C02F8B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B9F1E-720D-4D4C-9C43-194E0740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55F3-E089-498C-9949-A13AF024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135BD-4E81-4A61-8366-276857FE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F0426-5FEF-42EB-8C97-4F69BBD9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9E51E-1D56-4BD2-AB6C-40330062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24566-B645-4472-B049-77DC1CA8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FB176-57E8-4CE3-8F40-FD2B103C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BC0F3-80F1-4E42-A01E-831A5E69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8277B-F739-4892-A47F-6F9D8F52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B2644-6DAF-437D-9678-F61DB967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891D9-5EB3-4CAD-8D1B-C1CF9856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07F95-BACD-465A-8CA2-784FAACB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4E02-61BA-4808-B0F8-3FD5278A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68D27-1402-4639-B4E3-83233EFC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F361C-6767-4103-BEFE-28AB0A3D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84750-991D-4AED-9341-ACEF5ABA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AFEB2-CC6A-4A00-8B29-F4CDA613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7FDC7-F61B-4C7D-87E7-71898F6B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04CC3-3736-4365-914B-837308FE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437E7-5E90-46D7-9288-6CF9218E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56B62-F602-437E-9EF9-8353C7BB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389A7-4618-4981-A441-D313BA56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3FBF9-5581-49B7-A7E7-B151D1E0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5002-3064-4F66-9ABA-BC2F9A22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6C29C-6B16-49F9-B712-2E865F69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161B1-B3B8-447B-9BBF-EED86698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59408-DE4D-4EBA-8183-81C6180F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E7F51-EA9C-4C05-A42B-61686FE9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C2C84-FADA-4420-A25C-B5B6D626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3D715-2895-40DC-83D9-8675F3E0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1DF5C-97B7-412A-8790-DCF24E08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6DACC-FD50-47D4-9341-BBE1D607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A4EA2-3503-4CA5-B6E9-F932DB90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8F749-ED8D-48AA-962B-3CCC37EB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F7B0-B0AE-4DA3-BA29-A59BCD27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6E0AC-FD4A-4918-8107-542069FE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87C42-FEB0-4431-9AC6-F3DB6077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B03C8-B2F1-4A17-9E18-94D9F333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FEAA5-6A10-4189-A95E-34EE5C11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6CFD6-2888-4DBF-9478-FE8FB648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92719-7F7A-4C69-938A-EA1888D5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97C39-F230-4E16-B5D7-49C7E1D2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023D5-6DB9-446F-93B9-569D2572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251B4-5FE1-4D2B-9300-8776B8C8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76721-1DC3-4587-99CA-57E8D046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0BA4-D3BD-46E1-9DA4-6AA898F210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CB93-06B5-4FDC-8736-5E6F7A0A3E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3C0D-16B7-4E28-AA5F-63110228C8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DDFE-4388-4A5B-A989-D468E8A541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6FE8-09C3-44B5-8F66-EA143622CF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8D91-D040-4E6A-8391-82609A326C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3864-E612-4FDB-ADB8-2D6162F2CF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4B59-CCF0-4EFB-A3ED-FFFEC7CE19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17FE-C240-4C44-AFC7-E70EDF070D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516F-3B21-4005-86C6-E08204B316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77CE-B915-4DB2-875A-F6814E51A4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27FF-94C6-4010-84D8-A3701A38FB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36280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8c0000"/>
                </a:solidFill>
                <a:latin typeface="Times New Roman"/>
              </a:rPr>
              <a:t>МЕТОДИЧЕСКИЕ ОСОБЕННОСТИ </a:t>
            </a:r>
            <a:br>
              <a:rPr sz="2800"/>
            </a:br>
            <a:r>
              <a:rPr b="1" lang="en-US" sz="2800" spc="-1" strike="noStrike">
                <a:solidFill>
                  <a:srgbClr val="8c0000"/>
                </a:solidFill>
                <a:latin typeface="Times New Roman"/>
              </a:rPr>
              <a:t>РАЗВИТИЯ ХУДОЖЕСТВЕННО-ИСПОЛНИТЕЛЬСКИХ НАВЫКОВ </a:t>
            </a:r>
            <a:br>
              <a:rPr sz="2800"/>
            </a:br>
            <a:r>
              <a:rPr b="1" lang="en-US" sz="2800" spc="-1" strike="noStrike">
                <a:solidFill>
                  <a:srgbClr val="8c0000"/>
                </a:solidFill>
                <a:latin typeface="Times New Roman"/>
              </a:rPr>
              <a:t>УЧАЩИХСЯ ДЕТСКИХ МУЗЫКАЛЬНЫХ ШКОЛ В КЛАССЕ ГИТАРНОГО АНСАМБЛЯ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68360" y="4581000"/>
            <a:ext cx="8229600" cy="19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c0000"/>
                </a:solidFill>
                <a:latin typeface="Times New Roman"/>
              </a:rPr>
              <a:t>Образовательные задачи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8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ознакомление с историей развит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игры на гит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8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обучение нотной грамот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8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формирование исполнительски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навыков игры на гит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8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обучение основам коллективн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музицир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008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c0000"/>
                </a:solidFill>
                <a:latin typeface="Times New Roman"/>
                <a:ea typeface="Times New Roman"/>
              </a:rPr>
              <a:t>Воспитательные задачи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08524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8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воспитание потребности в музицирован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8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воспитание навыка самостоятельных музыкальных занят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8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воспитание устойчивой мотивации к самопознанию и самоусовершенствовани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8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воспитание коммуникативных качеств, культуры общения и поведения в коллектив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 rot="10800000">
            <a:off x="456480" y="188640"/>
            <a:ext cx="8218440" cy="85680"/>
          </a:xfrm>
          <a:prstGeom prst="rect">
            <a:avLst/>
          </a:prstGeom>
          <a:noFill/>
          <a:ln w="0">
            <a:noFill/>
          </a:ln>
        </p:spPr>
        <p:txBody>
          <a:bodyPr tIns="39960" bIns="39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                                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720000"/>
                </a:solidFill>
                <a:latin typeface="Times New Roman"/>
              </a:rPr>
              <a:t>Спасибо за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720000"/>
                </a:solidFill>
                <a:latin typeface="Times New Roman"/>
              </a:rPr>
              <a:t>внимание!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39640" y="620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Цель исследования</a:t>
            </a:r>
            <a:r>
              <a:rPr b="0" lang="ru-RU" sz="2800" spc="-1" strike="noStrike">
                <a:solidFill>
                  <a:srgbClr val="8c0000"/>
                </a:solidFill>
                <a:latin typeface="Times New Roman"/>
              </a:rPr>
              <a:t> - выявление теоретико-методических основ образовательного процесса учащихся в классе гитарного ансамбля детской музыкальной школы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Объект исследования</a:t>
            </a:r>
            <a:r>
              <a:rPr b="1" i="1" lang="ru-RU" sz="2800" spc="-1" strike="noStrike">
                <a:solidFill>
                  <a:srgbClr val="8c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8c0000"/>
                </a:solidFill>
                <a:latin typeface="Times New Roman"/>
              </a:rPr>
              <a:t>процесс обучения ансамблевому музицированию в системе детского музыкального образ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Предмет исследования</a:t>
            </a:r>
            <a:r>
              <a:rPr b="1" i="1" lang="ru-RU" sz="2800" spc="-1" strike="noStrike">
                <a:solidFill>
                  <a:srgbClr val="8c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8c0000"/>
                </a:solidFill>
                <a:latin typeface="Times New Roman"/>
              </a:rPr>
              <a:t>дидактические и методические принципы обучения детей коллективному музицированию на гит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c0000"/>
                </a:solidFill>
                <a:latin typeface="Times New Roman"/>
              </a:rPr>
              <a:t>Задачи исследов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8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c0000"/>
                </a:solidFill>
                <a:latin typeface="Times New Roman"/>
              </a:rPr>
              <a:t>Теоретический экскурс в историю музыкального исполнительства на гитаре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18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c0000"/>
                </a:solidFill>
                <a:latin typeface="Times New Roman"/>
              </a:rPr>
              <a:t>Обзор методик преподавания гитарного искусств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18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c0000"/>
                </a:solidFill>
                <a:latin typeface="Times New Roman"/>
              </a:rPr>
              <a:t>Изучение методических аспектов обучения гитарному ансамблю в системе детского музыкального образования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18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c0000"/>
                </a:solidFill>
                <a:latin typeface="Times New Roman"/>
              </a:rPr>
              <a:t>Разработка авторской программы «Основы гитарного ансамбля»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63280" y="-4227840"/>
            <a:ext cx="1443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6227640" y="3573360"/>
            <a:ext cx="2381400" cy="3168720"/>
          </a:xfrm>
          <a:prstGeom prst="rect">
            <a:avLst/>
          </a:prstGeom>
          <a:ln w="38160">
            <a:solidFill>
              <a:srgbClr val="8c0000"/>
            </a:solidFill>
            <a:miter/>
          </a:ln>
        </p:spPr>
      </p:pic>
      <p:pic>
        <p:nvPicPr>
          <p:cNvPr id="506" name="Picture 5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39640" y="3716280"/>
            <a:ext cx="2376720" cy="2951280"/>
          </a:xfrm>
          <a:prstGeom prst="rect">
            <a:avLst/>
          </a:prstGeom>
          <a:ln w="38160">
            <a:solidFill>
              <a:srgbClr val="8c0000"/>
            </a:solidFill>
            <a:miter/>
          </a:ln>
        </p:spPr>
      </p:pic>
      <p:pic>
        <p:nvPicPr>
          <p:cNvPr id="507" name="Picture 6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39640" y="620640"/>
            <a:ext cx="2376720" cy="3097440"/>
          </a:xfrm>
          <a:prstGeom prst="rect">
            <a:avLst/>
          </a:prstGeom>
          <a:ln w="38160">
            <a:solidFill>
              <a:srgbClr val="8c0000"/>
            </a:solidFill>
            <a:miter/>
          </a:ln>
        </p:spPr>
      </p:pic>
      <p:pic>
        <p:nvPicPr>
          <p:cNvPr id="508" name="Picture 7" descr="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6227640" y="620640"/>
            <a:ext cx="2362320" cy="2970360"/>
          </a:xfrm>
          <a:prstGeom prst="rect">
            <a:avLst/>
          </a:prstGeom>
          <a:ln w="38160">
            <a:solidFill>
              <a:srgbClr val="8c0000"/>
            </a:solidFill>
            <a:miter/>
          </a:ln>
        </p:spPr>
      </p:pic>
      <p:sp>
        <p:nvSpPr>
          <p:cNvPr id="509" name="Text Box 11"/>
          <p:cNvSpPr/>
          <p:nvPr/>
        </p:nvSpPr>
        <p:spPr>
          <a:xfrm>
            <a:off x="539640" y="2852640"/>
            <a:ext cx="194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Text Box 12"/>
          <p:cNvSpPr/>
          <p:nvPr/>
        </p:nvSpPr>
        <p:spPr>
          <a:xfrm>
            <a:off x="950760" y="2668680"/>
            <a:ext cx="138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2340000" y="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0000"/>
                </a:solidFill>
                <a:latin typeface="Times New Roman"/>
              </a:rPr>
              <a:t>Зарубежные гитарист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Text Box 14"/>
          <p:cNvSpPr/>
          <p:nvPr/>
        </p:nvSpPr>
        <p:spPr>
          <a:xfrm>
            <a:off x="6372360" y="6093000"/>
            <a:ext cx="203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ФЕРНАНДО СОР 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1778-1839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Text Box 16"/>
          <p:cNvSpPr/>
          <p:nvPr/>
        </p:nvSpPr>
        <p:spPr>
          <a:xfrm>
            <a:off x="539640" y="6093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Маттео Каркасси 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1792-1853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Text Box 18"/>
          <p:cNvSpPr/>
          <p:nvPr/>
        </p:nvSpPr>
        <p:spPr>
          <a:xfrm>
            <a:off x="1908000" y="3357720"/>
            <a:ext cx="100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5" name="Text Box 19"/>
          <p:cNvSpPr/>
          <p:nvPr/>
        </p:nvSpPr>
        <p:spPr>
          <a:xfrm>
            <a:off x="539640" y="2997360"/>
            <a:ext cx="23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Мауро Джулиани 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1782-1829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Text Box 21"/>
          <p:cNvSpPr/>
          <p:nvPr/>
        </p:nvSpPr>
        <p:spPr>
          <a:xfrm>
            <a:off x="6156360" y="2781360"/>
            <a:ext cx="23032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ФРАНСИСКО ТАРРЕГА-ЭШЕА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1852-1909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7" name="Picture 23" descr="Сеговия"/>
          <p:cNvPicPr/>
          <p:nvPr/>
        </p:nvPicPr>
        <p:blipFill>
          <a:blip r:embed="rId5"/>
          <a:stretch/>
        </p:blipFill>
        <p:spPr>
          <a:xfrm>
            <a:off x="3059280" y="981000"/>
            <a:ext cx="3025440" cy="3600360"/>
          </a:xfrm>
          <a:prstGeom prst="rect">
            <a:avLst/>
          </a:prstGeom>
          <a:ln w="38160">
            <a:solidFill>
              <a:srgbClr val="720000"/>
            </a:solidFill>
            <a:miter/>
          </a:ln>
        </p:spPr>
      </p:pic>
      <p:pic>
        <p:nvPicPr>
          <p:cNvPr id="518" name="Picture 24" descr="Сеговия"/>
          <p:cNvPicPr/>
          <p:nvPr/>
        </p:nvPicPr>
        <p:blipFill>
          <a:blip r:embed="rId6"/>
          <a:stretch/>
        </p:blipFill>
        <p:spPr>
          <a:xfrm>
            <a:off x="3059280" y="981000"/>
            <a:ext cx="3025440" cy="360036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25"/>
          <p:cNvSpPr/>
          <p:nvPr/>
        </p:nvSpPr>
        <p:spPr>
          <a:xfrm>
            <a:off x="3203640" y="4724280"/>
            <a:ext cx="25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Андрес Сеговия</a:t>
            </a:r>
            <a:br>
              <a:rPr sz="1600"/>
            </a:b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1893-1987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00"/>
                </a:solidFill>
                <a:latin typeface="Times New Roman"/>
              </a:rPr>
              <a:t>Русские гитаристы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2" name="Picture 24" descr="sychra_1"/>
          <p:cNvPicPr/>
          <p:nvPr/>
        </p:nvPicPr>
        <p:blipFill>
          <a:blip r:embed="rId1"/>
          <a:stretch/>
        </p:blipFill>
        <p:spPr>
          <a:xfrm>
            <a:off x="3276720" y="3933720"/>
            <a:ext cx="2303280" cy="2806920"/>
          </a:xfrm>
          <a:prstGeom prst="rect">
            <a:avLst/>
          </a:prstGeom>
          <a:ln w="28440">
            <a:solidFill>
              <a:srgbClr val="720000"/>
            </a:solidFill>
            <a:miter/>
          </a:ln>
        </p:spPr>
      </p:pic>
      <p:pic>
        <p:nvPicPr>
          <p:cNvPr id="523" name="Picture 29" descr="i_k"/>
          <p:cNvPicPr/>
          <p:nvPr/>
        </p:nvPicPr>
        <p:blipFill>
          <a:blip r:embed="rId2"/>
          <a:stretch/>
        </p:blipFill>
        <p:spPr>
          <a:xfrm>
            <a:off x="6372360" y="907920"/>
            <a:ext cx="2376360" cy="2881440"/>
          </a:xfrm>
          <a:prstGeom prst="rect">
            <a:avLst/>
          </a:prstGeom>
          <a:ln w="28440">
            <a:solidFill>
              <a:srgbClr val="720000"/>
            </a:solidFill>
            <a:miter/>
          </a:ln>
        </p:spPr>
      </p:pic>
      <p:pic>
        <p:nvPicPr>
          <p:cNvPr id="524" name="Picture 31" descr="Agafoshin"/>
          <p:cNvPicPr/>
          <p:nvPr/>
        </p:nvPicPr>
        <p:blipFill>
          <a:blip r:embed="rId3"/>
          <a:stretch/>
        </p:blipFill>
        <p:spPr>
          <a:xfrm>
            <a:off x="250920" y="907920"/>
            <a:ext cx="2305080" cy="2880000"/>
          </a:xfrm>
          <a:prstGeom prst="rect">
            <a:avLst/>
          </a:prstGeom>
          <a:ln w="38160">
            <a:solidFill>
              <a:srgbClr val="8c0000"/>
            </a:solidFill>
            <a:miter/>
          </a:ln>
        </p:spPr>
      </p:pic>
      <p:pic>
        <p:nvPicPr>
          <p:cNvPr id="525" name="Picture 33" descr="x_0b6ff582"/>
          <p:cNvPicPr/>
          <p:nvPr/>
        </p:nvPicPr>
        <p:blipFill>
          <a:blip r:embed="rId4"/>
          <a:stretch/>
        </p:blipFill>
        <p:spPr>
          <a:xfrm>
            <a:off x="3348000" y="907920"/>
            <a:ext cx="2232000" cy="288144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pic>
        <p:nvPicPr>
          <p:cNvPr id="526" name="Picture 35" descr="Harisov"/>
          <p:cNvPicPr/>
          <p:nvPr/>
        </p:nvPicPr>
        <p:blipFill>
          <a:blip r:embed="rId5"/>
          <a:stretch/>
        </p:blipFill>
        <p:spPr>
          <a:xfrm>
            <a:off x="6372360" y="3933720"/>
            <a:ext cx="2376360" cy="2808360"/>
          </a:xfrm>
          <a:prstGeom prst="rect">
            <a:avLst/>
          </a:prstGeom>
          <a:ln w="28440">
            <a:solidFill>
              <a:srgbClr val="720000"/>
            </a:solidFill>
            <a:miter/>
          </a:ln>
        </p:spPr>
      </p:pic>
      <p:sp>
        <p:nvSpPr>
          <p:cNvPr id="527" name="AutoShape 3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AutoShape 4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AutoShape 4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30" name="Picture 45" descr="getImage?photoId=456471141452&amp;photoType=5"/>
          <p:cNvPicPr/>
          <p:nvPr/>
        </p:nvPicPr>
        <p:blipFill>
          <a:blip r:embed="rId6"/>
          <a:stretch/>
        </p:blipFill>
        <p:spPr>
          <a:xfrm>
            <a:off x="250920" y="3933720"/>
            <a:ext cx="2305080" cy="2808360"/>
          </a:xfrm>
          <a:prstGeom prst="rect">
            <a:avLst/>
          </a:prstGeom>
          <a:ln w="28440">
            <a:solidFill>
              <a:srgbClr val="720000"/>
            </a:solidFill>
            <a:miter/>
          </a:ln>
        </p:spPr>
      </p:pic>
      <p:sp>
        <p:nvSpPr>
          <p:cNvPr id="531" name="Text Box 46"/>
          <p:cNvSpPr/>
          <p:nvPr/>
        </p:nvSpPr>
        <p:spPr>
          <a:xfrm>
            <a:off x="324000" y="306864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imes New Roman"/>
              </a:rPr>
              <a:t>Петр Агафошин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imes New Roman"/>
              </a:rPr>
              <a:t>1874-1950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Text Box 47"/>
          <p:cNvSpPr/>
          <p:nvPr/>
        </p:nvSpPr>
        <p:spPr>
          <a:xfrm>
            <a:off x="3203640" y="3068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Никита Кошкин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1956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3" name="Text Box 48"/>
          <p:cNvSpPr/>
          <p:nvPr/>
        </p:nvSpPr>
        <p:spPr>
          <a:xfrm>
            <a:off x="179280" y="609300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imes New Roman"/>
              </a:rPr>
              <a:t>Александр Виницкий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imes New Roman"/>
              </a:rPr>
              <a:t>1950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Text Box 49"/>
          <p:cNvSpPr/>
          <p:nvPr/>
        </p:nvSpPr>
        <p:spPr>
          <a:xfrm>
            <a:off x="3203640" y="60930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imes New Roman"/>
              </a:rPr>
              <a:t>Андрей Сихра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imes New Roman"/>
              </a:rPr>
              <a:t>1773-1850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Text Box 50"/>
          <p:cNvSpPr/>
          <p:nvPr/>
        </p:nvSpPr>
        <p:spPr>
          <a:xfrm>
            <a:off x="6300720" y="2852640"/>
            <a:ext cx="28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Александр Иванов-Крамской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1912-1973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Text Box 51"/>
          <p:cNvSpPr/>
          <p:nvPr/>
        </p:nvSpPr>
        <p:spPr>
          <a:xfrm>
            <a:off x="6516720" y="6021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Виталий Харисов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1962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Скругленный прямоугольник 6" descr=""/>
          <p:cNvPicPr/>
          <p:nvPr/>
        </p:nvPicPr>
        <p:blipFill>
          <a:blip r:embed="rId1"/>
          <a:stretch/>
        </p:blipFill>
        <p:spPr>
          <a:xfrm>
            <a:off x="585720" y="4340160"/>
            <a:ext cx="2498760" cy="1560600"/>
          </a:xfrm>
          <a:prstGeom prst="rect">
            <a:avLst/>
          </a:prstGeom>
          <a:ln w="0">
            <a:noFill/>
          </a:ln>
        </p:spPr>
      </p:pic>
      <p:pic>
        <p:nvPicPr>
          <p:cNvPr id="538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3541680" y="4340160"/>
            <a:ext cx="2352600" cy="1487520"/>
          </a:xfrm>
          <a:prstGeom prst="rect">
            <a:avLst/>
          </a:prstGeom>
          <a:ln w="0">
            <a:noFill/>
          </a:ln>
        </p:spPr>
      </p:pic>
      <p:pic>
        <p:nvPicPr>
          <p:cNvPr id="539" name="Скругленный прямоугольник 8" descr=""/>
          <p:cNvPicPr/>
          <p:nvPr/>
        </p:nvPicPr>
        <p:blipFill>
          <a:blip r:embed="rId3"/>
          <a:stretch/>
        </p:blipFill>
        <p:spPr>
          <a:xfrm>
            <a:off x="6272280" y="4340160"/>
            <a:ext cx="2286000" cy="1487520"/>
          </a:xfrm>
          <a:prstGeom prst="rect">
            <a:avLst/>
          </a:prstGeom>
          <a:ln w="0">
            <a:noFill/>
          </a:ln>
        </p:spPr>
      </p:pic>
      <p:pic>
        <p:nvPicPr>
          <p:cNvPr id="540" name="Скругленный прямоугольник 9" descr=""/>
          <p:cNvPicPr/>
          <p:nvPr/>
        </p:nvPicPr>
        <p:blipFill>
          <a:blip r:embed="rId4"/>
          <a:stretch/>
        </p:blipFill>
        <p:spPr>
          <a:xfrm>
            <a:off x="579600" y="517680"/>
            <a:ext cx="7924680" cy="3236760"/>
          </a:xfrm>
          <a:prstGeom prst="rect">
            <a:avLst/>
          </a:prstGeom>
          <a:ln w="0">
            <a:noFill/>
          </a:ln>
        </p:spPr>
      </p:pic>
      <p:sp>
        <p:nvSpPr>
          <p:cNvPr id="541" name="Стрелка вниз 10"/>
          <p:cNvSpPr/>
          <p:nvPr/>
        </p:nvSpPr>
        <p:spPr>
          <a:xfrm rot="1200000">
            <a:off x="1688760" y="3736800"/>
            <a:ext cx="187200" cy="64152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6a0400"/>
          </a:solidFill>
          <a:ln w="28440">
            <a:solidFill>
              <a:srgbClr val="5736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2" name=""/>
          <p:cNvSpPr txBox="1"/>
          <p:nvPr/>
        </p:nvSpPr>
        <p:spPr>
          <a:xfrm rot="20067600">
            <a:off x="7091640" y="3702240"/>
            <a:ext cx="85680" cy="673200"/>
          </a:xfrm>
          <a:prstGeom prst="rect">
            <a:avLst/>
          </a:prstGeom>
          <a:solidFill>
            <a:srgbClr val="6a0400"/>
          </a:solidFill>
          <a:ln w="28440">
            <a:solidFill>
              <a:srgbClr val="57362a"/>
            </a:solidFill>
            <a:round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Стрелка вниз 13"/>
          <p:cNvSpPr/>
          <p:nvPr/>
        </p:nvSpPr>
        <p:spPr>
          <a:xfrm>
            <a:off x="4572000" y="3716280"/>
            <a:ext cx="216000" cy="67968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6a0400"/>
          </a:solidFill>
          <a:ln w="3240">
            <a:solidFill>
              <a:srgbClr val="8251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00"/>
                </a:solidFill>
                <a:latin typeface="Times New Roman"/>
              </a:rPr>
              <a:t>Образовательные программы </a:t>
            </a:r>
            <a:br>
              <a:rPr sz="4000"/>
            </a:br>
            <a:r>
              <a:rPr b="1" lang="en-US" sz="4000" spc="-1" strike="noStrike">
                <a:solidFill>
                  <a:srgbClr val="8c0000"/>
                </a:solidFill>
                <a:latin typeface="Times New Roman"/>
              </a:rPr>
              <a:t>по гитарному ансамблю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7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imes New Roman"/>
              </a:rPr>
              <a:t>А.М. Луценко   программа «Ансамбль» (шестиструнная гитара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17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imes New Roman"/>
              </a:rPr>
              <a:t>Н.В. Белова «Программа гитарного пнсамбля»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17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imes New Roman"/>
              </a:rPr>
              <a:t>Е.В. Коннова «Программа ансамблевого музицирования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17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imes New Roman"/>
              </a:rPr>
              <a:t>Н.В. Балашова и А.Ф. Константинова «Учебная программа по гитарному ансамблю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17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imes New Roman"/>
              </a:rPr>
              <a:t>А.Виницкий, В.Манилов, В.Молотков Образовательная программа по ансамблю для шестиструнной гитар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942320" cy="48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5400" spc="-1" strike="noStrike">
                <a:solidFill>
                  <a:srgbClr val="8c0000"/>
                </a:solidFill>
                <a:latin typeface="Times New Roman"/>
              </a:rPr>
              <a:t>Лоскутова О.Г. </a:t>
            </a:r>
            <a:br>
              <a:rPr sz="5400"/>
            </a:br>
            <a:br>
              <a:rPr sz="5400"/>
            </a:br>
            <a:r>
              <a:rPr b="1" lang="en-US" sz="6000" spc="-1" strike="noStrike">
                <a:solidFill>
                  <a:srgbClr val="8c0000"/>
                </a:solidFill>
                <a:latin typeface="Times New Roman"/>
              </a:rPr>
              <a:t>ОСНОВЫ ГИТАРНОГО АНСАМБЛЯ</a:t>
            </a:r>
            <a:br>
              <a:rPr sz="5400"/>
            </a:br>
            <a:br>
              <a:rPr sz="5400"/>
            </a:br>
            <a:r>
              <a:rPr b="1" lang="en-US" sz="4800" spc="-1" strike="noStrike">
                <a:solidFill>
                  <a:srgbClr val="8c0000"/>
                </a:solidFill>
                <a:latin typeface="Times New Roman"/>
              </a:rPr>
              <a:t>авторская программа</a:t>
            </a:r>
            <a:r>
              <a:rPr b="0" lang="en-US" sz="4400" spc="-1" strike="noStrike">
                <a:solidFill>
                  <a:srgbClr val="8c0000"/>
                </a:solidFill>
                <a:latin typeface="Tahoma"/>
              </a:rPr>
              <a:t> </a:t>
            </a:r>
            <a:br>
              <a:rPr sz="4400"/>
            </a:br>
            <a:br>
              <a:rPr sz="40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00"/>
                </a:solidFill>
                <a:latin typeface="Times New Roman"/>
              </a:rPr>
              <a:t>Цели программы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1749"/>
              </a:spcBef>
              <a:buClr>
                <a:srgbClr val="8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Tahoma"/>
              </a:rPr>
              <a:t>развитие музыкально-творческих   способностей учащих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1749"/>
              </a:spcBef>
              <a:buClr>
                <a:srgbClr val="8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Tahoma"/>
              </a:rPr>
              <a:t>воспитание художественной и общей культуры школьник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1749"/>
              </a:spcBef>
              <a:buClr>
                <a:srgbClr val="8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Tahoma"/>
              </a:rPr>
              <a:t>формирование готовности самообразова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1749"/>
              </a:spcBef>
              <a:buClr>
                <a:srgbClr val="8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Tahoma"/>
              </a:rPr>
              <a:t>выявление одаренных детей и подготовка их к дальнейшему профессиональному образова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2:58:19Z</dcterms:created>
  <dc:creator>Elena Lisyuk</dc:creator>
  <dc:description/>
  <dc:language>en-US</dc:language>
  <cp:lastModifiedBy>Гость</cp:lastModifiedBy>
  <dcterms:modified xsi:type="dcterms:W3CDTF">2017-05-24T06:22:45Z</dcterms:modified>
  <cp:revision>166</cp:revision>
  <dc:subject/>
  <dc:title>История гитары</dc:title>
</cp:coreProperties>
</file>