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177-481E-4CA5-9BA0-6B07217C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25B-EFD7-45CE-8D7D-9151536F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BD1-BB9D-4A40-B545-6D449AC3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ACD-1591-40AE-A41F-E49611CC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4CA9-B674-4BF7-BE8F-ACB62A8F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BBB2-0A5D-48B1-806E-0C8DF96E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255E-5035-4E3E-ABBB-8B1DC324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4227-EB1C-4FE7-A69C-E01827D8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CD81-5FA8-496E-976F-476BC02A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E087-8164-4D0D-BE18-3633FF29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E791-D132-4C1D-B642-152C9C2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09A-0757-4E84-B5D7-42FAE077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1A5A-7534-4F7E-8355-7ECFCE76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6368-5D1D-465A-A810-9A46891B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0FD8-E3EB-4D3B-A7B0-DFE1DD15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E178-FF4E-47A3-80DC-C0B10E36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073-4F4B-4C19-937D-F6C256F7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5BAF-2D39-4CCE-BF31-E5B00D1A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9FC5-CC19-4DD4-BC65-58E7AB61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4B3A-8521-4F26-8EF5-E43214F2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8F8D-667B-419C-B294-DE99F5C4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1BA6-6EED-4C37-A852-051C1BF3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C46-17DA-43AB-BFC6-A544A209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0E28E-5CE3-430D-B53D-59E415E5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E881-7518-4942-823E-430998AB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00FB-0430-47E7-9792-8500AEED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9AD1-071D-4C4E-8169-F89EBB3F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89F8A-099D-42DA-9F65-87C9550F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B70A-7376-4A3C-A945-C1D75008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83BE-454E-4174-9706-22317808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B05-4828-40A0-B882-55AFA55C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63B-160F-4415-AD72-254C9401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109-7038-409B-8568-68D17BE7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311-D22B-4B50-850A-20676DB7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606-3A93-4308-8BBD-0F0B470E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B4D-9745-40F1-8424-49A38A3F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4311-3ACB-4BF7-B077-2547C8E62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7DD4-32D7-477D-91BE-CC9E18A41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31D0-720E-4D7C-890C-C4B3417D2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едями славян 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3143160" y="2500200"/>
            <a:ext cx="2928960" cy="1214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6215040" y="421488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зарский кага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3143160" y="4929120"/>
            <a:ext cx="2928960" cy="1214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арский кага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0" y="228600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ифы, сарм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5572080" y="28584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юркский кага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1285920" y="28584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ноугорские пл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0" y="407196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зан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6215040" y="228600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жская Булг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Скифы_V-II_в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еческие колон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еверном Причерномор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ьвия, Херсонес, Танаис, Пантикапей, Керчь, Феодо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213372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ова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5724360" y="2133720"/>
            <a:ext cx="3095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еческие колон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верн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ерномо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124000" y="5084640"/>
            <a:ext cx="4680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ные народ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ного Причерномо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2843280" y="2421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 flipH="1">
            <a:off x="2842920" y="30686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H="1">
            <a:off x="3780000" y="3357720"/>
            <a:ext cx="273672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5076720" y="3357360"/>
            <a:ext cx="266400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588000" y="39225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рно, металлы, скот, шерсть, ра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2556000" y="407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о, масло, ремеслен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2771640" y="1700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о, мас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меслен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2916360" y="321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рно, металлы, скот, шерсть, ра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840" y="3357360"/>
            <a:ext cx="5114880" cy="5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28800" y="6286320"/>
            <a:ext cx="6767280" cy="4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ифы. Рельеф чаши из кургана Куль-Оба (Эрмита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File:Scythian Warriors.jpg"/>
          <p:cNvPicPr/>
          <p:nvPr/>
        </p:nvPicPr>
        <p:blipFill>
          <a:blip r:embed="rId1"/>
          <a:stretch/>
        </p:blipFill>
        <p:spPr>
          <a:xfrm>
            <a:off x="1143000" y="3571920"/>
            <a:ext cx="7000920" cy="2685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img187.imageshack.us/img187/7515/85934432bi8.jpg"/>
          <p:cNvPicPr/>
          <p:nvPr/>
        </p:nvPicPr>
        <p:blipFill>
          <a:blip r:embed="rId2"/>
          <a:stretch/>
        </p:blipFill>
        <p:spPr>
          <a:xfrm>
            <a:off x="285840" y="210960"/>
            <a:ext cx="2928960" cy="306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http://dreamworlds.ru/uploads/posts/2009-11/1257244659_scythian_warriors_03.jpg"/>
          <p:cNvPicPr/>
          <p:nvPr/>
        </p:nvPicPr>
        <p:blipFill>
          <a:blip r:embed="rId3"/>
          <a:stretch/>
        </p:blipFill>
        <p:spPr>
          <a:xfrm>
            <a:off x="5870520" y="285840"/>
            <a:ext cx="2786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юркский кага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лся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. Воинственные кочевники-тюрки первыми в Центральной Азии освоили мощное оружие конника- саблю, изобрели железные стремена, которые позволяли уверенно держаться в седле и стрелять из л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Тюркский каганат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403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азарский каг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8160" y="129492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 в Нижнем Поволжье  тюркоязычные хазары создали свое государст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Хазарский кага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постепенно подчинили себе многие кочевые и земледель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м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еверного Кавказа, Приазовья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степные и лесостеп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чной Европ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лоть д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непр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ели подчиненных территорий платили кагану да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по горностаю и белке от дыма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каждого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Admin\Рабочий стол\славяне\Копия 737px-Chasaren.jpg"/>
          <p:cNvPicPr/>
          <p:nvPr/>
        </p:nvPicPr>
        <p:blipFill>
          <a:blip r:embed="rId1"/>
          <a:stretch/>
        </p:blipFill>
        <p:spPr>
          <a:xfrm>
            <a:off x="4572000" y="1600200"/>
            <a:ext cx="4519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ая Булг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9280" y="1052640"/>
            <a:ext cx="42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а после распада Западно-тюркского каганата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хан – Куб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мерти Кубрата – нападение хаз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болгар во глав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хан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парух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кочевала на Дун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другая часть болгар откочевала на север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 среднюю Волгу и Каму, где созда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го-Камскую Болга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Великая Болгария"/>
          <p:cNvPicPr/>
          <p:nvPr/>
        </p:nvPicPr>
        <p:blipFill>
          <a:blip r:embed="rId1"/>
          <a:stretch/>
        </p:blipFill>
        <p:spPr>
          <a:xfrm>
            <a:off x="0" y="1052640"/>
            <a:ext cx="4859280" cy="580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3" name="AutoShape 8"/>
          <p:cNvSpPr/>
          <p:nvPr/>
        </p:nvSpPr>
        <p:spPr>
          <a:xfrm rot="10637400">
            <a:off x="2336760" y="3379680"/>
            <a:ext cx="1503360" cy="201600"/>
          </a:xfrm>
          <a:custGeom>
            <a:avLst/>
            <a:gdLst>
              <a:gd name="textAreaLeft" fmla="*/ 187920 w 1503360"/>
              <a:gd name="textAreaRight" fmla="*/ 1315440 w 1503360"/>
              <a:gd name="textAreaTop" fmla="*/ 50400 h 201600"/>
              <a:gd name="textAreaBottom" fmla="*/ 1512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 rot="11851800">
            <a:off x="2504520" y="2953800"/>
            <a:ext cx="1368360" cy="18576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46440 h 185760"/>
              <a:gd name="textAreaBottom" fmla="*/ 1393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H="1">
            <a:off x="826920" y="3284640"/>
            <a:ext cx="1657440" cy="0"/>
          </a:xfrm>
          <a:prstGeom prst="line">
            <a:avLst/>
          </a:prstGeom>
          <a:ln w="57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250920" y="3284640"/>
            <a:ext cx="504720" cy="215640"/>
          </a:xfrm>
          <a:prstGeom prst="line">
            <a:avLst/>
          </a:prstGeom>
          <a:ln w="572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V="1">
            <a:off x="2627280" y="1628640"/>
            <a:ext cx="1081080" cy="1368720"/>
          </a:xfrm>
          <a:prstGeom prst="line">
            <a:avLst/>
          </a:prstGeom>
          <a:ln w="5724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3708360" y="1267920"/>
            <a:ext cx="287280" cy="360360"/>
          </a:xfrm>
          <a:prstGeom prst="line">
            <a:avLst/>
          </a:prstGeom>
          <a:ln w="572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250920" y="2924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extBook"/>
              </a:rPr>
              <a:t>На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Дун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 rot="18435000">
            <a:off x="2123640" y="22644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На К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Asus Asus</cp:lastModifiedBy>
  <dcterms:modified xsi:type="dcterms:W3CDTF">2017-09-29T18:23:5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