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BE45-21E8-400D-9D1A-43F2AA44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9760-8F17-463A-8239-EE397CEF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1A54-0DE0-4B5C-812D-E9AB479A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E0F-D765-42FD-B0E0-BD733237A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2663-5016-4789-B19D-A018B85A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D4C0-6A3D-4232-B1C2-9F890494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1A6B-5166-4909-B3CB-4FBE3CB2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60BA-3DB2-4241-B12B-0B53BE04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4156-9CB2-45EF-8117-6EC0B78E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6A50-B77D-4CC0-8CFA-ED9BB605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C038-13E2-43DA-B672-DF991795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2A18-2433-4EA7-AA58-D63F6E96E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50C2-8E67-4D66-A79E-7307C176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B04C-89BC-4B75-8D95-C7503DE2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998F-8E43-4830-9880-B22A246D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AF5A-ADC4-463F-A673-FE8CA0BB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968C-F708-451F-A142-19CD15959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3EA87-6E8B-4765-B0BC-D47A1518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9B69F-C190-41F4-88D3-53773F40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337E1-D1AF-4E6D-95DA-9AECA1F2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636BD-BF4D-4C07-8C1F-68B738F99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A6CA8-058D-45B9-BB42-DA0AE970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995-F4EB-4FFE-8931-C54A38D1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68164-0542-47EF-94DC-F70BF8DB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02518-7F50-4949-A4D8-35F2CD0E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F9C72-58FB-4EAB-B08D-417D6B26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FCCA7-A9F1-4826-B54E-C2AADA85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8213C-21C9-4B5C-9DD6-73F35C64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C7218-598C-45EF-8D20-1CFE6631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87C5C-93DD-4294-BFD4-2122E8F4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14D5-4BF8-4397-A763-9E3874F6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61E5-C7B6-447A-908E-495E8426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7D82-F78D-4A52-ACB8-C0F92DC9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CA5-C4B4-470D-92C3-5A69FC9A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D242-ECBB-4AEC-85A0-718D9266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A3AA-8163-473B-95DE-7806977C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B20D-EAF0-4970-A306-D0A8C60AD9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C107-B543-468C-B76F-49A0247452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E46A-0869-4717-B5A3-033A1ACC6E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едями славян бы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3143160" y="2500200"/>
            <a:ext cx="2928960" cy="1214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авя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6215040" y="4214880"/>
            <a:ext cx="2928960" cy="12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азарский кага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5"/>
          <p:cNvSpPr/>
          <p:nvPr/>
        </p:nvSpPr>
        <p:spPr>
          <a:xfrm>
            <a:off x="3143160" y="4929120"/>
            <a:ext cx="2928960" cy="1214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арский кага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6"/>
          <p:cNvSpPr/>
          <p:nvPr/>
        </p:nvSpPr>
        <p:spPr>
          <a:xfrm>
            <a:off x="0" y="2286000"/>
            <a:ext cx="2928960" cy="12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ифы, сарм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7"/>
          <p:cNvSpPr/>
          <p:nvPr/>
        </p:nvSpPr>
        <p:spPr>
          <a:xfrm>
            <a:off x="5572080" y="285840"/>
            <a:ext cx="2928960" cy="12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юркский каган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8"/>
          <p:cNvSpPr/>
          <p:nvPr/>
        </p:nvSpPr>
        <p:spPr>
          <a:xfrm>
            <a:off x="1285920" y="285840"/>
            <a:ext cx="2928960" cy="12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нноугорские пл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0"/>
          <p:cNvSpPr/>
          <p:nvPr/>
        </p:nvSpPr>
        <p:spPr>
          <a:xfrm>
            <a:off x="0" y="4071960"/>
            <a:ext cx="2928960" cy="12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изан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1"/>
          <p:cNvSpPr/>
          <p:nvPr/>
        </p:nvSpPr>
        <p:spPr>
          <a:xfrm>
            <a:off x="6215040" y="2286000"/>
            <a:ext cx="2928960" cy="1214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лжская Булг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Скифы_V-II_в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реческие колонии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 Северном Причерномор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львия, Херсонес, Танаис, Пантикапей, Керчь, Феодо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324000" y="213372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рикова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е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5724360" y="2133720"/>
            <a:ext cx="3095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еческие колонии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еверно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ерномор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124000" y="5084640"/>
            <a:ext cx="4680000" cy="115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енные народы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верного Причерномо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1"/>
          <p:cNvSpPr/>
          <p:nvPr/>
        </p:nvSpPr>
        <p:spPr>
          <a:xfrm>
            <a:off x="2843280" y="242100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2"/>
          <p:cNvSpPr/>
          <p:nvPr/>
        </p:nvSpPr>
        <p:spPr>
          <a:xfrm flipH="1">
            <a:off x="2842920" y="306864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 flipH="1">
            <a:off x="3780000" y="3357720"/>
            <a:ext cx="2736720" cy="172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4"/>
          <p:cNvSpPr/>
          <p:nvPr/>
        </p:nvSpPr>
        <p:spPr>
          <a:xfrm flipV="1">
            <a:off x="5076720" y="3357360"/>
            <a:ext cx="2664000" cy="172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6588000" y="392256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рно, металлы, скот, шерсть, ра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2556000" y="407664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но, масло, ремесленные изд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2771640" y="1700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но, масл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месленные изд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2916360" y="3213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рно, металлы, скот, шерсть, ра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5840" y="3357360"/>
            <a:ext cx="5114880" cy="51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28800" y="6286320"/>
            <a:ext cx="6767280" cy="41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ифы. Рельеф чаши из кургана Куль-Оба (Эрмитаж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File:Scythian Warriors.jpg"/>
          <p:cNvPicPr/>
          <p:nvPr/>
        </p:nvPicPr>
        <p:blipFill>
          <a:blip r:embed="rId1"/>
          <a:stretch/>
        </p:blipFill>
        <p:spPr>
          <a:xfrm>
            <a:off x="1143000" y="3571920"/>
            <a:ext cx="7000920" cy="26859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http://img187.imageshack.us/img187/7515/85934432bi8.jpg"/>
          <p:cNvPicPr/>
          <p:nvPr/>
        </p:nvPicPr>
        <p:blipFill>
          <a:blip r:embed="rId2"/>
          <a:stretch/>
        </p:blipFill>
        <p:spPr>
          <a:xfrm>
            <a:off x="285840" y="210960"/>
            <a:ext cx="2928960" cy="306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http://dreamworlds.ru/uploads/posts/2009-11/1257244659_scythian_warriors_03.jpg"/>
          <p:cNvPicPr/>
          <p:nvPr/>
        </p:nvPicPr>
        <p:blipFill>
          <a:blip r:embed="rId3"/>
          <a:stretch/>
        </p:blipFill>
        <p:spPr>
          <a:xfrm>
            <a:off x="5870520" y="285840"/>
            <a:ext cx="27860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юркский каган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жился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е. Воинственные кочевники-тюрки первыми в Центральной Азии освоили мощное оружие конника- саблю, изобрели железные стремена, которые позволяли уверенно держаться в седле и стрелять из лу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Тюркский каганат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4032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9040" y="-36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азарский каган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8160" y="1294920"/>
            <a:ext cx="4572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е в Нижнем Поволжье  тюркоязычные хазары создали свое государств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Хазарский каган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и постепенно подчинили себе многие кочевые и земледельческ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еме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еверного Кавказа, Приазовья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акже степные и лесостепн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точной Европы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лоть д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непр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ители подчиненных территорий платили кагану да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по горностаю и белке от дыма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 каждого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C:\Documents and Settings\Admin\Рабочий стол\славяне\Копия 737px-Chasaren.jpg"/>
          <p:cNvPicPr/>
          <p:nvPr/>
        </p:nvPicPr>
        <p:blipFill>
          <a:blip r:embed="rId1"/>
          <a:stretch/>
        </p:blipFill>
        <p:spPr>
          <a:xfrm>
            <a:off x="4572000" y="1600200"/>
            <a:ext cx="451944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ликая Булга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859280" y="1052640"/>
            <a:ext cx="428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а после распада Западно-тюркского каганата 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хан – Кубр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смерти Кубрата – нападение хаз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болгар во глав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хан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спарух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кочевала на Дун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X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другая часть болгар откочевала на север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 среднюю Волгу и Каму, где создал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лго-Камскую Болгар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Великая Болгария"/>
          <p:cNvPicPr/>
          <p:nvPr/>
        </p:nvPicPr>
        <p:blipFill>
          <a:blip r:embed="rId1"/>
          <a:stretch/>
        </p:blipFill>
        <p:spPr>
          <a:xfrm>
            <a:off x="0" y="1052640"/>
            <a:ext cx="4859280" cy="5805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3" name="AutoShape 8"/>
          <p:cNvSpPr/>
          <p:nvPr/>
        </p:nvSpPr>
        <p:spPr>
          <a:xfrm rot="10637400">
            <a:off x="2336760" y="3379680"/>
            <a:ext cx="1503360" cy="201600"/>
          </a:xfrm>
          <a:custGeom>
            <a:avLst/>
            <a:gdLst>
              <a:gd name="textAreaLeft" fmla="*/ 187920 w 1503360"/>
              <a:gd name="textAreaRight" fmla="*/ 1315440 w 1503360"/>
              <a:gd name="textAreaTop" fmla="*/ 50400 h 201600"/>
              <a:gd name="textAreaBottom" fmla="*/ 151200 h 201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0"/>
          <p:cNvSpPr/>
          <p:nvPr/>
        </p:nvSpPr>
        <p:spPr>
          <a:xfrm rot="11851800">
            <a:off x="2504520" y="2953800"/>
            <a:ext cx="1368360" cy="18576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46440 h 185760"/>
              <a:gd name="textAreaBottom" fmla="*/ 139320 h 1857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 flipH="1">
            <a:off x="826920" y="3284640"/>
            <a:ext cx="1657440" cy="0"/>
          </a:xfrm>
          <a:prstGeom prst="line">
            <a:avLst/>
          </a:prstGeom>
          <a:ln w="57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8"/>
          <p:cNvSpPr/>
          <p:nvPr/>
        </p:nvSpPr>
        <p:spPr>
          <a:xfrm flipH="1">
            <a:off x="250920" y="3284640"/>
            <a:ext cx="504720" cy="215640"/>
          </a:xfrm>
          <a:prstGeom prst="line">
            <a:avLst/>
          </a:prstGeom>
          <a:ln w="572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 flipV="1">
            <a:off x="2627280" y="1628640"/>
            <a:ext cx="1081080" cy="1368720"/>
          </a:xfrm>
          <a:prstGeom prst="line">
            <a:avLst/>
          </a:prstGeom>
          <a:ln w="5724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V="1">
            <a:off x="3708360" y="1267920"/>
            <a:ext cx="287280" cy="360360"/>
          </a:xfrm>
          <a:prstGeom prst="line">
            <a:avLst/>
          </a:prstGeom>
          <a:ln w="57240">
            <a:solidFill>
              <a:srgbClr val="0000ff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1"/>
          <p:cNvSpPr/>
          <p:nvPr/>
        </p:nvSpPr>
        <p:spPr>
          <a:xfrm>
            <a:off x="250920" y="292428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extBook"/>
              </a:rPr>
              <a:t>На </a:t>
            </a: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Дун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"/>
          <p:cNvSpPr/>
          <p:nvPr/>
        </p:nvSpPr>
        <p:spPr>
          <a:xfrm rot="18435000">
            <a:off x="2123640" y="22644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Franklin Gothic Medium"/>
              </a:rPr>
              <a:t>На Ка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5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Asus Asus</cp:lastModifiedBy>
  <dcterms:modified xsi:type="dcterms:W3CDTF">2017-09-29T18:23:56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