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8C2-2708-4802-96DC-C8484912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0D6-D5BF-4FA3-98BE-DEFC010C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E47-E592-46FE-957C-10BC773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AE2-65F6-4696-936F-18C3CD6B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9DC-E35C-475A-80BB-7141C486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C80-ECDF-4C6F-B9C6-A5819CD3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D80-5408-4E17-869D-35FB64F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29E-114C-4694-9759-AF49B1D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B8F-6D23-437E-BC71-98542AEB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5C8-BE5A-4A67-9DBE-27CC1D1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126-A075-4B94-A0B1-5D9B3F7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7C6-63BA-46C9-A9C5-9F9D400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9234-AF84-416E-8DFE-2A506FE20F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 flipV="1" rot="10800000">
            <a:off x="752400" y="190440"/>
            <a:ext cx="65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1"/>
          <a:stretch/>
        </p:blipFill>
        <p:spPr>
          <a:xfrm>
            <a:off x="792000" y="274680"/>
            <a:ext cx="7785360" cy="198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антиквар"/>
          <p:cNvPicPr/>
          <p:nvPr/>
        </p:nvPicPr>
        <p:blipFill>
          <a:blip r:embed="rId2"/>
          <a:stretch/>
        </p:blipFill>
        <p:spPr>
          <a:xfrm>
            <a:off x="2071800" y="2286000"/>
            <a:ext cx="5151240" cy="3495600"/>
          </a:xfrm>
          <a:prstGeom prst="rect">
            <a:avLst/>
          </a:prstGeom>
          <a:ln cap="sq" w="38160">
            <a:solidFill>
              <a:srgbClr val="66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издательстве рукопись писателя и иллюстрации художника проверят и подготовят к передаче на книжную фабрику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изддддд"/>
          <p:cNvPicPr/>
          <p:nvPr/>
        </p:nvPicPr>
        <p:blipFill>
          <a:blip r:embed="rId1"/>
          <a:srcRect l="0" t="0" r="0" b="10990"/>
          <a:stretch/>
        </p:blipFill>
        <p:spPr>
          <a:xfrm>
            <a:off x="2857680" y="1714680"/>
            <a:ext cx="3643200" cy="423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А это книжная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фабрика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fabric-tour-printing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Чтобы напечатать книгу, нужна бумага. На фабрику она приходит в огромных рулонах</a:t>
            </a: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174661307_20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а специальных станках бумагу разрезают на листы нужного размер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V - Tipografiya0000!"/>
          <p:cNvPicPr/>
          <p:nvPr/>
        </p:nvPicPr>
        <p:blipFill>
          <a:blip r:embed="rId1"/>
          <a:stretch/>
        </p:blipFill>
        <p:spPr>
          <a:xfrm>
            <a:off x="395280" y="1628640"/>
            <a:ext cx="3462480" cy="35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age8"/>
          <p:cNvPicPr/>
          <p:nvPr/>
        </p:nvPicPr>
        <p:blipFill>
          <a:blip r:embed="rId2"/>
          <a:stretch/>
        </p:blipFill>
        <p:spPr>
          <a:xfrm>
            <a:off x="5214960" y="2643120"/>
            <a:ext cx="35402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печатную машину закладывают подготовленную бумагу и специальные краски. Так получается печатный текст и цветные иллюстрации.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11111"/>
          <p:cNvPicPr/>
          <p:nvPr/>
        </p:nvPicPr>
        <p:blipFill>
          <a:blip r:embed="rId1"/>
          <a:stretch/>
        </p:blipFill>
        <p:spPr>
          <a:xfrm>
            <a:off x="755640" y="2171880"/>
            <a:ext cx="375300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04"/>
          <p:cNvPicPr/>
          <p:nvPr/>
        </p:nvPicPr>
        <p:blipFill>
          <a:blip r:embed="rId2"/>
          <a:stretch/>
        </p:blipFill>
        <p:spPr>
          <a:xfrm>
            <a:off x="4859280" y="234936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Чтобы листы не рассыпались и не растерялись, их нужно скрепить друг с другом. Это делают в переплётном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хе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яяя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ччч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огда книжный блок готов, его вставляют в заранее подготовленный     переплёт. Вот и книга готова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mg_read"/>
          <p:cNvPicPr/>
          <p:nvPr/>
        </p:nvPicPr>
        <p:blipFill>
          <a:blip r:embed="rId1"/>
          <a:stretch/>
        </p:blipFill>
        <p:spPr>
          <a:xfrm>
            <a:off x="1979640" y="1700280"/>
            <a:ext cx="50338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Её проверяют, упаковывают и отправляют в книжные магазины. В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нижном магазине продавцы всегда помогут выбрать нужную книгу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bookstore1"/>
          <p:cNvPicPr/>
          <p:nvPr/>
        </p:nvPicPr>
        <p:blipFill>
          <a:blip r:embed="rId1"/>
          <a:stretch/>
        </p:blipFill>
        <p:spPr>
          <a:xfrm>
            <a:off x="755640" y="1643040"/>
            <a:ext cx="7777080" cy="4522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Если нужной книги в магазине не оказалось, её можно поискать в библиотеке.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DSC00085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992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66ff"/>
                </a:solidFill>
                <a:uFillTx/>
                <a:latin typeface="Arial"/>
              </a:rPr>
              <a:t>Все знают, что книги нужно беречь, аккуратно с ними обращаться, но если с книгой случилась беда, мы приходим к ней на помощь. Вот так работает  «Книжкина больница»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6491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DSC00079"/>
          <p:cNvPicPr/>
          <p:nvPr/>
        </p:nvPicPr>
        <p:blipFill>
          <a:blip r:embed="rId1"/>
          <a:stretch/>
        </p:blipFill>
        <p:spPr>
          <a:xfrm>
            <a:off x="1928880" y="1857240"/>
            <a:ext cx="492768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ь любой книги начинается в лесу, потому что для печатания книги нужна бумага. Но от дерева до книжки большой путь. Мы постарались проследить весь путь книги к чита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9" descr="книга"/>
          <p:cNvPicPr/>
          <p:nvPr/>
        </p:nvPicPr>
        <p:blipFill>
          <a:blip r:embed="rId1"/>
          <a:stretch/>
        </p:blipFill>
        <p:spPr>
          <a:xfrm>
            <a:off x="5292720" y="3645000"/>
            <a:ext cx="2585880" cy="280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лес"/>
          <p:cNvPicPr/>
          <p:nvPr/>
        </p:nvPicPr>
        <p:blipFill>
          <a:blip r:embed="rId2"/>
          <a:stretch/>
        </p:blipFill>
        <p:spPr>
          <a:xfrm>
            <a:off x="4788000" y="105264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Когда-то  книги не печатались, а писались и рисовались от руки. В то время книги были большой редкостью и ценились очень дорого. Об этом мы узнаем в 3 классе. Нам очень интересно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антиквар"/>
          <p:cNvPicPr/>
          <p:nvPr/>
        </p:nvPicPr>
        <p:blipFill>
          <a:blip r:embed="rId1"/>
          <a:stretch/>
        </p:blipFill>
        <p:spPr>
          <a:xfrm>
            <a:off x="1547640" y="1571760"/>
            <a:ext cx="6480360" cy="4397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тать книги любят   все. Книги помогают познать окружающий мир, узнать о давно прошедших временах, ответить на мног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0" descr="1136169413516"/>
          <p:cNvPicPr/>
          <p:nvPr/>
        </p:nvPicPr>
        <p:blipFill>
          <a:blip r:embed="rId1"/>
          <a:stretch/>
        </p:blipFill>
        <p:spPr>
          <a:xfrm>
            <a:off x="4648320" y="2479680"/>
            <a:ext cx="40384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Пословицы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нига мала, а ума прид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м без книги, что бе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 учит жить, книгой надо доро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шь книги читать, будешь много з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Книги печатают на бумаге. А из чего делают бумагу? Из дерева. Наша страна богата лесами, но это не значит, что их нужно уничтожать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45720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9" descr="les4_jpg"/>
          <p:cNvPicPr/>
          <p:nvPr/>
        </p:nvPicPr>
        <p:blipFill>
          <a:blip r:embed="rId3"/>
          <a:srcRect l="0" t="0" r="0" b="14940"/>
          <a:stretch/>
        </p:blipFill>
        <p:spPr>
          <a:xfrm>
            <a:off x="428760" y="2428920"/>
            <a:ext cx="3743280" cy="379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2152_1198363921"/>
          <p:cNvPicPr/>
          <p:nvPr/>
        </p:nvPicPr>
        <p:blipFill>
          <a:blip r:embed="rId4"/>
          <a:srcRect l="0" t="0" r="0" b="15187"/>
          <a:stretch/>
        </p:blipFill>
        <p:spPr>
          <a:xfrm>
            <a:off x="4643280" y="2428920"/>
            <a:ext cx="42134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Существуют специальные службы, которые строго следят за вырубкой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еса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421080" y="1773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Image15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65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охрана"/>
          <p:cNvPicPr/>
          <p:nvPr/>
        </p:nvPicPr>
        <p:blipFill>
          <a:blip r:embed="rId2"/>
          <a:stretch/>
        </p:blipFill>
        <p:spPr>
          <a:xfrm>
            <a:off x="324000" y="1773360"/>
            <a:ext cx="3024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школе мы собираем макулатуру. Старые газеты и журналы перерабатывают на специальных заводах и используют для изготовления бумаги. Так мы спасаем много деревьев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6300720" y="1844280"/>
            <a:ext cx="1544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050920" y="1784520"/>
            <a:ext cx="409284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Нелёгок труд писателя. Чтобы написать хорошую, интересную книгу, нужно много знать и уметь передать свои знания другим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nf2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"/>
          <p:cNvPicPr/>
          <p:nvPr/>
        </p:nvPicPr>
        <p:blipFill>
          <a:blip r:embed="rId2"/>
          <a:stretch/>
        </p:blipFill>
        <p:spPr>
          <a:xfrm>
            <a:off x="5214960" y="1428840"/>
            <a:ext cx="2168640" cy="243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михалков"/>
          <p:cNvPicPr/>
          <p:nvPr/>
        </p:nvPicPr>
        <p:blipFill>
          <a:blip r:embed="rId3"/>
          <a:stretch/>
        </p:blipFill>
        <p:spPr>
          <a:xfrm>
            <a:off x="4643280" y="400068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Многие книги выпускаются с яркими иллюстрациями. Их создаёт художник, который должен хорошо знать содержание книги. Иллюстрации помогают нам лучше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представить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образы</a:t>
            </a:r>
            <a:br>
              <a:rPr sz="2000"/>
            </a:b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 героев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121122436922401740_1183902940_221"/>
          <p:cNvPicPr/>
          <p:nvPr/>
        </p:nvPicPr>
        <p:blipFill>
          <a:blip r:embed="rId1"/>
          <a:stretch/>
        </p:blipFill>
        <p:spPr>
          <a:xfrm>
            <a:off x="395280" y="1700280"/>
            <a:ext cx="3816360" cy="4586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age7"/>
          <p:cNvPicPr/>
          <p:nvPr/>
        </p:nvPicPr>
        <p:blipFill>
          <a:blip r:embed="rId2"/>
          <a:stretch/>
        </p:blipFill>
        <p:spPr>
          <a:xfrm>
            <a:off x="4643280" y="1714680"/>
            <a:ext cx="401976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0:18:15Z</dcterms:created>
  <dc:creator>Оксана</dc:creator>
  <dc:description/>
  <dc:language>en-US</dc:language>
  <cp:lastModifiedBy>Пк</cp:lastModifiedBy>
  <dcterms:modified xsi:type="dcterms:W3CDTF">2013-04-14T17:02:22Z</dcterms:modified>
  <cp:revision>18</cp:revision>
  <dc:subject/>
  <dc:title>Слайд 1</dc:title>
</cp:coreProperties>
</file>