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5560-F44D-4A83-B154-C88068A8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5FB-24E4-4504-A964-B3103C2FD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26E8-7DFD-46EF-9FB0-95B7CE98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0A5-264B-40A3-9FC2-9B4AAF98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0C62-6183-468B-8E0B-F637D873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C571-2DC5-4E17-B376-E3DA087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5AD9-5C29-4BFA-9248-B8045CE7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6861-2F51-4A8F-A251-A1C9EBE9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7B4-5C6C-4442-BC0A-7B1D24F6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9F8A-800D-447B-BAF2-939186B5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26CD-F8BB-477D-86B8-D1632E83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278-5660-4804-879C-C6AD6C3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E716-533F-45F4-AF02-87FBA7A664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6000" y="549360"/>
            <a:ext cx="77724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ffff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48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 flipV="1" rot="10800000">
            <a:off x="752400" y="190440"/>
            <a:ext cx="65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Прямоугольник 6" descr=""/>
          <p:cNvPicPr/>
          <p:nvPr/>
        </p:nvPicPr>
        <p:blipFill>
          <a:blip r:embed="rId1"/>
          <a:stretch/>
        </p:blipFill>
        <p:spPr>
          <a:xfrm>
            <a:off x="792000" y="274680"/>
            <a:ext cx="7785360" cy="1987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антиквар"/>
          <p:cNvPicPr/>
          <p:nvPr/>
        </p:nvPicPr>
        <p:blipFill>
          <a:blip r:embed="rId2"/>
          <a:stretch/>
        </p:blipFill>
        <p:spPr>
          <a:xfrm>
            <a:off x="2071800" y="2286000"/>
            <a:ext cx="5151240" cy="3495600"/>
          </a:xfrm>
          <a:prstGeom prst="rect">
            <a:avLst/>
          </a:prstGeom>
          <a:ln cap="sq" w="38160">
            <a:solidFill>
              <a:srgbClr val="66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 spd="med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В издательстве рукопись писателя и иллюстрации художника проверят и подготовят к передаче на книжную фабрику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7" descr="изддддд"/>
          <p:cNvPicPr/>
          <p:nvPr/>
        </p:nvPicPr>
        <p:blipFill>
          <a:blip r:embed="rId1"/>
          <a:srcRect l="0" t="0" r="0" b="10990"/>
          <a:stretch/>
        </p:blipFill>
        <p:spPr>
          <a:xfrm>
            <a:off x="2857680" y="1714680"/>
            <a:ext cx="3643200" cy="423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А это книжная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фабрика!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4" descr="fabric-tour-printing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Чтобы напечатать книгу, нужна бумага. На фабрику она приходит в огромных рулонах</a:t>
            </a:r>
            <a:r>
              <a:rPr b="0" lang="ru-RU" sz="4000" spc="-1" strike="noStrike">
                <a:solidFill>
                  <a:srgbClr val="16161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4" descr="1174661307_20"/>
          <p:cNvPicPr/>
          <p:nvPr/>
        </p:nvPicPr>
        <p:blipFill>
          <a:blip r:embed="rId1"/>
          <a:stretch/>
        </p:blipFill>
        <p:spPr>
          <a:xfrm>
            <a:off x="539640" y="1773360"/>
            <a:ext cx="7993080" cy="424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На специальных станках бумагу разрезают на листы нужного размер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V - Tipografiya0000!"/>
          <p:cNvPicPr/>
          <p:nvPr/>
        </p:nvPicPr>
        <p:blipFill>
          <a:blip r:embed="rId1"/>
          <a:stretch/>
        </p:blipFill>
        <p:spPr>
          <a:xfrm>
            <a:off x="395280" y="1628640"/>
            <a:ext cx="3462480" cy="352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Image8"/>
          <p:cNvPicPr/>
          <p:nvPr/>
        </p:nvPicPr>
        <p:blipFill>
          <a:blip r:embed="rId2"/>
          <a:stretch/>
        </p:blipFill>
        <p:spPr>
          <a:xfrm>
            <a:off x="5214960" y="2643120"/>
            <a:ext cx="3540240" cy="3505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печатную машину закладывают подготовленную бумагу и специальные краски. Так получается печатный текст и цветные иллюстрации.</a:t>
            </a: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6161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11111"/>
          <p:cNvPicPr/>
          <p:nvPr/>
        </p:nvPicPr>
        <p:blipFill>
          <a:blip r:embed="rId1"/>
          <a:stretch/>
        </p:blipFill>
        <p:spPr>
          <a:xfrm>
            <a:off x="755640" y="2171880"/>
            <a:ext cx="375300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04"/>
          <p:cNvPicPr/>
          <p:nvPr/>
        </p:nvPicPr>
        <p:blipFill>
          <a:blip r:embed="rId2"/>
          <a:stretch/>
        </p:blipFill>
        <p:spPr>
          <a:xfrm>
            <a:off x="4859280" y="2349360"/>
            <a:ext cx="3600360" cy="3240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Чтобы листы не рассыпались и не растерялись, их нужно скрепить друг с другом. Это делают в переплётном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цехе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яяя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024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ччч"/>
          <p:cNvPicPr/>
          <p:nvPr/>
        </p:nvPicPr>
        <p:blipFill>
          <a:blip r:embed="rId2"/>
          <a:stretch/>
        </p:blipFill>
        <p:spPr>
          <a:xfrm>
            <a:off x="4932360" y="1773360"/>
            <a:ext cx="3816360" cy="3887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Когда книжный блок готов, его вставляют в заранее подготовленный     переплёт. Вот и книга готова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4" descr="img_read"/>
          <p:cNvPicPr/>
          <p:nvPr/>
        </p:nvPicPr>
        <p:blipFill>
          <a:blip r:embed="rId1"/>
          <a:stretch/>
        </p:blipFill>
        <p:spPr>
          <a:xfrm>
            <a:off x="1979640" y="1700280"/>
            <a:ext cx="5033880" cy="432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Её проверяют, упаковывают и отправляют в книжные магазины. В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Arial"/>
              </a:rPr>
              <a:t>книжном магазине продавцы всегда помогут выбрать нужную книгу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bookstore1"/>
          <p:cNvPicPr/>
          <p:nvPr/>
        </p:nvPicPr>
        <p:blipFill>
          <a:blip r:embed="rId1"/>
          <a:stretch/>
        </p:blipFill>
        <p:spPr>
          <a:xfrm>
            <a:off x="755640" y="1643040"/>
            <a:ext cx="7777080" cy="4522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Если нужной книги в магазине не оказалось, её можно поискать в библиотеке. 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8" descr="DSC00085"/>
          <p:cNvPicPr/>
          <p:nvPr/>
        </p:nvPicPr>
        <p:blipFill>
          <a:blip r:embed="rId1"/>
          <a:stretch/>
        </p:blipFill>
        <p:spPr>
          <a:xfrm>
            <a:off x="1571760" y="1428840"/>
            <a:ext cx="6143400" cy="49924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66ff"/>
                </a:solidFill>
                <a:uFillTx/>
                <a:latin typeface="Arial"/>
              </a:rPr>
              <a:t>Все знают, что книги нужно беречь, аккуратно с ними обращаться, но если с книгой случилась беда, мы приходим к ней на помощь. Вот так работает  «Книжкина больница»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95280" y="2205000"/>
            <a:ext cx="6491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DSC00079"/>
          <p:cNvPicPr/>
          <p:nvPr/>
        </p:nvPicPr>
        <p:blipFill>
          <a:blip r:embed="rId1"/>
          <a:stretch/>
        </p:blipFill>
        <p:spPr>
          <a:xfrm>
            <a:off x="1928880" y="1857240"/>
            <a:ext cx="492768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знь любой книги начинается в лесу, потому что для печатания книги нужна бумага. Но от дерева до книжки большой путь. Мы постарались проследить весь путь книги к чита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9" descr="книга"/>
          <p:cNvPicPr/>
          <p:nvPr/>
        </p:nvPicPr>
        <p:blipFill>
          <a:blip r:embed="rId1"/>
          <a:stretch/>
        </p:blipFill>
        <p:spPr>
          <a:xfrm>
            <a:off x="5292720" y="3645000"/>
            <a:ext cx="2585880" cy="2808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лес"/>
          <p:cNvPicPr/>
          <p:nvPr/>
        </p:nvPicPr>
        <p:blipFill>
          <a:blip r:embed="rId2"/>
          <a:stretch/>
        </p:blipFill>
        <p:spPr>
          <a:xfrm>
            <a:off x="4788000" y="105264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1616"/>
                </a:solidFill>
                <a:latin typeface="Arial"/>
              </a:rPr>
              <a:t>Когда-то  книги не печатались, а писались и рисовались от руки. В то время книги были большой редкостью и ценились очень дорого. Об этом мы узнаем в 3 классе. Нам очень интересно!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антиквар"/>
          <p:cNvPicPr/>
          <p:nvPr/>
        </p:nvPicPr>
        <p:blipFill>
          <a:blip r:embed="rId1"/>
          <a:stretch/>
        </p:blipFill>
        <p:spPr>
          <a:xfrm>
            <a:off x="1547640" y="1571760"/>
            <a:ext cx="6480360" cy="4397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итать книги любят   все. Книги помогают познать окружающий мир, узнать о давно прошедших временах, ответить на многие вопро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0" descr="1136169413516"/>
          <p:cNvPicPr/>
          <p:nvPr/>
        </p:nvPicPr>
        <p:blipFill>
          <a:blip r:embed="rId1"/>
          <a:stretch/>
        </p:blipFill>
        <p:spPr>
          <a:xfrm>
            <a:off x="4648320" y="2479680"/>
            <a:ext cx="403848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Пословицы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Книга мала, а ума придал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Дом без книги, что без око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нига учит жить, книгой надо дорожи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удешь книги читать, будешь много зна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ce2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Книги печатают на бумаге. А из чего делают бумагу? Из дерева. Наша страна богата лесами, но это не значит, что их нужно уничтожать.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45720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9" descr="les4_jpg"/>
          <p:cNvPicPr/>
          <p:nvPr/>
        </p:nvPicPr>
        <p:blipFill>
          <a:blip r:embed="rId3"/>
          <a:srcRect l="0" t="0" r="0" b="14940"/>
          <a:stretch/>
        </p:blipFill>
        <p:spPr>
          <a:xfrm>
            <a:off x="428760" y="2428920"/>
            <a:ext cx="3743280" cy="379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2152_1198363921"/>
          <p:cNvPicPr/>
          <p:nvPr/>
        </p:nvPicPr>
        <p:blipFill>
          <a:blip r:embed="rId4"/>
          <a:srcRect l="0" t="0" r="0" b="15187"/>
          <a:stretch/>
        </p:blipFill>
        <p:spPr>
          <a:xfrm>
            <a:off x="4643280" y="2428920"/>
            <a:ext cx="421344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477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Arial"/>
              </a:rPr>
              <a:t>Существуют специальные службы, которые строго следят за вырубкой</a:t>
            </a:r>
            <a:r>
              <a:rPr b="0" lang="ru-RU" sz="32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леса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421080" y="1773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5" descr="Image15"/>
          <p:cNvPicPr/>
          <p:nvPr/>
        </p:nvPicPr>
        <p:blipFill>
          <a:blip r:embed="rId1"/>
          <a:stretch/>
        </p:blipFill>
        <p:spPr>
          <a:xfrm>
            <a:off x="3492360" y="1773360"/>
            <a:ext cx="5651640" cy="4653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охрана"/>
          <p:cNvPicPr/>
          <p:nvPr/>
        </p:nvPicPr>
        <p:blipFill>
          <a:blip r:embed="rId2"/>
          <a:stretch/>
        </p:blipFill>
        <p:spPr>
          <a:xfrm>
            <a:off x="324000" y="1773360"/>
            <a:ext cx="3024000" cy="4103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61616"/>
                </a:solidFill>
                <a:latin typeface="Arial"/>
              </a:rPr>
              <a:t>В школе мы собираем макулатуру. Старые газеты и журналы перерабатывают на специальных заводах и используют для изготовления бумаги. Так мы спасаем много деревьев!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6300720" y="1844280"/>
            <a:ext cx="154447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image2"/>
          <p:cNvPicPr/>
          <p:nvPr/>
        </p:nvPicPr>
        <p:blipFill>
          <a:blip r:embed="rId1"/>
          <a:stretch/>
        </p:blipFill>
        <p:spPr>
          <a:xfrm>
            <a:off x="2050920" y="1784520"/>
            <a:ext cx="4092840" cy="4727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Нелёгок труд писателя. Чтобы написать хорошую, интересную книгу, нужно много знать и уметь передать свои знания другим.</a:t>
            </a:r>
            <a:endParaRPr b="0" lang="en-US" sz="2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nf2"/>
          <p:cNvPicPr/>
          <p:nvPr/>
        </p:nvPicPr>
        <p:blipFill>
          <a:blip r:embed="rId1"/>
          <a:stretch/>
        </p:blipFill>
        <p:spPr>
          <a:xfrm>
            <a:off x="395280" y="1557360"/>
            <a:ext cx="3809880" cy="5079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i"/>
          <p:cNvPicPr/>
          <p:nvPr/>
        </p:nvPicPr>
        <p:blipFill>
          <a:blip r:embed="rId2"/>
          <a:stretch/>
        </p:blipFill>
        <p:spPr>
          <a:xfrm>
            <a:off x="5214960" y="1428840"/>
            <a:ext cx="2168640" cy="2435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михалков"/>
          <p:cNvPicPr/>
          <p:nvPr/>
        </p:nvPicPr>
        <p:blipFill>
          <a:blip r:embed="rId3"/>
          <a:stretch/>
        </p:blipFill>
        <p:spPr>
          <a:xfrm>
            <a:off x="4643280" y="4000680"/>
            <a:ext cx="3959280" cy="2592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Многие книги выпускаются с яркими иллюстрациями. Их создаёт художник, который должен хорошо знать содержание книги. Иллюстрации помогают нам лучше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представить</a:t>
            </a: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 образы</a:t>
            </a:r>
            <a:br>
              <a:rPr sz="2000"/>
            </a:b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 героев.</a:t>
            </a: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4" descr="121122436922401740_1183902940_221"/>
          <p:cNvPicPr/>
          <p:nvPr/>
        </p:nvPicPr>
        <p:blipFill>
          <a:blip r:embed="rId1"/>
          <a:stretch/>
        </p:blipFill>
        <p:spPr>
          <a:xfrm>
            <a:off x="395280" y="1700280"/>
            <a:ext cx="3816360" cy="4586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Image7"/>
          <p:cNvPicPr/>
          <p:nvPr/>
        </p:nvPicPr>
        <p:blipFill>
          <a:blip r:embed="rId2"/>
          <a:stretch/>
        </p:blipFill>
        <p:spPr>
          <a:xfrm>
            <a:off x="4643280" y="1714680"/>
            <a:ext cx="4019760" cy="4679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10:18:15Z</dcterms:created>
  <dc:creator>Оксана</dc:creator>
  <dc:description/>
  <dc:language>en-US</dc:language>
  <cp:lastModifiedBy>Пк</cp:lastModifiedBy>
  <dcterms:modified xsi:type="dcterms:W3CDTF">2013-04-14T17:02:22Z</dcterms:modified>
  <cp:revision>18</cp:revision>
  <dc:subject/>
  <dc:title>Слайд 1</dc:title>
</cp:coreProperties>
</file>