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C82-74CC-4199-A174-22377AEE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99C-6E8B-4FA3-9EA3-E87373C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A3C-1AA4-4A7C-8065-8EB0CA2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4B7-7009-4258-B753-342AEE84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B5C8-E1B8-4A02-9094-CF82877E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FF27-E017-4CE3-BFEA-3E6A231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B1B-E469-4FAF-A3B2-B473081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B6BD-D3AF-4F60-84C3-4B73A3B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953-1FD3-4BAF-AD27-C7093171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F47-F4F5-432A-91BB-37BD0778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83B-6BB9-45D2-9BD9-2BCCBC5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293-B851-4CEB-BA09-88F1C25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F04-EDD6-418B-88F8-B066459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5DFE-1862-4CF6-93E9-80CE22C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FAF6-CC9B-48FC-8A6A-90B21F0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FC5-789B-430D-9357-9458E08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118-56F6-451A-8662-C0C15338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9B6-BE64-4877-99AB-83284A9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BF4-4E1D-403A-9C5E-6B89601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A55-DBD2-44E4-B516-44E6D50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779-A97D-4F0F-9236-C254140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2CD-FC30-4F8B-84BB-E9B5BC2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745-EC82-4613-B7B1-72ED568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EE6-DC5E-4A81-9990-EB53AAF3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8452-FEDD-4763-9DD5-3C96D5B160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D8A2-7205-41B9-9DE1-0267EEAE48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дготовила Гараева Милана 3 г класс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кл. руководитель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Зарицкая Е.В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г. Ноябрьск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МБОУ СОШ № 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47640" y="1341360"/>
            <a:ext cx="6120000" cy="9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деньг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еньги – это особый товар, который можно обменять на любые товары и у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71640" y="2852640"/>
            <a:ext cx="7345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что такое деньг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купюры разных стра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кто такие нумизмат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что такое бартер и купля- продаж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такое деньги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ждую секунду на Земле производится много товаров. Что же с ними случается дальше? Каждый товар должен попасть к тому кто в нём нуждается. Есть два способа обмен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 них узнаем позж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ртер и купля-продажа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артер- это прямой обмен одних товаров на друг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упля-продажа-это обмен, в котором участвуют деньги. Купить или продать товар- это значит обменять его на какое- то количество денег. На какое именно, указывает цена това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о деньгах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Люди придумали деньги еще в древности. Пользоваться ими оказалось так удобно, что их назвали лучшим изобретением человечества. Правда, сначала деньги были не похожи на наши которыми мы пользуемся. Ими были ракушки, листики, орехи и шкурки животны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а смену им пришли металлические деньги (монеты) и бумажные( банкноты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43600" y="1979640"/>
            <a:ext cx="36194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разных странах разные деньг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России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рубл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2288880" cy="212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98880" y="2049480"/>
            <a:ext cx="3589560" cy="175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США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долла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105440" cy="19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89680" y="4016520"/>
            <a:ext cx="35906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Европе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евр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4038480" cy="201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48160" y="1982880"/>
            <a:ext cx="313560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то такие нумизматы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юди, которые коллекционируют и изучают монеты, называются  нумизма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от латинского слова«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нумисм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»- монета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ринные и современные монеты смогут очень много рассказать о прошл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92560" y="2506680"/>
            <a:ext cx="3591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4:18:50Z</dcterms:created>
  <dc:creator>Пользователь</dc:creator>
  <dc:description/>
  <dc:language>en-US</dc:language>
  <cp:lastModifiedBy>Пользователь</cp:lastModifiedBy>
  <dcterms:modified xsi:type="dcterms:W3CDTF">2016-03-15T16:12:17Z</dcterms:modified>
  <cp:revision>2</cp:revision>
  <dc:subject/>
  <dc:title>Слайд 1</dc:title>
</cp:coreProperties>
</file>