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6038-E428-46A6-87F1-E676B50CB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0427-F30C-4B53-A369-01F1EED2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7A78-12AE-4F6C-A045-09796DA3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293F-799E-455F-91B1-7EED13D4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B9D2-9B8E-4F49-9DA4-87A6CCAD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0069-1EDC-4088-9F19-0C63AC84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03A0-2C94-4478-BEDD-5A1418E5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9CFD-3AC4-422F-A4C4-1DAD99EEF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4A4B1-3D7D-4508-8AB5-A6FC3900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5F8C-E978-499F-93B4-D6086B08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18E1-8BEA-4B44-9CD2-619A078C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02F-D4DA-450D-8C36-C40434EF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0CB1-CF12-4BF3-9D11-A5189B98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394A-0A75-43AE-89D1-CA91A01E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5A55-65A4-493A-9177-026C1340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ECC5-9C6D-47C8-96B5-F7287940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465B-EF95-49A3-B35F-44AE6454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28D-7C33-4299-9179-3691DA2D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BC63-EA0E-48B8-8A58-E0B610C3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76C-D425-41E0-AD43-AFAD0D45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09A-271E-47B1-AA3B-D1DA71DE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480-B8C9-4BB1-B03B-44E618E5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FE5-E38A-4197-B6F7-82629A54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38E6-59FF-4492-A5E1-F51D03AE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2B5F-0498-406D-AC25-45B034B010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7493-1277-4335-B384-8573D3E402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дготовила Гараева Милана 3 г класс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кл. руководитель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Зарицкая Е.В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г. Ноябрьск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МБОУ СОШ № 13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47640" y="1341360"/>
            <a:ext cx="6120000" cy="955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 такое деньги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вод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Деньги – это особый товар, который можно обменять на любые товары и услуг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71640" y="2852640"/>
            <a:ext cx="7345440" cy="100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Цель: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знать что такое деньги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знать купюры разных стран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знать кто такие нумизматы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2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Узнать что такое бартер и купля- продаж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такое деньги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аждую секунду на Земле производится много товаров. Что же с ними случается дальше? Каждый товар должен попасть к тому кто в нём нуждается. Есть два способа обмена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 них узнаем позж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9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Бартер и купля-продажа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Бартер- это прямой обмен одних товаров на другие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Купля-продажа-это обмен, в котором участвуют деньги. Купить или продать товар- это значит обменять его на какое- то количество денег. На какое именно, указывает цена товар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стория о деньгах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Люди придумали деньги еще в древности. Пользоваться ими оказалось так удобно, что их назвали лучшим изобретением человечества. Правда, сначала деньги были не похожи на наши которыми мы пользуемся. Ими были ракушки, листики, орехи и шкурки животны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На смену им пришли металлические деньги (монеты) и бумажные( банкноты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043600" y="1979640"/>
            <a:ext cx="361944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нежные зна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разных странах разные деньг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России -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рубл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651640" y="4292640"/>
            <a:ext cx="2288880" cy="2120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98880" y="2049480"/>
            <a:ext cx="3589560" cy="175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нежные знаки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США –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доллар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3280" y="1773360"/>
            <a:ext cx="4105440" cy="1942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89680" y="4016520"/>
            <a:ext cx="359064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3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98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Денежные знак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В Европе -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евр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859280" y="4221000"/>
            <a:ext cx="4038480" cy="2019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48160" y="1982880"/>
            <a:ext cx="3135600" cy="209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Кто такие нумизматы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9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Люди, которые коллекционируют и изучают монеты, называются  нумизмат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от латинского слова«</a:t>
            </a: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нумисма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»- монета)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таринные и современные монеты смогут очень много рассказать о прошлом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092560" y="2506680"/>
            <a:ext cx="359100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4:18:50Z</dcterms:created>
  <dc:creator>Пользователь</dc:creator>
  <dc:description/>
  <dc:language>en-US</dc:language>
  <cp:lastModifiedBy>Пользователь</cp:lastModifiedBy>
  <dcterms:modified xsi:type="dcterms:W3CDTF">2016-03-15T16:12:17Z</dcterms:modified>
  <cp:revision>2</cp:revision>
  <dc:subject/>
  <dc:title>Слайд 1</dc:title>
</cp:coreProperties>
</file>