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383-4D7A-4853-88F3-6FBC4FE2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8F2-17C4-46A7-9BCC-DF578DF8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1F1-0EB2-4195-995C-787BCC7D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9B1-EA55-4EF8-84A9-FEB44D14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E93-D16F-4611-8789-61FE1908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4BD-07B6-4723-B374-3E8992CB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164-ADBA-4724-A9C6-4CE07DB2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7B6-09BB-4409-858C-C4285DB5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85B-E8A0-49D9-A111-10F039D2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C5A-D981-41D8-A3FC-D95E3F3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58E-5D12-4901-A86D-C8BA384A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A81-1711-4F72-931B-C3C62BEB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6FB9-1FE5-43F5-ACCA-EF3D31783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05320" y="4038120"/>
            <a:ext cx="44193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БОУ «Мамыковская СОШ»  РТ Нурлат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лимуллина С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4" descr=""/>
          <p:cNvPicPr/>
          <p:nvPr/>
        </p:nvPicPr>
        <p:blipFill>
          <a:blip r:embed="rId2"/>
          <a:stretch/>
        </p:blipFill>
        <p:spPr>
          <a:xfrm>
            <a:off x="987480" y="1292400"/>
            <a:ext cx="70167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ланк для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user\Desktop\Blank-Dembo-Rubinstein_copy_001.jpg"/>
          <p:cNvPicPr/>
          <p:nvPr/>
        </p:nvPicPr>
        <p:blipFill>
          <a:blip r:embed="rId1"/>
          <a:stretch/>
        </p:blipFill>
        <p:spPr>
          <a:xfrm>
            <a:off x="2286000" y="1219320"/>
            <a:ext cx="5029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ути формирования самооценки младших 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ающее влияние на формирование самооценки оказывают два факто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отношение окружающих (в младшем школьном возрасте, в частности, семьи и педагог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осознание самим ребёнком особенностей своей деятельности, её ход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Советы педагог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ля формирования адекватной самооценки младшего школьника рекоменд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едагогу идти путём развития возможностей детей, создания для них ситуации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педагогам, и родителям рекомендуется не скупиться на похвалу, проявление эмоциональной поддержки по отношению к де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абота по формированию самооценки должна осуществляться в разные режимные моменты и в разных видах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едагогу рекомендуется задействовать различные источники и механ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едагогу учитывать принцип меры и принцип сис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бучать ребёнка способам снятия мышечного и эмоционального напря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оводить с детьми релаксацион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оставлять детям возможность делать то, чем они могут горди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оставлять детям возможность оценить себя положительно (в игре, в исследовании, в бесед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оставлять детям возможность делать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овые подходы к оцениванию учебных  достижений в образовательной системе  УМК«Перспекти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предметной сфере это овладение знаниями о способах деятельности и умениями осуществлять деятельность по известным алгоритмам, осуществлять самоконтроль и  самооценку  сво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сфере учебной деятельности -способность к самостоятельному овладению новыми видам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сфере эмоциональноценностных отношений - способность к осуществлению коммуникации учитель - ученик, ученик - уче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ровни успешности в системе самоконтроля и оценив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аксимальный (сверх требований к школьнику), программный, необходим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горитм самооц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1. Понимаю задание и определяю цель его выполнения. Алгоритм понимания за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читаю зад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представляю результа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определяю форму выражения результ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составляю план дейст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2. Определяю уровень выполняемого задания в диалоге с учителем: необходимый - соответствие требованиям государственного стандарта, программный - требования программы , максимальный - сверх школьных требо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3. Разрабатываю в диалоге с учителем критерии правильности выполнения задания, которые можно оформить в виде оценочной шкалы или таблицы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4. Выполняю задание и получаю результ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5. Сравниваю полученный результат с нормой после выполнения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6. Провожу  самооценку  полученного результата и выражаю ее в форме символов или оценочной шка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7. Сравниваю конечный результат с цел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8. Определяю уровень своей успешности и выражаю его в баллах  успеш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особы выражения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нешнее выражение уровня самоконтроля и  самооценки  может быть представлено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    - Я это умею и могу двигаться дальше. Я понял материал урока и справился со всеми   зад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Этот способ деятельности мной еще не освоен, и я пока не могу двигаться дальше. Мне не все понятно, в моей работе есть ошибки, мне нуж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31f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231f20"/>
                </a:solidFill>
                <a:latin typeface="Monotype Corsiva"/>
                <a:ea typeface="Times New Roman"/>
              </a:rPr>
              <a:t>Не могу самостоятельно двигаться дальше. Я не понял материал, не смог выполнить задание, мне срочно требуется помощ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762120" y="2209680"/>
            <a:ext cx="380880" cy="3812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762120" y="3048120"/>
            <a:ext cx="380880" cy="380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6"/>
          <p:cNvSpPr/>
          <p:nvPr/>
        </p:nvSpPr>
        <p:spPr>
          <a:xfrm>
            <a:off x="1066680" y="3429000"/>
            <a:ext cx="1800" cy="14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621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акая работа ведется с 1-го класса. Использование условных сигналов  способствует созданию психологического комфорта, повышению удовлетворенности ученика от деятельности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о 2-го класса в обучении используется алгоритм, направленный на развитие умений са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09680" y="1371240"/>
            <a:ext cx="6019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пасибо за 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уровня качественной успеваемости учащихся, направленное на становление сознания и личности ученика в цел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здание условий для успешного учения (ситуации успеха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ктивизация познавательной деятельности и интереса к предмета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умения ставить цель и находить пути, средства к её достижению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умения контроля и самоконтроля, оценки и самооценк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иобщать к поисковой и творческой деятель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здание атмосферы эмоционального комфорта на уро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тема очень актуальна, так как задача учителя, прежде всего, состоит в повышении мотивации обучения и его результативности, а адекватная самооценка ученика помогает решить эту задачу достаточно эффективно. Трудность лишь в том, чтобы добиться адекватной самооценки у каждого учащегося. Для этой цели уже в 1-м классе необходимо начать формировать такую самооцен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олагаемый результат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еспечение освоения стандарта всеми учащимися в наиболее комфортных для каждого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ксимальное приближение каждого учащегося к запланированному им результату в случае, если результат выходит за рамки стандарта по уровню освоения содерж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оценочной самостоятельности учащих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адекватной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600200" y="551520"/>
            <a:ext cx="6705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амооценка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— это необходимый компонент развития самосознания, т.е. осознание человеком самого себя, своих физических сил, умственных способностей, поступков, мотивов и целей своего поведения, своего отношения к окружающим и самому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лавный смысл самооценки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ключается в самоконтроле обучающегося, его саморегуляции, самостоятельной экспертизе собственной деятельности и в самостимуляции. Переход школьника к самооценке своих учебных действий непрост и нескор, особенно если у него накоплен опыт проживания в другом режиме, где все оценочные функции находились в руках взрослых людей: родителей, воспитателей, уч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ри уровня самооцен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1-й уровень наиболее высокий;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н характеризуется реалистичной самооценкой ребенка: преимущественная ориентация при обосновании самооценки на знание своих особенностей; наличие способности к обобщению ситуаций, в которых реализуются оцениваемые качества; глубокое и разностороннее содержание самооценочных суждений и употребление их преимущественно в проблемных формах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2-й уровень – средний;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ему свойственны непоследовательные проявления реалистичных самооценок; ориентация ребенка при обосновании самооценки, в основном, на мнения окружающих, на анализ конкретных фактов и ситуаций самооценивания, наличие самооценочных суждений самого узкого содержания и их реализация, как в проблематичных, так и в категоричных форма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3-й уровень – низкий;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этот уровень отличают преимущественная неадекватность самооценки ребенка; обоснование ее эмоциональными предпочтениями (захотелось), отсутствие подтверждения самооценки анализом реальных фактов, неглубокое содержание самооценочных суждений и употребление их преимущественно в категоричных фор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1828800" y="7621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 мнению психологов, самооценка развивается на протяжении всей жизн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1523880" y="1198800"/>
            <a:ext cx="6705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аиболее благоприятным периодом развития самооценки является младший школьный возраст, так как именно в этот период начинается организованное обучение, и от того, как учитель организует это обучение, зависит, будет ли развитие самооценки активным, так как в этом возрасте самооценка ребенка продолжает формироваться, корректироваться и отшлифовываться под влиянием оценки учителя (словесной — похвала, порицание; и знаковой — отмет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1676520" y="411480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т самооценки человека зависит характер его общения, отношения с другими людьми, успешность его деятельности, дальнейшее развитие его личности. Адекватная самооценка дает человеку нравственное удовлетвор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2480" y="17521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ля выявления уровня развития самооценки у учащихся можно предложить методику - диагностику самооценки Дембо-Рубинштейн в модификации А.М. Прихож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1T16:38:41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