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143-2EE2-41E1-94BE-E0D48F7E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052F-967D-4634-B322-F07F6B91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6F2-7D4A-4BF9-BD4C-BC90B0AD9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9F7-D9CF-466F-AFFD-99F3201E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3A37-885B-45BE-B014-9779463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F97F-8A69-4114-8DA6-C58B31C0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1CF-B26F-46C3-A776-816D776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225-62D5-480D-9C12-A52AF105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73D-8A05-49D5-B4D6-1A83437C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B0E-2835-4522-999E-F4599DDB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2A0-F388-4328-B6C1-02D4EDC8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BACC-21CE-4EB7-A66E-FB87C3F8C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2AB5-E2F6-4689-8C29-EF1099E1CD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505320" y="4038120"/>
            <a:ext cx="44193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МБОУ «Мамыковская СОШ»  РТ Нурлат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Калимуллина С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2"/>
          <a:stretch/>
        </p:blipFill>
        <p:spPr>
          <a:xfrm>
            <a:off x="987480" y="1292400"/>
            <a:ext cx="70167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Бланк для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C:\Users\user\Desktop\Blank-Dembo-Rubinstein_copy_001.jpg"/>
          <p:cNvPicPr/>
          <p:nvPr/>
        </p:nvPicPr>
        <p:blipFill>
          <a:blip r:embed="rId1"/>
          <a:stretch/>
        </p:blipFill>
        <p:spPr>
          <a:xfrm>
            <a:off x="2286000" y="1219320"/>
            <a:ext cx="502920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Пути формирования самооценки младших школь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ешающее влияние на формирование самооценки оказывают два факто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тношение окружающих (в младшем школьном возрасте, в частности, семьи и педагог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- осознание самим ребёнком особенностей своей деятельности, её хода и результа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Советы педагогу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ля формирования адекватной самооценки младшего школьника рекоменд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идти путём развития возможностей детей, создания для них ситуации успех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 педагогам, и родителям рекомендуется не скупиться на похвалу, проявление эмоциональной поддержки по отношению к детя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работа по формированию самооценки должна осуществляться в разные режимные моменты и в разных вид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рекомендуется задействовать различные источники и механ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едагогу учитывать принцип меры и принцип систе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учать ребёнка способам снятия мышечного и эмоционального напря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водить с детьми релаксацион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то, чем они могут гордить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оценить себя положительно (в игре, в исследовании, в бесед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оставлять детям возможность делать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овые подходы к оцениванию учебных  достижений в образовательной системе  УМК«Перспектив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предметной сфере это овладение знаниями о способах деятельности и умениями осуществлять деятельность по известным алгоритмам, осуществлять самоконтроль и  самооценку  своих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учебной деятельности -способность к самостоятельному овладению новыми видами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В сфере эмоциональноценностных отношений - способность к осуществлению коммуникации учитель - ученик, ученик - уче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ровни успешности в системе самоконтроля и оцениван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аксимальный (сверх требований к школьнику), программный, необходим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Алгоритм самооце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1. Понимаю задание и определяю цель его выполнения. Алгоритм понимания зад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читаю зада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представляю результа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определяю форму выражения результа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- составляю план дейст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2. Определяю уровень выполняемого задания в диалоге с учителем: необходимый - соответствие требованиям государственного стандарта, программный - требования программы , максимальный - сверх школьных требо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3. Разрабатываю в диалоге с учителем критерии правильности выполнения задания, которые можно оформить в виде оценочной шкалы или таблицы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4. Выполняю задание и получаю результ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5. Сравниваю полученный результат с нормой после выполнения зад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6. Провожу  самооценку  полученного результата и выражаю ее в форме символов или оценочной шка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7. Сравниваю конечный результат с цель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8. Определяю уровень своей успешности и выражаю его в баллах  успеш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особы выражения само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нешнее выражение уровня самоконтроля и  самооценки  может быть представлено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     - Я это умею и могу двигаться дальше. Я понял материал урока и справился со всеми   зад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- Этот способ деятельности мной еще не освоен, и я пока не могу двигаться дальше. Мне не все понятно, в моей работе есть ошибки, мне нужна помощ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31f2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18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231f20"/>
                </a:solidFill>
                <a:latin typeface="Monotype Corsiva"/>
                <a:ea typeface="Times New Roman"/>
              </a:rPr>
              <a:t>Не могу самостоятельно двигаться дальше. Я не понял материал, не смог выполнить задание, мне срочно требуется помощ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762120" y="2209680"/>
            <a:ext cx="380880" cy="381240"/>
          </a:xfrm>
          <a:prstGeom prst="rect">
            <a:avLst/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762120" y="3048120"/>
            <a:ext cx="380880" cy="3808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6"/>
          <p:cNvSpPr/>
          <p:nvPr/>
        </p:nvSpPr>
        <p:spPr>
          <a:xfrm>
            <a:off x="1066680" y="3429000"/>
            <a:ext cx="1800" cy="144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762120" y="4191120"/>
            <a:ext cx="38088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кая работа ведется с 1-го класса. Использование условных сигналов  способствует созданию психологического комфорта, повышению удовлетворенности ученика от деятельности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о 2-го класса в обучении используется алгоритм, направленный на развитие умений само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209680" y="1371240"/>
            <a:ext cx="601992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пасибо за  внимание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качественной успеваемости учащихся, направленное на становление сознания и личности ученика в целом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условий для успешного учения (ситуации успеха)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ктивизация познавательной деятельности и интереса к предметам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мения ставить цель и находить пути, средства к её достижению;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умения контроля и самоконтроля, оценки и самооценк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общать к поисковой и творческой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оздание атмосферы эмоционального комфорта на уро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тема очень актуальна, так как задача учителя, прежде всего, состоит в повышении мотивации обучения и его результативности, а адекватная самооценка ученика помогает решить эту задачу достаточно эффективно. Трудность лишь в том, чтобы добиться адекватной самооценки у каждого учащегося. Для этой цели уже в 1-м классе необходимо начать формировать такую самооцен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олагаемый результа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обеспечение освоения стандарта всеми учащимися в наиболее комфортных для каждого услов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аксимальное приближение каждого учащегося к запланированному им результату в случае, если результат выходит за рамки стандарта по уровню освоения содерж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оценочной самостоятельности учащих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формирование адекватной самооце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600200" y="551520"/>
            <a:ext cx="6705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Самооценка </a:t>
            </a:r>
            <a:r>
              <a:rPr b="0" i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— это необходимый компонент развития самосознания, т.е. осознание человеком самого себя, своих физических сил, умственных способностей, поступков, мотивов и целей своего поведения, своего отношения к окружающим и самому себ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Главный смысл самооценки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заключается в самоконтроле обучающегося, его саморегуляции, самостоятельной экспертизе собственной деятельности и в самостимуляции. Переход школьника к самооценке своих учебных действий непрост и нескор, особенно если у него накоплен опыт проживания в другом режиме, где все оценочные функции находились в руках взрослых людей: родителей, воспитателей, учите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Три уровня самооцен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i="1" lang="ru-RU" sz="1800" spc="-1" strike="noStrike">
                <a:solidFill>
                  <a:srgbClr val="000000"/>
                </a:solidFill>
                <a:latin typeface="Monotype Corsiva"/>
              </a:rPr>
              <a:t>1-й уровень наиболее высо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н характеризуется реалистичной самооценкой ребенка: преимущественная ориентация при обосновании самооценки на знание своих особенностей; наличие способности к обобщению ситуаций, в которых реализуются оцениваемые качества; глубокое и разностороннее содержание самооценочных суждений и употребление их преимущественно в проблемных формах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2-й уровень – средн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ему свойственны непоследовательные проявления реалистичных самооценок; ориентация ребенка при обосновании самооценки, в основном, на мнения окружающих, на анализ конкретных фактов и ситуаций самооценивания, наличие самооценочных суждений самого узкого содержания и их реализация, как в проблематичных, так и в категоричных форм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3-й уровень – низкий;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этот уровень отличают преимущественная неадекватность самооценки ребенка; обоснование ее эмоциональными предпочтениями (захотелось), отсутствие подтверждения самооценки анализом реальных фактов, неглубокое содержание самооценочных суждений и употребление их преимущественно в категоричных фор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1828800" y="7621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о мнению психологов, самооценка развивается на протяжении всей жизни челове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1523880" y="1198800"/>
            <a:ext cx="6705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Наиболее благоприятным периодом развития самооценки является младший школьный возраст, так как именно в этот период начинается организованное обучение, и от того, как учитель организует это обучение, зависит, будет ли развитие самооценки активным, так как в этом возрасте самооценка ребенка продолжает формироваться, корректироваться и отшлифовываться под влиянием оценки учителя (словесной — похвала, порицание; и знаковой — отметк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676520" y="4114800"/>
            <a:ext cx="6324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т самооценки человека зависит характер его общения, отношения с другими людьми, успешность его деятельности, дальнейшее развитие его личности. Адекватная самооценка дает человеку нравственное удовлетвор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Диагнос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2480" y="1752120"/>
            <a:ext cx="64008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Для выявления уровня развития самооценки у учащихся можно предложить методику - диагностику самооценки Дембо-Рубинштейн в модификации А.М. Прихож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1T16:38:41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