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C5E-305E-4B70-9BCF-1E36D426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422B-97F6-4A91-9618-BE8F6474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2DF-4CFC-44BB-950B-2BF33BFF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129-0029-42F6-ADB9-E6B3894EC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461F-6EFF-4095-9334-F18DC715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309E-9A81-4E1E-AB33-312805AB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DAF1-B1B0-43A2-95C0-1F7ED98D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D576-3FD5-4775-8B92-9075CCAE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8911-6AE4-4C0D-B319-6EF56AB8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573A-F68C-4F48-8705-A077ADC5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872B-4DB2-41DE-9F27-1B52CF01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77A-DED6-4DC7-8956-E0579E24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1148-FBC5-4FF6-9920-378C09A6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1FC2-1D8F-4C3B-876B-8A1B7678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7EE1-F504-4495-A520-8E9BBB5B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B2F02-5E63-40FE-9E8B-D966E60B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72F-13F9-4DB8-BF82-7B75CE47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09E5-81F2-4584-962A-04E20783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FF76-0159-4C73-8A38-365F5C98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B76B-2989-4BD9-8B9F-6EC32A0E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21F-0F80-4BFB-9E74-31AF398B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01A-0FE1-441A-B3B4-7129C058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DB3-E239-4C1B-970F-8DAF933D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129-30C2-4BA1-A14E-313EE477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1372-E51E-4A1A-B42F-0AF687F673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7DFE-E5D5-4338-B326-208D29FEDEE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Arial Black"/>
              </a:rPr>
              <a:t>Рациональные </a:t>
            </a:r>
            <a:br>
              <a:rPr sz="4800"/>
            </a:br>
            <a:r>
              <a:rPr b="1" lang="ru-RU" sz="4800" spc="-1" strike="noStrike">
                <a:solidFill>
                  <a:srgbClr val="99ff66"/>
                </a:solidFill>
                <a:latin typeface="Arial Black"/>
              </a:rPr>
              <a:t>неравенства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: Посохина Галина Люциевн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математики Высшей катего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БОУ «СОШ с. Тоора-Хем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2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е неравенство: – 2х+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(– 3,5; 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∞);               б) (– ∞; – 2/ 7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) (3,5; +∞);                   </a:t>
            </a:r>
            <a:r>
              <a:rPr b="0" lang="ru-RU" sz="3200" spc="-1" strike="noStrike">
                <a:solidFill>
                  <a:srgbClr val="ff00ff"/>
                </a:solidFill>
                <a:latin typeface="Arial"/>
                <a:ea typeface="Arial"/>
              </a:rPr>
              <a:t>г) (– ∞; 3,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3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837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неравенств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Правильный ответ:  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4572000" y="1844640"/>
                <a:ext cx="3384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7"/>
              <p:cNvSpPr txBox="1"/>
              <p:nvPr/>
            </p:nvSpPr>
            <p:spPr>
              <a:xfrm>
                <a:off x="1187280" y="2565360"/>
                <a:ext cx="727236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∪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∪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4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неравенств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 (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∞; – 3)</a:t>
            </a:r>
            <a:r>
              <a:rPr b="0" lang="ru-RU" sz="2800" spc="-1" strike="noStrike">
                <a:solidFill>
                  <a:srgbClr val="ffffff"/>
                </a:solidFill>
                <a:latin typeface="MS Mincho"/>
                <a:ea typeface="MS Mincho"/>
              </a:rPr>
              <a:t>∪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3; +∞)            б) (- ∞; 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"/>
                <a:ea typeface="Arial"/>
              </a:rPr>
              <a:t>в) (– 3; 3);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г) (– 3; +∞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4572000" y="1916280"/>
                <a:ext cx="27288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5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1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ажите наименьшее целое решение неравенст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00ff"/>
                </a:solidFill>
                <a:latin typeface="Arial"/>
              </a:rPr>
              <a:t>а) – 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        б) – 2;           в) – 1;          г)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5"/>
              <p:cNvSpPr txBox="1"/>
              <p:nvPr/>
            </p:nvSpPr>
            <p:spPr>
              <a:xfrm>
                <a:off x="3780000" y="2349360"/>
                <a:ext cx="280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47640" y="1915920"/>
            <a:ext cx="237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Black"/>
              </a:rPr>
              <a:t>Тест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ожите на множители квадратный трехчле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(х+2)(3х+4) ;            б) (х – 2)(3х+4) 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) (х – 2)(3х – 4);         г) (х+2)(– 3х – 4)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1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11"/>
              <p:cNvSpPr txBox="1"/>
              <p:nvPr/>
            </p:nvSpPr>
            <p:spPr>
              <a:xfrm>
                <a:off x="3059280" y="2349360"/>
                <a:ext cx="352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2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шите неравенство: – 2х+7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(– 3,5; +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∞);               б) (– ∞; – 2/ 7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) (3,5; +∞);                   г) (– ∞; 3,5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3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неравенство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4572000" y="1844640"/>
                <a:ext cx="338472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10"/>
              <p:cNvSpPr txBox="1"/>
              <p:nvPr/>
            </p:nvSpPr>
            <p:spPr>
              <a:xfrm>
                <a:off x="1187280" y="2565360"/>
                <a:ext cx="727236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а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  <m:r>
                          <m:t xml:space="preserve">∪</m:t>
                        </m:r>
                        <m:r>
                          <m:t xml:space="preserve">[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б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в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;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г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]</m:t>
                        </m:r>
                        <m:r>
                          <m:t xml:space="preserve">∪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4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694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ите неравенств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 (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∞; – 3)</a:t>
            </a:r>
            <a:r>
              <a:rPr b="0" lang="ru-RU" sz="2800" spc="-1" strike="noStrike">
                <a:solidFill>
                  <a:srgbClr val="ffffff"/>
                </a:solidFill>
                <a:latin typeface="MS Mincho"/>
                <a:ea typeface="MS Mincho"/>
              </a:rPr>
              <a:t>∪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(3; +∞)            б) (- ∞; 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) (– 3; 3);                              г) (– 3; +∞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4572000" y="1916280"/>
                <a:ext cx="2728800" cy="71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9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5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621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кажите наименьшее целое решение неравенств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– 3;        б) – 2;           в) – 1;          г)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3780000" y="2349360"/>
                <a:ext cx="2808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5</m:t>
                        </m:r>
                        <m:r>
                          <m:t xml:space="preserve">−</m:t>
                        </m:r>
                        <m:r>
                          <m:t xml:space="preserve">х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ff66"/>
                </a:solidFill>
                <a:latin typeface="Arial Black"/>
              </a:rPr>
              <a:t>Ответы к тесту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wedg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ложите на множители квадратный трехчлен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) (х+2)(3х+4) ;            б) (х – 2)(3х+4) 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Arial"/>
              </a:rPr>
              <a:t>в) (х – 2)(3х – 4)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г) (х+2)(– 3х – 4).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ние 1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3059280" y="2349360"/>
                <a:ext cx="352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ba</cp:lastModifiedBy>
  <dcterms:modified xsi:type="dcterms:W3CDTF">2017-09-29T07:35:29Z</dcterms:modified>
  <cp:revision>21</cp:revision>
  <dc:subject/>
  <dc:title>PowerPoint Presentation</dc:title>
</cp:coreProperties>
</file>