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CCA-1AE9-4834-9CA6-CF6289A6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33D-0873-4070-BED5-38BD9E25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933-797C-4DAC-84BD-1C433D15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84F-79E0-401C-B6E6-42DA58E3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B4BD-3F3B-4C82-B146-7EEE83F1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711A-F699-497D-B11E-E016A48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E592-E350-4189-A26D-A826FE42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3EBA-9F93-456B-A515-AAB04496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8FE-C289-411B-AFE7-FC38190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3BE-4C37-4BF4-B4E7-FA6F75E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38E-22F2-4DBB-833D-F16F7D3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F40-8D0B-4B86-894E-AE96441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53D-79BA-4D9C-AB47-E928777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3427-925F-483C-8AB6-10468E3F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A15C-4516-4941-A564-7409A40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D233-796B-4286-AF84-64969341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99A-F807-44FA-84EF-A9C1D140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F4D-24FE-4B94-B325-B8F111F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D27-7425-427E-B40F-A2F5F49B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10B-1E6C-402C-A66A-02378A68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89D-FCA1-4B0A-9DEA-94F95644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F16-8DDA-40F7-8D73-2D478B3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32C-D052-43E3-AD29-A49875D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584-AE4E-470E-8700-2ECB60E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7392-4836-40B5-BDA0-2623EF54BC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933-95C4-4A3A-9F45-9EC96C9200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Рациональные </a:t>
            </a:r>
            <a:br>
              <a:rPr sz="4800"/>
            </a:b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неравенств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: Посохина Галина Люци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 Высше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СОШ с. Тоора-Хе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 неравенство: – 2х+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– 3,5; 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∞);               б) (– ∞; – 2/ 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) (3,5; +∞);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г) (– ∞; 3,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Правильный ответ: 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4572000" y="1844640"/>
                <a:ext cx="3384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187280" y="2565360"/>
                <a:ext cx="7272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4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 (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∞; – 3)</a:t>
            </a:r>
            <a:r>
              <a:rPr b="0" lang="ru-RU" sz="2800" spc="-1" strike="noStrike">
                <a:solidFill>
                  <a:srgbClr val="ffffff"/>
                </a:solidFill>
                <a:latin typeface="MS Mincho"/>
                <a:ea typeface="MS Mincho"/>
              </a:rPr>
              <a:t>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3; +∞)            б) (- ∞;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в) (– 3; 3)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г) (– 3; 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4572000" y="1916280"/>
                <a:ext cx="27288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жите наименьшее целое решение неравен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а) – 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      б) – 2;           в) – 1;          г)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3780000" y="2349360"/>
                <a:ext cx="280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47640" y="191592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Тес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те на множители квадратный трехчле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х+2)(3х+4) ;            б) (х – 2)(3х+4)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(х – 2)(3х – 4);         г) (х+2)(– 3х – 4)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059280" y="2349360"/>
                <a:ext cx="352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 неравенство: – 2х+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– 3,5; 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∞);               б) (– ∞; – 2/ 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) (3,5; +∞);                   г) (– ∞; 3,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4572000" y="1844640"/>
                <a:ext cx="3384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1187280" y="2565360"/>
                <a:ext cx="7272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4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 (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∞; – 3)</a:t>
            </a:r>
            <a:r>
              <a:rPr b="0" lang="ru-RU" sz="2800" spc="-1" strike="noStrike">
                <a:solidFill>
                  <a:srgbClr val="ffffff"/>
                </a:solidFill>
                <a:latin typeface="MS Mincho"/>
                <a:ea typeface="MS Mincho"/>
              </a:rPr>
              <a:t>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3; +∞)            б) (- ∞;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) (– 3; 3);                              г) (– 3; 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572000" y="1916280"/>
                <a:ext cx="27288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жите наименьшее целое решение неравен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– 3;        б) – 2;           в) – 1;          г)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780000" y="2349360"/>
                <a:ext cx="280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Ответы к тесту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те на множители квадратный трехчле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х+2)(3х+4) ;            б) (х – 2)(3х+4)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) (х – 2)(3х – 4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г) (х+2)(– 3х – 4)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059280" y="2349360"/>
                <a:ext cx="352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7-09-29T07:35:29Z</dcterms:modified>
  <cp:revision>21</cp:revision>
  <dc:subject/>
  <dc:title>PowerPoint Presentation</dc:title>
</cp:coreProperties>
</file>